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1E8-6FED-4003-9F58-FAA0BA81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442-344B-4F52-96D7-D80D34CB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909-CF51-4F2D-A641-659ABD7F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C9C-82B4-4067-B919-22F34469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6DE0-FDB7-4311-8132-89199903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DE0-1C16-4E13-B485-03A9127B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BBA5-72BF-4288-B5A7-96EFF786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82E8-03DB-47E0-BE9D-41A14126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1869-6D31-45EA-8743-D8270F3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BB9-FC62-464E-BDE5-5AB1F9E5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7982-0A8B-4F37-9450-D6E5F94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375-389A-45D7-AABC-57F04830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371A-EFFE-4C1C-8E65-7508C343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C9B5-2A40-4604-91F4-8DB17545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3EF4-7157-4197-9DCD-5FC7FAF3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C0AE-6706-4C2B-9808-739A01BA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B71-7195-4B5D-A9AE-BF353DE8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B1F-0337-4B3F-820C-32C90ED0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29F-E682-41B5-8111-2F67D018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1F6-E4CC-4584-9C42-964254D0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C0A-907C-4D59-85E9-7F80328B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4F6-C2ED-4A60-9CF8-8BA01B6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BFA-8EEE-440B-89F7-1FE8C4A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9D2-8ABC-499F-86A8-3A33A3C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938-6143-41F6-9FB1-176FDADEDB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06FC-68D7-4F45-A1F0-4877EB6A7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5ffff"/>
                </a:solidFill>
                <a:latin typeface="Arial"/>
              </a:rPr>
              <a:t>Tuesday, January 5th</a:t>
            </a:r>
            <a:endParaRPr b="0" lang="en-US" sz="4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Note:  That the “h” applies whenever you have an angle and two sides (one of them opposite that angle)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e5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Determine the number of solutions and solve the triangle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= 60</a:t>
            </a:r>
            <a:r>
              <a:rPr b="0" lang="en-US" sz="4000" spc="-1" strike="noStrike">
                <a:solidFill>
                  <a:srgbClr val="e5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, a = 9 and b = 10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8" name="Ink 3"/>
          <p:cNvSpPr/>
          <p:nvPr/>
        </p:nvSpPr>
        <p:spPr>
          <a:xfrm>
            <a:off x="581040" y="1812960"/>
            <a:ext cx="1955880" cy="1965240"/>
          </a:xfrm>
          <a:custGeom>
            <a:avLst/>
            <a:gdLst/>
            <a:ahLst/>
            <a:rect l="l" t="t" r="r" b="b"/>
            <a:pathLst>
              <a:path w="5434" h="5458">
                <a:moveTo>
                  <a:pt x="2952" y="5978"/>
                </a:moveTo>
                <a:cubicBezTo>
                  <a:pt x="2935" y="6028"/>
                  <a:pt x="2918" y="6079"/>
                  <a:pt x="2902" y="6127"/>
                </a:cubicBezTo>
                <a:cubicBezTo>
                  <a:pt x="2875" y="6209"/>
                  <a:pt x="2850" y="6321"/>
                  <a:pt x="2803" y="6400"/>
                </a:cubicBezTo>
                <a:cubicBezTo>
                  <a:pt x="2746" y="6495"/>
                  <a:pt x="2735" y="6547"/>
                  <a:pt x="2704" y="6648"/>
                </a:cubicBezTo>
                <a:cubicBezTo>
                  <a:pt x="2671" y="6754"/>
                  <a:pt x="2647" y="6894"/>
                  <a:pt x="2604" y="6995"/>
                </a:cubicBezTo>
                <a:cubicBezTo>
                  <a:pt x="2548" y="7128"/>
                  <a:pt x="2514" y="7247"/>
                  <a:pt x="2480" y="7392"/>
                </a:cubicBezTo>
                <a:cubicBezTo>
                  <a:pt x="2429" y="7609"/>
                  <a:pt x="2361" y="7821"/>
                  <a:pt x="2307" y="8037"/>
                </a:cubicBezTo>
                <a:cubicBezTo>
                  <a:pt x="2268" y="8190"/>
                  <a:pt x="2255" y="8330"/>
                  <a:pt x="2208" y="8483"/>
                </a:cubicBezTo>
                <a:cubicBezTo>
                  <a:pt x="2154" y="8659"/>
                  <a:pt x="2125" y="8825"/>
                  <a:pt x="2084" y="9004"/>
                </a:cubicBezTo>
                <a:cubicBezTo>
                  <a:pt x="2052" y="9144"/>
                  <a:pt x="1980" y="9268"/>
                  <a:pt x="1935" y="9401"/>
                </a:cubicBezTo>
                <a:cubicBezTo>
                  <a:pt x="1891" y="9531"/>
                  <a:pt x="1836" y="9635"/>
                  <a:pt x="1761" y="9748"/>
                </a:cubicBezTo>
                <a:cubicBezTo>
                  <a:pt x="1721" y="9809"/>
                  <a:pt x="1734" y="9792"/>
                  <a:pt x="1687" y="9847"/>
                </a:cubicBezTo>
              </a:path>
              <a:path w="5434" h="5458">
                <a:moveTo>
                  <a:pt x="2902" y="5928"/>
                </a:moveTo>
                <a:cubicBezTo>
                  <a:pt x="2927" y="5904"/>
                  <a:pt x="2935" y="5896"/>
                  <a:pt x="2952" y="5928"/>
                </a:cubicBezTo>
              </a:path>
              <a:path w="5434" h="5458">
                <a:moveTo>
                  <a:pt x="3101" y="6028"/>
                </a:moveTo>
                <a:cubicBezTo>
                  <a:pt x="3209" y="6108"/>
                  <a:pt x="3308" y="6203"/>
                  <a:pt x="3423" y="6276"/>
                </a:cubicBezTo>
                <a:cubicBezTo>
                  <a:pt x="3537" y="6348"/>
                  <a:pt x="3660" y="6401"/>
                  <a:pt x="3770" y="6474"/>
                </a:cubicBezTo>
                <a:cubicBezTo>
                  <a:pt x="3901" y="6561"/>
                  <a:pt x="4035" y="6637"/>
                  <a:pt x="4167" y="6722"/>
                </a:cubicBezTo>
                <a:cubicBezTo>
                  <a:pt x="4447" y="6904"/>
                  <a:pt x="4742" y="7071"/>
                  <a:pt x="5011" y="7268"/>
                </a:cubicBezTo>
                <a:cubicBezTo>
                  <a:pt x="5214" y="7417"/>
                  <a:pt x="5434" y="7542"/>
                  <a:pt x="5655" y="7665"/>
                </a:cubicBezTo>
                <a:cubicBezTo>
                  <a:pt x="5803" y="7747"/>
                  <a:pt x="5933" y="7849"/>
                  <a:pt x="6077" y="7938"/>
                </a:cubicBezTo>
                <a:cubicBezTo>
                  <a:pt x="6194" y="8010"/>
                  <a:pt x="6345" y="8108"/>
                  <a:pt x="6474" y="8161"/>
                </a:cubicBezTo>
                <a:cubicBezTo>
                  <a:pt x="6572" y="8202"/>
                  <a:pt x="6694" y="8252"/>
                  <a:pt x="6796" y="8285"/>
                </a:cubicBezTo>
                <a:cubicBezTo>
                  <a:pt x="6867" y="8308"/>
                  <a:pt x="6965" y="8327"/>
                  <a:pt x="7020" y="8359"/>
                </a:cubicBezTo>
                <a:cubicBezTo>
                  <a:pt x="7028" y="8376"/>
                  <a:pt x="7037" y="8392"/>
                  <a:pt x="7045" y="8409"/>
                </a:cubicBezTo>
                <a:cubicBezTo>
                  <a:pt x="6970" y="8450"/>
                  <a:pt x="6995" y="8458"/>
                  <a:pt x="6896" y="8483"/>
                </a:cubicBezTo>
                <a:cubicBezTo>
                  <a:pt x="6779" y="8512"/>
                  <a:pt x="6674" y="8516"/>
                  <a:pt x="6573" y="8558"/>
                </a:cubicBezTo>
                <a:cubicBezTo>
                  <a:pt x="6473" y="8599"/>
                  <a:pt x="6312" y="8692"/>
                  <a:pt x="6226" y="8706"/>
                </a:cubicBezTo>
                <a:cubicBezTo>
                  <a:pt x="6067" y="8731"/>
                  <a:pt x="5927" y="8723"/>
                  <a:pt x="5779" y="8781"/>
                </a:cubicBezTo>
                <a:cubicBezTo>
                  <a:pt x="5576" y="8861"/>
                  <a:pt x="5351" y="8940"/>
                  <a:pt x="5135" y="9004"/>
                </a:cubicBezTo>
                <a:cubicBezTo>
                  <a:pt x="4833" y="9093"/>
                  <a:pt x="4520" y="9168"/>
                  <a:pt x="4217" y="9252"/>
                </a:cubicBezTo>
                <a:cubicBezTo>
                  <a:pt x="4016" y="9308"/>
                  <a:pt x="3831" y="9426"/>
                  <a:pt x="3621" y="9451"/>
                </a:cubicBezTo>
                <a:cubicBezTo>
                  <a:pt x="3405" y="9477"/>
                  <a:pt x="3239" y="9548"/>
                  <a:pt x="3026" y="9599"/>
                </a:cubicBezTo>
                <a:cubicBezTo>
                  <a:pt x="2826" y="9647"/>
                  <a:pt x="2633" y="9711"/>
                  <a:pt x="2431" y="9748"/>
                </a:cubicBezTo>
                <a:cubicBezTo>
                  <a:pt x="2331" y="9766"/>
                  <a:pt x="2164" y="9813"/>
                  <a:pt x="2084" y="9823"/>
                </a:cubicBezTo>
                <a:cubicBezTo>
                  <a:pt x="1963" y="9838"/>
                  <a:pt x="1852" y="9817"/>
                  <a:pt x="1736" y="9847"/>
                </a:cubicBezTo>
                <a:cubicBezTo>
                  <a:pt x="1598" y="9882"/>
                  <a:pt x="1671" y="9831"/>
                  <a:pt x="1612" y="9823"/>
                </a:cubicBezTo>
              </a:path>
              <a:path w="5434" h="5458">
                <a:moveTo>
                  <a:pt x="2183" y="5631"/>
                </a:moveTo>
                <a:cubicBezTo>
                  <a:pt x="2183" y="5712"/>
                  <a:pt x="2196" y="5779"/>
                  <a:pt x="2208" y="5854"/>
                </a:cubicBezTo>
                <a:cubicBezTo>
                  <a:pt x="2219" y="5926"/>
                  <a:pt x="2232" y="5970"/>
                  <a:pt x="2232" y="6052"/>
                </a:cubicBezTo>
                <a:cubicBezTo>
                  <a:pt x="2268" y="6071"/>
                  <a:pt x="2243" y="5994"/>
                  <a:pt x="2232" y="5928"/>
                </a:cubicBezTo>
                <a:cubicBezTo>
                  <a:pt x="2211" y="5807"/>
                  <a:pt x="2188" y="5678"/>
                  <a:pt x="2183" y="5556"/>
                </a:cubicBezTo>
                <a:cubicBezTo>
                  <a:pt x="2178" y="5426"/>
                  <a:pt x="2141" y="5196"/>
                  <a:pt x="2208" y="5085"/>
                </a:cubicBezTo>
                <a:cubicBezTo>
                  <a:pt x="2242" y="5029"/>
                  <a:pt x="2284" y="5021"/>
                  <a:pt x="2332" y="5060"/>
                </a:cubicBezTo>
                <a:cubicBezTo>
                  <a:pt x="2391" y="5108"/>
                  <a:pt x="2427" y="5216"/>
                  <a:pt x="2456" y="5283"/>
                </a:cubicBezTo>
                <a:cubicBezTo>
                  <a:pt x="2492" y="5365"/>
                  <a:pt x="2500" y="5492"/>
                  <a:pt x="2555" y="5556"/>
                </a:cubicBezTo>
                <a:cubicBezTo>
                  <a:pt x="2601" y="5609"/>
                  <a:pt x="2635" y="5642"/>
                  <a:pt x="2679" y="5705"/>
                </a:cubicBezTo>
                <a:cubicBezTo>
                  <a:pt x="2687" y="5713"/>
                  <a:pt x="2696" y="5722"/>
                  <a:pt x="2704" y="5730"/>
                </a:cubicBezTo>
              </a:path>
              <a:path w="5434" h="5458">
                <a:moveTo>
                  <a:pt x="2133" y="5705"/>
                </a:moveTo>
                <a:cubicBezTo>
                  <a:pt x="2234" y="5646"/>
                  <a:pt x="2321" y="5594"/>
                  <a:pt x="2431" y="5556"/>
                </a:cubicBezTo>
                <a:cubicBezTo>
                  <a:pt x="2498" y="5533"/>
                  <a:pt x="2516" y="5528"/>
                  <a:pt x="2555" y="5507"/>
                </a:cubicBezTo>
              </a:path>
              <a:path w="5434" h="5458">
                <a:moveTo>
                  <a:pt x="2877" y="6325"/>
                </a:moveTo>
                <a:cubicBezTo>
                  <a:pt x="2877" y="6406"/>
                  <a:pt x="2862" y="6470"/>
                  <a:pt x="2853" y="6548"/>
                </a:cubicBezTo>
                <a:cubicBezTo>
                  <a:pt x="2843" y="6635"/>
                  <a:pt x="2845" y="6720"/>
                  <a:pt x="2853" y="6796"/>
                </a:cubicBezTo>
                <a:cubicBezTo>
                  <a:pt x="2853" y="6841"/>
                  <a:pt x="2849" y="6854"/>
                  <a:pt x="2877" y="6871"/>
                </a:cubicBezTo>
                <a:cubicBezTo>
                  <a:pt x="2970" y="6858"/>
                  <a:pt x="2987" y="6821"/>
                  <a:pt x="3051" y="6747"/>
                </a:cubicBezTo>
                <a:cubicBezTo>
                  <a:pt x="3089" y="6704"/>
                  <a:pt x="3094" y="6631"/>
                  <a:pt x="3101" y="6573"/>
                </a:cubicBezTo>
                <a:cubicBezTo>
                  <a:pt x="3049" y="6534"/>
                  <a:pt x="3027" y="6553"/>
                  <a:pt x="2977" y="6598"/>
                </a:cubicBezTo>
                <a:cubicBezTo>
                  <a:pt x="2934" y="6637"/>
                  <a:pt x="2887" y="6682"/>
                  <a:pt x="2902" y="6747"/>
                </a:cubicBezTo>
                <a:cubicBezTo>
                  <a:pt x="2912" y="6790"/>
                  <a:pt x="2948" y="6817"/>
                  <a:pt x="2977" y="6846"/>
                </a:cubicBezTo>
              </a:path>
              <a:path w="5434" h="5458">
                <a:moveTo>
                  <a:pt x="3125" y="6449"/>
                </a:moveTo>
                <a:cubicBezTo>
                  <a:pt x="3104" y="6551"/>
                  <a:pt x="3084" y="6624"/>
                  <a:pt x="3125" y="6722"/>
                </a:cubicBezTo>
                <a:cubicBezTo>
                  <a:pt x="3157" y="6800"/>
                  <a:pt x="3199" y="6818"/>
                  <a:pt x="3274" y="6772"/>
                </a:cubicBezTo>
                <a:cubicBezTo>
                  <a:pt x="3316" y="6746"/>
                  <a:pt x="3366" y="6670"/>
                  <a:pt x="3373" y="6623"/>
                </a:cubicBezTo>
                <a:cubicBezTo>
                  <a:pt x="3384" y="6541"/>
                  <a:pt x="3340" y="6468"/>
                  <a:pt x="3299" y="6400"/>
                </a:cubicBezTo>
                <a:cubicBezTo>
                  <a:pt x="3267" y="6347"/>
                  <a:pt x="3230" y="6350"/>
                  <a:pt x="3175" y="6350"/>
                </a:cubicBezTo>
              </a:path>
              <a:path w="5434" h="5458">
                <a:moveTo>
                  <a:pt x="3324" y="6276"/>
                </a:moveTo>
                <a:cubicBezTo>
                  <a:pt x="3332" y="6301"/>
                  <a:pt x="3341" y="6325"/>
                  <a:pt x="3349" y="6350"/>
                </a:cubicBezTo>
              </a:path>
              <a:path w="5434" h="5458">
                <a:moveTo>
                  <a:pt x="3324" y="6276"/>
                </a:moveTo>
                <a:cubicBezTo>
                  <a:pt x="3340" y="6268"/>
                  <a:pt x="3357" y="6259"/>
                  <a:pt x="3373" y="6251"/>
                </a:cubicBezTo>
              </a:path>
              <a:path w="5434" h="5458">
                <a:moveTo>
                  <a:pt x="3373" y="6251"/>
                </a:moveTo>
                <a:cubicBezTo>
                  <a:pt x="3345" y="6222"/>
                  <a:pt x="3332" y="6214"/>
                  <a:pt x="3299" y="6226"/>
                </a:cubicBezTo>
              </a:path>
              <a:path w="5434" h="5458">
                <a:moveTo>
                  <a:pt x="4539" y="9699"/>
                </a:moveTo>
                <a:cubicBezTo>
                  <a:pt x="4547" y="9724"/>
                  <a:pt x="4556" y="9748"/>
                  <a:pt x="4564" y="9773"/>
                </a:cubicBezTo>
                <a:cubicBezTo>
                  <a:pt x="4564" y="9718"/>
                  <a:pt x="4542" y="9614"/>
                  <a:pt x="4539" y="9599"/>
                </a:cubicBezTo>
                <a:cubicBezTo>
                  <a:pt x="4527" y="9529"/>
                  <a:pt x="4526" y="9436"/>
                  <a:pt x="4440" y="9401"/>
                </a:cubicBezTo>
                <a:cubicBezTo>
                  <a:pt x="4356" y="9367"/>
                  <a:pt x="4312" y="9423"/>
                  <a:pt x="4266" y="9451"/>
                </a:cubicBezTo>
                <a:cubicBezTo>
                  <a:pt x="4200" y="9491"/>
                  <a:pt x="4171" y="9512"/>
                  <a:pt x="4167" y="9599"/>
                </a:cubicBezTo>
                <a:cubicBezTo>
                  <a:pt x="4162" y="9703"/>
                  <a:pt x="4194" y="9738"/>
                  <a:pt x="4291" y="9748"/>
                </a:cubicBezTo>
                <a:cubicBezTo>
                  <a:pt x="4394" y="9758"/>
                  <a:pt x="4386" y="9700"/>
                  <a:pt x="4465" y="9674"/>
                </a:cubicBezTo>
                <a:cubicBezTo>
                  <a:pt x="4524" y="9674"/>
                  <a:pt x="4544" y="9664"/>
                  <a:pt x="4539" y="9599"/>
                </a:cubicBezTo>
                <a:cubicBezTo>
                  <a:pt x="4539" y="9733"/>
                  <a:pt x="4526" y="9877"/>
                  <a:pt x="4514" y="9996"/>
                </a:cubicBezTo>
                <a:cubicBezTo>
                  <a:pt x="4503" y="10107"/>
                  <a:pt x="4527" y="10272"/>
                  <a:pt x="4539" y="10344"/>
                </a:cubicBezTo>
                <a:cubicBezTo>
                  <a:pt x="4548" y="10400"/>
                  <a:pt x="4546" y="10471"/>
                  <a:pt x="4514" y="10492"/>
                </a:cubicBezTo>
              </a:path>
              <a:path w="5434" h="5458">
                <a:moveTo>
                  <a:pt x="4589" y="6176"/>
                </a:moveTo>
                <a:cubicBezTo>
                  <a:pt x="4580" y="6246"/>
                  <a:pt x="4564" y="6301"/>
                  <a:pt x="4564" y="6375"/>
                </a:cubicBezTo>
                <a:cubicBezTo>
                  <a:pt x="4564" y="6507"/>
                  <a:pt x="4564" y="6854"/>
                  <a:pt x="4564" y="6722"/>
                </a:cubicBezTo>
              </a:path>
              <a:path w="5434" h="5458">
                <a:moveTo>
                  <a:pt x="4787" y="6276"/>
                </a:moveTo>
                <a:cubicBezTo>
                  <a:pt x="4800" y="6301"/>
                  <a:pt x="4802" y="6402"/>
                  <a:pt x="4787" y="6449"/>
                </a:cubicBezTo>
                <a:cubicBezTo>
                  <a:pt x="4772" y="6498"/>
                  <a:pt x="4744" y="6560"/>
                  <a:pt x="4762" y="6623"/>
                </a:cubicBezTo>
                <a:cubicBezTo>
                  <a:pt x="4778" y="6680"/>
                  <a:pt x="4797" y="6795"/>
                  <a:pt x="4862" y="6821"/>
                </a:cubicBezTo>
                <a:cubicBezTo>
                  <a:pt x="4923" y="6845"/>
                  <a:pt x="4977" y="6850"/>
                  <a:pt x="5035" y="6821"/>
                </a:cubicBezTo>
                <a:cubicBezTo>
                  <a:pt x="5098" y="6789"/>
                  <a:pt x="5143" y="6745"/>
                  <a:pt x="5159" y="6672"/>
                </a:cubicBezTo>
                <a:cubicBezTo>
                  <a:pt x="5178" y="6583"/>
                  <a:pt x="5171" y="6423"/>
                  <a:pt x="5135" y="6350"/>
                </a:cubicBezTo>
                <a:cubicBezTo>
                  <a:pt x="5099" y="6276"/>
                  <a:pt x="5014" y="6255"/>
                  <a:pt x="4936" y="6251"/>
                </a:cubicBezTo>
                <a:cubicBezTo>
                  <a:pt x="4884" y="6248"/>
                  <a:pt x="4879" y="6265"/>
                  <a:pt x="4837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Ink 8"/>
          <p:cNvSpPr/>
          <p:nvPr/>
        </p:nvSpPr>
        <p:spPr>
          <a:xfrm>
            <a:off x="7885080" y="2813040"/>
            <a:ext cx="303120" cy="330120"/>
          </a:xfrm>
          <a:custGeom>
            <a:avLst/>
            <a:gdLst/>
            <a:ahLst/>
            <a:rect l="l" t="t" r="r" b="b"/>
            <a:pathLst>
              <a:path w="844" h="919">
                <a:moveTo>
                  <a:pt x="21903" y="7813"/>
                </a:moveTo>
                <a:cubicBezTo>
                  <a:pt x="21903" y="8022"/>
                  <a:pt x="21903" y="8239"/>
                  <a:pt x="21927" y="8434"/>
                </a:cubicBezTo>
                <a:cubicBezTo>
                  <a:pt x="21934" y="8490"/>
                  <a:pt x="21958" y="8670"/>
                  <a:pt x="21903" y="8632"/>
                </a:cubicBezTo>
                <a:cubicBezTo>
                  <a:pt x="21911" y="8532"/>
                  <a:pt x="21914" y="8428"/>
                  <a:pt x="21952" y="8334"/>
                </a:cubicBezTo>
                <a:cubicBezTo>
                  <a:pt x="21986" y="8250"/>
                  <a:pt x="22020" y="8260"/>
                  <a:pt x="22101" y="8260"/>
                </a:cubicBezTo>
                <a:cubicBezTo>
                  <a:pt x="22189" y="8260"/>
                  <a:pt x="22246" y="8284"/>
                  <a:pt x="22299" y="8359"/>
                </a:cubicBezTo>
                <a:cubicBezTo>
                  <a:pt x="22346" y="8426"/>
                  <a:pt x="22352" y="8495"/>
                  <a:pt x="22324" y="8558"/>
                </a:cubicBezTo>
                <a:cubicBezTo>
                  <a:pt x="22308" y="8595"/>
                  <a:pt x="22187" y="8693"/>
                  <a:pt x="22151" y="8706"/>
                </a:cubicBezTo>
                <a:cubicBezTo>
                  <a:pt x="22029" y="8750"/>
                  <a:pt x="21975" y="8740"/>
                  <a:pt x="21927" y="8657"/>
                </a:cubicBezTo>
              </a:path>
              <a:path w="844" h="919">
                <a:moveTo>
                  <a:pt x="22498" y="8186"/>
                </a:moveTo>
                <a:cubicBezTo>
                  <a:pt x="22573" y="8178"/>
                  <a:pt x="22631" y="8168"/>
                  <a:pt x="22696" y="8136"/>
                </a:cubicBezTo>
              </a:path>
              <a:path w="844" h="919">
                <a:moveTo>
                  <a:pt x="22622" y="8285"/>
                </a:moveTo>
                <a:cubicBezTo>
                  <a:pt x="22672" y="8345"/>
                  <a:pt x="22662" y="8334"/>
                  <a:pt x="22746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Ink 13"/>
          <p:cNvSpPr/>
          <p:nvPr/>
        </p:nvSpPr>
        <p:spPr>
          <a:xfrm>
            <a:off x="2517840" y="2973240"/>
            <a:ext cx="312840" cy="24156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7590" y="8409"/>
                </a:moveTo>
                <a:cubicBezTo>
                  <a:pt x="7624" y="8392"/>
                  <a:pt x="7650" y="8363"/>
                  <a:pt x="7689" y="8334"/>
                </a:cubicBezTo>
                <a:cubicBezTo>
                  <a:pt x="7620" y="8253"/>
                  <a:pt x="7550" y="8255"/>
                  <a:pt x="7441" y="8285"/>
                </a:cubicBezTo>
                <a:cubicBezTo>
                  <a:pt x="7323" y="8318"/>
                  <a:pt x="7254" y="8366"/>
                  <a:pt x="7169" y="8434"/>
                </a:cubicBezTo>
                <a:cubicBezTo>
                  <a:pt x="7073" y="8510"/>
                  <a:pt x="7001" y="8534"/>
                  <a:pt x="6995" y="8657"/>
                </a:cubicBezTo>
                <a:cubicBezTo>
                  <a:pt x="6989" y="8772"/>
                  <a:pt x="7021" y="8823"/>
                  <a:pt x="7144" y="8855"/>
                </a:cubicBezTo>
                <a:cubicBezTo>
                  <a:pt x="7251" y="8882"/>
                  <a:pt x="7385" y="8909"/>
                  <a:pt x="7491" y="8930"/>
                </a:cubicBezTo>
                <a:cubicBezTo>
                  <a:pt x="7602" y="8953"/>
                  <a:pt x="7773" y="8952"/>
                  <a:pt x="7838" y="8880"/>
                </a:cubicBezTo>
                <a:cubicBezTo>
                  <a:pt x="7846" y="8872"/>
                  <a:pt x="7855" y="8863"/>
                  <a:pt x="7863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Ink 22"/>
          <p:cNvSpPr/>
          <p:nvPr/>
        </p:nvSpPr>
        <p:spPr>
          <a:xfrm>
            <a:off x="8393040" y="2000160"/>
            <a:ext cx="260280" cy="1143000"/>
          </a:xfrm>
          <a:custGeom>
            <a:avLst/>
            <a:gdLst/>
            <a:ahLst/>
            <a:rect l="l" t="t" r="r" b="b"/>
            <a:pathLst>
              <a:path w="721" h="3176">
                <a:moveTo>
                  <a:pt x="23812" y="5829"/>
                </a:moveTo>
                <a:cubicBezTo>
                  <a:pt x="23845" y="5846"/>
                  <a:pt x="23879" y="5862"/>
                  <a:pt x="23912" y="5879"/>
                </a:cubicBezTo>
                <a:cubicBezTo>
                  <a:pt x="23929" y="5802"/>
                  <a:pt x="23924" y="5749"/>
                  <a:pt x="23887" y="5680"/>
                </a:cubicBezTo>
                <a:cubicBezTo>
                  <a:pt x="23871" y="5651"/>
                  <a:pt x="23826" y="5567"/>
                  <a:pt x="23788" y="5556"/>
                </a:cubicBezTo>
                <a:cubicBezTo>
                  <a:pt x="23741" y="5542"/>
                  <a:pt x="23653" y="5605"/>
                  <a:pt x="23614" y="5631"/>
                </a:cubicBezTo>
                <a:cubicBezTo>
                  <a:pt x="23560" y="5668"/>
                  <a:pt x="23559" y="5749"/>
                  <a:pt x="23540" y="5804"/>
                </a:cubicBezTo>
                <a:cubicBezTo>
                  <a:pt x="23509" y="5894"/>
                  <a:pt x="23498" y="5955"/>
                  <a:pt x="23564" y="6028"/>
                </a:cubicBezTo>
                <a:cubicBezTo>
                  <a:pt x="23609" y="6078"/>
                  <a:pt x="23699" y="6100"/>
                  <a:pt x="23763" y="6077"/>
                </a:cubicBezTo>
                <a:cubicBezTo>
                  <a:pt x="23793" y="6066"/>
                  <a:pt x="23916" y="6012"/>
                  <a:pt x="23937" y="5978"/>
                </a:cubicBezTo>
                <a:cubicBezTo>
                  <a:pt x="23976" y="5916"/>
                  <a:pt x="24084" y="5779"/>
                  <a:pt x="24011" y="5779"/>
                </a:cubicBezTo>
                <a:cubicBezTo>
                  <a:pt x="23958" y="5779"/>
                  <a:pt x="23993" y="5973"/>
                  <a:pt x="23986" y="6003"/>
                </a:cubicBezTo>
                <a:cubicBezTo>
                  <a:pt x="23959" y="6114"/>
                  <a:pt x="23962" y="6236"/>
                  <a:pt x="23937" y="6350"/>
                </a:cubicBezTo>
                <a:cubicBezTo>
                  <a:pt x="23918" y="6434"/>
                  <a:pt x="23892" y="6512"/>
                  <a:pt x="23887" y="6598"/>
                </a:cubicBezTo>
                <a:cubicBezTo>
                  <a:pt x="23883" y="6671"/>
                  <a:pt x="23881" y="6776"/>
                  <a:pt x="23862" y="6846"/>
                </a:cubicBezTo>
                <a:cubicBezTo>
                  <a:pt x="23842" y="6887"/>
                  <a:pt x="23833" y="6893"/>
                  <a:pt x="23837" y="6921"/>
                </a:cubicBezTo>
              </a:path>
              <a:path w="721" h="3176">
                <a:moveTo>
                  <a:pt x="23366" y="7888"/>
                </a:moveTo>
                <a:cubicBezTo>
                  <a:pt x="23391" y="8005"/>
                  <a:pt x="23380" y="8031"/>
                  <a:pt x="23366" y="8136"/>
                </a:cubicBezTo>
                <a:cubicBezTo>
                  <a:pt x="23353" y="8231"/>
                  <a:pt x="23346" y="8340"/>
                  <a:pt x="23341" y="8434"/>
                </a:cubicBezTo>
                <a:cubicBezTo>
                  <a:pt x="23337" y="8512"/>
                  <a:pt x="23320" y="8585"/>
                  <a:pt x="23316" y="8657"/>
                </a:cubicBezTo>
                <a:cubicBezTo>
                  <a:pt x="23316" y="8715"/>
                  <a:pt x="23316" y="8756"/>
                  <a:pt x="23316" y="8706"/>
                </a:cubicBezTo>
              </a:path>
              <a:path w="721" h="3176">
                <a:moveTo>
                  <a:pt x="23688" y="7913"/>
                </a:moveTo>
                <a:cubicBezTo>
                  <a:pt x="23727" y="8017"/>
                  <a:pt x="23678" y="8014"/>
                  <a:pt x="23664" y="8111"/>
                </a:cubicBezTo>
                <a:cubicBezTo>
                  <a:pt x="23651" y="8201"/>
                  <a:pt x="23665" y="8322"/>
                  <a:pt x="23639" y="8409"/>
                </a:cubicBezTo>
                <a:cubicBezTo>
                  <a:pt x="23615" y="8491"/>
                  <a:pt x="23609" y="8543"/>
                  <a:pt x="23639" y="8632"/>
                </a:cubicBezTo>
                <a:cubicBezTo>
                  <a:pt x="23664" y="8705"/>
                  <a:pt x="23694" y="8768"/>
                  <a:pt x="23788" y="8731"/>
                </a:cubicBezTo>
                <a:cubicBezTo>
                  <a:pt x="23830" y="8715"/>
                  <a:pt x="23894" y="8651"/>
                  <a:pt x="23912" y="8632"/>
                </a:cubicBezTo>
                <a:cubicBezTo>
                  <a:pt x="23996" y="8543"/>
                  <a:pt x="23982" y="8438"/>
                  <a:pt x="24011" y="8334"/>
                </a:cubicBezTo>
                <a:cubicBezTo>
                  <a:pt x="24037" y="8240"/>
                  <a:pt x="24035" y="8161"/>
                  <a:pt x="24011" y="8062"/>
                </a:cubicBezTo>
                <a:cubicBezTo>
                  <a:pt x="23980" y="7932"/>
                  <a:pt x="23933" y="7905"/>
                  <a:pt x="23837" y="7838"/>
                </a:cubicBezTo>
                <a:cubicBezTo>
                  <a:pt x="23778" y="7797"/>
                  <a:pt x="23711" y="7776"/>
                  <a:pt x="23639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Ink 23"/>
          <p:cNvSpPr/>
          <p:nvPr/>
        </p:nvSpPr>
        <p:spPr>
          <a:xfrm>
            <a:off x="7920000" y="2232000"/>
            <a:ext cx="304920" cy="250920"/>
          </a:xfrm>
          <a:custGeom>
            <a:avLst/>
            <a:gdLst/>
            <a:ahLst/>
            <a:rect l="l" t="t" r="r" b="b"/>
            <a:pathLst>
              <a:path w="844" h="696">
                <a:moveTo>
                  <a:pt x="22374" y="6400"/>
                </a:moveTo>
                <a:cubicBezTo>
                  <a:pt x="22338" y="6364"/>
                  <a:pt x="22308" y="6320"/>
                  <a:pt x="22299" y="6276"/>
                </a:cubicBezTo>
                <a:cubicBezTo>
                  <a:pt x="22286" y="6211"/>
                  <a:pt x="22275" y="6195"/>
                  <a:pt x="22200" y="6226"/>
                </a:cubicBezTo>
                <a:cubicBezTo>
                  <a:pt x="22107" y="6265"/>
                  <a:pt x="22074" y="6383"/>
                  <a:pt x="22051" y="6474"/>
                </a:cubicBezTo>
                <a:cubicBezTo>
                  <a:pt x="22033" y="6546"/>
                  <a:pt x="22044" y="6625"/>
                  <a:pt x="22027" y="6697"/>
                </a:cubicBezTo>
                <a:cubicBezTo>
                  <a:pt x="22012" y="6759"/>
                  <a:pt x="22007" y="6815"/>
                  <a:pt x="22051" y="6871"/>
                </a:cubicBezTo>
                <a:cubicBezTo>
                  <a:pt x="22099" y="6932"/>
                  <a:pt x="22187" y="6864"/>
                  <a:pt x="22225" y="6821"/>
                </a:cubicBezTo>
                <a:cubicBezTo>
                  <a:pt x="22285" y="6753"/>
                  <a:pt x="22272" y="6670"/>
                  <a:pt x="22299" y="6598"/>
                </a:cubicBezTo>
                <a:cubicBezTo>
                  <a:pt x="22307" y="6590"/>
                  <a:pt x="22316" y="6581"/>
                  <a:pt x="22324" y="6573"/>
                </a:cubicBezTo>
                <a:cubicBezTo>
                  <a:pt x="22341" y="6648"/>
                  <a:pt x="22368" y="6691"/>
                  <a:pt x="22423" y="6747"/>
                </a:cubicBezTo>
                <a:cubicBezTo>
                  <a:pt x="22468" y="6793"/>
                  <a:pt x="22482" y="6796"/>
                  <a:pt x="22547" y="6796"/>
                </a:cubicBezTo>
              </a:path>
              <a:path w="844" h="696">
                <a:moveTo>
                  <a:pt x="22671" y="6325"/>
                </a:moveTo>
                <a:cubicBezTo>
                  <a:pt x="22738" y="6308"/>
                  <a:pt x="22776" y="6300"/>
                  <a:pt x="22845" y="6300"/>
                </a:cubicBezTo>
              </a:path>
              <a:path w="844" h="696">
                <a:moveTo>
                  <a:pt x="22597" y="6524"/>
                </a:moveTo>
                <a:cubicBezTo>
                  <a:pt x="22665" y="6542"/>
                  <a:pt x="22702" y="6548"/>
                  <a:pt x="22771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Ink 24"/>
          <p:cNvSpPr/>
          <p:nvPr/>
        </p:nvSpPr>
        <p:spPr>
          <a:xfrm>
            <a:off x="7848720" y="3537000"/>
            <a:ext cx="287280" cy="24120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22076" y="9897"/>
                </a:moveTo>
                <a:cubicBezTo>
                  <a:pt x="22141" y="9962"/>
                  <a:pt x="22033" y="9855"/>
                  <a:pt x="22027" y="9847"/>
                </a:cubicBezTo>
                <a:cubicBezTo>
                  <a:pt x="22019" y="9839"/>
                  <a:pt x="22010" y="9831"/>
                  <a:pt x="22002" y="9823"/>
                </a:cubicBezTo>
                <a:cubicBezTo>
                  <a:pt x="21947" y="9862"/>
                  <a:pt x="21905" y="9904"/>
                  <a:pt x="21878" y="9971"/>
                </a:cubicBezTo>
                <a:cubicBezTo>
                  <a:pt x="21857" y="10022"/>
                  <a:pt x="21806" y="10090"/>
                  <a:pt x="21803" y="10145"/>
                </a:cubicBezTo>
                <a:cubicBezTo>
                  <a:pt x="21798" y="10255"/>
                  <a:pt x="21814" y="10268"/>
                  <a:pt x="21878" y="10344"/>
                </a:cubicBezTo>
                <a:cubicBezTo>
                  <a:pt x="21917" y="10390"/>
                  <a:pt x="21933" y="10435"/>
                  <a:pt x="22002" y="10443"/>
                </a:cubicBezTo>
                <a:cubicBezTo>
                  <a:pt x="22086" y="10443"/>
                  <a:pt x="22113" y="10430"/>
                  <a:pt x="22126" y="10492"/>
                </a:cubicBezTo>
                <a:cubicBezTo>
                  <a:pt x="22197" y="10439"/>
                  <a:pt x="22230" y="10447"/>
                  <a:pt x="22275" y="10368"/>
                </a:cubicBezTo>
              </a:path>
              <a:path w="795" h="670">
                <a:moveTo>
                  <a:pt x="22349" y="9971"/>
                </a:moveTo>
                <a:cubicBezTo>
                  <a:pt x="22459" y="9971"/>
                  <a:pt x="22463" y="9946"/>
                  <a:pt x="22547" y="9922"/>
                </a:cubicBezTo>
              </a:path>
              <a:path w="795" h="670">
                <a:moveTo>
                  <a:pt x="22324" y="10195"/>
                </a:moveTo>
                <a:cubicBezTo>
                  <a:pt x="22415" y="10195"/>
                  <a:pt x="22506" y="10195"/>
                  <a:pt x="22597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Ink 25"/>
          <p:cNvSpPr/>
          <p:nvPr/>
        </p:nvSpPr>
        <p:spPr>
          <a:xfrm>
            <a:off x="6769080" y="2035080"/>
            <a:ext cx="446040" cy="492120"/>
          </a:xfrm>
          <a:custGeom>
            <a:avLst/>
            <a:gdLst/>
            <a:ahLst/>
            <a:rect l="l" t="t" r="r" b="b"/>
            <a:pathLst>
              <a:path w="1241" h="1366">
                <a:moveTo>
                  <a:pt x="18901" y="5804"/>
                </a:moveTo>
                <a:cubicBezTo>
                  <a:pt x="18936" y="5862"/>
                  <a:pt x="18919" y="5911"/>
                  <a:pt x="18901" y="5978"/>
                </a:cubicBezTo>
                <a:cubicBezTo>
                  <a:pt x="18875" y="6076"/>
                  <a:pt x="18873" y="6178"/>
                  <a:pt x="18852" y="6276"/>
                </a:cubicBezTo>
                <a:cubicBezTo>
                  <a:pt x="18833" y="6365"/>
                  <a:pt x="18812" y="6462"/>
                  <a:pt x="18802" y="6548"/>
                </a:cubicBezTo>
                <a:cubicBezTo>
                  <a:pt x="18790" y="6647"/>
                  <a:pt x="18816" y="6728"/>
                  <a:pt x="18827" y="6821"/>
                </a:cubicBezTo>
                <a:cubicBezTo>
                  <a:pt x="18835" y="6893"/>
                  <a:pt x="18832" y="6951"/>
                  <a:pt x="18901" y="6995"/>
                </a:cubicBezTo>
                <a:cubicBezTo>
                  <a:pt x="18972" y="7041"/>
                  <a:pt x="19044" y="6995"/>
                  <a:pt x="19100" y="6945"/>
                </a:cubicBezTo>
                <a:cubicBezTo>
                  <a:pt x="19139" y="6910"/>
                  <a:pt x="19188" y="6823"/>
                  <a:pt x="19199" y="6772"/>
                </a:cubicBezTo>
                <a:cubicBezTo>
                  <a:pt x="19217" y="6692"/>
                  <a:pt x="19212" y="6643"/>
                  <a:pt x="19199" y="6573"/>
                </a:cubicBezTo>
                <a:cubicBezTo>
                  <a:pt x="19186" y="6505"/>
                  <a:pt x="19134" y="6502"/>
                  <a:pt x="19075" y="6548"/>
                </a:cubicBezTo>
                <a:cubicBezTo>
                  <a:pt x="19017" y="6594"/>
                  <a:pt x="19006" y="6683"/>
                  <a:pt x="18976" y="6747"/>
                </a:cubicBezTo>
                <a:cubicBezTo>
                  <a:pt x="18940" y="6823"/>
                  <a:pt x="18926" y="6861"/>
                  <a:pt x="18926" y="6945"/>
                </a:cubicBezTo>
                <a:cubicBezTo>
                  <a:pt x="18926" y="6953"/>
                  <a:pt x="18926" y="6962"/>
                  <a:pt x="18926" y="6970"/>
                </a:cubicBezTo>
              </a:path>
              <a:path w="1241" h="1366">
                <a:moveTo>
                  <a:pt x="19472" y="6028"/>
                </a:moveTo>
                <a:cubicBezTo>
                  <a:pt x="19447" y="6093"/>
                  <a:pt x="19426" y="6156"/>
                  <a:pt x="19422" y="6226"/>
                </a:cubicBezTo>
                <a:cubicBezTo>
                  <a:pt x="19417" y="6321"/>
                  <a:pt x="19397" y="6400"/>
                  <a:pt x="19397" y="6499"/>
                </a:cubicBezTo>
                <a:cubicBezTo>
                  <a:pt x="19397" y="6589"/>
                  <a:pt x="19409" y="6663"/>
                  <a:pt x="19422" y="6747"/>
                </a:cubicBezTo>
                <a:cubicBezTo>
                  <a:pt x="19430" y="6797"/>
                  <a:pt x="19466" y="6926"/>
                  <a:pt x="19546" y="6921"/>
                </a:cubicBezTo>
                <a:cubicBezTo>
                  <a:pt x="19611" y="6917"/>
                  <a:pt x="19658" y="6811"/>
                  <a:pt x="19695" y="6772"/>
                </a:cubicBezTo>
                <a:cubicBezTo>
                  <a:pt x="19766" y="6697"/>
                  <a:pt x="19791" y="6599"/>
                  <a:pt x="19819" y="6499"/>
                </a:cubicBezTo>
                <a:cubicBezTo>
                  <a:pt x="19848" y="6397"/>
                  <a:pt x="19864" y="6257"/>
                  <a:pt x="19844" y="6152"/>
                </a:cubicBezTo>
                <a:cubicBezTo>
                  <a:pt x="19836" y="6110"/>
                  <a:pt x="19788" y="6023"/>
                  <a:pt x="19745" y="6003"/>
                </a:cubicBezTo>
                <a:cubicBezTo>
                  <a:pt x="19703" y="5983"/>
                  <a:pt x="19610" y="5939"/>
                  <a:pt x="19571" y="5928"/>
                </a:cubicBezTo>
                <a:cubicBezTo>
                  <a:pt x="19513" y="5912"/>
                  <a:pt x="19499" y="5934"/>
                  <a:pt x="19472" y="5879"/>
                </a:cubicBezTo>
              </a:path>
              <a:path w="1241" h="1366">
                <a:moveTo>
                  <a:pt x="19918" y="5655"/>
                </a:moveTo>
                <a:cubicBezTo>
                  <a:pt x="19900" y="5697"/>
                  <a:pt x="19827" y="5827"/>
                  <a:pt x="19844" y="5879"/>
                </a:cubicBezTo>
                <a:cubicBezTo>
                  <a:pt x="19861" y="5931"/>
                  <a:pt x="19963" y="5930"/>
                  <a:pt x="19993" y="5904"/>
                </a:cubicBezTo>
                <a:cubicBezTo>
                  <a:pt x="20053" y="5853"/>
                  <a:pt x="20028" y="5810"/>
                  <a:pt x="20017" y="5755"/>
                </a:cubicBezTo>
                <a:cubicBezTo>
                  <a:pt x="20004" y="5690"/>
                  <a:pt x="19996" y="5669"/>
                  <a:pt x="19918" y="5655"/>
                </a:cubicBezTo>
                <a:cubicBezTo>
                  <a:pt x="19875" y="5647"/>
                  <a:pt x="19814" y="5675"/>
                  <a:pt x="19769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Ink 26"/>
          <p:cNvSpPr/>
          <p:nvPr/>
        </p:nvSpPr>
        <p:spPr>
          <a:xfrm>
            <a:off x="2616120" y="5724360"/>
            <a:ext cx="1800" cy="17640"/>
          </a:xfrm>
          <a:custGeom>
            <a:avLst/>
            <a:gdLst/>
            <a:ahLst/>
            <a:rect l="l" t="t" r="r" b="b"/>
            <a:pathLst>
              <a:path w="1" h="50">
                <a:moveTo>
                  <a:pt x="7268" y="15900"/>
                </a:moveTo>
                <a:cubicBezTo>
                  <a:pt x="7268" y="15916"/>
                  <a:pt x="7268" y="15933"/>
                  <a:pt x="7268" y="15949"/>
                </a:cubicBezTo>
              </a:path>
            </a:pathLst>
          </a:custGeom>
          <a:noFill/>
          <a:ln cap="rnd" w="19080">
            <a:solidFill>
              <a:srgbClr val="e5b9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Ink 27"/>
          <p:cNvSpPr/>
          <p:nvPr/>
        </p:nvSpPr>
        <p:spPr>
          <a:xfrm>
            <a:off x="2160720" y="5732640"/>
            <a:ext cx="19080" cy="18720"/>
          </a:xfrm>
          <a:custGeom>
            <a:avLst/>
            <a:gdLst/>
            <a:ahLst/>
            <a:rect l="l" t="t" r="r" b="b"/>
            <a:pathLst>
              <a:path w="50" h="50">
                <a:moveTo>
                  <a:pt x="6003" y="15925"/>
                </a:moveTo>
                <a:cubicBezTo>
                  <a:pt x="6019" y="15941"/>
                  <a:pt x="6036" y="15958"/>
                  <a:pt x="6052" y="15974"/>
                </a:cubicBezTo>
              </a:path>
              <a:path w="50" h="50">
                <a:moveTo>
                  <a:pt x="6052" y="15974"/>
                </a:moveTo>
                <a:cubicBezTo>
                  <a:pt x="6052" y="15966"/>
                  <a:pt x="6052" y="15957"/>
                  <a:pt x="6052" y="15949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Ink 36"/>
          <p:cNvSpPr/>
          <p:nvPr/>
        </p:nvSpPr>
        <p:spPr>
          <a:xfrm>
            <a:off x="5724360" y="2054160"/>
            <a:ext cx="652680" cy="955800"/>
          </a:xfrm>
          <a:custGeom>
            <a:avLst/>
            <a:gdLst/>
            <a:ahLst/>
            <a:rect l="l" t="t" r="r" b="b"/>
            <a:pathLst>
              <a:path w="1812" h="2655">
                <a:moveTo>
                  <a:pt x="16049" y="6474"/>
                </a:moveTo>
                <a:cubicBezTo>
                  <a:pt x="16018" y="6544"/>
                  <a:pt x="16003" y="6634"/>
                  <a:pt x="15974" y="6697"/>
                </a:cubicBezTo>
                <a:cubicBezTo>
                  <a:pt x="15952" y="6744"/>
                  <a:pt x="15910" y="6798"/>
                  <a:pt x="15900" y="6846"/>
                </a:cubicBezTo>
                <a:cubicBezTo>
                  <a:pt x="15900" y="6863"/>
                  <a:pt x="15900" y="6879"/>
                  <a:pt x="15900" y="6896"/>
                </a:cubicBezTo>
                <a:cubicBezTo>
                  <a:pt x="15924" y="6773"/>
                  <a:pt x="15979" y="6667"/>
                  <a:pt x="16024" y="6548"/>
                </a:cubicBezTo>
                <a:cubicBezTo>
                  <a:pt x="16063" y="6444"/>
                  <a:pt x="16104" y="6350"/>
                  <a:pt x="16148" y="6251"/>
                </a:cubicBezTo>
                <a:cubicBezTo>
                  <a:pt x="16189" y="6159"/>
                  <a:pt x="16229" y="6069"/>
                  <a:pt x="16272" y="5978"/>
                </a:cubicBezTo>
                <a:cubicBezTo>
                  <a:pt x="16310" y="5899"/>
                  <a:pt x="16359" y="5840"/>
                  <a:pt x="16421" y="5779"/>
                </a:cubicBezTo>
                <a:cubicBezTo>
                  <a:pt x="16451" y="5750"/>
                  <a:pt x="16462" y="5736"/>
                  <a:pt x="16470" y="5705"/>
                </a:cubicBezTo>
                <a:cubicBezTo>
                  <a:pt x="16544" y="5757"/>
                  <a:pt x="16580" y="5832"/>
                  <a:pt x="16594" y="5928"/>
                </a:cubicBezTo>
                <a:cubicBezTo>
                  <a:pt x="16608" y="6022"/>
                  <a:pt x="16618" y="6107"/>
                  <a:pt x="16644" y="6201"/>
                </a:cubicBezTo>
                <a:cubicBezTo>
                  <a:pt x="16680" y="6330"/>
                  <a:pt x="16721" y="6449"/>
                  <a:pt x="16768" y="6573"/>
                </a:cubicBezTo>
                <a:cubicBezTo>
                  <a:pt x="16801" y="6661"/>
                  <a:pt x="16837" y="6753"/>
                  <a:pt x="16842" y="6846"/>
                </a:cubicBezTo>
                <a:cubicBezTo>
                  <a:pt x="16842" y="6898"/>
                  <a:pt x="16841" y="6913"/>
                  <a:pt x="16818" y="6846"/>
                </a:cubicBezTo>
              </a:path>
              <a:path w="1812" h="2655">
                <a:moveTo>
                  <a:pt x="16073" y="6449"/>
                </a:moveTo>
                <a:cubicBezTo>
                  <a:pt x="16173" y="6428"/>
                  <a:pt x="16269" y="6402"/>
                  <a:pt x="16371" y="6400"/>
                </a:cubicBezTo>
                <a:cubicBezTo>
                  <a:pt x="16470" y="6398"/>
                  <a:pt x="16570" y="6400"/>
                  <a:pt x="16669" y="6400"/>
                </a:cubicBezTo>
              </a:path>
              <a:path w="1812" h="2655">
                <a:moveTo>
                  <a:pt x="17338" y="6375"/>
                </a:moveTo>
                <a:cubicBezTo>
                  <a:pt x="17462" y="6375"/>
                  <a:pt x="17587" y="6375"/>
                  <a:pt x="17711" y="6375"/>
                </a:cubicBezTo>
              </a:path>
              <a:path w="1812" h="2655">
                <a:moveTo>
                  <a:pt x="17363" y="6524"/>
                </a:moveTo>
                <a:cubicBezTo>
                  <a:pt x="17500" y="6543"/>
                  <a:pt x="17582" y="6558"/>
                  <a:pt x="17711" y="6524"/>
                </a:cubicBezTo>
              </a:path>
              <a:path w="1812" h="2655">
                <a:moveTo>
                  <a:pt x="16123" y="7640"/>
                </a:moveTo>
                <a:cubicBezTo>
                  <a:pt x="16096" y="7752"/>
                  <a:pt x="16073" y="7825"/>
                  <a:pt x="16073" y="7938"/>
                </a:cubicBezTo>
                <a:cubicBezTo>
                  <a:pt x="16073" y="8067"/>
                  <a:pt x="16073" y="8184"/>
                  <a:pt x="16098" y="8310"/>
                </a:cubicBezTo>
                <a:cubicBezTo>
                  <a:pt x="16098" y="8375"/>
                  <a:pt x="16098" y="8224"/>
                  <a:pt x="16098" y="8210"/>
                </a:cubicBezTo>
                <a:cubicBezTo>
                  <a:pt x="16098" y="8111"/>
                  <a:pt x="16119" y="8007"/>
                  <a:pt x="16148" y="7913"/>
                </a:cubicBezTo>
                <a:cubicBezTo>
                  <a:pt x="16172" y="7836"/>
                  <a:pt x="16209" y="7736"/>
                  <a:pt x="16247" y="7665"/>
                </a:cubicBezTo>
                <a:cubicBezTo>
                  <a:pt x="16280" y="7603"/>
                  <a:pt x="16338" y="7531"/>
                  <a:pt x="16396" y="7491"/>
                </a:cubicBezTo>
                <a:cubicBezTo>
                  <a:pt x="16463" y="7445"/>
                  <a:pt x="16530" y="7427"/>
                  <a:pt x="16594" y="7466"/>
                </a:cubicBezTo>
                <a:cubicBezTo>
                  <a:pt x="16621" y="7537"/>
                  <a:pt x="16637" y="7594"/>
                  <a:pt x="16594" y="7665"/>
                </a:cubicBezTo>
                <a:cubicBezTo>
                  <a:pt x="16549" y="7738"/>
                  <a:pt x="16447" y="7823"/>
                  <a:pt x="16371" y="7863"/>
                </a:cubicBezTo>
                <a:cubicBezTo>
                  <a:pt x="16294" y="7902"/>
                  <a:pt x="16279" y="7901"/>
                  <a:pt x="16247" y="7938"/>
                </a:cubicBezTo>
                <a:cubicBezTo>
                  <a:pt x="16302" y="7901"/>
                  <a:pt x="16374" y="7868"/>
                  <a:pt x="16446" y="7888"/>
                </a:cubicBezTo>
                <a:cubicBezTo>
                  <a:pt x="16514" y="7907"/>
                  <a:pt x="16586" y="7982"/>
                  <a:pt x="16619" y="8037"/>
                </a:cubicBezTo>
                <a:cubicBezTo>
                  <a:pt x="16659" y="8105"/>
                  <a:pt x="16650" y="8167"/>
                  <a:pt x="16619" y="8235"/>
                </a:cubicBezTo>
                <a:cubicBezTo>
                  <a:pt x="16583" y="8315"/>
                  <a:pt x="16457" y="8349"/>
                  <a:pt x="16371" y="8359"/>
                </a:cubicBezTo>
                <a:cubicBezTo>
                  <a:pt x="16277" y="8370"/>
                  <a:pt x="16177" y="8360"/>
                  <a:pt x="16098" y="8334"/>
                </a:cubicBezTo>
                <a:cubicBezTo>
                  <a:pt x="16063" y="8334"/>
                  <a:pt x="16059" y="8325"/>
                  <a:pt x="16098" y="8285"/>
                </a:cubicBezTo>
              </a:path>
              <a:path w="1812" h="2655">
                <a:moveTo>
                  <a:pt x="17165" y="7838"/>
                </a:moveTo>
                <a:cubicBezTo>
                  <a:pt x="17302" y="7838"/>
                  <a:pt x="17439" y="7841"/>
                  <a:pt x="17562" y="7863"/>
                </a:cubicBezTo>
                <a:cubicBezTo>
                  <a:pt x="17578" y="7863"/>
                  <a:pt x="17595" y="7863"/>
                  <a:pt x="17611" y="7863"/>
                </a:cubicBezTo>
              </a:path>
              <a:path w="1812" h="2655">
                <a:moveTo>
                  <a:pt x="17214" y="8037"/>
                </a:moveTo>
                <a:cubicBezTo>
                  <a:pt x="17288" y="8057"/>
                  <a:pt x="17337" y="8062"/>
                  <a:pt x="17413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Ink 38"/>
          <p:cNvSpPr/>
          <p:nvPr/>
        </p:nvSpPr>
        <p:spPr>
          <a:xfrm>
            <a:off x="5715000" y="3197160"/>
            <a:ext cx="455760" cy="428760"/>
          </a:xfrm>
          <a:custGeom>
            <a:avLst/>
            <a:gdLst/>
            <a:ahLst/>
            <a:rect l="l" t="t" r="r" b="b"/>
            <a:pathLst>
              <a:path w="1266" h="1192">
                <a:moveTo>
                  <a:pt x="16470" y="9079"/>
                </a:moveTo>
                <a:cubicBezTo>
                  <a:pt x="16470" y="9112"/>
                  <a:pt x="16470" y="9128"/>
                  <a:pt x="16470" y="9153"/>
                </a:cubicBezTo>
                <a:cubicBezTo>
                  <a:pt x="16470" y="9088"/>
                  <a:pt x="16497" y="8973"/>
                  <a:pt x="16446" y="8930"/>
                </a:cubicBezTo>
                <a:cubicBezTo>
                  <a:pt x="16348" y="8849"/>
                  <a:pt x="16362" y="8906"/>
                  <a:pt x="16272" y="8930"/>
                </a:cubicBezTo>
                <a:cubicBezTo>
                  <a:pt x="16103" y="8974"/>
                  <a:pt x="16058" y="8998"/>
                  <a:pt x="15949" y="9178"/>
                </a:cubicBezTo>
                <a:cubicBezTo>
                  <a:pt x="15902" y="9256"/>
                  <a:pt x="15878" y="9363"/>
                  <a:pt x="15875" y="9451"/>
                </a:cubicBezTo>
                <a:cubicBezTo>
                  <a:pt x="15871" y="9570"/>
                  <a:pt x="15893" y="9715"/>
                  <a:pt x="15949" y="9823"/>
                </a:cubicBezTo>
                <a:cubicBezTo>
                  <a:pt x="16003" y="9927"/>
                  <a:pt x="16089" y="9935"/>
                  <a:pt x="16173" y="9996"/>
                </a:cubicBezTo>
                <a:cubicBezTo>
                  <a:pt x="16246" y="10049"/>
                  <a:pt x="16343" y="10091"/>
                  <a:pt x="16446" y="10071"/>
                </a:cubicBezTo>
                <a:cubicBezTo>
                  <a:pt x="16501" y="10043"/>
                  <a:pt x="16524" y="10035"/>
                  <a:pt x="16570" y="10046"/>
                </a:cubicBezTo>
              </a:path>
              <a:path w="1266" h="1192">
                <a:moveTo>
                  <a:pt x="16892" y="9475"/>
                </a:moveTo>
                <a:cubicBezTo>
                  <a:pt x="16983" y="9459"/>
                  <a:pt x="17050" y="9451"/>
                  <a:pt x="17140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Ink 43"/>
          <p:cNvSpPr/>
          <p:nvPr/>
        </p:nvSpPr>
        <p:spPr>
          <a:xfrm>
            <a:off x="6099120" y="3456000"/>
            <a:ext cx="1080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6942" y="9599"/>
                </a:moveTo>
                <a:cubicBezTo>
                  <a:pt x="17050" y="9636"/>
                  <a:pt x="17126" y="9622"/>
                  <a:pt x="17239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Ink 49"/>
          <p:cNvSpPr/>
          <p:nvPr/>
        </p:nvSpPr>
        <p:spPr>
          <a:xfrm>
            <a:off x="446040" y="3589200"/>
            <a:ext cx="152280" cy="268560"/>
          </a:xfrm>
          <a:custGeom>
            <a:avLst/>
            <a:gdLst/>
            <a:ahLst/>
            <a:rect l="l" t="t" r="r" b="b"/>
            <a:pathLst>
              <a:path w="423" h="746">
                <a:moveTo>
                  <a:pt x="1240" y="10294"/>
                </a:moveTo>
                <a:cubicBezTo>
                  <a:pt x="1240" y="10394"/>
                  <a:pt x="1239" y="10472"/>
                  <a:pt x="1265" y="10567"/>
                </a:cubicBezTo>
                <a:cubicBezTo>
                  <a:pt x="1256" y="10483"/>
                  <a:pt x="1240" y="10447"/>
                  <a:pt x="1240" y="10344"/>
                </a:cubicBezTo>
                <a:cubicBezTo>
                  <a:pt x="1240" y="10279"/>
                  <a:pt x="1253" y="10201"/>
                  <a:pt x="1290" y="10145"/>
                </a:cubicBezTo>
                <a:cubicBezTo>
                  <a:pt x="1321" y="10098"/>
                  <a:pt x="1322" y="9998"/>
                  <a:pt x="1389" y="9971"/>
                </a:cubicBezTo>
                <a:cubicBezTo>
                  <a:pt x="1462" y="9942"/>
                  <a:pt x="1512" y="9983"/>
                  <a:pt x="1538" y="10046"/>
                </a:cubicBezTo>
                <a:cubicBezTo>
                  <a:pt x="1564" y="10110"/>
                  <a:pt x="1545" y="10213"/>
                  <a:pt x="1488" y="10269"/>
                </a:cubicBezTo>
                <a:cubicBezTo>
                  <a:pt x="1448" y="10308"/>
                  <a:pt x="1408" y="10292"/>
                  <a:pt x="1364" y="10344"/>
                </a:cubicBezTo>
                <a:cubicBezTo>
                  <a:pt x="1424" y="10272"/>
                  <a:pt x="1458" y="10302"/>
                  <a:pt x="1538" y="10344"/>
                </a:cubicBezTo>
                <a:cubicBezTo>
                  <a:pt x="1588" y="10370"/>
                  <a:pt x="1619" y="10475"/>
                  <a:pt x="1637" y="10517"/>
                </a:cubicBezTo>
                <a:cubicBezTo>
                  <a:pt x="1654" y="10557"/>
                  <a:pt x="1642" y="10660"/>
                  <a:pt x="1588" y="10691"/>
                </a:cubicBezTo>
                <a:cubicBezTo>
                  <a:pt x="1543" y="10717"/>
                  <a:pt x="1462" y="10726"/>
                  <a:pt x="1414" y="10691"/>
                </a:cubicBezTo>
                <a:cubicBezTo>
                  <a:pt x="1320" y="10623"/>
                  <a:pt x="1350" y="10647"/>
                  <a:pt x="1290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Ink 56"/>
          <p:cNvSpPr/>
          <p:nvPr/>
        </p:nvSpPr>
        <p:spPr>
          <a:xfrm>
            <a:off x="2803680" y="2232000"/>
            <a:ext cx="804600" cy="366840"/>
          </a:xfrm>
          <a:custGeom>
            <a:avLst/>
            <a:gdLst/>
            <a:ahLst/>
            <a:rect l="l" t="t" r="r" b="b"/>
            <a:pathLst>
              <a:path w="2233" h="1018">
                <a:moveTo>
                  <a:pt x="7913" y="6226"/>
                </a:moveTo>
                <a:cubicBezTo>
                  <a:pt x="7875" y="6289"/>
                  <a:pt x="7870" y="6422"/>
                  <a:pt x="7863" y="6499"/>
                </a:cubicBezTo>
                <a:cubicBezTo>
                  <a:pt x="7855" y="6591"/>
                  <a:pt x="7859" y="6706"/>
                  <a:pt x="7838" y="6796"/>
                </a:cubicBezTo>
                <a:cubicBezTo>
                  <a:pt x="7824" y="6858"/>
                  <a:pt x="7829" y="6934"/>
                  <a:pt x="7813" y="6995"/>
                </a:cubicBezTo>
                <a:cubicBezTo>
                  <a:pt x="7792" y="7072"/>
                  <a:pt x="7789" y="7136"/>
                  <a:pt x="7789" y="7218"/>
                </a:cubicBezTo>
                <a:cubicBezTo>
                  <a:pt x="7789" y="7162"/>
                  <a:pt x="7790" y="7092"/>
                  <a:pt x="7813" y="7045"/>
                </a:cubicBezTo>
                <a:cubicBezTo>
                  <a:pt x="7840" y="6991"/>
                  <a:pt x="7858" y="6932"/>
                  <a:pt x="7888" y="6871"/>
                </a:cubicBezTo>
                <a:cubicBezTo>
                  <a:pt x="7913" y="6822"/>
                  <a:pt x="7929" y="6743"/>
                  <a:pt x="7938" y="6697"/>
                </a:cubicBezTo>
                <a:cubicBezTo>
                  <a:pt x="7950" y="6639"/>
                  <a:pt x="7953" y="6579"/>
                  <a:pt x="7987" y="6524"/>
                </a:cubicBezTo>
                <a:cubicBezTo>
                  <a:pt x="8027" y="6459"/>
                  <a:pt x="8077" y="6514"/>
                  <a:pt x="8111" y="6548"/>
                </a:cubicBezTo>
                <a:cubicBezTo>
                  <a:pt x="8145" y="6582"/>
                  <a:pt x="8168" y="6672"/>
                  <a:pt x="8186" y="6722"/>
                </a:cubicBezTo>
                <a:cubicBezTo>
                  <a:pt x="8217" y="6810"/>
                  <a:pt x="8230" y="6928"/>
                  <a:pt x="8235" y="7020"/>
                </a:cubicBezTo>
                <a:cubicBezTo>
                  <a:pt x="8237" y="7049"/>
                  <a:pt x="8228" y="7183"/>
                  <a:pt x="8260" y="7119"/>
                </a:cubicBezTo>
              </a:path>
              <a:path w="2233" h="1018">
                <a:moveTo>
                  <a:pt x="8434" y="6648"/>
                </a:moveTo>
                <a:cubicBezTo>
                  <a:pt x="8503" y="6666"/>
                  <a:pt x="8583" y="6688"/>
                  <a:pt x="8657" y="6672"/>
                </a:cubicBezTo>
                <a:cubicBezTo>
                  <a:pt x="8736" y="6655"/>
                  <a:pt x="8796" y="6648"/>
                  <a:pt x="8880" y="6648"/>
                </a:cubicBezTo>
              </a:path>
              <a:path w="2233" h="1018">
                <a:moveTo>
                  <a:pt x="8434" y="6796"/>
                </a:moveTo>
                <a:cubicBezTo>
                  <a:pt x="8503" y="6806"/>
                  <a:pt x="8554" y="6821"/>
                  <a:pt x="8632" y="6821"/>
                </a:cubicBezTo>
                <a:cubicBezTo>
                  <a:pt x="8716" y="6821"/>
                  <a:pt x="8955" y="6821"/>
                  <a:pt x="8954" y="6821"/>
                </a:cubicBezTo>
              </a:path>
              <a:path w="2233" h="1018">
                <a:moveTo>
                  <a:pt x="9302" y="6201"/>
                </a:moveTo>
                <a:cubicBezTo>
                  <a:pt x="9296" y="6290"/>
                  <a:pt x="9277" y="6360"/>
                  <a:pt x="9277" y="6449"/>
                </a:cubicBezTo>
                <a:cubicBezTo>
                  <a:pt x="9277" y="6585"/>
                  <a:pt x="9271" y="6717"/>
                  <a:pt x="9252" y="6846"/>
                </a:cubicBezTo>
                <a:cubicBezTo>
                  <a:pt x="9242" y="6914"/>
                  <a:pt x="9237" y="7068"/>
                  <a:pt x="9277" y="7094"/>
                </a:cubicBezTo>
              </a:path>
              <a:path w="2233" h="1018">
                <a:moveTo>
                  <a:pt x="9599" y="6300"/>
                </a:moveTo>
                <a:cubicBezTo>
                  <a:pt x="9641" y="6384"/>
                  <a:pt x="9604" y="6453"/>
                  <a:pt x="9599" y="6548"/>
                </a:cubicBezTo>
                <a:cubicBezTo>
                  <a:pt x="9593" y="6670"/>
                  <a:pt x="9605" y="6782"/>
                  <a:pt x="9624" y="6896"/>
                </a:cubicBezTo>
                <a:cubicBezTo>
                  <a:pt x="9633" y="6949"/>
                  <a:pt x="9641" y="7038"/>
                  <a:pt x="9699" y="7069"/>
                </a:cubicBezTo>
                <a:cubicBezTo>
                  <a:pt x="9778" y="7110"/>
                  <a:pt x="9838" y="7075"/>
                  <a:pt x="9897" y="7020"/>
                </a:cubicBezTo>
                <a:cubicBezTo>
                  <a:pt x="9962" y="6959"/>
                  <a:pt x="10010" y="6883"/>
                  <a:pt x="10021" y="6796"/>
                </a:cubicBezTo>
                <a:cubicBezTo>
                  <a:pt x="10032" y="6712"/>
                  <a:pt x="10030" y="6591"/>
                  <a:pt x="9996" y="6524"/>
                </a:cubicBezTo>
                <a:cubicBezTo>
                  <a:pt x="9961" y="6454"/>
                  <a:pt x="9936" y="6375"/>
                  <a:pt x="9872" y="6325"/>
                </a:cubicBezTo>
                <a:cubicBezTo>
                  <a:pt x="9795" y="6266"/>
                  <a:pt x="9733" y="6273"/>
                  <a:pt x="9649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Ink 57"/>
          <p:cNvSpPr/>
          <p:nvPr/>
        </p:nvSpPr>
        <p:spPr>
          <a:xfrm>
            <a:off x="3894120" y="2133720"/>
            <a:ext cx="909720" cy="403200"/>
          </a:xfrm>
          <a:custGeom>
            <a:avLst/>
            <a:gdLst/>
            <a:ahLst/>
            <a:rect l="l" t="t" r="r" b="b"/>
            <a:pathLst>
              <a:path w="2531" h="1118">
                <a:moveTo>
                  <a:pt x="11261" y="6474"/>
                </a:moveTo>
                <a:cubicBezTo>
                  <a:pt x="11240" y="6399"/>
                  <a:pt x="11201" y="6378"/>
                  <a:pt x="11112" y="6375"/>
                </a:cubicBezTo>
                <a:cubicBezTo>
                  <a:pt x="11031" y="6372"/>
                  <a:pt x="10956" y="6391"/>
                  <a:pt x="10889" y="6424"/>
                </a:cubicBezTo>
                <a:cubicBezTo>
                  <a:pt x="10846" y="6446"/>
                  <a:pt x="10834" y="6450"/>
                  <a:pt x="10815" y="6474"/>
                </a:cubicBezTo>
                <a:cubicBezTo>
                  <a:pt x="10869" y="6517"/>
                  <a:pt x="10913" y="6522"/>
                  <a:pt x="10964" y="6548"/>
                </a:cubicBezTo>
                <a:cubicBezTo>
                  <a:pt x="11033" y="6583"/>
                  <a:pt x="11091" y="6642"/>
                  <a:pt x="11137" y="6697"/>
                </a:cubicBezTo>
                <a:cubicBezTo>
                  <a:pt x="11184" y="6753"/>
                  <a:pt x="11243" y="6761"/>
                  <a:pt x="11261" y="6846"/>
                </a:cubicBezTo>
                <a:cubicBezTo>
                  <a:pt x="11281" y="6940"/>
                  <a:pt x="11149" y="6943"/>
                  <a:pt x="11088" y="6945"/>
                </a:cubicBezTo>
                <a:cubicBezTo>
                  <a:pt x="11012" y="6947"/>
                  <a:pt x="10906" y="6937"/>
                  <a:pt x="10840" y="6896"/>
                </a:cubicBezTo>
                <a:cubicBezTo>
                  <a:pt x="10817" y="6873"/>
                  <a:pt x="10809" y="6869"/>
                  <a:pt x="10815" y="6846"/>
                </a:cubicBezTo>
              </a:path>
              <a:path w="2531" h="1118">
                <a:moveTo>
                  <a:pt x="11460" y="6474"/>
                </a:moveTo>
                <a:cubicBezTo>
                  <a:pt x="11484" y="6608"/>
                  <a:pt x="11466" y="6648"/>
                  <a:pt x="11460" y="6772"/>
                </a:cubicBezTo>
                <a:cubicBezTo>
                  <a:pt x="11457" y="6840"/>
                  <a:pt x="11474" y="6892"/>
                  <a:pt x="11485" y="6945"/>
                </a:cubicBezTo>
                <a:cubicBezTo>
                  <a:pt x="11485" y="7003"/>
                  <a:pt x="11485" y="7012"/>
                  <a:pt x="11485" y="6921"/>
                </a:cubicBezTo>
              </a:path>
              <a:path w="2531" h="1118">
                <a:moveTo>
                  <a:pt x="11509" y="6251"/>
                </a:moveTo>
                <a:cubicBezTo>
                  <a:pt x="11509" y="6243"/>
                  <a:pt x="11509" y="6234"/>
                  <a:pt x="11509" y="6226"/>
                </a:cubicBezTo>
              </a:path>
              <a:path w="2531" h="1118">
                <a:moveTo>
                  <a:pt x="11683" y="6821"/>
                </a:moveTo>
                <a:cubicBezTo>
                  <a:pt x="11683" y="6879"/>
                  <a:pt x="11683" y="6937"/>
                  <a:pt x="11683" y="6995"/>
                </a:cubicBezTo>
                <a:cubicBezTo>
                  <a:pt x="11683" y="6889"/>
                  <a:pt x="11691" y="6788"/>
                  <a:pt x="11708" y="6697"/>
                </a:cubicBezTo>
                <a:cubicBezTo>
                  <a:pt x="11717" y="6648"/>
                  <a:pt x="11715" y="6556"/>
                  <a:pt x="11757" y="6524"/>
                </a:cubicBezTo>
                <a:cubicBezTo>
                  <a:pt x="11819" y="6477"/>
                  <a:pt x="11859" y="6459"/>
                  <a:pt x="11931" y="6499"/>
                </a:cubicBezTo>
                <a:cubicBezTo>
                  <a:pt x="12035" y="6557"/>
                  <a:pt x="12062" y="6583"/>
                  <a:pt x="12080" y="6697"/>
                </a:cubicBezTo>
                <a:cubicBezTo>
                  <a:pt x="12089" y="6751"/>
                  <a:pt x="12080" y="7075"/>
                  <a:pt x="12080" y="6896"/>
                </a:cubicBezTo>
              </a:path>
              <a:path w="2531" h="1118">
                <a:moveTo>
                  <a:pt x="12378" y="6152"/>
                </a:moveTo>
                <a:cubicBezTo>
                  <a:pt x="12378" y="6248"/>
                  <a:pt x="12339" y="6304"/>
                  <a:pt x="12328" y="6400"/>
                </a:cubicBezTo>
                <a:cubicBezTo>
                  <a:pt x="12316" y="6500"/>
                  <a:pt x="12290" y="6600"/>
                  <a:pt x="12278" y="6697"/>
                </a:cubicBezTo>
                <a:cubicBezTo>
                  <a:pt x="12267" y="6784"/>
                  <a:pt x="12275" y="6866"/>
                  <a:pt x="12303" y="6945"/>
                </a:cubicBezTo>
                <a:cubicBezTo>
                  <a:pt x="12323" y="7003"/>
                  <a:pt x="12394" y="7100"/>
                  <a:pt x="12477" y="7045"/>
                </a:cubicBezTo>
                <a:cubicBezTo>
                  <a:pt x="12612" y="6956"/>
                  <a:pt x="12668" y="6895"/>
                  <a:pt x="12675" y="6747"/>
                </a:cubicBezTo>
                <a:cubicBezTo>
                  <a:pt x="12678" y="6676"/>
                  <a:pt x="12693" y="6578"/>
                  <a:pt x="12650" y="6524"/>
                </a:cubicBezTo>
                <a:cubicBezTo>
                  <a:pt x="12642" y="6516"/>
                  <a:pt x="12634" y="6507"/>
                  <a:pt x="12626" y="6499"/>
                </a:cubicBezTo>
                <a:cubicBezTo>
                  <a:pt x="12552" y="6541"/>
                  <a:pt x="12540" y="6572"/>
                  <a:pt x="12502" y="6648"/>
                </a:cubicBezTo>
                <a:cubicBezTo>
                  <a:pt x="12472" y="6707"/>
                  <a:pt x="12453" y="6830"/>
                  <a:pt x="12477" y="6896"/>
                </a:cubicBezTo>
                <a:cubicBezTo>
                  <a:pt x="12505" y="6924"/>
                  <a:pt x="12518" y="6933"/>
                  <a:pt x="12551" y="6921"/>
                </a:cubicBezTo>
              </a:path>
              <a:path w="2531" h="1118">
                <a:moveTo>
                  <a:pt x="12874" y="6152"/>
                </a:moveTo>
                <a:cubicBezTo>
                  <a:pt x="12856" y="6260"/>
                  <a:pt x="12839" y="6368"/>
                  <a:pt x="12824" y="6474"/>
                </a:cubicBezTo>
                <a:cubicBezTo>
                  <a:pt x="12812" y="6558"/>
                  <a:pt x="12799" y="6635"/>
                  <a:pt x="12799" y="6722"/>
                </a:cubicBezTo>
                <a:cubicBezTo>
                  <a:pt x="12799" y="6799"/>
                  <a:pt x="12803" y="6855"/>
                  <a:pt x="12849" y="6921"/>
                </a:cubicBezTo>
                <a:cubicBezTo>
                  <a:pt x="12902" y="6997"/>
                  <a:pt x="12986" y="6963"/>
                  <a:pt x="13047" y="6921"/>
                </a:cubicBezTo>
                <a:cubicBezTo>
                  <a:pt x="13121" y="6870"/>
                  <a:pt x="13132" y="6829"/>
                  <a:pt x="13171" y="6747"/>
                </a:cubicBezTo>
                <a:cubicBezTo>
                  <a:pt x="13229" y="6626"/>
                  <a:pt x="13185" y="6498"/>
                  <a:pt x="13146" y="6375"/>
                </a:cubicBezTo>
                <a:cubicBezTo>
                  <a:pt x="13132" y="6331"/>
                  <a:pt x="13090" y="6262"/>
                  <a:pt x="13072" y="6226"/>
                </a:cubicBezTo>
                <a:cubicBezTo>
                  <a:pt x="13047" y="6201"/>
                  <a:pt x="13039" y="6193"/>
                  <a:pt x="13022" y="6176"/>
                </a:cubicBezTo>
              </a:path>
              <a:path w="2531" h="1118">
                <a:moveTo>
                  <a:pt x="13196" y="6003"/>
                </a:moveTo>
                <a:cubicBezTo>
                  <a:pt x="13205" y="6096"/>
                  <a:pt x="13210" y="6170"/>
                  <a:pt x="13320" y="6102"/>
                </a:cubicBezTo>
                <a:cubicBezTo>
                  <a:pt x="13353" y="6081"/>
                  <a:pt x="13374" y="5931"/>
                  <a:pt x="13320" y="5928"/>
                </a:cubicBezTo>
                <a:cubicBezTo>
                  <a:pt x="13263" y="5947"/>
                  <a:pt x="13256" y="5956"/>
                  <a:pt x="13221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Ink 58"/>
          <p:cNvSpPr/>
          <p:nvPr/>
        </p:nvSpPr>
        <p:spPr>
          <a:xfrm>
            <a:off x="3044880" y="2633760"/>
            <a:ext cx="1090440" cy="430200"/>
          </a:xfrm>
          <a:custGeom>
            <a:avLst/>
            <a:gdLst/>
            <a:ahLst/>
            <a:rect l="l" t="t" r="r" b="b"/>
            <a:pathLst>
              <a:path w="3028" h="1192">
                <a:moveTo>
                  <a:pt x="8458" y="7441"/>
                </a:moveTo>
                <a:cubicBezTo>
                  <a:pt x="8467" y="7505"/>
                  <a:pt x="8483" y="7544"/>
                  <a:pt x="8483" y="7615"/>
                </a:cubicBezTo>
                <a:cubicBezTo>
                  <a:pt x="8483" y="7921"/>
                  <a:pt x="8405" y="8730"/>
                  <a:pt x="8483" y="8434"/>
                </a:cubicBezTo>
                <a:cubicBezTo>
                  <a:pt x="8503" y="8358"/>
                  <a:pt x="8507" y="8255"/>
                  <a:pt x="8533" y="8186"/>
                </a:cubicBezTo>
                <a:cubicBezTo>
                  <a:pt x="8554" y="8129"/>
                  <a:pt x="8594" y="8041"/>
                  <a:pt x="8632" y="7987"/>
                </a:cubicBezTo>
                <a:cubicBezTo>
                  <a:pt x="8654" y="7955"/>
                  <a:pt x="8711" y="7890"/>
                  <a:pt x="8756" y="7913"/>
                </a:cubicBezTo>
                <a:cubicBezTo>
                  <a:pt x="8835" y="7954"/>
                  <a:pt x="8832" y="8044"/>
                  <a:pt x="8855" y="8111"/>
                </a:cubicBezTo>
                <a:cubicBezTo>
                  <a:pt x="8881" y="8189"/>
                  <a:pt x="8901" y="8274"/>
                  <a:pt x="8905" y="8359"/>
                </a:cubicBezTo>
                <a:cubicBezTo>
                  <a:pt x="8906" y="8380"/>
                  <a:pt x="8925" y="8508"/>
                  <a:pt x="8954" y="8508"/>
                </a:cubicBezTo>
                <a:cubicBezTo>
                  <a:pt x="8962" y="8500"/>
                  <a:pt x="8971" y="8491"/>
                  <a:pt x="8979" y="8483"/>
                </a:cubicBezTo>
              </a:path>
              <a:path w="3028" h="1192">
                <a:moveTo>
                  <a:pt x="9054" y="7987"/>
                </a:moveTo>
                <a:cubicBezTo>
                  <a:pt x="9176" y="7987"/>
                  <a:pt x="9284" y="7995"/>
                  <a:pt x="9401" y="8012"/>
                </a:cubicBezTo>
                <a:cubicBezTo>
                  <a:pt x="9451" y="8012"/>
                  <a:pt x="9467" y="8012"/>
                  <a:pt x="9500" y="8012"/>
                </a:cubicBezTo>
              </a:path>
              <a:path w="3028" h="1192">
                <a:moveTo>
                  <a:pt x="9103" y="8161"/>
                </a:moveTo>
                <a:cubicBezTo>
                  <a:pt x="9198" y="8181"/>
                  <a:pt x="9311" y="8163"/>
                  <a:pt x="9401" y="8186"/>
                </a:cubicBezTo>
                <a:cubicBezTo>
                  <a:pt x="9463" y="8202"/>
                  <a:pt x="9524" y="8210"/>
                  <a:pt x="9599" y="8210"/>
                </a:cubicBezTo>
              </a:path>
              <a:path w="3028" h="1192">
                <a:moveTo>
                  <a:pt x="10468" y="7665"/>
                </a:moveTo>
                <a:cubicBezTo>
                  <a:pt x="10462" y="7625"/>
                  <a:pt x="10446" y="7556"/>
                  <a:pt x="10393" y="7541"/>
                </a:cubicBezTo>
                <a:cubicBezTo>
                  <a:pt x="10312" y="7518"/>
                  <a:pt x="10220" y="7553"/>
                  <a:pt x="10145" y="7565"/>
                </a:cubicBezTo>
                <a:cubicBezTo>
                  <a:pt x="10106" y="7571"/>
                  <a:pt x="9997" y="7586"/>
                  <a:pt x="9971" y="7615"/>
                </a:cubicBezTo>
                <a:cubicBezTo>
                  <a:pt x="9918" y="7674"/>
                  <a:pt x="9952" y="7741"/>
                  <a:pt x="9996" y="7789"/>
                </a:cubicBezTo>
                <a:cubicBezTo>
                  <a:pt x="10053" y="7851"/>
                  <a:pt x="10106" y="7902"/>
                  <a:pt x="10170" y="7962"/>
                </a:cubicBezTo>
                <a:cubicBezTo>
                  <a:pt x="10243" y="8031"/>
                  <a:pt x="10319" y="8098"/>
                  <a:pt x="10368" y="8186"/>
                </a:cubicBezTo>
                <a:cubicBezTo>
                  <a:pt x="10405" y="8253"/>
                  <a:pt x="10399" y="8299"/>
                  <a:pt x="10368" y="8359"/>
                </a:cubicBezTo>
                <a:cubicBezTo>
                  <a:pt x="10339" y="8414"/>
                  <a:pt x="10236" y="8438"/>
                  <a:pt x="10170" y="8409"/>
                </a:cubicBezTo>
                <a:cubicBezTo>
                  <a:pt x="10079" y="8369"/>
                  <a:pt x="10050" y="8339"/>
                  <a:pt x="10046" y="8260"/>
                </a:cubicBezTo>
                <a:cubicBezTo>
                  <a:pt x="10042" y="8180"/>
                  <a:pt x="10099" y="8099"/>
                  <a:pt x="10145" y="8037"/>
                </a:cubicBezTo>
                <a:cubicBezTo>
                  <a:pt x="10206" y="7956"/>
                  <a:pt x="10250" y="7866"/>
                  <a:pt x="10319" y="7789"/>
                </a:cubicBezTo>
                <a:cubicBezTo>
                  <a:pt x="10373" y="7729"/>
                  <a:pt x="10398" y="7680"/>
                  <a:pt x="10443" y="7615"/>
                </a:cubicBezTo>
                <a:cubicBezTo>
                  <a:pt x="10466" y="7592"/>
                  <a:pt x="10474" y="7588"/>
                  <a:pt x="10468" y="7565"/>
                </a:cubicBezTo>
              </a:path>
              <a:path w="3028" h="1192">
                <a:moveTo>
                  <a:pt x="10641" y="8310"/>
                </a:moveTo>
                <a:cubicBezTo>
                  <a:pt x="10649" y="8293"/>
                  <a:pt x="10658" y="8277"/>
                  <a:pt x="10666" y="8260"/>
                </a:cubicBezTo>
              </a:path>
              <a:path w="3028" h="1192">
                <a:moveTo>
                  <a:pt x="11088" y="7615"/>
                </a:moveTo>
                <a:cubicBezTo>
                  <a:pt x="11088" y="7702"/>
                  <a:pt x="11084" y="7782"/>
                  <a:pt x="11063" y="7863"/>
                </a:cubicBezTo>
                <a:cubicBezTo>
                  <a:pt x="11039" y="7955"/>
                  <a:pt x="11018" y="8042"/>
                  <a:pt x="11013" y="8136"/>
                </a:cubicBezTo>
                <a:cubicBezTo>
                  <a:pt x="11007" y="8255"/>
                  <a:pt x="11038" y="8291"/>
                  <a:pt x="11112" y="8334"/>
                </a:cubicBezTo>
                <a:cubicBezTo>
                  <a:pt x="11156" y="8360"/>
                  <a:pt x="11228" y="8375"/>
                  <a:pt x="11286" y="8359"/>
                </a:cubicBezTo>
                <a:cubicBezTo>
                  <a:pt x="11350" y="8341"/>
                  <a:pt x="11376" y="8316"/>
                  <a:pt x="11410" y="8260"/>
                </a:cubicBezTo>
                <a:cubicBezTo>
                  <a:pt x="11450" y="8193"/>
                  <a:pt x="11432" y="8110"/>
                  <a:pt x="11361" y="8062"/>
                </a:cubicBezTo>
                <a:cubicBezTo>
                  <a:pt x="11296" y="8018"/>
                  <a:pt x="11182" y="8048"/>
                  <a:pt x="11137" y="8111"/>
                </a:cubicBezTo>
                <a:cubicBezTo>
                  <a:pt x="11094" y="8171"/>
                  <a:pt x="11108" y="8231"/>
                  <a:pt x="11137" y="8285"/>
                </a:cubicBezTo>
                <a:cubicBezTo>
                  <a:pt x="11162" y="8334"/>
                  <a:pt x="11171" y="8350"/>
                  <a:pt x="11212" y="8310"/>
                </a:cubicBezTo>
              </a:path>
              <a:path w="3028" h="1192">
                <a:moveTo>
                  <a:pt x="10765" y="7417"/>
                </a:moveTo>
                <a:cubicBezTo>
                  <a:pt x="10850" y="7374"/>
                  <a:pt x="10898" y="7383"/>
                  <a:pt x="10988" y="7367"/>
                </a:cubicBezTo>
                <a:cubicBezTo>
                  <a:pt x="11100" y="7348"/>
                  <a:pt x="11197" y="7342"/>
                  <a:pt x="11311" y="7342"/>
                </a:cubicBezTo>
                <a:cubicBezTo>
                  <a:pt x="11378" y="7342"/>
                  <a:pt x="11423" y="7329"/>
                  <a:pt x="11485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Ink 59"/>
          <p:cNvSpPr/>
          <p:nvPr/>
        </p:nvSpPr>
        <p:spPr>
          <a:xfrm>
            <a:off x="2303640" y="3419640"/>
            <a:ext cx="849240" cy="393480"/>
          </a:xfrm>
          <a:custGeom>
            <a:avLst/>
            <a:gdLst/>
            <a:ahLst/>
            <a:rect l="l" t="t" r="r" b="b"/>
            <a:pathLst>
              <a:path w="2357" h="1093">
                <a:moveTo>
                  <a:pt x="6424" y="9500"/>
                </a:moveTo>
                <a:cubicBezTo>
                  <a:pt x="6424" y="9734"/>
                  <a:pt x="6425" y="9966"/>
                  <a:pt x="6400" y="10195"/>
                </a:cubicBezTo>
                <a:cubicBezTo>
                  <a:pt x="6386" y="10323"/>
                  <a:pt x="6400" y="10462"/>
                  <a:pt x="6400" y="10592"/>
                </a:cubicBezTo>
                <a:cubicBezTo>
                  <a:pt x="6436" y="10530"/>
                  <a:pt x="6463" y="10421"/>
                  <a:pt x="6474" y="10344"/>
                </a:cubicBezTo>
                <a:cubicBezTo>
                  <a:pt x="6488" y="10247"/>
                  <a:pt x="6474" y="10199"/>
                  <a:pt x="6499" y="10120"/>
                </a:cubicBezTo>
                <a:cubicBezTo>
                  <a:pt x="6520" y="10054"/>
                  <a:pt x="6572" y="10007"/>
                  <a:pt x="6623" y="9971"/>
                </a:cubicBezTo>
                <a:cubicBezTo>
                  <a:pt x="6696" y="10017"/>
                  <a:pt x="6750" y="10070"/>
                  <a:pt x="6796" y="10145"/>
                </a:cubicBezTo>
                <a:cubicBezTo>
                  <a:pt x="6822" y="10187"/>
                  <a:pt x="6862" y="10294"/>
                  <a:pt x="6871" y="10344"/>
                </a:cubicBezTo>
                <a:cubicBezTo>
                  <a:pt x="6885" y="10422"/>
                  <a:pt x="6876" y="10488"/>
                  <a:pt x="6896" y="10567"/>
                </a:cubicBezTo>
              </a:path>
              <a:path w="2357" h="1093">
                <a:moveTo>
                  <a:pt x="7045" y="10071"/>
                </a:moveTo>
                <a:cubicBezTo>
                  <a:pt x="7128" y="10071"/>
                  <a:pt x="7210" y="10071"/>
                  <a:pt x="7293" y="10071"/>
                </a:cubicBezTo>
              </a:path>
              <a:path w="2357" h="1093">
                <a:moveTo>
                  <a:pt x="7045" y="10195"/>
                </a:moveTo>
                <a:cubicBezTo>
                  <a:pt x="7094" y="10222"/>
                  <a:pt x="7143" y="10252"/>
                  <a:pt x="7193" y="10269"/>
                </a:cubicBezTo>
              </a:path>
              <a:path w="2357" h="1093">
                <a:moveTo>
                  <a:pt x="7913" y="9847"/>
                </a:moveTo>
                <a:cubicBezTo>
                  <a:pt x="7853" y="9812"/>
                  <a:pt x="7738" y="9803"/>
                  <a:pt x="7665" y="9823"/>
                </a:cubicBezTo>
                <a:cubicBezTo>
                  <a:pt x="7596" y="9842"/>
                  <a:pt x="7541" y="9877"/>
                  <a:pt x="7565" y="9971"/>
                </a:cubicBezTo>
                <a:cubicBezTo>
                  <a:pt x="7580" y="10031"/>
                  <a:pt x="7661" y="10063"/>
                  <a:pt x="7689" y="10120"/>
                </a:cubicBezTo>
                <a:cubicBezTo>
                  <a:pt x="7733" y="10208"/>
                  <a:pt x="7800" y="10343"/>
                  <a:pt x="7863" y="10418"/>
                </a:cubicBezTo>
                <a:cubicBezTo>
                  <a:pt x="7903" y="10466"/>
                  <a:pt x="7840" y="10515"/>
                  <a:pt x="7789" y="10567"/>
                </a:cubicBezTo>
                <a:cubicBezTo>
                  <a:pt x="7729" y="10514"/>
                  <a:pt x="7684" y="10497"/>
                  <a:pt x="7640" y="10443"/>
                </a:cubicBezTo>
                <a:cubicBezTo>
                  <a:pt x="7589" y="10382"/>
                  <a:pt x="7695" y="10279"/>
                  <a:pt x="7739" y="10220"/>
                </a:cubicBezTo>
                <a:cubicBezTo>
                  <a:pt x="7775" y="10172"/>
                  <a:pt x="7817" y="10084"/>
                  <a:pt x="7863" y="10046"/>
                </a:cubicBezTo>
                <a:cubicBezTo>
                  <a:pt x="7901" y="10015"/>
                  <a:pt x="7925" y="9967"/>
                  <a:pt x="7962" y="9922"/>
                </a:cubicBezTo>
                <a:cubicBezTo>
                  <a:pt x="7990" y="9894"/>
                  <a:pt x="7999" y="9880"/>
                  <a:pt x="7987" y="9847"/>
                </a:cubicBezTo>
              </a:path>
              <a:path w="2357" h="1093">
                <a:moveTo>
                  <a:pt x="8111" y="10443"/>
                </a:moveTo>
                <a:cubicBezTo>
                  <a:pt x="8131" y="10483"/>
                  <a:pt x="8150" y="10499"/>
                  <a:pt x="8111" y="10492"/>
                </a:cubicBezTo>
              </a:path>
              <a:path w="2357" h="1093">
                <a:moveTo>
                  <a:pt x="8409" y="9823"/>
                </a:moveTo>
                <a:cubicBezTo>
                  <a:pt x="8409" y="9919"/>
                  <a:pt x="8373" y="9953"/>
                  <a:pt x="8359" y="10046"/>
                </a:cubicBezTo>
                <a:cubicBezTo>
                  <a:pt x="8352" y="10092"/>
                  <a:pt x="8330" y="10227"/>
                  <a:pt x="8334" y="10269"/>
                </a:cubicBezTo>
                <a:cubicBezTo>
                  <a:pt x="8346" y="10402"/>
                  <a:pt x="8443" y="10452"/>
                  <a:pt x="8508" y="10517"/>
                </a:cubicBezTo>
                <a:cubicBezTo>
                  <a:pt x="8577" y="10586"/>
                  <a:pt x="8617" y="10590"/>
                  <a:pt x="8682" y="10517"/>
                </a:cubicBezTo>
                <a:cubicBezTo>
                  <a:pt x="8705" y="10492"/>
                  <a:pt x="8743" y="10404"/>
                  <a:pt x="8731" y="10368"/>
                </a:cubicBezTo>
                <a:cubicBezTo>
                  <a:pt x="8718" y="10330"/>
                  <a:pt x="8679" y="10286"/>
                  <a:pt x="8657" y="10269"/>
                </a:cubicBezTo>
                <a:cubicBezTo>
                  <a:pt x="8580" y="10324"/>
                  <a:pt x="8564" y="10329"/>
                  <a:pt x="8558" y="10418"/>
                </a:cubicBezTo>
                <a:cubicBezTo>
                  <a:pt x="8556" y="10453"/>
                  <a:pt x="8604" y="10546"/>
                  <a:pt x="8632" y="10567"/>
                </a:cubicBezTo>
                <a:cubicBezTo>
                  <a:pt x="8640" y="10567"/>
                  <a:pt x="8649" y="10567"/>
                  <a:pt x="8657" y="10567"/>
                </a:cubicBezTo>
              </a:path>
              <a:path w="2357" h="1093">
                <a:moveTo>
                  <a:pt x="8235" y="9599"/>
                </a:moveTo>
                <a:cubicBezTo>
                  <a:pt x="8316" y="9621"/>
                  <a:pt x="8375" y="9624"/>
                  <a:pt x="8458" y="9624"/>
                </a:cubicBezTo>
                <a:cubicBezTo>
                  <a:pt x="8537" y="9624"/>
                  <a:pt x="8722" y="9650"/>
                  <a:pt x="8756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Ink 60"/>
          <p:cNvSpPr/>
          <p:nvPr/>
        </p:nvSpPr>
        <p:spPr>
          <a:xfrm>
            <a:off x="3367080" y="3616200"/>
            <a:ext cx="312840" cy="189000"/>
          </a:xfrm>
          <a:custGeom>
            <a:avLst/>
            <a:gdLst/>
            <a:ahLst/>
            <a:rect l="l" t="t" r="r" b="b"/>
            <a:pathLst>
              <a:path w="870" h="522">
                <a:moveTo>
                  <a:pt x="9599" y="10344"/>
                </a:moveTo>
                <a:cubicBezTo>
                  <a:pt x="9607" y="10369"/>
                  <a:pt x="9616" y="10393"/>
                  <a:pt x="9624" y="10418"/>
                </a:cubicBezTo>
                <a:cubicBezTo>
                  <a:pt x="9624" y="10336"/>
                  <a:pt x="9634" y="10263"/>
                  <a:pt x="9599" y="10195"/>
                </a:cubicBezTo>
                <a:cubicBezTo>
                  <a:pt x="9560" y="10120"/>
                  <a:pt x="9556" y="10120"/>
                  <a:pt x="9475" y="10120"/>
                </a:cubicBezTo>
                <a:cubicBezTo>
                  <a:pt x="9421" y="10120"/>
                  <a:pt x="9361" y="10244"/>
                  <a:pt x="9351" y="10294"/>
                </a:cubicBezTo>
                <a:cubicBezTo>
                  <a:pt x="9339" y="10354"/>
                  <a:pt x="9341" y="10440"/>
                  <a:pt x="9376" y="10492"/>
                </a:cubicBezTo>
                <a:cubicBezTo>
                  <a:pt x="9426" y="10566"/>
                  <a:pt x="9436" y="10567"/>
                  <a:pt x="9525" y="10567"/>
                </a:cubicBezTo>
                <a:cubicBezTo>
                  <a:pt x="9551" y="10567"/>
                  <a:pt x="9645" y="10508"/>
                  <a:pt x="9649" y="10492"/>
                </a:cubicBezTo>
                <a:cubicBezTo>
                  <a:pt x="9673" y="10398"/>
                  <a:pt x="9614" y="10332"/>
                  <a:pt x="9674" y="10443"/>
                </a:cubicBezTo>
                <a:cubicBezTo>
                  <a:pt x="9707" y="10505"/>
                  <a:pt x="9760" y="10559"/>
                  <a:pt x="9823" y="10567"/>
                </a:cubicBezTo>
                <a:cubicBezTo>
                  <a:pt x="9839" y="10567"/>
                  <a:pt x="9856" y="10567"/>
                  <a:pt x="9872" y="10567"/>
                </a:cubicBezTo>
              </a:path>
              <a:path w="870" h="522">
                <a:moveTo>
                  <a:pt x="9922" y="10120"/>
                </a:moveTo>
                <a:cubicBezTo>
                  <a:pt x="9996" y="10071"/>
                  <a:pt x="10052" y="10062"/>
                  <a:pt x="10145" y="10046"/>
                </a:cubicBezTo>
              </a:path>
              <a:path w="870" h="522">
                <a:moveTo>
                  <a:pt x="9971" y="10195"/>
                </a:moveTo>
                <a:cubicBezTo>
                  <a:pt x="10049" y="10224"/>
                  <a:pt x="10110" y="10220"/>
                  <a:pt x="10195" y="10220"/>
                </a:cubicBezTo>
                <a:cubicBezTo>
                  <a:pt x="10203" y="10220"/>
                  <a:pt x="10212" y="10220"/>
                  <a:pt x="10220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Ink 61"/>
          <p:cNvSpPr/>
          <p:nvPr/>
        </p:nvSpPr>
        <p:spPr>
          <a:xfrm>
            <a:off x="3813120" y="3510000"/>
            <a:ext cx="142920" cy="241200"/>
          </a:xfrm>
          <a:custGeom>
            <a:avLst/>
            <a:gdLst/>
            <a:ahLst/>
            <a:rect l="l" t="t" r="r" b="b"/>
            <a:pathLst>
              <a:path w="397" h="671">
                <a:moveTo>
                  <a:pt x="10939" y="9971"/>
                </a:moveTo>
                <a:cubicBezTo>
                  <a:pt x="10955" y="9946"/>
                  <a:pt x="10972" y="9922"/>
                  <a:pt x="10988" y="9897"/>
                </a:cubicBezTo>
                <a:cubicBezTo>
                  <a:pt x="10954" y="9849"/>
                  <a:pt x="10901" y="9766"/>
                  <a:pt x="10840" y="9748"/>
                </a:cubicBezTo>
                <a:cubicBezTo>
                  <a:pt x="10742" y="9719"/>
                  <a:pt x="10712" y="9785"/>
                  <a:pt x="10641" y="9823"/>
                </a:cubicBezTo>
                <a:cubicBezTo>
                  <a:pt x="10575" y="9859"/>
                  <a:pt x="10592" y="9884"/>
                  <a:pt x="10592" y="9971"/>
                </a:cubicBezTo>
                <a:cubicBezTo>
                  <a:pt x="10592" y="10041"/>
                  <a:pt x="10598" y="10081"/>
                  <a:pt x="10641" y="10120"/>
                </a:cubicBezTo>
                <a:cubicBezTo>
                  <a:pt x="10686" y="10160"/>
                  <a:pt x="10742" y="10242"/>
                  <a:pt x="10815" y="10195"/>
                </a:cubicBezTo>
                <a:cubicBezTo>
                  <a:pt x="10868" y="10162"/>
                  <a:pt x="10905" y="10112"/>
                  <a:pt x="10939" y="10071"/>
                </a:cubicBezTo>
                <a:cubicBezTo>
                  <a:pt x="10973" y="10037"/>
                  <a:pt x="10982" y="10015"/>
                  <a:pt x="10964" y="9971"/>
                </a:cubicBezTo>
                <a:cubicBezTo>
                  <a:pt x="10964" y="9825"/>
                  <a:pt x="10964" y="10106"/>
                  <a:pt x="10964" y="10120"/>
                </a:cubicBezTo>
                <a:cubicBezTo>
                  <a:pt x="10964" y="10219"/>
                  <a:pt x="10964" y="10319"/>
                  <a:pt x="10964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Ink 62"/>
          <p:cNvSpPr/>
          <p:nvPr/>
        </p:nvSpPr>
        <p:spPr>
          <a:xfrm>
            <a:off x="4303800" y="3463920"/>
            <a:ext cx="696960" cy="314280"/>
          </a:xfrm>
          <a:custGeom>
            <a:avLst/>
            <a:gdLst/>
            <a:ahLst/>
            <a:rect l="l" t="t" r="r" b="b"/>
            <a:pathLst>
              <a:path w="1936" h="869">
                <a:moveTo>
                  <a:pt x="12080" y="9624"/>
                </a:moveTo>
                <a:cubicBezTo>
                  <a:pt x="12057" y="9717"/>
                  <a:pt x="12016" y="9803"/>
                  <a:pt x="12005" y="9897"/>
                </a:cubicBezTo>
                <a:cubicBezTo>
                  <a:pt x="11995" y="9982"/>
                  <a:pt x="11981" y="10059"/>
                  <a:pt x="11981" y="10145"/>
                </a:cubicBezTo>
                <a:cubicBezTo>
                  <a:pt x="11981" y="10235"/>
                  <a:pt x="11966" y="10289"/>
                  <a:pt x="11981" y="10368"/>
                </a:cubicBezTo>
                <a:cubicBezTo>
                  <a:pt x="11981" y="10426"/>
                  <a:pt x="11981" y="10451"/>
                  <a:pt x="11981" y="10492"/>
                </a:cubicBezTo>
                <a:cubicBezTo>
                  <a:pt x="12023" y="10418"/>
                  <a:pt x="12052" y="10353"/>
                  <a:pt x="12080" y="10269"/>
                </a:cubicBezTo>
                <a:cubicBezTo>
                  <a:pt x="12095" y="10225"/>
                  <a:pt x="12106" y="10065"/>
                  <a:pt x="12129" y="10046"/>
                </a:cubicBezTo>
                <a:cubicBezTo>
                  <a:pt x="12168" y="10014"/>
                  <a:pt x="12221" y="10007"/>
                  <a:pt x="12278" y="9996"/>
                </a:cubicBezTo>
                <a:cubicBezTo>
                  <a:pt x="12309" y="10065"/>
                  <a:pt x="12342" y="10144"/>
                  <a:pt x="12353" y="10220"/>
                </a:cubicBezTo>
                <a:cubicBezTo>
                  <a:pt x="12358" y="10256"/>
                  <a:pt x="12374" y="10425"/>
                  <a:pt x="12328" y="10443"/>
                </a:cubicBezTo>
                <a:cubicBezTo>
                  <a:pt x="12255" y="10471"/>
                  <a:pt x="12171" y="10427"/>
                  <a:pt x="12105" y="10418"/>
                </a:cubicBezTo>
                <a:cubicBezTo>
                  <a:pt x="12009" y="10405"/>
                  <a:pt x="12036" y="10414"/>
                  <a:pt x="11981" y="10344"/>
                </a:cubicBezTo>
              </a:path>
              <a:path w="1936" h="869">
                <a:moveTo>
                  <a:pt x="12626" y="9971"/>
                </a:moveTo>
                <a:cubicBezTo>
                  <a:pt x="12708" y="9971"/>
                  <a:pt x="12725" y="9971"/>
                  <a:pt x="12774" y="9971"/>
                </a:cubicBezTo>
              </a:path>
              <a:path w="1936" h="869">
                <a:moveTo>
                  <a:pt x="12576" y="10046"/>
                </a:moveTo>
                <a:cubicBezTo>
                  <a:pt x="12667" y="10046"/>
                  <a:pt x="12758" y="10046"/>
                  <a:pt x="12849" y="10046"/>
                </a:cubicBezTo>
              </a:path>
              <a:path w="1936" h="869">
                <a:moveTo>
                  <a:pt x="13097" y="9748"/>
                </a:moveTo>
                <a:cubicBezTo>
                  <a:pt x="13097" y="9950"/>
                  <a:pt x="13095" y="10151"/>
                  <a:pt x="13122" y="10344"/>
                </a:cubicBezTo>
                <a:cubicBezTo>
                  <a:pt x="13134" y="10434"/>
                  <a:pt x="13120" y="10445"/>
                  <a:pt x="13171" y="10368"/>
                </a:cubicBezTo>
              </a:path>
              <a:path w="1936" h="869">
                <a:moveTo>
                  <a:pt x="13419" y="9847"/>
                </a:moveTo>
                <a:cubicBezTo>
                  <a:pt x="13411" y="9902"/>
                  <a:pt x="13363" y="9990"/>
                  <a:pt x="13370" y="10046"/>
                </a:cubicBezTo>
                <a:cubicBezTo>
                  <a:pt x="13377" y="10099"/>
                  <a:pt x="13393" y="10212"/>
                  <a:pt x="13419" y="10269"/>
                </a:cubicBezTo>
                <a:cubicBezTo>
                  <a:pt x="13473" y="10384"/>
                  <a:pt x="13503" y="10418"/>
                  <a:pt x="13618" y="10418"/>
                </a:cubicBezTo>
                <a:cubicBezTo>
                  <a:pt x="13737" y="10418"/>
                  <a:pt x="13786" y="10448"/>
                  <a:pt x="13841" y="10344"/>
                </a:cubicBezTo>
                <a:cubicBezTo>
                  <a:pt x="13875" y="10280"/>
                  <a:pt x="13902" y="10193"/>
                  <a:pt x="13891" y="10120"/>
                </a:cubicBezTo>
                <a:cubicBezTo>
                  <a:pt x="13872" y="9990"/>
                  <a:pt x="13800" y="9862"/>
                  <a:pt x="13667" y="9823"/>
                </a:cubicBezTo>
                <a:cubicBezTo>
                  <a:pt x="13586" y="9799"/>
                  <a:pt x="13501" y="9769"/>
                  <a:pt x="13419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Ink 63"/>
          <p:cNvSpPr/>
          <p:nvPr/>
        </p:nvSpPr>
        <p:spPr>
          <a:xfrm>
            <a:off x="2232000" y="3938760"/>
            <a:ext cx="527040" cy="366480"/>
          </a:xfrm>
          <a:custGeom>
            <a:avLst/>
            <a:gdLst/>
            <a:ahLst/>
            <a:rect l="l" t="t" r="r" b="b"/>
            <a:pathLst>
              <a:path w="1465" h="1018">
                <a:moveTo>
                  <a:pt x="6796" y="11088"/>
                </a:moveTo>
                <a:cubicBezTo>
                  <a:pt x="6783" y="11180"/>
                  <a:pt x="6707" y="11200"/>
                  <a:pt x="6648" y="11286"/>
                </a:cubicBezTo>
                <a:cubicBezTo>
                  <a:pt x="6597" y="11360"/>
                  <a:pt x="6547" y="11453"/>
                  <a:pt x="6474" y="11509"/>
                </a:cubicBezTo>
                <a:cubicBezTo>
                  <a:pt x="6400" y="11566"/>
                  <a:pt x="6349" y="11640"/>
                  <a:pt x="6276" y="11708"/>
                </a:cubicBezTo>
                <a:cubicBezTo>
                  <a:pt x="6230" y="11751"/>
                  <a:pt x="6230" y="11783"/>
                  <a:pt x="6201" y="11832"/>
                </a:cubicBezTo>
                <a:cubicBezTo>
                  <a:pt x="6276" y="11832"/>
                  <a:pt x="6331" y="11845"/>
                  <a:pt x="6400" y="11857"/>
                </a:cubicBezTo>
                <a:cubicBezTo>
                  <a:pt x="6493" y="11873"/>
                  <a:pt x="6581" y="11909"/>
                  <a:pt x="6672" y="11931"/>
                </a:cubicBezTo>
                <a:cubicBezTo>
                  <a:pt x="6771" y="11951"/>
                  <a:pt x="6787" y="11959"/>
                  <a:pt x="6846" y="11956"/>
                </a:cubicBezTo>
              </a:path>
              <a:path w="1465" h="1018">
                <a:moveTo>
                  <a:pt x="7169" y="11261"/>
                </a:moveTo>
                <a:cubicBezTo>
                  <a:pt x="7137" y="11355"/>
                  <a:pt x="7143" y="11444"/>
                  <a:pt x="7119" y="11534"/>
                </a:cubicBezTo>
                <a:cubicBezTo>
                  <a:pt x="7101" y="11601"/>
                  <a:pt x="7060" y="11665"/>
                  <a:pt x="7045" y="11733"/>
                </a:cubicBezTo>
                <a:cubicBezTo>
                  <a:pt x="7045" y="11749"/>
                  <a:pt x="7045" y="11766"/>
                  <a:pt x="7045" y="11782"/>
                </a:cubicBezTo>
                <a:cubicBezTo>
                  <a:pt x="7045" y="11695"/>
                  <a:pt x="7057" y="11615"/>
                  <a:pt x="7069" y="11534"/>
                </a:cubicBezTo>
                <a:cubicBezTo>
                  <a:pt x="7085" y="11425"/>
                  <a:pt x="7116" y="11318"/>
                  <a:pt x="7144" y="11212"/>
                </a:cubicBezTo>
                <a:cubicBezTo>
                  <a:pt x="7164" y="11134"/>
                  <a:pt x="7183" y="11052"/>
                  <a:pt x="7218" y="10988"/>
                </a:cubicBezTo>
                <a:cubicBezTo>
                  <a:pt x="7246" y="10936"/>
                  <a:pt x="7320" y="10904"/>
                  <a:pt x="7367" y="10964"/>
                </a:cubicBezTo>
                <a:cubicBezTo>
                  <a:pt x="7401" y="11007"/>
                  <a:pt x="7445" y="11086"/>
                  <a:pt x="7466" y="11137"/>
                </a:cubicBezTo>
                <a:cubicBezTo>
                  <a:pt x="7504" y="11230"/>
                  <a:pt x="7526" y="11315"/>
                  <a:pt x="7541" y="11410"/>
                </a:cubicBezTo>
                <a:cubicBezTo>
                  <a:pt x="7556" y="11501"/>
                  <a:pt x="7575" y="11649"/>
                  <a:pt x="7615" y="11733"/>
                </a:cubicBezTo>
                <a:cubicBezTo>
                  <a:pt x="7645" y="11762"/>
                  <a:pt x="7657" y="11776"/>
                  <a:pt x="7665" y="11807"/>
                </a:cubicBezTo>
              </a:path>
              <a:path w="1465" h="1018">
                <a:moveTo>
                  <a:pt x="7069" y="11336"/>
                </a:moveTo>
                <a:cubicBezTo>
                  <a:pt x="7184" y="11346"/>
                  <a:pt x="7303" y="11358"/>
                  <a:pt x="7417" y="11385"/>
                </a:cubicBezTo>
                <a:cubicBezTo>
                  <a:pt x="7482" y="11407"/>
                  <a:pt x="7497" y="11415"/>
                  <a:pt x="7541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Ink 64"/>
          <p:cNvSpPr/>
          <p:nvPr/>
        </p:nvSpPr>
        <p:spPr>
          <a:xfrm>
            <a:off x="2938320" y="4000680"/>
            <a:ext cx="1249560" cy="349200"/>
          </a:xfrm>
          <a:custGeom>
            <a:avLst/>
            <a:gdLst/>
            <a:ahLst/>
            <a:rect l="l" t="t" r="r" b="b"/>
            <a:pathLst>
              <a:path w="3473" h="969">
                <a:moveTo>
                  <a:pt x="8186" y="11410"/>
                </a:moveTo>
                <a:cubicBezTo>
                  <a:pt x="8198" y="11521"/>
                  <a:pt x="8216" y="11637"/>
                  <a:pt x="8235" y="11733"/>
                </a:cubicBezTo>
                <a:cubicBezTo>
                  <a:pt x="8250" y="11805"/>
                  <a:pt x="8232" y="11824"/>
                  <a:pt x="8285" y="11757"/>
                </a:cubicBezTo>
              </a:path>
              <a:path w="3473" h="969">
                <a:moveTo>
                  <a:pt x="8161" y="11112"/>
                </a:moveTo>
                <a:cubicBezTo>
                  <a:pt x="8169" y="11112"/>
                  <a:pt x="8178" y="11112"/>
                  <a:pt x="8186" y="11112"/>
                </a:cubicBezTo>
              </a:path>
              <a:path w="3473" h="969">
                <a:moveTo>
                  <a:pt x="8706" y="11410"/>
                </a:moveTo>
                <a:cubicBezTo>
                  <a:pt x="8645" y="11460"/>
                  <a:pt x="8610" y="11460"/>
                  <a:pt x="8533" y="11460"/>
                </a:cubicBezTo>
                <a:cubicBezTo>
                  <a:pt x="8508" y="11460"/>
                  <a:pt x="8389" y="11478"/>
                  <a:pt x="8434" y="11534"/>
                </a:cubicBezTo>
                <a:cubicBezTo>
                  <a:pt x="8472" y="11581"/>
                  <a:pt x="8560" y="11596"/>
                  <a:pt x="8607" y="11633"/>
                </a:cubicBezTo>
                <a:cubicBezTo>
                  <a:pt x="8664" y="11677"/>
                  <a:pt x="8692" y="11727"/>
                  <a:pt x="8731" y="11782"/>
                </a:cubicBezTo>
                <a:cubicBezTo>
                  <a:pt x="8788" y="11857"/>
                  <a:pt x="8834" y="11869"/>
                  <a:pt x="8781" y="11906"/>
                </a:cubicBezTo>
                <a:cubicBezTo>
                  <a:pt x="8716" y="11906"/>
                  <a:pt x="8663" y="11900"/>
                  <a:pt x="8607" y="11881"/>
                </a:cubicBezTo>
                <a:cubicBezTo>
                  <a:pt x="8564" y="11860"/>
                  <a:pt x="8552" y="11856"/>
                  <a:pt x="8533" y="11832"/>
                </a:cubicBezTo>
              </a:path>
              <a:path w="3473" h="969">
                <a:moveTo>
                  <a:pt x="9500" y="11559"/>
                </a:moveTo>
                <a:cubicBezTo>
                  <a:pt x="9524" y="11607"/>
                  <a:pt x="9532" y="11621"/>
                  <a:pt x="9525" y="11658"/>
                </a:cubicBezTo>
                <a:cubicBezTo>
                  <a:pt x="9525" y="11606"/>
                  <a:pt x="9531" y="11492"/>
                  <a:pt x="9475" y="11460"/>
                </a:cubicBezTo>
                <a:cubicBezTo>
                  <a:pt x="9455" y="11449"/>
                  <a:pt x="9314" y="11498"/>
                  <a:pt x="9302" y="11509"/>
                </a:cubicBezTo>
                <a:cubicBezTo>
                  <a:pt x="9250" y="11557"/>
                  <a:pt x="9235" y="11692"/>
                  <a:pt x="9252" y="11757"/>
                </a:cubicBezTo>
                <a:cubicBezTo>
                  <a:pt x="9275" y="11843"/>
                  <a:pt x="9352" y="11869"/>
                  <a:pt x="9426" y="11832"/>
                </a:cubicBezTo>
                <a:cubicBezTo>
                  <a:pt x="9454" y="11818"/>
                  <a:pt x="9506" y="11738"/>
                  <a:pt x="9525" y="11708"/>
                </a:cubicBezTo>
                <a:cubicBezTo>
                  <a:pt x="9585" y="11614"/>
                  <a:pt x="9545" y="11592"/>
                  <a:pt x="9525" y="11708"/>
                </a:cubicBezTo>
                <a:cubicBezTo>
                  <a:pt x="9517" y="11753"/>
                  <a:pt x="9549" y="11824"/>
                  <a:pt x="9575" y="11857"/>
                </a:cubicBezTo>
                <a:cubicBezTo>
                  <a:pt x="9597" y="11879"/>
                  <a:pt x="9602" y="11887"/>
                  <a:pt x="9624" y="11881"/>
                </a:cubicBezTo>
              </a:path>
              <a:path w="3473" h="969">
                <a:moveTo>
                  <a:pt x="10120" y="11534"/>
                </a:moveTo>
                <a:cubicBezTo>
                  <a:pt x="10050" y="11444"/>
                  <a:pt x="10066" y="11451"/>
                  <a:pt x="9971" y="11509"/>
                </a:cubicBezTo>
                <a:cubicBezTo>
                  <a:pt x="9921" y="11539"/>
                  <a:pt x="9862" y="11569"/>
                  <a:pt x="9847" y="11633"/>
                </a:cubicBezTo>
                <a:cubicBezTo>
                  <a:pt x="9832" y="11695"/>
                  <a:pt x="9846" y="11788"/>
                  <a:pt x="9897" y="11832"/>
                </a:cubicBezTo>
                <a:cubicBezTo>
                  <a:pt x="9946" y="11874"/>
                  <a:pt x="10035" y="11914"/>
                  <a:pt x="10096" y="11906"/>
                </a:cubicBezTo>
                <a:cubicBezTo>
                  <a:pt x="10129" y="11898"/>
                  <a:pt x="10162" y="11889"/>
                  <a:pt x="10195" y="11881"/>
                </a:cubicBezTo>
              </a:path>
              <a:path w="3473" h="969">
                <a:moveTo>
                  <a:pt x="10319" y="11559"/>
                </a:moveTo>
                <a:cubicBezTo>
                  <a:pt x="10304" y="11680"/>
                  <a:pt x="10287" y="11680"/>
                  <a:pt x="10344" y="11807"/>
                </a:cubicBezTo>
                <a:cubicBezTo>
                  <a:pt x="10366" y="11856"/>
                  <a:pt x="10408" y="11920"/>
                  <a:pt x="10468" y="11931"/>
                </a:cubicBezTo>
                <a:cubicBezTo>
                  <a:pt x="10591" y="11954"/>
                  <a:pt x="10570" y="11857"/>
                  <a:pt x="10592" y="11782"/>
                </a:cubicBezTo>
                <a:cubicBezTo>
                  <a:pt x="10621" y="11683"/>
                  <a:pt x="10598" y="11674"/>
                  <a:pt x="10641" y="11757"/>
                </a:cubicBezTo>
                <a:cubicBezTo>
                  <a:pt x="10693" y="11856"/>
                  <a:pt x="10714" y="11892"/>
                  <a:pt x="10815" y="11906"/>
                </a:cubicBezTo>
              </a:path>
              <a:path w="3473" h="969">
                <a:moveTo>
                  <a:pt x="10939" y="11559"/>
                </a:moveTo>
                <a:cubicBezTo>
                  <a:pt x="10960" y="11477"/>
                  <a:pt x="10968" y="11461"/>
                  <a:pt x="10964" y="11410"/>
                </a:cubicBezTo>
                <a:cubicBezTo>
                  <a:pt x="10929" y="11410"/>
                  <a:pt x="10922" y="11547"/>
                  <a:pt x="10939" y="11633"/>
                </a:cubicBezTo>
                <a:cubicBezTo>
                  <a:pt x="10954" y="11706"/>
                  <a:pt x="10977" y="11781"/>
                  <a:pt x="10988" y="11857"/>
                </a:cubicBezTo>
                <a:cubicBezTo>
                  <a:pt x="10988" y="11873"/>
                  <a:pt x="10988" y="11890"/>
                  <a:pt x="10988" y="11906"/>
                </a:cubicBezTo>
              </a:path>
              <a:path w="3473" h="969">
                <a:moveTo>
                  <a:pt x="10815" y="11559"/>
                </a:moveTo>
                <a:cubicBezTo>
                  <a:pt x="10922" y="11559"/>
                  <a:pt x="11030" y="11559"/>
                  <a:pt x="11137" y="11559"/>
                </a:cubicBezTo>
              </a:path>
              <a:path w="3473" h="969">
                <a:moveTo>
                  <a:pt x="11261" y="11609"/>
                </a:moveTo>
                <a:cubicBezTo>
                  <a:pt x="11326" y="11632"/>
                  <a:pt x="11470" y="11708"/>
                  <a:pt x="11534" y="11633"/>
                </a:cubicBezTo>
                <a:cubicBezTo>
                  <a:pt x="11569" y="11592"/>
                  <a:pt x="11575" y="11503"/>
                  <a:pt x="11509" y="11485"/>
                </a:cubicBezTo>
                <a:cubicBezTo>
                  <a:pt x="11452" y="11469"/>
                  <a:pt x="11381" y="11485"/>
                  <a:pt x="11336" y="11509"/>
                </a:cubicBezTo>
                <a:cubicBezTo>
                  <a:pt x="11277" y="11540"/>
                  <a:pt x="11208" y="11531"/>
                  <a:pt x="11187" y="11609"/>
                </a:cubicBezTo>
                <a:cubicBezTo>
                  <a:pt x="11163" y="11698"/>
                  <a:pt x="11208" y="11790"/>
                  <a:pt x="11261" y="11857"/>
                </a:cubicBezTo>
                <a:cubicBezTo>
                  <a:pt x="11310" y="11919"/>
                  <a:pt x="11391" y="11947"/>
                  <a:pt x="11460" y="11981"/>
                </a:cubicBezTo>
                <a:cubicBezTo>
                  <a:pt x="11503" y="12002"/>
                  <a:pt x="11612" y="12020"/>
                  <a:pt x="11633" y="12055"/>
                </a:cubicBezTo>
                <a:cubicBezTo>
                  <a:pt x="11633" y="12063"/>
                  <a:pt x="11633" y="12072"/>
                  <a:pt x="11633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Ink 65"/>
          <p:cNvSpPr/>
          <p:nvPr/>
        </p:nvSpPr>
        <p:spPr>
          <a:xfrm>
            <a:off x="3152880" y="4606920"/>
            <a:ext cx="517320" cy="349200"/>
          </a:xfrm>
          <a:custGeom>
            <a:avLst/>
            <a:gdLst/>
            <a:ahLst/>
            <a:rect l="l" t="t" r="r" b="b"/>
            <a:pathLst>
              <a:path w="1440" h="969">
                <a:moveTo>
                  <a:pt x="9079" y="12799"/>
                </a:moveTo>
                <a:cubicBezTo>
                  <a:pt x="9112" y="12868"/>
                  <a:pt x="9116" y="12989"/>
                  <a:pt x="9103" y="13072"/>
                </a:cubicBezTo>
                <a:cubicBezTo>
                  <a:pt x="9087" y="13171"/>
                  <a:pt x="9067" y="13271"/>
                  <a:pt x="9054" y="13370"/>
                </a:cubicBezTo>
                <a:cubicBezTo>
                  <a:pt x="9043" y="13453"/>
                  <a:pt x="9014" y="13539"/>
                  <a:pt x="9004" y="13618"/>
                </a:cubicBezTo>
                <a:cubicBezTo>
                  <a:pt x="9004" y="13694"/>
                  <a:pt x="9003" y="13720"/>
                  <a:pt x="8979" y="13767"/>
                </a:cubicBezTo>
              </a:path>
              <a:path w="1440" h="969">
                <a:moveTo>
                  <a:pt x="8756" y="13345"/>
                </a:moveTo>
                <a:cubicBezTo>
                  <a:pt x="8842" y="13345"/>
                  <a:pt x="8952" y="13349"/>
                  <a:pt x="9029" y="13320"/>
                </a:cubicBezTo>
                <a:cubicBezTo>
                  <a:pt x="9092" y="13296"/>
                  <a:pt x="9155" y="13236"/>
                  <a:pt x="9227" y="13221"/>
                </a:cubicBezTo>
                <a:cubicBezTo>
                  <a:pt x="9244" y="13221"/>
                  <a:pt x="9260" y="13221"/>
                  <a:pt x="9277" y="13221"/>
                </a:cubicBezTo>
                <a:cubicBezTo>
                  <a:pt x="9268" y="13298"/>
                  <a:pt x="9252" y="13365"/>
                  <a:pt x="9252" y="13444"/>
                </a:cubicBezTo>
                <a:cubicBezTo>
                  <a:pt x="9252" y="13527"/>
                  <a:pt x="9268" y="13622"/>
                  <a:pt x="9376" y="13593"/>
                </a:cubicBezTo>
                <a:cubicBezTo>
                  <a:pt x="9420" y="13581"/>
                  <a:pt x="9411" y="13474"/>
                  <a:pt x="9426" y="13444"/>
                </a:cubicBezTo>
                <a:cubicBezTo>
                  <a:pt x="9455" y="13385"/>
                  <a:pt x="9510" y="13398"/>
                  <a:pt x="9550" y="13444"/>
                </a:cubicBezTo>
                <a:cubicBezTo>
                  <a:pt x="9603" y="13506"/>
                  <a:pt x="9616" y="13553"/>
                  <a:pt x="9699" y="13519"/>
                </a:cubicBezTo>
                <a:cubicBezTo>
                  <a:pt x="9794" y="13480"/>
                  <a:pt x="9773" y="13380"/>
                  <a:pt x="9773" y="13295"/>
                </a:cubicBezTo>
                <a:cubicBezTo>
                  <a:pt x="9773" y="13207"/>
                  <a:pt x="9755" y="13204"/>
                  <a:pt x="9699" y="13146"/>
                </a:cubicBezTo>
              </a:path>
              <a:path w="1440" h="969">
                <a:moveTo>
                  <a:pt x="9971" y="13122"/>
                </a:moveTo>
                <a:cubicBezTo>
                  <a:pt x="9997" y="13217"/>
                  <a:pt x="9996" y="13295"/>
                  <a:pt x="9996" y="13395"/>
                </a:cubicBezTo>
                <a:cubicBezTo>
                  <a:pt x="9996" y="13463"/>
                  <a:pt x="9988" y="13513"/>
                  <a:pt x="10021" y="13568"/>
                </a:cubicBezTo>
                <a:cubicBezTo>
                  <a:pt x="10102" y="13558"/>
                  <a:pt x="10150" y="13534"/>
                  <a:pt x="10170" y="13444"/>
                </a:cubicBezTo>
                <a:cubicBezTo>
                  <a:pt x="10191" y="13351"/>
                  <a:pt x="10184" y="13315"/>
                  <a:pt x="10170" y="13221"/>
                </a:cubicBezTo>
                <a:cubicBezTo>
                  <a:pt x="10158" y="13141"/>
                  <a:pt x="10136" y="13094"/>
                  <a:pt x="10046" y="13072"/>
                </a:cubicBezTo>
                <a:cubicBezTo>
                  <a:pt x="9990" y="13058"/>
                  <a:pt x="9940" y="13110"/>
                  <a:pt x="9922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Ink 66"/>
          <p:cNvSpPr/>
          <p:nvPr/>
        </p:nvSpPr>
        <p:spPr>
          <a:xfrm>
            <a:off x="3840120" y="4589640"/>
            <a:ext cx="320760" cy="331560"/>
          </a:xfrm>
          <a:custGeom>
            <a:avLst/>
            <a:gdLst/>
            <a:ahLst/>
            <a:rect l="l" t="t" r="r" b="b"/>
            <a:pathLst>
              <a:path w="894" h="918">
                <a:moveTo>
                  <a:pt x="11063" y="12973"/>
                </a:moveTo>
                <a:cubicBezTo>
                  <a:pt x="10996" y="12933"/>
                  <a:pt x="10964" y="12965"/>
                  <a:pt x="10889" y="12998"/>
                </a:cubicBezTo>
                <a:cubicBezTo>
                  <a:pt x="10824" y="13027"/>
                  <a:pt x="10791" y="13020"/>
                  <a:pt x="10740" y="13072"/>
                </a:cubicBezTo>
                <a:cubicBezTo>
                  <a:pt x="10716" y="13097"/>
                  <a:pt x="10691" y="13122"/>
                  <a:pt x="10666" y="13146"/>
                </a:cubicBezTo>
                <a:cubicBezTo>
                  <a:pt x="10731" y="13189"/>
                  <a:pt x="10814" y="13209"/>
                  <a:pt x="10889" y="13221"/>
                </a:cubicBezTo>
                <a:cubicBezTo>
                  <a:pt x="10943" y="13230"/>
                  <a:pt x="10979" y="13243"/>
                  <a:pt x="11013" y="13295"/>
                </a:cubicBezTo>
                <a:cubicBezTo>
                  <a:pt x="11053" y="13356"/>
                  <a:pt x="11006" y="13418"/>
                  <a:pt x="10964" y="13469"/>
                </a:cubicBezTo>
                <a:cubicBezTo>
                  <a:pt x="10895" y="13553"/>
                  <a:pt x="10854" y="13561"/>
                  <a:pt x="10765" y="13618"/>
                </a:cubicBezTo>
                <a:cubicBezTo>
                  <a:pt x="10730" y="13640"/>
                  <a:pt x="10731" y="13657"/>
                  <a:pt x="10691" y="13667"/>
                </a:cubicBezTo>
              </a:path>
              <a:path w="894" h="918">
                <a:moveTo>
                  <a:pt x="11088" y="13221"/>
                </a:moveTo>
                <a:cubicBezTo>
                  <a:pt x="11096" y="13213"/>
                  <a:pt x="11104" y="13204"/>
                  <a:pt x="11112" y="13196"/>
                </a:cubicBezTo>
                <a:cubicBezTo>
                  <a:pt x="11152" y="13276"/>
                  <a:pt x="11116" y="13330"/>
                  <a:pt x="11112" y="13419"/>
                </a:cubicBezTo>
                <a:cubicBezTo>
                  <a:pt x="11109" y="13488"/>
                  <a:pt x="11106" y="13516"/>
                  <a:pt x="11137" y="13568"/>
                </a:cubicBezTo>
                <a:cubicBezTo>
                  <a:pt x="11224" y="13557"/>
                  <a:pt x="11262" y="13541"/>
                  <a:pt x="11311" y="13469"/>
                </a:cubicBezTo>
                <a:cubicBezTo>
                  <a:pt x="11355" y="13406"/>
                  <a:pt x="11406" y="13344"/>
                  <a:pt x="11410" y="13271"/>
                </a:cubicBezTo>
                <a:cubicBezTo>
                  <a:pt x="11414" y="13207"/>
                  <a:pt x="11379" y="13188"/>
                  <a:pt x="11336" y="13146"/>
                </a:cubicBezTo>
                <a:cubicBezTo>
                  <a:pt x="11282" y="13093"/>
                  <a:pt x="11230" y="13077"/>
                  <a:pt x="11162" y="13047"/>
                </a:cubicBezTo>
              </a:path>
              <a:path w="894" h="918">
                <a:moveTo>
                  <a:pt x="11559" y="12750"/>
                </a:moveTo>
                <a:cubicBezTo>
                  <a:pt x="11559" y="12846"/>
                  <a:pt x="11557" y="12933"/>
                  <a:pt x="11534" y="13022"/>
                </a:cubicBezTo>
                <a:cubicBezTo>
                  <a:pt x="11504" y="13135"/>
                  <a:pt x="11490" y="13252"/>
                  <a:pt x="11485" y="13370"/>
                </a:cubicBezTo>
                <a:cubicBezTo>
                  <a:pt x="11482" y="13446"/>
                  <a:pt x="11462" y="13635"/>
                  <a:pt x="11509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Ink 67"/>
          <p:cNvSpPr/>
          <p:nvPr/>
        </p:nvSpPr>
        <p:spPr>
          <a:xfrm>
            <a:off x="384120" y="4303800"/>
            <a:ext cx="1731960" cy="1617480"/>
          </a:xfrm>
          <a:custGeom>
            <a:avLst/>
            <a:gdLst/>
            <a:ahLst/>
            <a:rect l="l" t="t" r="r" b="b"/>
            <a:pathLst>
              <a:path w="4813" h="4491">
                <a:moveTo>
                  <a:pt x="1662" y="12576"/>
                </a:moveTo>
                <a:cubicBezTo>
                  <a:pt x="1591" y="12594"/>
                  <a:pt x="1633" y="12534"/>
                  <a:pt x="1588" y="12477"/>
                </a:cubicBezTo>
                <a:cubicBezTo>
                  <a:pt x="1567" y="12451"/>
                  <a:pt x="1518" y="12408"/>
                  <a:pt x="1488" y="12402"/>
                </a:cubicBezTo>
                <a:cubicBezTo>
                  <a:pt x="1427" y="12389"/>
                  <a:pt x="1336" y="12390"/>
                  <a:pt x="1290" y="12427"/>
                </a:cubicBezTo>
                <a:cubicBezTo>
                  <a:pt x="1239" y="12468"/>
                  <a:pt x="1204" y="12490"/>
                  <a:pt x="1240" y="12551"/>
                </a:cubicBezTo>
                <a:cubicBezTo>
                  <a:pt x="1279" y="12617"/>
                  <a:pt x="1355" y="12617"/>
                  <a:pt x="1414" y="12650"/>
                </a:cubicBezTo>
                <a:cubicBezTo>
                  <a:pt x="1472" y="12682"/>
                  <a:pt x="1501" y="12750"/>
                  <a:pt x="1538" y="12799"/>
                </a:cubicBezTo>
                <a:cubicBezTo>
                  <a:pt x="1573" y="12845"/>
                  <a:pt x="1633" y="12877"/>
                  <a:pt x="1612" y="12948"/>
                </a:cubicBezTo>
                <a:cubicBezTo>
                  <a:pt x="1604" y="12974"/>
                  <a:pt x="1540" y="13030"/>
                  <a:pt x="1513" y="13022"/>
                </a:cubicBezTo>
                <a:cubicBezTo>
                  <a:pt x="1447" y="13004"/>
                  <a:pt x="1375" y="12984"/>
                  <a:pt x="1315" y="12948"/>
                </a:cubicBezTo>
                <a:cubicBezTo>
                  <a:pt x="1287" y="12920"/>
                  <a:pt x="1278" y="12907"/>
                  <a:pt x="1290" y="12874"/>
                </a:cubicBezTo>
              </a:path>
              <a:path w="4813" h="4491">
                <a:moveTo>
                  <a:pt x="1836" y="12551"/>
                </a:moveTo>
                <a:cubicBezTo>
                  <a:pt x="1836" y="12659"/>
                  <a:pt x="1836" y="12766"/>
                  <a:pt x="1836" y="12874"/>
                </a:cubicBezTo>
              </a:path>
              <a:path w="4813" h="4491">
                <a:moveTo>
                  <a:pt x="1836" y="12179"/>
                </a:moveTo>
                <a:cubicBezTo>
                  <a:pt x="1860" y="12154"/>
                  <a:pt x="1868" y="12145"/>
                  <a:pt x="1885" y="12129"/>
                </a:cubicBezTo>
              </a:path>
              <a:path w="4813" h="4491">
                <a:moveTo>
                  <a:pt x="2009" y="12774"/>
                </a:moveTo>
                <a:cubicBezTo>
                  <a:pt x="1993" y="12815"/>
                  <a:pt x="1976" y="12857"/>
                  <a:pt x="1960" y="12898"/>
                </a:cubicBezTo>
                <a:cubicBezTo>
                  <a:pt x="1971" y="12811"/>
                  <a:pt x="2018" y="12737"/>
                  <a:pt x="2034" y="12650"/>
                </a:cubicBezTo>
                <a:cubicBezTo>
                  <a:pt x="2045" y="12591"/>
                  <a:pt x="2070" y="12532"/>
                  <a:pt x="2108" y="12477"/>
                </a:cubicBezTo>
                <a:cubicBezTo>
                  <a:pt x="2116" y="12469"/>
                  <a:pt x="2125" y="12460"/>
                  <a:pt x="2133" y="12452"/>
                </a:cubicBezTo>
                <a:cubicBezTo>
                  <a:pt x="2192" y="12486"/>
                  <a:pt x="2230" y="12510"/>
                  <a:pt x="2257" y="12576"/>
                </a:cubicBezTo>
                <a:cubicBezTo>
                  <a:pt x="2282" y="12637"/>
                  <a:pt x="2299" y="12736"/>
                  <a:pt x="2307" y="12799"/>
                </a:cubicBezTo>
                <a:cubicBezTo>
                  <a:pt x="2307" y="12865"/>
                  <a:pt x="2307" y="12882"/>
                  <a:pt x="2307" y="12923"/>
                </a:cubicBezTo>
              </a:path>
              <a:path w="4813" h="4491">
                <a:moveTo>
                  <a:pt x="2505" y="12229"/>
                </a:moveTo>
                <a:cubicBezTo>
                  <a:pt x="2539" y="12286"/>
                  <a:pt x="2543" y="12380"/>
                  <a:pt x="2530" y="12452"/>
                </a:cubicBezTo>
                <a:cubicBezTo>
                  <a:pt x="2515" y="12533"/>
                  <a:pt x="2505" y="12592"/>
                  <a:pt x="2505" y="12675"/>
                </a:cubicBezTo>
                <a:cubicBezTo>
                  <a:pt x="2505" y="12752"/>
                  <a:pt x="2548" y="12867"/>
                  <a:pt x="2604" y="12923"/>
                </a:cubicBezTo>
                <a:cubicBezTo>
                  <a:pt x="2663" y="12982"/>
                  <a:pt x="2713" y="12914"/>
                  <a:pt x="2753" y="12874"/>
                </a:cubicBezTo>
                <a:cubicBezTo>
                  <a:pt x="2781" y="12846"/>
                  <a:pt x="2816" y="12742"/>
                  <a:pt x="2803" y="12700"/>
                </a:cubicBezTo>
                <a:cubicBezTo>
                  <a:pt x="2795" y="12692"/>
                  <a:pt x="2786" y="12683"/>
                  <a:pt x="2778" y="12675"/>
                </a:cubicBezTo>
                <a:cubicBezTo>
                  <a:pt x="2729" y="12724"/>
                  <a:pt x="2707" y="12752"/>
                  <a:pt x="2704" y="12824"/>
                </a:cubicBezTo>
                <a:cubicBezTo>
                  <a:pt x="2704" y="12885"/>
                  <a:pt x="2695" y="12901"/>
                  <a:pt x="2729" y="12923"/>
                </a:cubicBezTo>
              </a:path>
              <a:path w="4813" h="4491">
                <a:moveTo>
                  <a:pt x="3026" y="12353"/>
                </a:moveTo>
                <a:cubicBezTo>
                  <a:pt x="3016" y="12420"/>
                  <a:pt x="2988" y="12481"/>
                  <a:pt x="2977" y="12551"/>
                </a:cubicBezTo>
                <a:cubicBezTo>
                  <a:pt x="2969" y="12606"/>
                  <a:pt x="2929" y="12692"/>
                  <a:pt x="2952" y="12750"/>
                </a:cubicBezTo>
                <a:cubicBezTo>
                  <a:pt x="2970" y="12797"/>
                  <a:pt x="2985" y="12834"/>
                  <a:pt x="3026" y="12874"/>
                </a:cubicBezTo>
                <a:cubicBezTo>
                  <a:pt x="3081" y="12928"/>
                  <a:pt x="3175" y="12897"/>
                  <a:pt x="3200" y="12824"/>
                </a:cubicBezTo>
                <a:cubicBezTo>
                  <a:pt x="3258" y="12657"/>
                  <a:pt x="3222" y="12550"/>
                  <a:pt x="3150" y="12402"/>
                </a:cubicBezTo>
                <a:cubicBezTo>
                  <a:pt x="3134" y="12369"/>
                  <a:pt x="3064" y="12307"/>
                  <a:pt x="3051" y="12303"/>
                </a:cubicBezTo>
                <a:cubicBezTo>
                  <a:pt x="3034" y="12303"/>
                  <a:pt x="3018" y="12303"/>
                  <a:pt x="3001" y="12303"/>
                </a:cubicBezTo>
              </a:path>
              <a:path w="4813" h="4491">
                <a:moveTo>
                  <a:pt x="3249" y="12129"/>
                </a:moveTo>
                <a:cubicBezTo>
                  <a:pt x="3231" y="12223"/>
                  <a:pt x="3201" y="12243"/>
                  <a:pt x="3249" y="12278"/>
                </a:cubicBezTo>
                <a:cubicBezTo>
                  <a:pt x="3325" y="12278"/>
                  <a:pt x="3345" y="12282"/>
                  <a:pt x="3398" y="12229"/>
                </a:cubicBezTo>
                <a:cubicBezTo>
                  <a:pt x="3449" y="12178"/>
                  <a:pt x="3432" y="12064"/>
                  <a:pt x="3398" y="12005"/>
                </a:cubicBezTo>
                <a:cubicBezTo>
                  <a:pt x="3363" y="11971"/>
                  <a:pt x="3340" y="11958"/>
                  <a:pt x="3299" y="11956"/>
                </a:cubicBezTo>
              </a:path>
              <a:path w="4813" h="4491">
                <a:moveTo>
                  <a:pt x="1067" y="13047"/>
                </a:moveTo>
                <a:cubicBezTo>
                  <a:pt x="1162" y="13066"/>
                  <a:pt x="1269" y="13088"/>
                  <a:pt x="1364" y="13097"/>
                </a:cubicBezTo>
                <a:cubicBezTo>
                  <a:pt x="1858" y="13145"/>
                  <a:pt x="2471" y="13153"/>
                  <a:pt x="2952" y="13072"/>
                </a:cubicBezTo>
                <a:cubicBezTo>
                  <a:pt x="3024" y="13060"/>
                  <a:pt x="3030" y="13024"/>
                  <a:pt x="3001" y="13097"/>
                </a:cubicBezTo>
              </a:path>
              <a:path w="4813" h="4491">
                <a:moveTo>
                  <a:pt x="2406" y="13791"/>
                </a:moveTo>
                <a:cubicBezTo>
                  <a:pt x="2435" y="13715"/>
                  <a:pt x="2450" y="13645"/>
                  <a:pt x="2406" y="13568"/>
                </a:cubicBezTo>
                <a:cubicBezTo>
                  <a:pt x="2368" y="13502"/>
                  <a:pt x="2305" y="13517"/>
                  <a:pt x="2257" y="13543"/>
                </a:cubicBezTo>
                <a:cubicBezTo>
                  <a:pt x="2189" y="13579"/>
                  <a:pt x="2147" y="13601"/>
                  <a:pt x="2108" y="13667"/>
                </a:cubicBezTo>
                <a:cubicBezTo>
                  <a:pt x="2063" y="13743"/>
                  <a:pt x="2079" y="13845"/>
                  <a:pt x="2108" y="13915"/>
                </a:cubicBezTo>
                <a:cubicBezTo>
                  <a:pt x="2168" y="13915"/>
                  <a:pt x="2250" y="13934"/>
                  <a:pt x="2282" y="13866"/>
                </a:cubicBezTo>
                <a:cubicBezTo>
                  <a:pt x="2310" y="13807"/>
                  <a:pt x="2317" y="13767"/>
                  <a:pt x="2356" y="13717"/>
                </a:cubicBezTo>
                <a:cubicBezTo>
                  <a:pt x="2398" y="13787"/>
                  <a:pt x="2381" y="13880"/>
                  <a:pt x="2381" y="13965"/>
                </a:cubicBezTo>
                <a:cubicBezTo>
                  <a:pt x="2381" y="14216"/>
                  <a:pt x="2333" y="14900"/>
                  <a:pt x="2406" y="14660"/>
                </a:cubicBezTo>
                <a:cubicBezTo>
                  <a:pt x="2406" y="14643"/>
                  <a:pt x="2406" y="14627"/>
                  <a:pt x="2406" y="14610"/>
                </a:cubicBezTo>
              </a:path>
              <a:path w="4813" h="4491">
                <a:moveTo>
                  <a:pt x="3274" y="13171"/>
                </a:moveTo>
                <a:cubicBezTo>
                  <a:pt x="3393" y="13150"/>
                  <a:pt x="3400" y="13134"/>
                  <a:pt x="3497" y="13171"/>
                </a:cubicBezTo>
              </a:path>
              <a:path w="4813" h="4491">
                <a:moveTo>
                  <a:pt x="3274" y="13320"/>
                </a:moveTo>
                <a:cubicBezTo>
                  <a:pt x="3335" y="13343"/>
                  <a:pt x="3386" y="13367"/>
                  <a:pt x="3448" y="13370"/>
                </a:cubicBezTo>
                <a:cubicBezTo>
                  <a:pt x="3473" y="13370"/>
                  <a:pt x="3497" y="13370"/>
                  <a:pt x="3522" y="13370"/>
                </a:cubicBezTo>
              </a:path>
              <a:path w="4813" h="4491">
                <a:moveTo>
                  <a:pt x="4142" y="12750"/>
                </a:moveTo>
                <a:cubicBezTo>
                  <a:pt x="4085" y="12633"/>
                  <a:pt x="4098" y="12668"/>
                  <a:pt x="3994" y="12626"/>
                </a:cubicBezTo>
                <a:cubicBezTo>
                  <a:pt x="3943" y="12605"/>
                  <a:pt x="3944" y="12611"/>
                  <a:pt x="3894" y="12650"/>
                </a:cubicBezTo>
                <a:cubicBezTo>
                  <a:pt x="3926" y="12698"/>
                  <a:pt x="3948" y="12784"/>
                  <a:pt x="3994" y="12824"/>
                </a:cubicBezTo>
                <a:cubicBezTo>
                  <a:pt x="4053" y="12876"/>
                  <a:pt x="4100" y="12928"/>
                  <a:pt x="4142" y="12998"/>
                </a:cubicBezTo>
                <a:cubicBezTo>
                  <a:pt x="4182" y="13065"/>
                  <a:pt x="4238" y="13122"/>
                  <a:pt x="4242" y="13196"/>
                </a:cubicBezTo>
                <a:cubicBezTo>
                  <a:pt x="4242" y="13241"/>
                  <a:pt x="4245" y="13254"/>
                  <a:pt x="4217" y="13271"/>
                </a:cubicBezTo>
                <a:cubicBezTo>
                  <a:pt x="4152" y="13255"/>
                  <a:pt x="4080" y="13214"/>
                  <a:pt x="4018" y="13171"/>
                </a:cubicBezTo>
                <a:cubicBezTo>
                  <a:pt x="3962" y="13132"/>
                  <a:pt x="3980" y="13090"/>
                  <a:pt x="3994" y="13047"/>
                </a:cubicBezTo>
              </a:path>
              <a:path w="4813" h="4491">
                <a:moveTo>
                  <a:pt x="4415" y="12923"/>
                </a:moveTo>
                <a:cubicBezTo>
                  <a:pt x="4415" y="13013"/>
                  <a:pt x="4500" y="13200"/>
                  <a:pt x="4415" y="13171"/>
                </a:cubicBezTo>
                <a:cubicBezTo>
                  <a:pt x="4407" y="13163"/>
                  <a:pt x="4398" y="13154"/>
                  <a:pt x="4390" y="13146"/>
                </a:cubicBezTo>
              </a:path>
              <a:path w="4813" h="4491">
                <a:moveTo>
                  <a:pt x="4366" y="12427"/>
                </a:moveTo>
                <a:cubicBezTo>
                  <a:pt x="4391" y="12427"/>
                  <a:pt x="4415" y="12427"/>
                  <a:pt x="4440" y="12427"/>
                </a:cubicBezTo>
              </a:path>
              <a:path w="4813" h="4491">
                <a:moveTo>
                  <a:pt x="4539" y="12998"/>
                </a:moveTo>
                <a:cubicBezTo>
                  <a:pt x="4561" y="13063"/>
                  <a:pt x="4569" y="13078"/>
                  <a:pt x="4564" y="13122"/>
                </a:cubicBezTo>
                <a:cubicBezTo>
                  <a:pt x="4610" y="13076"/>
                  <a:pt x="4602" y="13043"/>
                  <a:pt x="4638" y="12998"/>
                </a:cubicBezTo>
                <a:cubicBezTo>
                  <a:pt x="4681" y="12943"/>
                  <a:pt x="4700" y="12880"/>
                  <a:pt x="4738" y="12824"/>
                </a:cubicBezTo>
                <a:cubicBezTo>
                  <a:pt x="4815" y="12869"/>
                  <a:pt x="4830" y="12913"/>
                  <a:pt x="4862" y="12998"/>
                </a:cubicBezTo>
                <a:cubicBezTo>
                  <a:pt x="4885" y="13058"/>
                  <a:pt x="4925" y="13142"/>
                  <a:pt x="4936" y="13196"/>
                </a:cubicBezTo>
                <a:cubicBezTo>
                  <a:pt x="4936" y="13213"/>
                  <a:pt x="4936" y="13229"/>
                  <a:pt x="4936" y="13246"/>
                </a:cubicBezTo>
              </a:path>
              <a:path w="4813" h="4491">
                <a:moveTo>
                  <a:pt x="5085" y="12626"/>
                </a:moveTo>
                <a:cubicBezTo>
                  <a:pt x="5063" y="12683"/>
                  <a:pt x="5042" y="12760"/>
                  <a:pt x="5060" y="12824"/>
                </a:cubicBezTo>
                <a:cubicBezTo>
                  <a:pt x="5082" y="12904"/>
                  <a:pt x="5085" y="12960"/>
                  <a:pt x="5085" y="13047"/>
                </a:cubicBezTo>
                <a:cubicBezTo>
                  <a:pt x="5085" y="12965"/>
                  <a:pt x="5064" y="12901"/>
                  <a:pt x="5060" y="12824"/>
                </a:cubicBezTo>
                <a:cubicBezTo>
                  <a:pt x="5055" y="12741"/>
                  <a:pt x="5082" y="12678"/>
                  <a:pt x="5085" y="12601"/>
                </a:cubicBezTo>
                <a:cubicBezTo>
                  <a:pt x="5088" y="12505"/>
                  <a:pt x="5094" y="12450"/>
                  <a:pt x="5159" y="12378"/>
                </a:cubicBezTo>
                <a:cubicBezTo>
                  <a:pt x="5208" y="12324"/>
                  <a:pt x="5240" y="12311"/>
                  <a:pt x="5308" y="12353"/>
                </a:cubicBezTo>
                <a:cubicBezTo>
                  <a:pt x="5359" y="12385"/>
                  <a:pt x="5373" y="12472"/>
                  <a:pt x="5358" y="12526"/>
                </a:cubicBezTo>
                <a:cubicBezTo>
                  <a:pt x="5344" y="12576"/>
                  <a:pt x="5275" y="12646"/>
                  <a:pt x="5234" y="12675"/>
                </a:cubicBezTo>
                <a:cubicBezTo>
                  <a:pt x="5190" y="12697"/>
                  <a:pt x="5178" y="12700"/>
                  <a:pt x="5159" y="12725"/>
                </a:cubicBezTo>
                <a:cubicBezTo>
                  <a:pt x="5229" y="12744"/>
                  <a:pt x="5287" y="12741"/>
                  <a:pt x="5333" y="12799"/>
                </a:cubicBezTo>
                <a:cubicBezTo>
                  <a:pt x="5392" y="12874"/>
                  <a:pt x="5487" y="12965"/>
                  <a:pt x="5457" y="13072"/>
                </a:cubicBezTo>
                <a:cubicBezTo>
                  <a:pt x="5428" y="13176"/>
                  <a:pt x="5339" y="13108"/>
                  <a:pt x="5283" y="13097"/>
                </a:cubicBezTo>
                <a:cubicBezTo>
                  <a:pt x="5205" y="13081"/>
                  <a:pt x="5142" y="13047"/>
                  <a:pt x="5060" y="13047"/>
                </a:cubicBezTo>
              </a:path>
              <a:path w="4813" h="4491">
                <a:moveTo>
                  <a:pt x="5432" y="13444"/>
                </a:moveTo>
                <a:cubicBezTo>
                  <a:pt x="5335" y="13423"/>
                  <a:pt x="5232" y="13405"/>
                  <a:pt x="5135" y="13395"/>
                </a:cubicBezTo>
                <a:cubicBezTo>
                  <a:pt x="4908" y="13371"/>
                  <a:pt x="4661" y="13398"/>
                  <a:pt x="4440" y="13419"/>
                </a:cubicBezTo>
                <a:cubicBezTo>
                  <a:pt x="4348" y="13428"/>
                  <a:pt x="4252" y="13433"/>
                  <a:pt x="4167" y="13469"/>
                </a:cubicBezTo>
                <a:cubicBezTo>
                  <a:pt x="4103" y="13496"/>
                  <a:pt x="4025" y="13509"/>
                  <a:pt x="3969" y="13543"/>
                </a:cubicBezTo>
                <a:cubicBezTo>
                  <a:pt x="3961" y="13551"/>
                  <a:pt x="3952" y="13560"/>
                  <a:pt x="3944" y="13568"/>
                </a:cubicBezTo>
              </a:path>
              <a:path w="4813" h="4491">
                <a:moveTo>
                  <a:pt x="4688" y="13667"/>
                </a:moveTo>
                <a:cubicBezTo>
                  <a:pt x="4699" y="13758"/>
                  <a:pt x="4693" y="13820"/>
                  <a:pt x="4688" y="13915"/>
                </a:cubicBezTo>
                <a:cubicBezTo>
                  <a:pt x="4680" y="14081"/>
                  <a:pt x="4685" y="14263"/>
                  <a:pt x="4713" y="14412"/>
                </a:cubicBezTo>
                <a:cubicBezTo>
                  <a:pt x="4713" y="14461"/>
                  <a:pt x="4713" y="14477"/>
                  <a:pt x="4713" y="14412"/>
                </a:cubicBezTo>
              </a:path>
              <a:path w="4813" h="4491">
                <a:moveTo>
                  <a:pt x="5035" y="13866"/>
                </a:moveTo>
                <a:cubicBezTo>
                  <a:pt x="5060" y="13928"/>
                  <a:pt x="5023" y="13967"/>
                  <a:pt x="5011" y="14039"/>
                </a:cubicBezTo>
                <a:cubicBezTo>
                  <a:pt x="4998" y="14119"/>
                  <a:pt x="4977" y="14212"/>
                  <a:pt x="5011" y="14288"/>
                </a:cubicBezTo>
                <a:cubicBezTo>
                  <a:pt x="5032" y="14335"/>
                  <a:pt x="5098" y="14406"/>
                  <a:pt x="5135" y="14436"/>
                </a:cubicBezTo>
                <a:cubicBezTo>
                  <a:pt x="5197" y="14486"/>
                  <a:pt x="5257" y="14459"/>
                  <a:pt x="5308" y="14412"/>
                </a:cubicBezTo>
                <a:cubicBezTo>
                  <a:pt x="5394" y="14332"/>
                  <a:pt x="5414" y="14287"/>
                  <a:pt x="5432" y="14163"/>
                </a:cubicBezTo>
                <a:cubicBezTo>
                  <a:pt x="5446" y="14071"/>
                  <a:pt x="5398" y="13983"/>
                  <a:pt x="5358" y="13915"/>
                </a:cubicBezTo>
                <a:cubicBezTo>
                  <a:pt x="5314" y="13840"/>
                  <a:pt x="5310" y="13771"/>
                  <a:pt x="5234" y="13717"/>
                </a:cubicBezTo>
                <a:cubicBezTo>
                  <a:pt x="5169" y="13671"/>
                  <a:pt x="5061" y="13672"/>
                  <a:pt x="4986" y="13667"/>
                </a:cubicBezTo>
              </a:path>
              <a:path w="4813" h="4491">
                <a:moveTo>
                  <a:pt x="2977" y="12973"/>
                </a:moveTo>
                <a:cubicBezTo>
                  <a:pt x="3026" y="13023"/>
                  <a:pt x="3083" y="13055"/>
                  <a:pt x="3125" y="13097"/>
                </a:cubicBezTo>
                <a:cubicBezTo>
                  <a:pt x="3186" y="13158"/>
                  <a:pt x="3252" y="13187"/>
                  <a:pt x="3324" y="13246"/>
                </a:cubicBezTo>
                <a:cubicBezTo>
                  <a:pt x="3406" y="13312"/>
                  <a:pt x="3489" y="13360"/>
                  <a:pt x="3572" y="13419"/>
                </a:cubicBezTo>
                <a:cubicBezTo>
                  <a:pt x="3659" y="13481"/>
                  <a:pt x="3763" y="13526"/>
                  <a:pt x="3845" y="13593"/>
                </a:cubicBezTo>
                <a:cubicBezTo>
                  <a:pt x="3934" y="13665"/>
                  <a:pt x="3991" y="13668"/>
                  <a:pt x="4093" y="13717"/>
                </a:cubicBezTo>
                <a:cubicBezTo>
                  <a:pt x="4126" y="13733"/>
                  <a:pt x="4107" y="13733"/>
                  <a:pt x="4142" y="13742"/>
                </a:cubicBezTo>
              </a:path>
              <a:path w="4813" h="4491">
                <a:moveTo>
                  <a:pt x="3770" y="12774"/>
                </a:moveTo>
                <a:cubicBezTo>
                  <a:pt x="3713" y="12821"/>
                  <a:pt x="3652" y="12847"/>
                  <a:pt x="3597" y="12898"/>
                </a:cubicBezTo>
                <a:cubicBezTo>
                  <a:pt x="3549" y="12942"/>
                  <a:pt x="3477" y="12986"/>
                  <a:pt x="3423" y="13022"/>
                </a:cubicBezTo>
                <a:cubicBezTo>
                  <a:pt x="3291" y="13109"/>
                  <a:pt x="3151" y="13194"/>
                  <a:pt x="3026" y="13295"/>
                </a:cubicBezTo>
                <a:cubicBezTo>
                  <a:pt x="2967" y="13342"/>
                  <a:pt x="2908" y="13393"/>
                  <a:pt x="2853" y="13444"/>
                </a:cubicBezTo>
                <a:cubicBezTo>
                  <a:pt x="2816" y="13478"/>
                  <a:pt x="2794" y="13545"/>
                  <a:pt x="2753" y="13568"/>
                </a:cubicBezTo>
                <a:cubicBezTo>
                  <a:pt x="2745" y="13568"/>
                  <a:pt x="2737" y="13568"/>
                  <a:pt x="2729" y="13568"/>
                </a:cubicBezTo>
              </a:path>
              <a:path w="4813" h="4491">
                <a:moveTo>
                  <a:pt x="2406" y="15825"/>
                </a:moveTo>
                <a:cubicBezTo>
                  <a:pt x="2428" y="15790"/>
                  <a:pt x="2467" y="15723"/>
                  <a:pt x="2456" y="15677"/>
                </a:cubicBezTo>
                <a:cubicBezTo>
                  <a:pt x="2437" y="15596"/>
                  <a:pt x="2397" y="15598"/>
                  <a:pt x="2356" y="15602"/>
                </a:cubicBezTo>
                <a:cubicBezTo>
                  <a:pt x="2266" y="15612"/>
                  <a:pt x="2226" y="15611"/>
                  <a:pt x="2208" y="15701"/>
                </a:cubicBezTo>
                <a:cubicBezTo>
                  <a:pt x="2194" y="15773"/>
                  <a:pt x="2195" y="15786"/>
                  <a:pt x="2208" y="15850"/>
                </a:cubicBezTo>
                <a:cubicBezTo>
                  <a:pt x="2208" y="15867"/>
                  <a:pt x="2208" y="15883"/>
                  <a:pt x="2208" y="15900"/>
                </a:cubicBezTo>
                <a:cubicBezTo>
                  <a:pt x="2272" y="15863"/>
                  <a:pt x="2285" y="15830"/>
                  <a:pt x="2332" y="15776"/>
                </a:cubicBezTo>
                <a:cubicBezTo>
                  <a:pt x="2340" y="15768"/>
                  <a:pt x="2348" y="15759"/>
                  <a:pt x="2356" y="15751"/>
                </a:cubicBezTo>
                <a:cubicBezTo>
                  <a:pt x="2401" y="15826"/>
                  <a:pt x="2342" y="15866"/>
                  <a:pt x="2356" y="15949"/>
                </a:cubicBezTo>
                <a:cubicBezTo>
                  <a:pt x="2373" y="16049"/>
                  <a:pt x="2381" y="16143"/>
                  <a:pt x="2381" y="16247"/>
                </a:cubicBezTo>
                <a:cubicBezTo>
                  <a:pt x="2381" y="16315"/>
                  <a:pt x="2406" y="16514"/>
                  <a:pt x="2406" y="16446"/>
                </a:cubicBezTo>
                <a:cubicBezTo>
                  <a:pt x="2406" y="16429"/>
                  <a:pt x="2406" y="16413"/>
                  <a:pt x="2406" y="16396"/>
                </a:cubicBezTo>
              </a:path>
              <a:path w="4813" h="4491">
                <a:moveTo>
                  <a:pt x="4564" y="14486"/>
                </a:moveTo>
                <a:cubicBezTo>
                  <a:pt x="4612" y="14576"/>
                  <a:pt x="4675" y="14664"/>
                  <a:pt x="4713" y="14759"/>
                </a:cubicBezTo>
                <a:cubicBezTo>
                  <a:pt x="4754" y="14863"/>
                  <a:pt x="4838" y="14908"/>
                  <a:pt x="4887" y="15007"/>
                </a:cubicBezTo>
                <a:cubicBezTo>
                  <a:pt x="4939" y="15112"/>
                  <a:pt x="5004" y="15203"/>
                  <a:pt x="5060" y="15304"/>
                </a:cubicBezTo>
                <a:cubicBezTo>
                  <a:pt x="5089" y="15356"/>
                  <a:pt x="5119" y="15409"/>
                  <a:pt x="5159" y="15453"/>
                </a:cubicBezTo>
                <a:cubicBezTo>
                  <a:pt x="5184" y="15478"/>
                  <a:pt x="5192" y="15486"/>
                  <a:pt x="5209" y="15503"/>
                </a:cubicBezTo>
              </a:path>
              <a:path w="4813" h="4491">
                <a:moveTo>
                  <a:pt x="5333" y="15429"/>
                </a:moveTo>
                <a:cubicBezTo>
                  <a:pt x="5387" y="15481"/>
                  <a:pt x="5399" y="15539"/>
                  <a:pt x="5432" y="15602"/>
                </a:cubicBezTo>
                <a:cubicBezTo>
                  <a:pt x="5474" y="15682"/>
                  <a:pt x="5496" y="15758"/>
                  <a:pt x="5556" y="15825"/>
                </a:cubicBezTo>
                <a:cubicBezTo>
                  <a:pt x="5610" y="15886"/>
                  <a:pt x="5642" y="15952"/>
                  <a:pt x="5680" y="16024"/>
                </a:cubicBezTo>
                <a:cubicBezTo>
                  <a:pt x="5722" y="16103"/>
                  <a:pt x="5794" y="16181"/>
                  <a:pt x="5854" y="16247"/>
                </a:cubicBezTo>
                <a:cubicBezTo>
                  <a:pt x="5877" y="16270"/>
                  <a:pt x="5888" y="16278"/>
                  <a:pt x="5854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Ink 68"/>
          <p:cNvSpPr/>
          <p:nvPr/>
        </p:nvSpPr>
        <p:spPr>
          <a:xfrm>
            <a:off x="347760" y="5286240"/>
            <a:ext cx="2027160" cy="625680"/>
          </a:xfrm>
          <a:custGeom>
            <a:avLst/>
            <a:gdLst/>
            <a:ahLst/>
            <a:rect l="l" t="t" r="r" b="b"/>
            <a:pathLst>
              <a:path w="5632" h="1738">
                <a:moveTo>
                  <a:pt x="967" y="14883"/>
                </a:moveTo>
                <a:cubicBezTo>
                  <a:pt x="967" y="15012"/>
                  <a:pt x="969" y="15141"/>
                  <a:pt x="992" y="15255"/>
                </a:cubicBezTo>
                <a:cubicBezTo>
                  <a:pt x="1006" y="15322"/>
                  <a:pt x="947" y="15496"/>
                  <a:pt x="1017" y="15404"/>
                </a:cubicBezTo>
              </a:path>
              <a:path w="5632" h="1738">
                <a:moveTo>
                  <a:pt x="1215" y="14883"/>
                </a:moveTo>
                <a:cubicBezTo>
                  <a:pt x="1206" y="14959"/>
                  <a:pt x="1178" y="15032"/>
                  <a:pt x="1166" y="15106"/>
                </a:cubicBezTo>
                <a:cubicBezTo>
                  <a:pt x="1159" y="15150"/>
                  <a:pt x="1132" y="15243"/>
                  <a:pt x="1141" y="15280"/>
                </a:cubicBezTo>
                <a:cubicBezTo>
                  <a:pt x="1155" y="15341"/>
                  <a:pt x="1176" y="15401"/>
                  <a:pt x="1215" y="15453"/>
                </a:cubicBezTo>
                <a:cubicBezTo>
                  <a:pt x="1240" y="15478"/>
                  <a:pt x="1248" y="15486"/>
                  <a:pt x="1265" y="15503"/>
                </a:cubicBezTo>
                <a:cubicBezTo>
                  <a:pt x="1325" y="15461"/>
                  <a:pt x="1354" y="15421"/>
                  <a:pt x="1389" y="15354"/>
                </a:cubicBezTo>
                <a:cubicBezTo>
                  <a:pt x="1423" y="15289"/>
                  <a:pt x="1414" y="15228"/>
                  <a:pt x="1414" y="15156"/>
                </a:cubicBezTo>
                <a:cubicBezTo>
                  <a:pt x="1414" y="15072"/>
                  <a:pt x="1420" y="14959"/>
                  <a:pt x="1389" y="14883"/>
                </a:cubicBezTo>
                <a:cubicBezTo>
                  <a:pt x="1377" y="14853"/>
                  <a:pt x="1310" y="14785"/>
                  <a:pt x="1290" y="14759"/>
                </a:cubicBezTo>
                <a:cubicBezTo>
                  <a:pt x="1282" y="14751"/>
                  <a:pt x="1273" y="14742"/>
                  <a:pt x="1265" y="14734"/>
                </a:cubicBezTo>
                <a:cubicBezTo>
                  <a:pt x="1231" y="14768"/>
                  <a:pt x="1175" y="14807"/>
                  <a:pt x="1166" y="14858"/>
                </a:cubicBezTo>
                <a:cubicBezTo>
                  <a:pt x="1157" y="14910"/>
                  <a:pt x="1166" y="14978"/>
                  <a:pt x="1166" y="15032"/>
                </a:cubicBezTo>
              </a:path>
              <a:path w="5632" h="1738">
                <a:moveTo>
                  <a:pt x="1662" y="15205"/>
                </a:moveTo>
                <a:lnTo>
                  <a:pt x="1662" y="15205"/>
                </a:lnTo>
              </a:path>
              <a:path w="5632" h="1738">
                <a:moveTo>
                  <a:pt x="2133" y="14957"/>
                </a:moveTo>
                <a:cubicBezTo>
                  <a:pt x="2107" y="14912"/>
                  <a:pt x="2077" y="14835"/>
                  <a:pt x="2009" y="14858"/>
                </a:cubicBezTo>
                <a:cubicBezTo>
                  <a:pt x="1957" y="14875"/>
                  <a:pt x="1944" y="14964"/>
                  <a:pt x="1960" y="15007"/>
                </a:cubicBezTo>
                <a:cubicBezTo>
                  <a:pt x="1978" y="15054"/>
                  <a:pt x="2029" y="15137"/>
                  <a:pt x="2059" y="15180"/>
                </a:cubicBezTo>
                <a:cubicBezTo>
                  <a:pt x="2088" y="15222"/>
                  <a:pt x="2124" y="15267"/>
                  <a:pt x="2158" y="15304"/>
                </a:cubicBezTo>
                <a:cubicBezTo>
                  <a:pt x="2184" y="15332"/>
                  <a:pt x="2214" y="15432"/>
                  <a:pt x="2158" y="15453"/>
                </a:cubicBezTo>
                <a:cubicBezTo>
                  <a:pt x="2086" y="15480"/>
                  <a:pt x="2058" y="15436"/>
                  <a:pt x="2009" y="15404"/>
                </a:cubicBezTo>
                <a:cubicBezTo>
                  <a:pt x="1943" y="15361"/>
                  <a:pt x="1945" y="15356"/>
                  <a:pt x="1935" y="15280"/>
                </a:cubicBezTo>
              </a:path>
              <a:path w="5632" h="1738">
                <a:moveTo>
                  <a:pt x="2381" y="15180"/>
                </a:moveTo>
                <a:cubicBezTo>
                  <a:pt x="2381" y="15260"/>
                  <a:pt x="2395" y="15339"/>
                  <a:pt x="2356" y="15404"/>
                </a:cubicBezTo>
              </a:path>
              <a:path w="5632" h="1738">
                <a:moveTo>
                  <a:pt x="2406" y="14932"/>
                </a:moveTo>
                <a:cubicBezTo>
                  <a:pt x="2423" y="14916"/>
                  <a:pt x="2439" y="14899"/>
                  <a:pt x="2456" y="14883"/>
                </a:cubicBezTo>
              </a:path>
              <a:path w="5632" h="1738">
                <a:moveTo>
                  <a:pt x="2555" y="15205"/>
                </a:moveTo>
                <a:cubicBezTo>
                  <a:pt x="2584" y="15186"/>
                  <a:pt x="2603" y="15108"/>
                  <a:pt x="2629" y="15056"/>
                </a:cubicBezTo>
                <a:cubicBezTo>
                  <a:pt x="2652" y="15010"/>
                  <a:pt x="2740" y="14965"/>
                  <a:pt x="2778" y="15032"/>
                </a:cubicBezTo>
                <a:cubicBezTo>
                  <a:pt x="2813" y="15095"/>
                  <a:pt x="2818" y="15222"/>
                  <a:pt x="2828" y="15280"/>
                </a:cubicBezTo>
                <a:cubicBezTo>
                  <a:pt x="2828" y="15296"/>
                  <a:pt x="2828" y="15313"/>
                  <a:pt x="2828" y="15329"/>
                </a:cubicBezTo>
              </a:path>
              <a:path w="5632" h="1738">
                <a:moveTo>
                  <a:pt x="3051" y="14684"/>
                </a:moveTo>
                <a:cubicBezTo>
                  <a:pt x="3074" y="14752"/>
                  <a:pt x="3036" y="14794"/>
                  <a:pt x="3026" y="14858"/>
                </a:cubicBezTo>
                <a:cubicBezTo>
                  <a:pt x="3014" y="14935"/>
                  <a:pt x="2979" y="15052"/>
                  <a:pt x="3001" y="15131"/>
                </a:cubicBezTo>
                <a:cubicBezTo>
                  <a:pt x="3029" y="15230"/>
                  <a:pt x="3023" y="15245"/>
                  <a:pt x="3101" y="15304"/>
                </a:cubicBezTo>
                <a:cubicBezTo>
                  <a:pt x="3139" y="15332"/>
                  <a:pt x="3171" y="15300"/>
                  <a:pt x="3200" y="15255"/>
                </a:cubicBezTo>
                <a:cubicBezTo>
                  <a:pt x="3239" y="15194"/>
                  <a:pt x="3233" y="15136"/>
                  <a:pt x="3200" y="15081"/>
                </a:cubicBezTo>
                <a:cubicBezTo>
                  <a:pt x="3166" y="15124"/>
                  <a:pt x="3106" y="15193"/>
                  <a:pt x="3125" y="15255"/>
                </a:cubicBezTo>
                <a:cubicBezTo>
                  <a:pt x="3147" y="15277"/>
                  <a:pt x="3156" y="15282"/>
                  <a:pt x="3150" y="15304"/>
                </a:cubicBezTo>
              </a:path>
              <a:path w="5632" h="1738">
                <a:moveTo>
                  <a:pt x="3423" y="14833"/>
                </a:moveTo>
                <a:cubicBezTo>
                  <a:pt x="3368" y="14901"/>
                  <a:pt x="3353" y="14968"/>
                  <a:pt x="3349" y="15056"/>
                </a:cubicBezTo>
                <a:cubicBezTo>
                  <a:pt x="3345" y="15129"/>
                  <a:pt x="3339" y="15213"/>
                  <a:pt x="3373" y="15280"/>
                </a:cubicBezTo>
                <a:cubicBezTo>
                  <a:pt x="3391" y="15316"/>
                  <a:pt x="3481" y="15382"/>
                  <a:pt x="3522" y="15354"/>
                </a:cubicBezTo>
                <a:cubicBezTo>
                  <a:pt x="3590" y="15306"/>
                  <a:pt x="3594" y="15149"/>
                  <a:pt x="3597" y="15081"/>
                </a:cubicBezTo>
                <a:cubicBezTo>
                  <a:pt x="3600" y="15016"/>
                  <a:pt x="3581" y="14914"/>
                  <a:pt x="3547" y="14858"/>
                </a:cubicBezTo>
                <a:cubicBezTo>
                  <a:pt x="3516" y="14807"/>
                  <a:pt x="3488" y="14789"/>
                  <a:pt x="3448" y="14808"/>
                </a:cubicBezTo>
              </a:path>
              <a:path w="5632" h="1738">
                <a:moveTo>
                  <a:pt x="3820" y="15056"/>
                </a:moveTo>
                <a:cubicBezTo>
                  <a:pt x="3886" y="15056"/>
                  <a:pt x="3952" y="15056"/>
                  <a:pt x="4018" y="15056"/>
                </a:cubicBezTo>
              </a:path>
              <a:path w="5632" h="1738">
                <a:moveTo>
                  <a:pt x="3944" y="15230"/>
                </a:moveTo>
                <a:cubicBezTo>
                  <a:pt x="3994" y="15238"/>
                  <a:pt x="4043" y="15247"/>
                  <a:pt x="4093" y="15255"/>
                </a:cubicBezTo>
              </a:path>
              <a:path w="5632" h="1738">
                <a:moveTo>
                  <a:pt x="4688" y="14932"/>
                </a:moveTo>
                <a:cubicBezTo>
                  <a:pt x="4716" y="14960"/>
                  <a:pt x="4729" y="14969"/>
                  <a:pt x="4762" y="14957"/>
                </a:cubicBezTo>
                <a:cubicBezTo>
                  <a:pt x="4802" y="14904"/>
                  <a:pt x="4791" y="14866"/>
                  <a:pt x="4762" y="14808"/>
                </a:cubicBezTo>
                <a:cubicBezTo>
                  <a:pt x="4725" y="14733"/>
                  <a:pt x="4694" y="14710"/>
                  <a:pt x="4614" y="14759"/>
                </a:cubicBezTo>
                <a:cubicBezTo>
                  <a:pt x="4557" y="14794"/>
                  <a:pt x="4539" y="14927"/>
                  <a:pt x="4564" y="14982"/>
                </a:cubicBezTo>
                <a:cubicBezTo>
                  <a:pt x="4597" y="15054"/>
                  <a:pt x="4656" y="15079"/>
                  <a:pt x="4713" y="15056"/>
                </a:cubicBezTo>
                <a:cubicBezTo>
                  <a:pt x="4757" y="15038"/>
                  <a:pt x="4810" y="14998"/>
                  <a:pt x="4837" y="14957"/>
                </a:cubicBezTo>
                <a:cubicBezTo>
                  <a:pt x="4894" y="14870"/>
                  <a:pt x="4837" y="15012"/>
                  <a:pt x="4837" y="15081"/>
                </a:cubicBezTo>
                <a:cubicBezTo>
                  <a:pt x="4837" y="15163"/>
                  <a:pt x="4853" y="15226"/>
                  <a:pt x="4862" y="15304"/>
                </a:cubicBezTo>
                <a:cubicBezTo>
                  <a:pt x="4870" y="15370"/>
                  <a:pt x="4867" y="15405"/>
                  <a:pt x="4837" y="15453"/>
                </a:cubicBezTo>
              </a:path>
              <a:path w="5632" h="1738">
                <a:moveTo>
                  <a:pt x="5209" y="15007"/>
                </a:moveTo>
                <a:cubicBezTo>
                  <a:pt x="5201" y="14899"/>
                  <a:pt x="5215" y="14873"/>
                  <a:pt x="5110" y="14858"/>
                </a:cubicBezTo>
                <a:cubicBezTo>
                  <a:pt x="5070" y="14924"/>
                  <a:pt x="5081" y="14990"/>
                  <a:pt x="5135" y="15056"/>
                </a:cubicBezTo>
                <a:cubicBezTo>
                  <a:pt x="5185" y="15117"/>
                  <a:pt x="5192" y="15178"/>
                  <a:pt x="5234" y="15230"/>
                </a:cubicBezTo>
                <a:cubicBezTo>
                  <a:pt x="5284" y="15292"/>
                  <a:pt x="5303" y="15358"/>
                  <a:pt x="5259" y="15429"/>
                </a:cubicBezTo>
                <a:cubicBezTo>
                  <a:pt x="5251" y="15437"/>
                  <a:pt x="5242" y="15445"/>
                  <a:pt x="5234" y="15453"/>
                </a:cubicBezTo>
                <a:cubicBezTo>
                  <a:pt x="5159" y="15417"/>
                  <a:pt x="5124" y="15403"/>
                  <a:pt x="5085" y="15329"/>
                </a:cubicBezTo>
                <a:cubicBezTo>
                  <a:pt x="5065" y="15289"/>
                  <a:pt x="5056" y="15283"/>
                  <a:pt x="5060" y="15255"/>
                </a:cubicBezTo>
              </a:path>
              <a:path w="5632" h="1738">
                <a:moveTo>
                  <a:pt x="5457" y="15056"/>
                </a:moveTo>
                <a:cubicBezTo>
                  <a:pt x="5474" y="15147"/>
                  <a:pt x="5457" y="15206"/>
                  <a:pt x="5457" y="15304"/>
                </a:cubicBezTo>
                <a:cubicBezTo>
                  <a:pt x="5457" y="15346"/>
                  <a:pt x="5457" y="15354"/>
                  <a:pt x="5457" y="15379"/>
                </a:cubicBezTo>
              </a:path>
              <a:path w="5632" h="1738">
                <a:moveTo>
                  <a:pt x="5531" y="14833"/>
                </a:moveTo>
                <a:cubicBezTo>
                  <a:pt x="5556" y="14825"/>
                  <a:pt x="5581" y="14816"/>
                  <a:pt x="5606" y="14808"/>
                </a:cubicBezTo>
              </a:path>
              <a:path w="5632" h="1738">
                <a:moveTo>
                  <a:pt x="5606" y="15304"/>
                </a:moveTo>
                <a:cubicBezTo>
                  <a:pt x="5606" y="15349"/>
                  <a:pt x="5603" y="15362"/>
                  <a:pt x="5631" y="15379"/>
                </a:cubicBezTo>
                <a:cubicBezTo>
                  <a:pt x="5641" y="15310"/>
                  <a:pt x="5672" y="15248"/>
                  <a:pt x="5705" y="15180"/>
                </a:cubicBezTo>
                <a:cubicBezTo>
                  <a:pt x="5733" y="15121"/>
                  <a:pt x="5758" y="15077"/>
                  <a:pt x="5804" y="15032"/>
                </a:cubicBezTo>
                <a:cubicBezTo>
                  <a:pt x="5859" y="15085"/>
                  <a:pt x="5875" y="15127"/>
                  <a:pt x="5879" y="15205"/>
                </a:cubicBezTo>
                <a:cubicBezTo>
                  <a:pt x="5883" y="15285"/>
                  <a:pt x="5936" y="15329"/>
                  <a:pt x="5953" y="15404"/>
                </a:cubicBezTo>
                <a:cubicBezTo>
                  <a:pt x="5963" y="15447"/>
                  <a:pt x="5968" y="15464"/>
                  <a:pt x="5978" y="15503"/>
                </a:cubicBezTo>
              </a:path>
              <a:path w="5632" h="1738">
                <a:moveTo>
                  <a:pt x="6127" y="14833"/>
                </a:moveTo>
                <a:cubicBezTo>
                  <a:pt x="6153" y="14903"/>
                  <a:pt x="6152" y="14956"/>
                  <a:pt x="6152" y="15032"/>
                </a:cubicBezTo>
                <a:cubicBezTo>
                  <a:pt x="6152" y="15123"/>
                  <a:pt x="6176" y="15209"/>
                  <a:pt x="6176" y="15304"/>
                </a:cubicBezTo>
                <a:cubicBezTo>
                  <a:pt x="6176" y="15354"/>
                  <a:pt x="6176" y="15371"/>
                  <a:pt x="6176" y="15404"/>
                </a:cubicBezTo>
                <a:cubicBezTo>
                  <a:pt x="6176" y="15536"/>
                  <a:pt x="6199" y="15256"/>
                  <a:pt x="6201" y="15230"/>
                </a:cubicBezTo>
                <a:cubicBezTo>
                  <a:pt x="6209" y="15142"/>
                  <a:pt x="6222" y="15060"/>
                  <a:pt x="6226" y="14982"/>
                </a:cubicBezTo>
                <a:cubicBezTo>
                  <a:pt x="6230" y="14904"/>
                  <a:pt x="6246" y="14867"/>
                  <a:pt x="6300" y="14808"/>
                </a:cubicBezTo>
                <a:cubicBezTo>
                  <a:pt x="6308" y="14800"/>
                  <a:pt x="6317" y="14792"/>
                  <a:pt x="6325" y="14784"/>
                </a:cubicBezTo>
                <a:cubicBezTo>
                  <a:pt x="6364" y="14789"/>
                  <a:pt x="6474" y="14825"/>
                  <a:pt x="6474" y="14883"/>
                </a:cubicBezTo>
                <a:cubicBezTo>
                  <a:pt x="6474" y="14953"/>
                  <a:pt x="6392" y="15021"/>
                  <a:pt x="6350" y="15056"/>
                </a:cubicBezTo>
                <a:cubicBezTo>
                  <a:pt x="6315" y="15085"/>
                  <a:pt x="6289" y="15083"/>
                  <a:pt x="6251" y="15106"/>
                </a:cubicBezTo>
                <a:cubicBezTo>
                  <a:pt x="6289" y="15144"/>
                  <a:pt x="6330" y="15178"/>
                  <a:pt x="6375" y="15205"/>
                </a:cubicBezTo>
                <a:cubicBezTo>
                  <a:pt x="6436" y="15242"/>
                  <a:pt x="6438" y="15242"/>
                  <a:pt x="6474" y="15304"/>
                </a:cubicBezTo>
                <a:cubicBezTo>
                  <a:pt x="6419" y="15401"/>
                  <a:pt x="6421" y="15370"/>
                  <a:pt x="6325" y="15354"/>
                </a:cubicBezTo>
                <a:cubicBezTo>
                  <a:pt x="6248" y="15341"/>
                  <a:pt x="6218" y="15334"/>
                  <a:pt x="6152" y="15354"/>
                </a:cubicBezTo>
                <a:cubicBezTo>
                  <a:pt x="6127" y="15354"/>
                  <a:pt x="6119" y="15354"/>
                  <a:pt x="6102" y="15354"/>
                </a:cubicBezTo>
              </a:path>
              <a:path w="5632" h="1738">
                <a:moveTo>
                  <a:pt x="6598" y="15577"/>
                </a:moveTo>
                <a:cubicBezTo>
                  <a:pt x="6470" y="15577"/>
                  <a:pt x="6347" y="15568"/>
                  <a:pt x="6226" y="15553"/>
                </a:cubicBezTo>
                <a:cubicBezTo>
                  <a:pt x="6144" y="15543"/>
                  <a:pt x="6058" y="15532"/>
                  <a:pt x="5978" y="15528"/>
                </a:cubicBezTo>
                <a:cubicBezTo>
                  <a:pt x="5909" y="15524"/>
                  <a:pt x="5823" y="15518"/>
                  <a:pt x="5755" y="15503"/>
                </a:cubicBezTo>
                <a:cubicBezTo>
                  <a:pt x="5658" y="15482"/>
                  <a:pt x="5557" y="15458"/>
                  <a:pt x="5457" y="15453"/>
                </a:cubicBezTo>
                <a:cubicBezTo>
                  <a:pt x="5248" y="15442"/>
                  <a:pt x="5040" y="15455"/>
                  <a:pt x="4837" y="15478"/>
                </a:cubicBezTo>
                <a:cubicBezTo>
                  <a:pt x="4736" y="15489"/>
                  <a:pt x="4726" y="15498"/>
                  <a:pt x="4638" y="15528"/>
                </a:cubicBezTo>
                <a:cubicBezTo>
                  <a:pt x="4630" y="15528"/>
                  <a:pt x="4622" y="15528"/>
                  <a:pt x="4614" y="15528"/>
                </a:cubicBezTo>
              </a:path>
              <a:path w="5632" h="1738">
                <a:moveTo>
                  <a:pt x="3746" y="15453"/>
                </a:moveTo>
                <a:cubicBezTo>
                  <a:pt x="3384" y="15453"/>
                  <a:pt x="3009" y="15427"/>
                  <a:pt x="2654" y="15478"/>
                </a:cubicBezTo>
                <a:cubicBezTo>
                  <a:pt x="2542" y="15494"/>
                  <a:pt x="2420" y="15499"/>
                  <a:pt x="2307" y="15503"/>
                </a:cubicBezTo>
                <a:cubicBezTo>
                  <a:pt x="2139" y="15509"/>
                  <a:pt x="1972" y="15509"/>
                  <a:pt x="1811" y="15528"/>
                </a:cubicBezTo>
                <a:cubicBezTo>
                  <a:pt x="1665" y="15546"/>
                  <a:pt x="1510" y="15538"/>
                  <a:pt x="1364" y="15553"/>
                </a:cubicBezTo>
                <a:cubicBezTo>
                  <a:pt x="1237" y="15566"/>
                  <a:pt x="1049" y="15691"/>
                  <a:pt x="992" y="15577"/>
                </a:cubicBezTo>
                <a:cubicBezTo>
                  <a:pt x="1015" y="15555"/>
                  <a:pt x="1020" y="15547"/>
                  <a:pt x="1042" y="15553"/>
                </a:cubicBezTo>
              </a:path>
              <a:path w="5632" h="1738">
                <a:moveTo>
                  <a:pt x="5556" y="15776"/>
                </a:moveTo>
                <a:cubicBezTo>
                  <a:pt x="5564" y="15784"/>
                  <a:pt x="5573" y="15793"/>
                  <a:pt x="5581" y="15801"/>
                </a:cubicBezTo>
                <a:cubicBezTo>
                  <a:pt x="5616" y="15743"/>
                  <a:pt x="5612" y="15710"/>
                  <a:pt x="5581" y="15652"/>
                </a:cubicBezTo>
                <a:cubicBezTo>
                  <a:pt x="5549" y="15593"/>
                  <a:pt x="5498" y="15581"/>
                  <a:pt x="5432" y="15577"/>
                </a:cubicBezTo>
                <a:cubicBezTo>
                  <a:pt x="5371" y="15573"/>
                  <a:pt x="5308" y="15598"/>
                  <a:pt x="5283" y="15652"/>
                </a:cubicBezTo>
                <a:cubicBezTo>
                  <a:pt x="5244" y="15735"/>
                  <a:pt x="5257" y="15802"/>
                  <a:pt x="5308" y="15875"/>
                </a:cubicBezTo>
                <a:cubicBezTo>
                  <a:pt x="5343" y="15925"/>
                  <a:pt x="5420" y="15905"/>
                  <a:pt x="5457" y="15875"/>
                </a:cubicBezTo>
                <a:cubicBezTo>
                  <a:pt x="5495" y="15845"/>
                  <a:pt x="5512" y="15826"/>
                  <a:pt x="5556" y="15801"/>
                </a:cubicBezTo>
                <a:cubicBezTo>
                  <a:pt x="5592" y="15860"/>
                  <a:pt x="5581" y="15925"/>
                  <a:pt x="5581" y="15999"/>
                </a:cubicBezTo>
                <a:cubicBezTo>
                  <a:pt x="5581" y="16082"/>
                  <a:pt x="5603" y="16144"/>
                  <a:pt x="5606" y="16222"/>
                </a:cubicBezTo>
                <a:cubicBezTo>
                  <a:pt x="5609" y="16288"/>
                  <a:pt x="5606" y="16355"/>
                  <a:pt x="5606" y="164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Ink 69"/>
          <p:cNvSpPr/>
          <p:nvPr/>
        </p:nvSpPr>
        <p:spPr>
          <a:xfrm>
            <a:off x="660240" y="5929200"/>
            <a:ext cx="304920" cy="23184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1836" y="16966"/>
                </a:moveTo>
                <a:cubicBezTo>
                  <a:pt x="1844" y="16974"/>
                  <a:pt x="1852" y="16983"/>
                  <a:pt x="1860" y="16991"/>
                </a:cubicBezTo>
              </a:path>
              <a:path w="844" h="646">
                <a:moveTo>
                  <a:pt x="2307" y="16594"/>
                </a:moveTo>
                <a:cubicBezTo>
                  <a:pt x="2279" y="16526"/>
                  <a:pt x="2254" y="16449"/>
                  <a:pt x="2158" y="16470"/>
                </a:cubicBezTo>
                <a:cubicBezTo>
                  <a:pt x="2074" y="16489"/>
                  <a:pt x="2011" y="16553"/>
                  <a:pt x="2034" y="16644"/>
                </a:cubicBezTo>
                <a:cubicBezTo>
                  <a:pt x="2045" y="16687"/>
                  <a:pt x="2112" y="16757"/>
                  <a:pt x="2158" y="16768"/>
                </a:cubicBezTo>
                <a:cubicBezTo>
                  <a:pt x="2235" y="16786"/>
                  <a:pt x="2249" y="16723"/>
                  <a:pt x="2257" y="16669"/>
                </a:cubicBezTo>
                <a:cubicBezTo>
                  <a:pt x="2249" y="16752"/>
                  <a:pt x="2247" y="16830"/>
                  <a:pt x="2232" y="16917"/>
                </a:cubicBezTo>
                <a:cubicBezTo>
                  <a:pt x="2220" y="16989"/>
                  <a:pt x="2208" y="17041"/>
                  <a:pt x="2208" y="17115"/>
                </a:cubicBezTo>
              </a:path>
              <a:path w="844" h="646">
                <a:moveTo>
                  <a:pt x="2456" y="16470"/>
                </a:moveTo>
                <a:cubicBezTo>
                  <a:pt x="2478" y="16515"/>
                  <a:pt x="2434" y="16620"/>
                  <a:pt x="2431" y="16694"/>
                </a:cubicBezTo>
                <a:cubicBezTo>
                  <a:pt x="2428" y="16766"/>
                  <a:pt x="2411" y="16790"/>
                  <a:pt x="2431" y="16867"/>
                </a:cubicBezTo>
                <a:cubicBezTo>
                  <a:pt x="2453" y="16949"/>
                  <a:pt x="2474" y="16986"/>
                  <a:pt x="2555" y="16991"/>
                </a:cubicBezTo>
                <a:cubicBezTo>
                  <a:pt x="2658" y="16997"/>
                  <a:pt x="2638" y="16888"/>
                  <a:pt x="2654" y="16818"/>
                </a:cubicBezTo>
                <a:cubicBezTo>
                  <a:pt x="2673" y="16736"/>
                  <a:pt x="2693" y="16734"/>
                  <a:pt x="2654" y="16669"/>
                </a:cubicBezTo>
                <a:cubicBezTo>
                  <a:pt x="2591" y="16721"/>
                  <a:pt x="2584" y="16752"/>
                  <a:pt x="2580" y="16842"/>
                </a:cubicBezTo>
                <a:cubicBezTo>
                  <a:pt x="2580" y="16887"/>
                  <a:pt x="2576" y="16900"/>
                  <a:pt x="2604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Ink 70"/>
          <p:cNvSpPr/>
          <p:nvPr/>
        </p:nvSpPr>
        <p:spPr>
          <a:xfrm>
            <a:off x="1071720" y="5875200"/>
            <a:ext cx="258480" cy="260640"/>
          </a:xfrm>
          <a:custGeom>
            <a:avLst/>
            <a:gdLst/>
            <a:ahLst/>
            <a:rect l="l" t="t" r="r" b="b"/>
            <a:pathLst>
              <a:path w="720" h="721">
                <a:moveTo>
                  <a:pt x="2977" y="16371"/>
                </a:moveTo>
                <a:cubicBezTo>
                  <a:pt x="3051" y="16334"/>
                  <a:pt x="3096" y="16297"/>
                  <a:pt x="3175" y="16346"/>
                </a:cubicBezTo>
                <a:cubicBezTo>
                  <a:pt x="3216" y="16371"/>
                  <a:pt x="3209" y="16478"/>
                  <a:pt x="3200" y="16520"/>
                </a:cubicBezTo>
                <a:cubicBezTo>
                  <a:pt x="3182" y="16603"/>
                  <a:pt x="3193" y="16687"/>
                  <a:pt x="3175" y="16768"/>
                </a:cubicBezTo>
                <a:cubicBezTo>
                  <a:pt x="3162" y="16827"/>
                  <a:pt x="3149" y="16917"/>
                  <a:pt x="3125" y="16966"/>
                </a:cubicBezTo>
                <a:cubicBezTo>
                  <a:pt x="3112" y="16992"/>
                  <a:pt x="3071" y="17021"/>
                  <a:pt x="3051" y="17041"/>
                </a:cubicBezTo>
                <a:cubicBezTo>
                  <a:pt x="3023" y="16994"/>
                  <a:pt x="2989" y="16928"/>
                  <a:pt x="3001" y="16867"/>
                </a:cubicBezTo>
                <a:cubicBezTo>
                  <a:pt x="3025" y="16819"/>
                  <a:pt x="3034" y="16805"/>
                  <a:pt x="3026" y="16768"/>
                </a:cubicBezTo>
                <a:cubicBezTo>
                  <a:pt x="3093" y="16776"/>
                  <a:pt x="3156" y="16787"/>
                  <a:pt x="3175" y="16867"/>
                </a:cubicBezTo>
                <a:cubicBezTo>
                  <a:pt x="3188" y="16920"/>
                  <a:pt x="3190" y="17008"/>
                  <a:pt x="3249" y="17041"/>
                </a:cubicBezTo>
                <a:cubicBezTo>
                  <a:pt x="3257" y="17041"/>
                  <a:pt x="3266" y="17041"/>
                  <a:pt x="3274" y="17041"/>
                </a:cubicBezTo>
              </a:path>
              <a:path w="720" h="721">
                <a:moveTo>
                  <a:pt x="3448" y="16396"/>
                </a:moveTo>
                <a:cubicBezTo>
                  <a:pt x="3556" y="16407"/>
                  <a:pt x="3537" y="16414"/>
                  <a:pt x="3597" y="16495"/>
                </a:cubicBezTo>
                <a:cubicBezTo>
                  <a:pt x="3622" y="16528"/>
                  <a:pt x="3664" y="16544"/>
                  <a:pt x="3696" y="16570"/>
                </a:cubicBezTo>
                <a:cubicBezTo>
                  <a:pt x="3621" y="16631"/>
                  <a:pt x="3590" y="16644"/>
                  <a:pt x="3497" y="16644"/>
                </a:cubicBezTo>
                <a:cubicBezTo>
                  <a:pt x="3481" y="16644"/>
                  <a:pt x="3464" y="16644"/>
                  <a:pt x="3448" y="16644"/>
                </a:cubicBezTo>
                <a:cubicBezTo>
                  <a:pt x="3496" y="16673"/>
                  <a:pt x="3528" y="16674"/>
                  <a:pt x="3572" y="16718"/>
                </a:cubicBezTo>
                <a:cubicBezTo>
                  <a:pt x="3614" y="16760"/>
                  <a:pt x="3679" y="16784"/>
                  <a:pt x="3696" y="16842"/>
                </a:cubicBezTo>
                <a:cubicBezTo>
                  <a:pt x="3715" y="16906"/>
                  <a:pt x="3657" y="16977"/>
                  <a:pt x="3597" y="16991"/>
                </a:cubicBezTo>
                <a:cubicBezTo>
                  <a:pt x="3560" y="17000"/>
                  <a:pt x="3511" y="16991"/>
                  <a:pt x="3473" y="169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Ink 71"/>
          <p:cNvSpPr/>
          <p:nvPr/>
        </p:nvSpPr>
        <p:spPr>
          <a:xfrm>
            <a:off x="1608120" y="5867280"/>
            <a:ext cx="687240" cy="258840"/>
          </a:xfrm>
          <a:custGeom>
            <a:avLst/>
            <a:gdLst/>
            <a:ahLst/>
            <a:rect l="l" t="t" r="r" b="b"/>
            <a:pathLst>
              <a:path w="1911" h="720">
                <a:moveTo>
                  <a:pt x="4465" y="16619"/>
                </a:moveTo>
                <a:cubicBezTo>
                  <a:pt x="4558" y="16624"/>
                  <a:pt x="4605" y="16634"/>
                  <a:pt x="4688" y="16644"/>
                </a:cubicBezTo>
              </a:path>
              <a:path w="1911" h="720">
                <a:moveTo>
                  <a:pt x="4514" y="16793"/>
                </a:moveTo>
                <a:cubicBezTo>
                  <a:pt x="4624" y="16827"/>
                  <a:pt x="4618" y="16836"/>
                  <a:pt x="4713" y="16818"/>
                </a:cubicBezTo>
              </a:path>
              <a:path w="1911" h="720">
                <a:moveTo>
                  <a:pt x="5135" y="16446"/>
                </a:moveTo>
                <a:cubicBezTo>
                  <a:pt x="5101" y="16387"/>
                  <a:pt x="5066" y="16340"/>
                  <a:pt x="4986" y="16371"/>
                </a:cubicBezTo>
                <a:cubicBezTo>
                  <a:pt x="4904" y="16403"/>
                  <a:pt x="4991" y="16506"/>
                  <a:pt x="5011" y="16545"/>
                </a:cubicBezTo>
                <a:cubicBezTo>
                  <a:pt x="5044" y="16608"/>
                  <a:pt x="5118" y="16705"/>
                  <a:pt x="5135" y="16768"/>
                </a:cubicBezTo>
                <a:cubicBezTo>
                  <a:pt x="5151" y="16828"/>
                  <a:pt x="5176" y="16885"/>
                  <a:pt x="5135" y="16942"/>
                </a:cubicBezTo>
                <a:cubicBezTo>
                  <a:pt x="5105" y="16971"/>
                  <a:pt x="5093" y="16985"/>
                  <a:pt x="5085" y="17016"/>
                </a:cubicBezTo>
                <a:cubicBezTo>
                  <a:pt x="5028" y="16959"/>
                  <a:pt x="4986" y="16904"/>
                  <a:pt x="4936" y="16842"/>
                </a:cubicBezTo>
                <a:cubicBezTo>
                  <a:pt x="4907" y="16814"/>
                  <a:pt x="4899" y="16801"/>
                  <a:pt x="4911" y="16768"/>
                </a:cubicBezTo>
              </a:path>
              <a:path w="1911" h="720">
                <a:moveTo>
                  <a:pt x="5333" y="16743"/>
                </a:moveTo>
                <a:cubicBezTo>
                  <a:pt x="5333" y="16852"/>
                  <a:pt x="5338" y="16879"/>
                  <a:pt x="5308" y="16942"/>
                </a:cubicBezTo>
              </a:path>
              <a:path w="1911" h="720">
                <a:moveTo>
                  <a:pt x="5432" y="16396"/>
                </a:moveTo>
                <a:cubicBezTo>
                  <a:pt x="5455" y="16373"/>
                  <a:pt x="5459" y="16365"/>
                  <a:pt x="5482" y="16371"/>
                </a:cubicBezTo>
              </a:path>
              <a:path w="1911" h="720">
                <a:moveTo>
                  <a:pt x="5531" y="16743"/>
                </a:moveTo>
                <a:cubicBezTo>
                  <a:pt x="5531" y="16809"/>
                  <a:pt x="5531" y="16826"/>
                  <a:pt x="5531" y="16867"/>
                </a:cubicBezTo>
                <a:cubicBezTo>
                  <a:pt x="5590" y="16794"/>
                  <a:pt x="5599" y="16732"/>
                  <a:pt x="5631" y="16644"/>
                </a:cubicBezTo>
                <a:cubicBezTo>
                  <a:pt x="5652" y="16600"/>
                  <a:pt x="5655" y="16588"/>
                  <a:pt x="5680" y="16570"/>
                </a:cubicBezTo>
                <a:cubicBezTo>
                  <a:pt x="5734" y="16623"/>
                  <a:pt x="5733" y="16651"/>
                  <a:pt x="5755" y="16718"/>
                </a:cubicBezTo>
                <a:cubicBezTo>
                  <a:pt x="5779" y="16792"/>
                  <a:pt x="5793" y="16881"/>
                  <a:pt x="5829" y="16942"/>
                </a:cubicBezTo>
              </a:path>
              <a:path w="1911" h="720">
                <a:moveTo>
                  <a:pt x="6052" y="16421"/>
                </a:moveTo>
                <a:cubicBezTo>
                  <a:pt x="6052" y="16558"/>
                  <a:pt x="6042" y="16685"/>
                  <a:pt x="6028" y="16818"/>
                </a:cubicBezTo>
                <a:cubicBezTo>
                  <a:pt x="6028" y="16843"/>
                  <a:pt x="6028" y="16867"/>
                  <a:pt x="6028" y="16892"/>
                </a:cubicBezTo>
                <a:cubicBezTo>
                  <a:pt x="6038" y="16823"/>
                  <a:pt x="6066" y="16769"/>
                  <a:pt x="6077" y="16694"/>
                </a:cubicBezTo>
                <a:cubicBezTo>
                  <a:pt x="6089" y="16611"/>
                  <a:pt x="6119" y="16527"/>
                  <a:pt x="6152" y="16446"/>
                </a:cubicBezTo>
                <a:cubicBezTo>
                  <a:pt x="6174" y="16392"/>
                  <a:pt x="6210" y="16361"/>
                  <a:pt x="6251" y="16321"/>
                </a:cubicBezTo>
                <a:cubicBezTo>
                  <a:pt x="6301" y="16273"/>
                  <a:pt x="6362" y="16342"/>
                  <a:pt x="6375" y="16396"/>
                </a:cubicBezTo>
                <a:cubicBezTo>
                  <a:pt x="6389" y="16457"/>
                  <a:pt x="6337" y="16482"/>
                  <a:pt x="6300" y="16520"/>
                </a:cubicBezTo>
                <a:cubicBezTo>
                  <a:pt x="6269" y="16552"/>
                  <a:pt x="6238" y="16548"/>
                  <a:pt x="6201" y="16570"/>
                </a:cubicBezTo>
                <a:cubicBezTo>
                  <a:pt x="6251" y="16588"/>
                  <a:pt x="6323" y="16589"/>
                  <a:pt x="6350" y="16644"/>
                </a:cubicBezTo>
                <a:cubicBezTo>
                  <a:pt x="6396" y="16740"/>
                  <a:pt x="6382" y="16809"/>
                  <a:pt x="6325" y="16892"/>
                </a:cubicBezTo>
                <a:cubicBezTo>
                  <a:pt x="6264" y="16979"/>
                  <a:pt x="6237" y="16908"/>
                  <a:pt x="6176" y="16892"/>
                </a:cubicBezTo>
                <a:cubicBezTo>
                  <a:pt x="6114" y="16875"/>
                  <a:pt x="6092" y="16839"/>
                  <a:pt x="6028" y="16818"/>
                </a:cubicBezTo>
                <a:cubicBezTo>
                  <a:pt x="6020" y="16818"/>
                  <a:pt x="6011" y="16818"/>
                  <a:pt x="6003" y="168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Ink 72"/>
          <p:cNvSpPr/>
          <p:nvPr/>
        </p:nvSpPr>
        <p:spPr>
          <a:xfrm>
            <a:off x="1177920" y="6296040"/>
            <a:ext cx="304920" cy="285840"/>
          </a:xfrm>
          <a:custGeom>
            <a:avLst/>
            <a:gdLst/>
            <a:ahLst/>
            <a:rect l="l" t="t" r="r" b="b"/>
            <a:pathLst>
              <a:path w="845" h="795">
                <a:moveTo>
                  <a:pt x="3373" y="17686"/>
                </a:moveTo>
                <a:cubicBezTo>
                  <a:pt x="3359" y="17816"/>
                  <a:pt x="3331" y="17954"/>
                  <a:pt x="3324" y="18083"/>
                </a:cubicBezTo>
                <a:cubicBezTo>
                  <a:pt x="3320" y="18153"/>
                  <a:pt x="3298" y="18216"/>
                  <a:pt x="3274" y="18281"/>
                </a:cubicBezTo>
                <a:cubicBezTo>
                  <a:pt x="3304" y="18221"/>
                  <a:pt x="3302" y="18149"/>
                  <a:pt x="3324" y="18083"/>
                </a:cubicBezTo>
                <a:cubicBezTo>
                  <a:pt x="3348" y="18012"/>
                  <a:pt x="3362" y="17932"/>
                  <a:pt x="3373" y="17859"/>
                </a:cubicBezTo>
                <a:cubicBezTo>
                  <a:pt x="3383" y="17796"/>
                  <a:pt x="3397" y="17714"/>
                  <a:pt x="3423" y="17661"/>
                </a:cubicBezTo>
                <a:cubicBezTo>
                  <a:pt x="3442" y="17623"/>
                  <a:pt x="3500" y="17501"/>
                  <a:pt x="3547" y="17487"/>
                </a:cubicBezTo>
                <a:cubicBezTo>
                  <a:pt x="3564" y="17487"/>
                  <a:pt x="3580" y="17487"/>
                  <a:pt x="3597" y="17487"/>
                </a:cubicBezTo>
                <a:cubicBezTo>
                  <a:pt x="3629" y="17544"/>
                  <a:pt x="3666" y="17590"/>
                  <a:pt x="3646" y="17661"/>
                </a:cubicBezTo>
                <a:cubicBezTo>
                  <a:pt x="3636" y="17697"/>
                  <a:pt x="3591" y="17798"/>
                  <a:pt x="3547" y="17810"/>
                </a:cubicBezTo>
                <a:cubicBezTo>
                  <a:pt x="3497" y="17810"/>
                  <a:pt x="3481" y="17810"/>
                  <a:pt x="3448" y="17810"/>
                </a:cubicBezTo>
                <a:cubicBezTo>
                  <a:pt x="3531" y="17810"/>
                  <a:pt x="3550" y="17822"/>
                  <a:pt x="3621" y="17859"/>
                </a:cubicBezTo>
                <a:cubicBezTo>
                  <a:pt x="3693" y="17897"/>
                  <a:pt x="3722" y="17974"/>
                  <a:pt x="3696" y="18058"/>
                </a:cubicBezTo>
                <a:cubicBezTo>
                  <a:pt x="3685" y="18094"/>
                  <a:pt x="3570" y="18215"/>
                  <a:pt x="3547" y="18231"/>
                </a:cubicBezTo>
                <a:cubicBezTo>
                  <a:pt x="3503" y="18263"/>
                  <a:pt x="3387" y="18266"/>
                  <a:pt x="3349" y="18231"/>
                </a:cubicBezTo>
                <a:cubicBezTo>
                  <a:pt x="3300" y="18187"/>
                  <a:pt x="3326" y="18146"/>
                  <a:pt x="3349" y="18107"/>
                </a:cubicBezTo>
              </a:path>
              <a:path w="845" h="795">
                <a:moveTo>
                  <a:pt x="3944" y="17859"/>
                </a:moveTo>
                <a:cubicBezTo>
                  <a:pt x="4016" y="17852"/>
                  <a:pt x="4028" y="17844"/>
                  <a:pt x="4093" y="17835"/>
                </a:cubicBezTo>
              </a:path>
              <a:path w="845" h="795">
                <a:moveTo>
                  <a:pt x="3894" y="18008"/>
                </a:moveTo>
                <a:cubicBezTo>
                  <a:pt x="3973" y="18097"/>
                  <a:pt x="3988" y="18089"/>
                  <a:pt x="4118" y="181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Ink 73"/>
          <p:cNvSpPr/>
          <p:nvPr/>
        </p:nvSpPr>
        <p:spPr>
          <a:xfrm>
            <a:off x="1625760" y="6232680"/>
            <a:ext cx="490320" cy="411120"/>
          </a:xfrm>
          <a:custGeom>
            <a:avLst/>
            <a:gdLst/>
            <a:ahLst/>
            <a:rect l="l" t="t" r="r" b="b"/>
            <a:pathLst>
              <a:path w="1366" h="1142">
                <a:moveTo>
                  <a:pt x="4514" y="17438"/>
                </a:moveTo>
                <a:cubicBezTo>
                  <a:pt x="4593" y="17462"/>
                  <a:pt x="4658" y="17508"/>
                  <a:pt x="4738" y="17512"/>
                </a:cubicBezTo>
                <a:cubicBezTo>
                  <a:pt x="4794" y="17515"/>
                  <a:pt x="4806" y="17529"/>
                  <a:pt x="4862" y="17537"/>
                </a:cubicBezTo>
                <a:cubicBezTo>
                  <a:pt x="4862" y="17594"/>
                  <a:pt x="4861" y="17664"/>
                  <a:pt x="4837" y="17711"/>
                </a:cubicBezTo>
                <a:cubicBezTo>
                  <a:pt x="4814" y="17756"/>
                  <a:pt x="4774" y="17828"/>
                  <a:pt x="4762" y="17884"/>
                </a:cubicBezTo>
                <a:cubicBezTo>
                  <a:pt x="4748" y="17948"/>
                  <a:pt x="4723" y="18028"/>
                  <a:pt x="4713" y="18083"/>
                </a:cubicBezTo>
                <a:cubicBezTo>
                  <a:pt x="4701" y="18148"/>
                  <a:pt x="4696" y="18216"/>
                  <a:pt x="4688" y="18281"/>
                </a:cubicBezTo>
              </a:path>
              <a:path w="1366" h="1142">
                <a:moveTo>
                  <a:pt x="5135" y="17587"/>
                </a:moveTo>
                <a:cubicBezTo>
                  <a:pt x="5068" y="17662"/>
                  <a:pt x="5060" y="17686"/>
                  <a:pt x="5060" y="17785"/>
                </a:cubicBezTo>
                <a:cubicBezTo>
                  <a:pt x="5060" y="17896"/>
                  <a:pt x="5114" y="17894"/>
                  <a:pt x="5209" y="17909"/>
                </a:cubicBezTo>
              </a:path>
              <a:path w="1366" h="1142">
                <a:moveTo>
                  <a:pt x="5432" y="17487"/>
                </a:moveTo>
                <a:cubicBezTo>
                  <a:pt x="5432" y="17471"/>
                  <a:pt x="5432" y="17454"/>
                  <a:pt x="5432" y="17438"/>
                </a:cubicBezTo>
                <a:cubicBezTo>
                  <a:pt x="5423" y="17499"/>
                  <a:pt x="5410" y="17550"/>
                  <a:pt x="5383" y="17611"/>
                </a:cubicBezTo>
                <a:cubicBezTo>
                  <a:pt x="5351" y="17684"/>
                  <a:pt x="5341" y="17758"/>
                  <a:pt x="5308" y="17835"/>
                </a:cubicBezTo>
                <a:cubicBezTo>
                  <a:pt x="5274" y="17914"/>
                  <a:pt x="5265" y="18022"/>
                  <a:pt x="5259" y="18107"/>
                </a:cubicBezTo>
                <a:cubicBezTo>
                  <a:pt x="5252" y="18201"/>
                  <a:pt x="5239" y="18273"/>
                  <a:pt x="5234" y="18355"/>
                </a:cubicBezTo>
                <a:cubicBezTo>
                  <a:pt x="5230" y="18417"/>
                  <a:pt x="5200" y="18518"/>
                  <a:pt x="5259" y="18380"/>
                </a:cubicBezTo>
              </a:path>
              <a:path w="1366" h="1142">
                <a:moveTo>
                  <a:pt x="5730" y="17462"/>
                </a:moveTo>
                <a:cubicBezTo>
                  <a:pt x="5738" y="17446"/>
                  <a:pt x="5747" y="17429"/>
                  <a:pt x="5755" y="17413"/>
                </a:cubicBezTo>
                <a:cubicBezTo>
                  <a:pt x="5687" y="17399"/>
                  <a:pt x="5661" y="17452"/>
                  <a:pt x="5680" y="17537"/>
                </a:cubicBezTo>
                <a:cubicBezTo>
                  <a:pt x="5700" y="17627"/>
                  <a:pt x="5707" y="17640"/>
                  <a:pt x="5779" y="17661"/>
                </a:cubicBezTo>
                <a:cubicBezTo>
                  <a:pt x="5855" y="17585"/>
                  <a:pt x="5865" y="17535"/>
                  <a:pt x="5854" y="17438"/>
                </a:cubicBezTo>
                <a:cubicBezTo>
                  <a:pt x="5846" y="17366"/>
                  <a:pt x="5857" y="17366"/>
                  <a:pt x="5804" y="173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Ink 74"/>
          <p:cNvSpPr/>
          <p:nvPr/>
        </p:nvSpPr>
        <p:spPr>
          <a:xfrm>
            <a:off x="6269040" y="2633760"/>
            <a:ext cx="1241280" cy="1063440"/>
          </a:xfrm>
          <a:custGeom>
            <a:avLst/>
            <a:gdLst/>
            <a:ahLst/>
            <a:rect l="l" t="t" r="r" b="b"/>
            <a:pathLst>
              <a:path w="3449" h="2953">
                <a:moveTo>
                  <a:pt x="17785" y="7615"/>
                </a:moveTo>
                <a:cubicBezTo>
                  <a:pt x="17914" y="7615"/>
                  <a:pt x="18126" y="7654"/>
                  <a:pt x="18231" y="7590"/>
                </a:cubicBezTo>
                <a:cubicBezTo>
                  <a:pt x="18212" y="7644"/>
                  <a:pt x="18192" y="7716"/>
                  <a:pt x="18182" y="7764"/>
                </a:cubicBezTo>
                <a:cubicBezTo>
                  <a:pt x="18167" y="7839"/>
                  <a:pt x="18160" y="7936"/>
                  <a:pt x="18157" y="8012"/>
                </a:cubicBezTo>
                <a:cubicBezTo>
                  <a:pt x="18154" y="8093"/>
                  <a:pt x="18136" y="8158"/>
                  <a:pt x="18132" y="8235"/>
                </a:cubicBezTo>
                <a:cubicBezTo>
                  <a:pt x="18127" y="8320"/>
                  <a:pt x="18126" y="8333"/>
                  <a:pt x="18107" y="8409"/>
                </a:cubicBezTo>
                <a:cubicBezTo>
                  <a:pt x="18078" y="8527"/>
                  <a:pt x="18083" y="8521"/>
                  <a:pt x="18083" y="8409"/>
                </a:cubicBezTo>
              </a:path>
              <a:path w="3449" h="2953">
                <a:moveTo>
                  <a:pt x="18355" y="7665"/>
                </a:moveTo>
                <a:cubicBezTo>
                  <a:pt x="18328" y="7740"/>
                  <a:pt x="18299" y="7835"/>
                  <a:pt x="18281" y="7913"/>
                </a:cubicBezTo>
                <a:cubicBezTo>
                  <a:pt x="18270" y="7964"/>
                  <a:pt x="18263" y="7985"/>
                  <a:pt x="18256" y="8037"/>
                </a:cubicBezTo>
                <a:cubicBezTo>
                  <a:pt x="18323" y="7997"/>
                  <a:pt x="18354" y="8033"/>
                  <a:pt x="18430" y="8037"/>
                </a:cubicBezTo>
                <a:cubicBezTo>
                  <a:pt x="18491" y="8040"/>
                  <a:pt x="18558" y="8050"/>
                  <a:pt x="18604" y="8012"/>
                </a:cubicBezTo>
                <a:cubicBezTo>
                  <a:pt x="18628" y="7987"/>
                  <a:pt x="18636" y="7978"/>
                  <a:pt x="18653" y="7962"/>
                </a:cubicBezTo>
              </a:path>
              <a:path w="3449" h="2953">
                <a:moveTo>
                  <a:pt x="18579" y="7516"/>
                </a:moveTo>
                <a:cubicBezTo>
                  <a:pt x="18579" y="7646"/>
                  <a:pt x="18574" y="7766"/>
                  <a:pt x="18554" y="7888"/>
                </a:cubicBezTo>
                <a:cubicBezTo>
                  <a:pt x="18530" y="8030"/>
                  <a:pt x="18546" y="8195"/>
                  <a:pt x="18529" y="8334"/>
                </a:cubicBezTo>
                <a:cubicBezTo>
                  <a:pt x="18516" y="8439"/>
                  <a:pt x="18529" y="8461"/>
                  <a:pt x="18529" y="8334"/>
                </a:cubicBezTo>
              </a:path>
              <a:path w="3449" h="2953">
                <a:moveTo>
                  <a:pt x="18752" y="7565"/>
                </a:moveTo>
                <a:cubicBezTo>
                  <a:pt x="18752" y="7645"/>
                  <a:pt x="18733" y="7743"/>
                  <a:pt x="18777" y="7813"/>
                </a:cubicBezTo>
                <a:cubicBezTo>
                  <a:pt x="18813" y="7871"/>
                  <a:pt x="18874" y="7831"/>
                  <a:pt x="18901" y="7789"/>
                </a:cubicBezTo>
                <a:cubicBezTo>
                  <a:pt x="18946" y="7719"/>
                  <a:pt x="18910" y="7678"/>
                  <a:pt x="18901" y="7615"/>
                </a:cubicBezTo>
                <a:cubicBezTo>
                  <a:pt x="18891" y="7544"/>
                  <a:pt x="18891" y="7487"/>
                  <a:pt x="18802" y="7466"/>
                </a:cubicBezTo>
                <a:cubicBezTo>
                  <a:pt x="18750" y="7454"/>
                  <a:pt x="18721" y="7463"/>
                  <a:pt x="18703" y="7491"/>
                </a:cubicBezTo>
              </a:path>
              <a:path w="3449" h="2953">
                <a:moveTo>
                  <a:pt x="17562" y="9079"/>
                </a:moveTo>
                <a:cubicBezTo>
                  <a:pt x="17554" y="9157"/>
                  <a:pt x="17530" y="9255"/>
                  <a:pt x="17487" y="9302"/>
                </a:cubicBezTo>
                <a:cubicBezTo>
                  <a:pt x="17442" y="9352"/>
                  <a:pt x="17422" y="9389"/>
                  <a:pt x="17413" y="9451"/>
                </a:cubicBezTo>
                <a:cubicBezTo>
                  <a:pt x="17492" y="9461"/>
                  <a:pt x="17553" y="9475"/>
                  <a:pt x="17636" y="9475"/>
                </a:cubicBezTo>
                <a:cubicBezTo>
                  <a:pt x="17677" y="9475"/>
                  <a:pt x="17719" y="9475"/>
                  <a:pt x="17760" y="9475"/>
                </a:cubicBezTo>
              </a:path>
              <a:path w="3449" h="2953">
                <a:moveTo>
                  <a:pt x="17810" y="9004"/>
                </a:moveTo>
                <a:cubicBezTo>
                  <a:pt x="17784" y="9106"/>
                  <a:pt x="17785" y="9196"/>
                  <a:pt x="17785" y="9302"/>
                </a:cubicBezTo>
                <a:cubicBezTo>
                  <a:pt x="17785" y="9388"/>
                  <a:pt x="17763" y="9450"/>
                  <a:pt x="17760" y="9525"/>
                </a:cubicBezTo>
                <a:cubicBezTo>
                  <a:pt x="17756" y="9611"/>
                  <a:pt x="17740" y="9691"/>
                  <a:pt x="17735" y="9773"/>
                </a:cubicBezTo>
                <a:cubicBezTo>
                  <a:pt x="17735" y="9831"/>
                  <a:pt x="17735" y="9856"/>
                  <a:pt x="17735" y="9897"/>
                </a:cubicBezTo>
              </a:path>
              <a:path w="3449" h="2953">
                <a:moveTo>
                  <a:pt x="17959" y="9079"/>
                </a:moveTo>
                <a:cubicBezTo>
                  <a:pt x="17951" y="9161"/>
                  <a:pt x="17936" y="9222"/>
                  <a:pt x="17909" y="9302"/>
                </a:cubicBezTo>
                <a:cubicBezTo>
                  <a:pt x="17882" y="9382"/>
                  <a:pt x="17879" y="9452"/>
                  <a:pt x="17859" y="9525"/>
                </a:cubicBezTo>
                <a:cubicBezTo>
                  <a:pt x="17837" y="9606"/>
                  <a:pt x="17813" y="9664"/>
                  <a:pt x="17810" y="9748"/>
                </a:cubicBezTo>
                <a:cubicBezTo>
                  <a:pt x="17807" y="9819"/>
                  <a:pt x="17823" y="9959"/>
                  <a:pt x="17934" y="9897"/>
                </a:cubicBezTo>
                <a:cubicBezTo>
                  <a:pt x="17985" y="9868"/>
                  <a:pt x="18026" y="9812"/>
                  <a:pt x="18058" y="9773"/>
                </a:cubicBezTo>
                <a:cubicBezTo>
                  <a:pt x="18097" y="9725"/>
                  <a:pt x="18124" y="9663"/>
                  <a:pt x="18132" y="9599"/>
                </a:cubicBezTo>
                <a:cubicBezTo>
                  <a:pt x="18141" y="9521"/>
                  <a:pt x="18128" y="9522"/>
                  <a:pt x="18083" y="9475"/>
                </a:cubicBezTo>
                <a:cubicBezTo>
                  <a:pt x="18021" y="9483"/>
                  <a:pt x="17971" y="9492"/>
                  <a:pt x="17934" y="9550"/>
                </a:cubicBezTo>
                <a:cubicBezTo>
                  <a:pt x="17905" y="9594"/>
                  <a:pt x="17844" y="9696"/>
                  <a:pt x="17835" y="9748"/>
                </a:cubicBezTo>
                <a:cubicBezTo>
                  <a:pt x="17823" y="9817"/>
                  <a:pt x="17831" y="9870"/>
                  <a:pt x="17884" y="9897"/>
                </a:cubicBezTo>
              </a:path>
              <a:path w="3449" h="2953">
                <a:moveTo>
                  <a:pt x="18231" y="9079"/>
                </a:moveTo>
                <a:cubicBezTo>
                  <a:pt x="18231" y="9012"/>
                  <a:pt x="18231" y="8996"/>
                  <a:pt x="18231" y="8954"/>
                </a:cubicBezTo>
                <a:cubicBezTo>
                  <a:pt x="18163" y="9023"/>
                  <a:pt x="18150" y="9055"/>
                  <a:pt x="18132" y="9153"/>
                </a:cubicBezTo>
                <a:cubicBezTo>
                  <a:pt x="18126" y="9186"/>
                  <a:pt x="18154" y="9267"/>
                  <a:pt x="18157" y="9302"/>
                </a:cubicBezTo>
                <a:cubicBezTo>
                  <a:pt x="18214" y="9285"/>
                  <a:pt x="18277" y="9246"/>
                  <a:pt x="18306" y="9178"/>
                </a:cubicBezTo>
                <a:cubicBezTo>
                  <a:pt x="18335" y="9108"/>
                  <a:pt x="18317" y="9065"/>
                  <a:pt x="18306" y="9004"/>
                </a:cubicBezTo>
                <a:cubicBezTo>
                  <a:pt x="18289" y="8915"/>
                  <a:pt x="18274" y="8930"/>
                  <a:pt x="18182" y="8930"/>
                </a:cubicBezTo>
                <a:cubicBezTo>
                  <a:pt x="18154" y="8930"/>
                  <a:pt x="18143" y="8932"/>
                  <a:pt x="18132" y="8954"/>
                </a:cubicBezTo>
              </a:path>
              <a:path w="3449" h="2953">
                <a:moveTo>
                  <a:pt x="19769" y="7317"/>
                </a:moveTo>
                <a:cubicBezTo>
                  <a:pt x="19685" y="7341"/>
                  <a:pt x="19699" y="7382"/>
                  <a:pt x="19670" y="7466"/>
                </a:cubicBezTo>
                <a:cubicBezTo>
                  <a:pt x="19653" y="7514"/>
                  <a:pt x="19633" y="7593"/>
                  <a:pt x="19596" y="7640"/>
                </a:cubicBezTo>
                <a:cubicBezTo>
                  <a:pt x="19432" y="7849"/>
                  <a:pt x="19295" y="8081"/>
                  <a:pt x="19124" y="8285"/>
                </a:cubicBezTo>
                <a:cubicBezTo>
                  <a:pt x="19054" y="8368"/>
                  <a:pt x="18974" y="8459"/>
                  <a:pt x="18926" y="8558"/>
                </a:cubicBezTo>
                <a:cubicBezTo>
                  <a:pt x="18906" y="8600"/>
                  <a:pt x="18859" y="8754"/>
                  <a:pt x="18827" y="8781"/>
                </a:cubicBezTo>
                <a:cubicBezTo>
                  <a:pt x="18745" y="8850"/>
                  <a:pt x="18747" y="8830"/>
                  <a:pt x="18703" y="8930"/>
                </a:cubicBezTo>
              </a:path>
              <a:path w="3449" h="2953">
                <a:moveTo>
                  <a:pt x="19422" y="8806"/>
                </a:moveTo>
                <a:cubicBezTo>
                  <a:pt x="19376" y="8930"/>
                  <a:pt x="19362" y="8880"/>
                  <a:pt x="19298" y="8954"/>
                </a:cubicBezTo>
                <a:cubicBezTo>
                  <a:pt x="19252" y="9006"/>
                  <a:pt x="19217" y="9093"/>
                  <a:pt x="19174" y="9153"/>
                </a:cubicBezTo>
                <a:cubicBezTo>
                  <a:pt x="19110" y="9242"/>
                  <a:pt x="19043" y="9316"/>
                  <a:pt x="18976" y="9401"/>
                </a:cubicBezTo>
                <a:cubicBezTo>
                  <a:pt x="18891" y="9509"/>
                  <a:pt x="18764" y="9630"/>
                  <a:pt x="18703" y="9748"/>
                </a:cubicBezTo>
                <a:cubicBezTo>
                  <a:pt x="18649" y="9853"/>
                  <a:pt x="18599" y="9942"/>
                  <a:pt x="18529" y="10046"/>
                </a:cubicBezTo>
                <a:cubicBezTo>
                  <a:pt x="18496" y="10096"/>
                  <a:pt x="18462" y="10144"/>
                  <a:pt x="18430" y="10195"/>
                </a:cubicBezTo>
                <a:cubicBezTo>
                  <a:pt x="18411" y="10226"/>
                  <a:pt x="18369" y="10254"/>
                  <a:pt x="18355" y="10269"/>
                </a:cubicBezTo>
              </a:path>
              <a:path w="3449" h="2953">
                <a:moveTo>
                  <a:pt x="19621" y="7590"/>
                </a:moveTo>
                <a:cubicBezTo>
                  <a:pt x="19646" y="7660"/>
                  <a:pt x="19645" y="7713"/>
                  <a:pt x="19645" y="7789"/>
                </a:cubicBezTo>
                <a:cubicBezTo>
                  <a:pt x="19645" y="7871"/>
                  <a:pt x="19666" y="7932"/>
                  <a:pt x="19670" y="8012"/>
                </a:cubicBezTo>
                <a:cubicBezTo>
                  <a:pt x="19676" y="8146"/>
                  <a:pt x="19551" y="8505"/>
                  <a:pt x="19645" y="8409"/>
                </a:cubicBezTo>
                <a:cubicBezTo>
                  <a:pt x="19653" y="8392"/>
                  <a:pt x="19662" y="8376"/>
                  <a:pt x="19670" y="8359"/>
                </a:cubicBezTo>
              </a:path>
              <a:path w="3449" h="2953">
                <a:moveTo>
                  <a:pt x="19893" y="7689"/>
                </a:moveTo>
                <a:cubicBezTo>
                  <a:pt x="19893" y="7788"/>
                  <a:pt x="19872" y="7864"/>
                  <a:pt x="19869" y="7962"/>
                </a:cubicBezTo>
                <a:cubicBezTo>
                  <a:pt x="19865" y="8068"/>
                  <a:pt x="19852" y="8186"/>
                  <a:pt x="19893" y="8285"/>
                </a:cubicBezTo>
                <a:cubicBezTo>
                  <a:pt x="19914" y="8335"/>
                  <a:pt x="19945" y="8385"/>
                  <a:pt x="19993" y="8409"/>
                </a:cubicBezTo>
                <a:cubicBezTo>
                  <a:pt x="20027" y="8426"/>
                  <a:pt x="20174" y="8344"/>
                  <a:pt x="20191" y="8310"/>
                </a:cubicBezTo>
                <a:cubicBezTo>
                  <a:pt x="20234" y="8225"/>
                  <a:pt x="20241" y="8130"/>
                  <a:pt x="20241" y="8037"/>
                </a:cubicBezTo>
                <a:cubicBezTo>
                  <a:pt x="20241" y="7923"/>
                  <a:pt x="20210" y="7826"/>
                  <a:pt x="20141" y="7739"/>
                </a:cubicBezTo>
                <a:cubicBezTo>
                  <a:pt x="20110" y="7700"/>
                  <a:pt x="20016" y="7625"/>
                  <a:pt x="19968" y="7615"/>
                </a:cubicBezTo>
                <a:cubicBezTo>
                  <a:pt x="19910" y="7615"/>
                  <a:pt x="19902" y="7615"/>
                  <a:pt x="19869" y="7615"/>
                </a:cubicBezTo>
              </a:path>
              <a:path w="3449" h="2953">
                <a:moveTo>
                  <a:pt x="20365" y="7615"/>
                </a:moveTo>
                <a:cubicBezTo>
                  <a:pt x="20359" y="7723"/>
                  <a:pt x="20326" y="7814"/>
                  <a:pt x="20315" y="7913"/>
                </a:cubicBezTo>
                <a:cubicBezTo>
                  <a:pt x="20306" y="7995"/>
                  <a:pt x="20287" y="8169"/>
                  <a:pt x="20340" y="8235"/>
                </a:cubicBezTo>
                <a:cubicBezTo>
                  <a:pt x="20388" y="8294"/>
                  <a:pt x="20442" y="8304"/>
                  <a:pt x="20513" y="8260"/>
                </a:cubicBezTo>
                <a:cubicBezTo>
                  <a:pt x="20579" y="8219"/>
                  <a:pt x="20609" y="8158"/>
                  <a:pt x="20613" y="8086"/>
                </a:cubicBezTo>
                <a:cubicBezTo>
                  <a:pt x="20616" y="8030"/>
                  <a:pt x="20591" y="8010"/>
                  <a:pt x="20563" y="7962"/>
                </a:cubicBezTo>
                <a:cubicBezTo>
                  <a:pt x="20472" y="8011"/>
                  <a:pt x="20411" y="8028"/>
                  <a:pt x="20389" y="8136"/>
                </a:cubicBezTo>
                <a:cubicBezTo>
                  <a:pt x="20371" y="8224"/>
                  <a:pt x="20414" y="8261"/>
                  <a:pt x="20464" y="8310"/>
                </a:cubicBezTo>
              </a:path>
              <a:path w="3449" h="2953">
                <a:moveTo>
                  <a:pt x="20613" y="7640"/>
                </a:moveTo>
                <a:cubicBezTo>
                  <a:pt x="20673" y="7700"/>
                  <a:pt x="20711" y="7688"/>
                  <a:pt x="20786" y="7640"/>
                </a:cubicBezTo>
                <a:cubicBezTo>
                  <a:pt x="20837" y="7607"/>
                  <a:pt x="20865" y="7532"/>
                  <a:pt x="20836" y="7491"/>
                </a:cubicBezTo>
                <a:cubicBezTo>
                  <a:pt x="20794" y="7431"/>
                  <a:pt x="20691" y="7477"/>
                  <a:pt x="20638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Ink 75"/>
          <p:cNvSpPr/>
          <p:nvPr/>
        </p:nvSpPr>
        <p:spPr>
          <a:xfrm>
            <a:off x="6939000" y="3214800"/>
            <a:ext cx="312840" cy="428400"/>
          </a:xfrm>
          <a:custGeom>
            <a:avLst/>
            <a:gdLst/>
            <a:ahLst/>
            <a:rect l="l" t="t" r="r" b="b"/>
            <a:pathLst>
              <a:path w="869" h="1191">
                <a:moveTo>
                  <a:pt x="19372" y="9153"/>
                </a:moveTo>
                <a:cubicBezTo>
                  <a:pt x="19372" y="9236"/>
                  <a:pt x="19356" y="9336"/>
                  <a:pt x="19348" y="9401"/>
                </a:cubicBezTo>
                <a:cubicBezTo>
                  <a:pt x="19336" y="9499"/>
                  <a:pt x="19349" y="9604"/>
                  <a:pt x="19323" y="9699"/>
                </a:cubicBezTo>
                <a:cubicBezTo>
                  <a:pt x="19298" y="9791"/>
                  <a:pt x="19315" y="9877"/>
                  <a:pt x="19298" y="9971"/>
                </a:cubicBezTo>
                <a:cubicBezTo>
                  <a:pt x="19274" y="10044"/>
                  <a:pt x="19265" y="10068"/>
                  <a:pt x="19273" y="10120"/>
                </a:cubicBezTo>
              </a:path>
              <a:path w="869" h="1191">
                <a:moveTo>
                  <a:pt x="19596" y="9252"/>
                </a:moveTo>
                <a:cubicBezTo>
                  <a:pt x="19558" y="9356"/>
                  <a:pt x="19493" y="9452"/>
                  <a:pt x="19546" y="9550"/>
                </a:cubicBezTo>
                <a:cubicBezTo>
                  <a:pt x="19580" y="9613"/>
                  <a:pt x="19671" y="9626"/>
                  <a:pt x="19745" y="9599"/>
                </a:cubicBezTo>
                <a:cubicBezTo>
                  <a:pt x="19770" y="9583"/>
                  <a:pt x="19794" y="9566"/>
                  <a:pt x="19819" y="9550"/>
                </a:cubicBezTo>
              </a:path>
              <a:path w="869" h="1191">
                <a:moveTo>
                  <a:pt x="19844" y="9079"/>
                </a:moveTo>
                <a:cubicBezTo>
                  <a:pt x="19792" y="9164"/>
                  <a:pt x="19797" y="9271"/>
                  <a:pt x="19794" y="9376"/>
                </a:cubicBezTo>
                <a:cubicBezTo>
                  <a:pt x="19788" y="9578"/>
                  <a:pt x="19796" y="9775"/>
                  <a:pt x="19819" y="9971"/>
                </a:cubicBezTo>
                <a:cubicBezTo>
                  <a:pt x="19827" y="10043"/>
                  <a:pt x="19807" y="10169"/>
                  <a:pt x="19869" y="10046"/>
                </a:cubicBezTo>
              </a:path>
              <a:path w="869" h="1191">
                <a:moveTo>
                  <a:pt x="20017" y="9079"/>
                </a:moveTo>
                <a:cubicBezTo>
                  <a:pt x="20017" y="9189"/>
                  <a:pt x="19990" y="9212"/>
                  <a:pt x="20042" y="9252"/>
                </a:cubicBezTo>
                <a:cubicBezTo>
                  <a:pt x="20144" y="9208"/>
                  <a:pt x="20163" y="9160"/>
                  <a:pt x="20141" y="9029"/>
                </a:cubicBezTo>
                <a:cubicBezTo>
                  <a:pt x="20138" y="9010"/>
                  <a:pt x="20038" y="8936"/>
                  <a:pt x="20017" y="8930"/>
                </a:cubicBezTo>
                <a:cubicBezTo>
                  <a:pt x="19968" y="8930"/>
                  <a:pt x="19951" y="8930"/>
                  <a:pt x="19918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Ink 76"/>
          <p:cNvSpPr/>
          <p:nvPr/>
        </p:nvSpPr>
        <p:spPr>
          <a:xfrm>
            <a:off x="8197920" y="3268800"/>
            <a:ext cx="758880" cy="758520"/>
          </a:xfrm>
          <a:custGeom>
            <a:avLst/>
            <a:gdLst/>
            <a:ahLst/>
            <a:rect l="l" t="t" r="r" b="b"/>
            <a:pathLst>
              <a:path w="2109" h="2109">
                <a:moveTo>
                  <a:pt x="22796" y="9674"/>
                </a:moveTo>
                <a:cubicBezTo>
                  <a:pt x="22780" y="9618"/>
                  <a:pt x="22782" y="9570"/>
                  <a:pt x="22845" y="9525"/>
                </a:cubicBezTo>
                <a:cubicBezTo>
                  <a:pt x="22903" y="9483"/>
                  <a:pt x="22984" y="9502"/>
                  <a:pt x="23044" y="9475"/>
                </a:cubicBezTo>
                <a:cubicBezTo>
                  <a:pt x="23072" y="9447"/>
                  <a:pt x="23085" y="9439"/>
                  <a:pt x="23118" y="9451"/>
                </a:cubicBezTo>
                <a:cubicBezTo>
                  <a:pt x="23098" y="9504"/>
                  <a:pt x="23078" y="9576"/>
                  <a:pt x="23068" y="9624"/>
                </a:cubicBezTo>
                <a:cubicBezTo>
                  <a:pt x="23054" y="9694"/>
                  <a:pt x="23055" y="9786"/>
                  <a:pt x="23044" y="9847"/>
                </a:cubicBezTo>
                <a:cubicBezTo>
                  <a:pt x="23028" y="9934"/>
                  <a:pt x="23039" y="10034"/>
                  <a:pt x="23019" y="10120"/>
                </a:cubicBezTo>
                <a:cubicBezTo>
                  <a:pt x="23001" y="10199"/>
                  <a:pt x="22994" y="10263"/>
                  <a:pt x="22994" y="10344"/>
                </a:cubicBezTo>
                <a:cubicBezTo>
                  <a:pt x="22994" y="10410"/>
                  <a:pt x="22994" y="10443"/>
                  <a:pt x="22994" y="10368"/>
                </a:cubicBezTo>
              </a:path>
              <a:path w="2109" h="2109">
                <a:moveTo>
                  <a:pt x="23168" y="10269"/>
                </a:moveTo>
                <a:cubicBezTo>
                  <a:pt x="23186" y="10364"/>
                  <a:pt x="23199" y="10340"/>
                  <a:pt x="23242" y="10269"/>
                </a:cubicBezTo>
                <a:cubicBezTo>
                  <a:pt x="23305" y="10166"/>
                  <a:pt x="23222" y="10271"/>
                  <a:pt x="23192" y="10294"/>
                </a:cubicBezTo>
              </a:path>
              <a:path w="2109" h="2109">
                <a:moveTo>
                  <a:pt x="23391" y="9451"/>
                </a:moveTo>
                <a:cubicBezTo>
                  <a:pt x="23482" y="9451"/>
                  <a:pt x="23488" y="9427"/>
                  <a:pt x="23564" y="9401"/>
                </a:cubicBezTo>
                <a:cubicBezTo>
                  <a:pt x="23607" y="9387"/>
                  <a:pt x="23643" y="9383"/>
                  <a:pt x="23688" y="9376"/>
                </a:cubicBezTo>
              </a:path>
              <a:path w="2109" h="2109">
                <a:moveTo>
                  <a:pt x="23292" y="9451"/>
                </a:moveTo>
                <a:cubicBezTo>
                  <a:pt x="23270" y="9544"/>
                  <a:pt x="23249" y="9618"/>
                  <a:pt x="23292" y="9699"/>
                </a:cubicBezTo>
                <a:cubicBezTo>
                  <a:pt x="23355" y="9818"/>
                  <a:pt x="23367" y="9698"/>
                  <a:pt x="23440" y="9674"/>
                </a:cubicBezTo>
                <a:cubicBezTo>
                  <a:pt x="23536" y="9642"/>
                  <a:pt x="23547" y="9709"/>
                  <a:pt x="23614" y="9748"/>
                </a:cubicBezTo>
                <a:cubicBezTo>
                  <a:pt x="23619" y="9751"/>
                  <a:pt x="23681" y="9860"/>
                  <a:pt x="23688" y="9897"/>
                </a:cubicBezTo>
                <a:cubicBezTo>
                  <a:pt x="23702" y="9978"/>
                  <a:pt x="23713" y="10033"/>
                  <a:pt x="23713" y="10120"/>
                </a:cubicBezTo>
                <a:cubicBezTo>
                  <a:pt x="23713" y="10193"/>
                  <a:pt x="23698" y="10232"/>
                  <a:pt x="23664" y="10294"/>
                </a:cubicBezTo>
                <a:cubicBezTo>
                  <a:pt x="23629" y="10356"/>
                  <a:pt x="23560" y="10378"/>
                  <a:pt x="23515" y="10443"/>
                </a:cubicBezTo>
                <a:cubicBezTo>
                  <a:pt x="23469" y="10509"/>
                  <a:pt x="23447" y="10492"/>
                  <a:pt x="23366" y="10492"/>
                </a:cubicBezTo>
              </a:path>
              <a:path w="2109" h="2109">
                <a:moveTo>
                  <a:pt x="24383" y="9079"/>
                </a:moveTo>
                <a:cubicBezTo>
                  <a:pt x="24375" y="9176"/>
                  <a:pt x="24348" y="9214"/>
                  <a:pt x="24309" y="9302"/>
                </a:cubicBezTo>
                <a:cubicBezTo>
                  <a:pt x="24242" y="9453"/>
                  <a:pt x="24200" y="9619"/>
                  <a:pt x="24135" y="9773"/>
                </a:cubicBezTo>
                <a:cubicBezTo>
                  <a:pt x="24070" y="9925"/>
                  <a:pt x="24019" y="10058"/>
                  <a:pt x="23937" y="10195"/>
                </a:cubicBezTo>
                <a:cubicBezTo>
                  <a:pt x="23871" y="10305"/>
                  <a:pt x="23785" y="10479"/>
                  <a:pt x="23738" y="10592"/>
                </a:cubicBezTo>
                <a:cubicBezTo>
                  <a:pt x="23695" y="10694"/>
                  <a:pt x="23664" y="10859"/>
                  <a:pt x="23639" y="10964"/>
                </a:cubicBezTo>
                <a:cubicBezTo>
                  <a:pt x="23631" y="10996"/>
                  <a:pt x="23598" y="11183"/>
                  <a:pt x="23564" y="11187"/>
                </a:cubicBezTo>
                <a:cubicBezTo>
                  <a:pt x="23556" y="11170"/>
                  <a:pt x="23548" y="11154"/>
                  <a:pt x="23540" y="11137"/>
                </a:cubicBezTo>
              </a:path>
              <a:path w="2109" h="2109">
                <a:moveTo>
                  <a:pt x="24061" y="10418"/>
                </a:moveTo>
                <a:cubicBezTo>
                  <a:pt x="24077" y="10358"/>
                  <a:pt x="24083" y="10264"/>
                  <a:pt x="24135" y="10220"/>
                </a:cubicBezTo>
                <a:cubicBezTo>
                  <a:pt x="24152" y="10212"/>
                  <a:pt x="24168" y="10203"/>
                  <a:pt x="24185" y="10195"/>
                </a:cubicBezTo>
                <a:cubicBezTo>
                  <a:pt x="24254" y="10245"/>
                  <a:pt x="24259" y="10259"/>
                  <a:pt x="24259" y="10344"/>
                </a:cubicBezTo>
                <a:cubicBezTo>
                  <a:pt x="24259" y="10457"/>
                  <a:pt x="24244" y="10534"/>
                  <a:pt x="24209" y="10641"/>
                </a:cubicBezTo>
                <a:cubicBezTo>
                  <a:pt x="24180" y="10729"/>
                  <a:pt x="24140" y="10791"/>
                  <a:pt x="24085" y="10864"/>
                </a:cubicBezTo>
                <a:cubicBezTo>
                  <a:pt x="24054" y="10904"/>
                  <a:pt x="23973" y="10896"/>
                  <a:pt x="23961" y="10840"/>
                </a:cubicBezTo>
                <a:cubicBezTo>
                  <a:pt x="23961" y="10778"/>
                  <a:pt x="23952" y="10763"/>
                  <a:pt x="23986" y="10740"/>
                </a:cubicBezTo>
                <a:cubicBezTo>
                  <a:pt x="24052" y="10795"/>
                  <a:pt x="24020" y="10874"/>
                  <a:pt x="24085" y="10939"/>
                </a:cubicBezTo>
                <a:cubicBezTo>
                  <a:pt x="24093" y="10939"/>
                  <a:pt x="24102" y="10939"/>
                  <a:pt x="24110" y="10939"/>
                </a:cubicBezTo>
              </a:path>
              <a:path w="2109" h="2109">
                <a:moveTo>
                  <a:pt x="24284" y="10740"/>
                </a:moveTo>
                <a:cubicBezTo>
                  <a:pt x="24292" y="10740"/>
                  <a:pt x="24301" y="10740"/>
                  <a:pt x="24309" y="10740"/>
                </a:cubicBezTo>
              </a:path>
              <a:path w="2109" h="2109">
                <a:moveTo>
                  <a:pt x="24631" y="10195"/>
                </a:moveTo>
                <a:cubicBezTo>
                  <a:pt x="24721" y="10168"/>
                  <a:pt x="24797" y="10151"/>
                  <a:pt x="24879" y="10120"/>
                </a:cubicBezTo>
              </a:path>
              <a:path w="2109" h="2109">
                <a:moveTo>
                  <a:pt x="24482" y="10195"/>
                </a:moveTo>
                <a:cubicBezTo>
                  <a:pt x="24472" y="10215"/>
                  <a:pt x="24379" y="10390"/>
                  <a:pt x="24482" y="10368"/>
                </a:cubicBezTo>
                <a:cubicBezTo>
                  <a:pt x="24509" y="10362"/>
                  <a:pt x="24628" y="10306"/>
                  <a:pt x="24656" y="10344"/>
                </a:cubicBezTo>
                <a:cubicBezTo>
                  <a:pt x="24710" y="10417"/>
                  <a:pt x="24807" y="10555"/>
                  <a:pt x="24829" y="10641"/>
                </a:cubicBezTo>
                <a:cubicBezTo>
                  <a:pt x="24849" y="10720"/>
                  <a:pt x="24802" y="10743"/>
                  <a:pt x="24755" y="10790"/>
                </a:cubicBezTo>
                <a:cubicBezTo>
                  <a:pt x="24697" y="10848"/>
                  <a:pt x="24592" y="10865"/>
                  <a:pt x="24507" y="10840"/>
                </a:cubicBezTo>
                <a:cubicBezTo>
                  <a:pt x="24475" y="10830"/>
                  <a:pt x="24439" y="10809"/>
                  <a:pt x="24408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Ink 77"/>
          <p:cNvSpPr/>
          <p:nvPr/>
        </p:nvSpPr>
        <p:spPr>
          <a:xfrm>
            <a:off x="5776920" y="4037040"/>
            <a:ext cx="2117880" cy="884160"/>
          </a:xfrm>
          <a:custGeom>
            <a:avLst/>
            <a:gdLst/>
            <a:ahLst/>
            <a:rect l="l" t="t" r="r" b="b"/>
            <a:pathLst>
              <a:path w="5879" h="2456">
                <a:moveTo>
                  <a:pt x="16495" y="11633"/>
                </a:moveTo>
                <a:cubicBezTo>
                  <a:pt x="16495" y="11759"/>
                  <a:pt x="16481" y="11581"/>
                  <a:pt x="16470" y="11559"/>
                </a:cubicBezTo>
                <a:cubicBezTo>
                  <a:pt x="16449" y="11517"/>
                  <a:pt x="16308" y="11525"/>
                  <a:pt x="16272" y="11534"/>
                </a:cubicBezTo>
                <a:cubicBezTo>
                  <a:pt x="16205" y="11550"/>
                  <a:pt x="16146" y="11586"/>
                  <a:pt x="16098" y="11633"/>
                </a:cubicBezTo>
                <a:cubicBezTo>
                  <a:pt x="16047" y="11684"/>
                  <a:pt x="16040" y="11695"/>
                  <a:pt x="16073" y="11757"/>
                </a:cubicBezTo>
                <a:cubicBezTo>
                  <a:pt x="16112" y="11831"/>
                  <a:pt x="16197" y="11843"/>
                  <a:pt x="16272" y="11881"/>
                </a:cubicBezTo>
                <a:cubicBezTo>
                  <a:pt x="16336" y="11913"/>
                  <a:pt x="16386" y="11910"/>
                  <a:pt x="16446" y="11956"/>
                </a:cubicBezTo>
                <a:cubicBezTo>
                  <a:pt x="16499" y="11997"/>
                  <a:pt x="16526" y="12030"/>
                  <a:pt x="16570" y="12080"/>
                </a:cubicBezTo>
                <a:cubicBezTo>
                  <a:pt x="16611" y="12126"/>
                  <a:pt x="16569" y="12258"/>
                  <a:pt x="16520" y="12303"/>
                </a:cubicBezTo>
                <a:cubicBezTo>
                  <a:pt x="16446" y="12371"/>
                  <a:pt x="16386" y="12377"/>
                  <a:pt x="16297" y="12402"/>
                </a:cubicBezTo>
                <a:cubicBezTo>
                  <a:pt x="16233" y="12420"/>
                  <a:pt x="16143" y="12452"/>
                  <a:pt x="16073" y="12427"/>
                </a:cubicBezTo>
                <a:cubicBezTo>
                  <a:pt x="16051" y="12405"/>
                  <a:pt x="16043" y="12400"/>
                  <a:pt x="16049" y="12378"/>
                </a:cubicBezTo>
              </a:path>
              <a:path w="5879" h="2456">
                <a:moveTo>
                  <a:pt x="16743" y="12055"/>
                </a:moveTo>
                <a:cubicBezTo>
                  <a:pt x="16743" y="12141"/>
                  <a:pt x="16746" y="12185"/>
                  <a:pt x="16694" y="12254"/>
                </a:cubicBezTo>
                <a:cubicBezTo>
                  <a:pt x="16666" y="12291"/>
                  <a:pt x="16629" y="12283"/>
                  <a:pt x="16669" y="12303"/>
                </a:cubicBezTo>
              </a:path>
              <a:path w="5879" h="2456">
                <a:moveTo>
                  <a:pt x="16818" y="11733"/>
                </a:moveTo>
                <a:cubicBezTo>
                  <a:pt x="16773" y="11706"/>
                  <a:pt x="16770" y="11693"/>
                  <a:pt x="16743" y="11733"/>
                </a:cubicBezTo>
              </a:path>
              <a:path w="5879" h="2456">
                <a:moveTo>
                  <a:pt x="16892" y="12179"/>
                </a:moveTo>
                <a:cubicBezTo>
                  <a:pt x="16892" y="12196"/>
                  <a:pt x="16892" y="12212"/>
                  <a:pt x="16892" y="12229"/>
                </a:cubicBezTo>
                <a:cubicBezTo>
                  <a:pt x="16901" y="12166"/>
                  <a:pt x="16922" y="12093"/>
                  <a:pt x="16942" y="12030"/>
                </a:cubicBezTo>
                <a:cubicBezTo>
                  <a:pt x="16958" y="11978"/>
                  <a:pt x="16986" y="11894"/>
                  <a:pt x="17016" y="11857"/>
                </a:cubicBezTo>
                <a:cubicBezTo>
                  <a:pt x="17068" y="11793"/>
                  <a:pt x="17131" y="11855"/>
                  <a:pt x="17165" y="11906"/>
                </a:cubicBezTo>
                <a:cubicBezTo>
                  <a:pt x="17207" y="11968"/>
                  <a:pt x="17211" y="12081"/>
                  <a:pt x="17214" y="12154"/>
                </a:cubicBezTo>
                <a:cubicBezTo>
                  <a:pt x="17216" y="12195"/>
                  <a:pt x="17214" y="12237"/>
                  <a:pt x="17214" y="12278"/>
                </a:cubicBezTo>
              </a:path>
              <a:path w="5879" h="2456">
                <a:moveTo>
                  <a:pt x="17711" y="11435"/>
                </a:moveTo>
                <a:cubicBezTo>
                  <a:pt x="17684" y="11523"/>
                  <a:pt x="17643" y="11574"/>
                  <a:pt x="17611" y="11658"/>
                </a:cubicBezTo>
                <a:cubicBezTo>
                  <a:pt x="17581" y="11736"/>
                  <a:pt x="17566" y="11824"/>
                  <a:pt x="17562" y="11906"/>
                </a:cubicBezTo>
                <a:cubicBezTo>
                  <a:pt x="17559" y="11974"/>
                  <a:pt x="17566" y="12018"/>
                  <a:pt x="17587" y="12080"/>
                </a:cubicBezTo>
                <a:cubicBezTo>
                  <a:pt x="17689" y="12080"/>
                  <a:pt x="17678" y="12081"/>
                  <a:pt x="17735" y="12005"/>
                </a:cubicBezTo>
                <a:cubicBezTo>
                  <a:pt x="17774" y="11953"/>
                  <a:pt x="17811" y="11894"/>
                  <a:pt x="17835" y="11832"/>
                </a:cubicBezTo>
                <a:cubicBezTo>
                  <a:pt x="17863" y="11758"/>
                  <a:pt x="17869" y="11741"/>
                  <a:pt x="17835" y="11683"/>
                </a:cubicBezTo>
                <a:cubicBezTo>
                  <a:pt x="17765" y="11723"/>
                  <a:pt x="17757" y="11745"/>
                  <a:pt x="17711" y="11807"/>
                </a:cubicBezTo>
                <a:cubicBezTo>
                  <a:pt x="17671" y="11861"/>
                  <a:pt x="17636" y="11881"/>
                  <a:pt x="17661" y="11931"/>
                </a:cubicBezTo>
              </a:path>
              <a:path w="5879" h="2456">
                <a:moveTo>
                  <a:pt x="18256" y="11311"/>
                </a:moveTo>
                <a:cubicBezTo>
                  <a:pt x="18216" y="11381"/>
                  <a:pt x="18205" y="11435"/>
                  <a:pt x="18182" y="11509"/>
                </a:cubicBezTo>
                <a:cubicBezTo>
                  <a:pt x="18156" y="11591"/>
                  <a:pt x="18135" y="11675"/>
                  <a:pt x="18182" y="11757"/>
                </a:cubicBezTo>
                <a:cubicBezTo>
                  <a:pt x="18203" y="11793"/>
                  <a:pt x="18292" y="11860"/>
                  <a:pt x="18331" y="11857"/>
                </a:cubicBezTo>
                <a:cubicBezTo>
                  <a:pt x="18400" y="11852"/>
                  <a:pt x="18497" y="11737"/>
                  <a:pt x="18529" y="11683"/>
                </a:cubicBezTo>
                <a:cubicBezTo>
                  <a:pt x="18555" y="11640"/>
                  <a:pt x="18595" y="11534"/>
                  <a:pt x="18604" y="11485"/>
                </a:cubicBezTo>
                <a:cubicBezTo>
                  <a:pt x="18618" y="11407"/>
                  <a:pt x="18565" y="11349"/>
                  <a:pt x="18529" y="11286"/>
                </a:cubicBezTo>
                <a:cubicBezTo>
                  <a:pt x="18483" y="11205"/>
                  <a:pt x="18374" y="11219"/>
                  <a:pt x="18281" y="11212"/>
                </a:cubicBezTo>
              </a:path>
              <a:path w="5879" h="2456">
                <a:moveTo>
                  <a:pt x="16694" y="12229"/>
                </a:moveTo>
                <a:cubicBezTo>
                  <a:pt x="16803" y="12220"/>
                  <a:pt x="16903" y="12204"/>
                  <a:pt x="17016" y="12204"/>
                </a:cubicBezTo>
                <a:cubicBezTo>
                  <a:pt x="17121" y="12204"/>
                  <a:pt x="17212" y="12192"/>
                  <a:pt x="17314" y="12179"/>
                </a:cubicBezTo>
                <a:cubicBezTo>
                  <a:pt x="17462" y="12161"/>
                  <a:pt x="17613" y="12142"/>
                  <a:pt x="17760" y="12129"/>
                </a:cubicBezTo>
                <a:cubicBezTo>
                  <a:pt x="17878" y="12119"/>
                  <a:pt x="17987" y="12105"/>
                  <a:pt x="18107" y="12105"/>
                </a:cubicBezTo>
                <a:cubicBezTo>
                  <a:pt x="18182" y="12105"/>
                  <a:pt x="18234" y="12112"/>
                  <a:pt x="18306" y="12129"/>
                </a:cubicBezTo>
              </a:path>
              <a:path w="5879" h="2456">
                <a:moveTo>
                  <a:pt x="17661" y="12700"/>
                </a:moveTo>
                <a:cubicBezTo>
                  <a:pt x="17594" y="12633"/>
                  <a:pt x="17621" y="12635"/>
                  <a:pt x="17587" y="12551"/>
                </a:cubicBezTo>
                <a:cubicBezTo>
                  <a:pt x="17561" y="12486"/>
                  <a:pt x="17413" y="12488"/>
                  <a:pt x="17363" y="12502"/>
                </a:cubicBezTo>
                <a:cubicBezTo>
                  <a:pt x="17322" y="12514"/>
                  <a:pt x="17243" y="12599"/>
                  <a:pt x="17214" y="12626"/>
                </a:cubicBezTo>
                <a:cubicBezTo>
                  <a:pt x="17199" y="12640"/>
                  <a:pt x="17147" y="12727"/>
                  <a:pt x="17140" y="12750"/>
                </a:cubicBezTo>
                <a:cubicBezTo>
                  <a:pt x="17132" y="12777"/>
                  <a:pt x="17134" y="12904"/>
                  <a:pt x="17190" y="12898"/>
                </a:cubicBezTo>
                <a:cubicBezTo>
                  <a:pt x="17225" y="12894"/>
                  <a:pt x="17337" y="12835"/>
                  <a:pt x="17363" y="12799"/>
                </a:cubicBezTo>
                <a:cubicBezTo>
                  <a:pt x="17396" y="12753"/>
                  <a:pt x="17421" y="12716"/>
                  <a:pt x="17462" y="12675"/>
                </a:cubicBezTo>
                <a:cubicBezTo>
                  <a:pt x="17487" y="12650"/>
                  <a:pt x="17512" y="12626"/>
                  <a:pt x="17537" y="12601"/>
                </a:cubicBezTo>
                <a:cubicBezTo>
                  <a:pt x="17570" y="12656"/>
                  <a:pt x="17562" y="12706"/>
                  <a:pt x="17562" y="12774"/>
                </a:cubicBezTo>
                <a:cubicBezTo>
                  <a:pt x="17562" y="12865"/>
                  <a:pt x="17537" y="12921"/>
                  <a:pt x="17537" y="13022"/>
                </a:cubicBezTo>
                <a:cubicBezTo>
                  <a:pt x="17537" y="13140"/>
                  <a:pt x="17481" y="13242"/>
                  <a:pt x="17438" y="13345"/>
                </a:cubicBezTo>
                <a:cubicBezTo>
                  <a:pt x="17405" y="13425"/>
                  <a:pt x="17413" y="13514"/>
                  <a:pt x="17388" y="13593"/>
                </a:cubicBezTo>
                <a:cubicBezTo>
                  <a:pt x="17376" y="13629"/>
                  <a:pt x="17361" y="13616"/>
                  <a:pt x="17388" y="13643"/>
                </a:cubicBezTo>
              </a:path>
              <a:path w="5879" h="2456">
                <a:moveTo>
                  <a:pt x="18628" y="12129"/>
                </a:moveTo>
                <a:cubicBezTo>
                  <a:pt x="18718" y="12110"/>
                  <a:pt x="18786" y="12105"/>
                  <a:pt x="18876" y="12105"/>
                </a:cubicBezTo>
              </a:path>
              <a:path w="5879" h="2456">
                <a:moveTo>
                  <a:pt x="18628" y="12254"/>
                </a:moveTo>
                <a:cubicBezTo>
                  <a:pt x="18709" y="12267"/>
                  <a:pt x="18746" y="12263"/>
                  <a:pt x="18827" y="12254"/>
                </a:cubicBezTo>
              </a:path>
              <a:path w="5879" h="2456">
                <a:moveTo>
                  <a:pt x="19869" y="11534"/>
                </a:moveTo>
                <a:cubicBezTo>
                  <a:pt x="19816" y="11508"/>
                  <a:pt x="19790" y="11547"/>
                  <a:pt x="19720" y="11559"/>
                </a:cubicBezTo>
                <a:cubicBezTo>
                  <a:pt x="19658" y="11569"/>
                  <a:pt x="19622" y="11588"/>
                  <a:pt x="19571" y="11633"/>
                </a:cubicBezTo>
                <a:cubicBezTo>
                  <a:pt x="19563" y="11641"/>
                  <a:pt x="19554" y="11650"/>
                  <a:pt x="19546" y="11658"/>
                </a:cubicBezTo>
                <a:cubicBezTo>
                  <a:pt x="19582" y="11694"/>
                  <a:pt x="19618" y="11745"/>
                  <a:pt x="19670" y="11757"/>
                </a:cubicBezTo>
                <a:cubicBezTo>
                  <a:pt x="19729" y="11771"/>
                  <a:pt x="19798" y="11767"/>
                  <a:pt x="19844" y="11807"/>
                </a:cubicBezTo>
                <a:cubicBezTo>
                  <a:pt x="19875" y="11834"/>
                  <a:pt x="19982" y="11926"/>
                  <a:pt x="19943" y="11981"/>
                </a:cubicBezTo>
                <a:cubicBezTo>
                  <a:pt x="19934" y="11994"/>
                  <a:pt x="19839" y="12067"/>
                  <a:pt x="19819" y="12080"/>
                </a:cubicBezTo>
                <a:cubicBezTo>
                  <a:pt x="19767" y="12113"/>
                  <a:pt x="19708" y="12123"/>
                  <a:pt x="19670" y="12105"/>
                </a:cubicBezTo>
              </a:path>
              <a:path w="5879" h="2456">
                <a:moveTo>
                  <a:pt x="20092" y="11807"/>
                </a:moveTo>
                <a:cubicBezTo>
                  <a:pt x="20073" y="11907"/>
                  <a:pt x="20039" y="11993"/>
                  <a:pt x="20017" y="12080"/>
                </a:cubicBezTo>
              </a:path>
              <a:path w="5879" h="2456">
                <a:moveTo>
                  <a:pt x="20191" y="11385"/>
                </a:moveTo>
                <a:cubicBezTo>
                  <a:pt x="20183" y="11385"/>
                  <a:pt x="20174" y="11385"/>
                  <a:pt x="20166" y="11385"/>
                </a:cubicBezTo>
              </a:path>
              <a:path w="5879" h="2456">
                <a:moveTo>
                  <a:pt x="20241" y="11956"/>
                </a:moveTo>
                <a:cubicBezTo>
                  <a:pt x="20241" y="12005"/>
                  <a:pt x="20241" y="12022"/>
                  <a:pt x="20241" y="12055"/>
                </a:cubicBezTo>
                <a:cubicBezTo>
                  <a:pt x="20250" y="11982"/>
                  <a:pt x="20276" y="11870"/>
                  <a:pt x="20315" y="11807"/>
                </a:cubicBezTo>
                <a:cubicBezTo>
                  <a:pt x="20339" y="11769"/>
                  <a:pt x="20392" y="11657"/>
                  <a:pt x="20414" y="11633"/>
                </a:cubicBezTo>
                <a:cubicBezTo>
                  <a:pt x="20451" y="11593"/>
                  <a:pt x="20546" y="11598"/>
                  <a:pt x="20563" y="11658"/>
                </a:cubicBezTo>
                <a:cubicBezTo>
                  <a:pt x="20584" y="11730"/>
                  <a:pt x="20588" y="11803"/>
                  <a:pt x="20588" y="11881"/>
                </a:cubicBezTo>
                <a:cubicBezTo>
                  <a:pt x="20588" y="11946"/>
                  <a:pt x="20583" y="11999"/>
                  <a:pt x="20563" y="12055"/>
                </a:cubicBezTo>
                <a:cubicBezTo>
                  <a:pt x="20543" y="12095"/>
                  <a:pt x="20534" y="12102"/>
                  <a:pt x="20538" y="12129"/>
                </a:cubicBezTo>
              </a:path>
              <a:path w="5879" h="2456">
                <a:moveTo>
                  <a:pt x="20985" y="11385"/>
                </a:moveTo>
                <a:cubicBezTo>
                  <a:pt x="20955" y="11423"/>
                  <a:pt x="20905" y="11510"/>
                  <a:pt x="20910" y="11559"/>
                </a:cubicBezTo>
                <a:cubicBezTo>
                  <a:pt x="20920" y="11653"/>
                  <a:pt x="21019" y="11724"/>
                  <a:pt x="21109" y="11708"/>
                </a:cubicBezTo>
                <a:cubicBezTo>
                  <a:pt x="21135" y="11703"/>
                  <a:pt x="21185" y="11652"/>
                  <a:pt x="21208" y="11633"/>
                </a:cubicBezTo>
              </a:path>
              <a:path w="5879" h="2456">
                <a:moveTo>
                  <a:pt x="21258" y="11311"/>
                </a:moveTo>
                <a:cubicBezTo>
                  <a:pt x="21221" y="11411"/>
                  <a:pt x="21231" y="11485"/>
                  <a:pt x="21208" y="11584"/>
                </a:cubicBezTo>
                <a:cubicBezTo>
                  <a:pt x="21189" y="11668"/>
                  <a:pt x="21183" y="11741"/>
                  <a:pt x="21183" y="11832"/>
                </a:cubicBezTo>
                <a:cubicBezTo>
                  <a:pt x="21183" y="11923"/>
                  <a:pt x="21183" y="12014"/>
                  <a:pt x="21183" y="12105"/>
                </a:cubicBezTo>
              </a:path>
              <a:path w="5879" h="2456">
                <a:moveTo>
                  <a:pt x="21630" y="11261"/>
                </a:moveTo>
                <a:cubicBezTo>
                  <a:pt x="21624" y="11360"/>
                  <a:pt x="21627" y="11487"/>
                  <a:pt x="21605" y="11584"/>
                </a:cubicBezTo>
                <a:cubicBezTo>
                  <a:pt x="21589" y="11655"/>
                  <a:pt x="21550" y="11779"/>
                  <a:pt x="21580" y="11857"/>
                </a:cubicBezTo>
                <a:cubicBezTo>
                  <a:pt x="21610" y="11933"/>
                  <a:pt x="21650" y="11929"/>
                  <a:pt x="21704" y="11956"/>
                </a:cubicBezTo>
                <a:cubicBezTo>
                  <a:pt x="21757" y="11983"/>
                  <a:pt x="21803" y="11986"/>
                  <a:pt x="21853" y="11931"/>
                </a:cubicBezTo>
                <a:cubicBezTo>
                  <a:pt x="21919" y="11857"/>
                  <a:pt x="21922" y="11836"/>
                  <a:pt x="21903" y="11757"/>
                </a:cubicBezTo>
                <a:cubicBezTo>
                  <a:pt x="21848" y="11736"/>
                  <a:pt x="21784" y="11759"/>
                  <a:pt x="21729" y="11807"/>
                </a:cubicBezTo>
                <a:cubicBezTo>
                  <a:pt x="21670" y="11859"/>
                  <a:pt x="21615" y="11908"/>
                  <a:pt x="21555" y="11956"/>
                </a:cubicBezTo>
              </a:path>
              <a:path w="5879" h="2456">
                <a:moveTo>
                  <a:pt x="20067" y="12303"/>
                </a:moveTo>
                <a:cubicBezTo>
                  <a:pt x="20148" y="12325"/>
                  <a:pt x="20207" y="12328"/>
                  <a:pt x="20290" y="12328"/>
                </a:cubicBezTo>
                <a:cubicBezTo>
                  <a:pt x="20467" y="12328"/>
                  <a:pt x="20637" y="12324"/>
                  <a:pt x="20811" y="12303"/>
                </a:cubicBezTo>
                <a:cubicBezTo>
                  <a:pt x="20926" y="12289"/>
                  <a:pt x="21043" y="12265"/>
                  <a:pt x="21158" y="12254"/>
                </a:cubicBezTo>
                <a:cubicBezTo>
                  <a:pt x="21291" y="12241"/>
                  <a:pt x="21421" y="12217"/>
                  <a:pt x="21555" y="12204"/>
                </a:cubicBezTo>
                <a:cubicBezTo>
                  <a:pt x="21604" y="12199"/>
                  <a:pt x="21718" y="12251"/>
                  <a:pt x="21729" y="12254"/>
                </a:cubicBezTo>
              </a:path>
              <a:path w="5879" h="2456">
                <a:moveTo>
                  <a:pt x="21307" y="12477"/>
                </a:moveTo>
                <a:cubicBezTo>
                  <a:pt x="21270" y="12519"/>
                  <a:pt x="21242" y="12558"/>
                  <a:pt x="21208" y="12601"/>
                </a:cubicBezTo>
                <a:cubicBezTo>
                  <a:pt x="21149" y="12498"/>
                  <a:pt x="21157" y="12541"/>
                  <a:pt x="21059" y="12502"/>
                </a:cubicBezTo>
                <a:cubicBezTo>
                  <a:pt x="21018" y="12486"/>
                  <a:pt x="20944" y="12518"/>
                  <a:pt x="20886" y="12551"/>
                </a:cubicBezTo>
                <a:cubicBezTo>
                  <a:pt x="20823" y="12587"/>
                  <a:pt x="20830" y="12644"/>
                  <a:pt x="20811" y="12700"/>
                </a:cubicBezTo>
                <a:cubicBezTo>
                  <a:pt x="20782" y="12785"/>
                  <a:pt x="20777" y="12833"/>
                  <a:pt x="20811" y="12923"/>
                </a:cubicBezTo>
                <a:cubicBezTo>
                  <a:pt x="20852" y="13031"/>
                  <a:pt x="20895" y="13032"/>
                  <a:pt x="20985" y="13072"/>
                </a:cubicBezTo>
                <a:cubicBezTo>
                  <a:pt x="21059" y="13105"/>
                  <a:pt x="21128" y="13097"/>
                  <a:pt x="21208" y="13097"/>
                </a:cubicBezTo>
                <a:cubicBezTo>
                  <a:pt x="21258" y="13097"/>
                  <a:pt x="21274" y="13097"/>
                  <a:pt x="21307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Ink 78"/>
          <p:cNvSpPr/>
          <p:nvPr/>
        </p:nvSpPr>
        <p:spPr>
          <a:xfrm>
            <a:off x="4286160" y="4867200"/>
            <a:ext cx="1473120" cy="812880"/>
          </a:xfrm>
          <a:custGeom>
            <a:avLst/>
            <a:gdLst/>
            <a:ahLst/>
            <a:rect l="l" t="t" r="r" b="b"/>
            <a:pathLst>
              <a:path w="4094" h="2258">
                <a:moveTo>
                  <a:pt x="12328" y="13816"/>
                </a:moveTo>
                <a:cubicBezTo>
                  <a:pt x="12315" y="13725"/>
                  <a:pt x="12298" y="13742"/>
                  <a:pt x="12204" y="13742"/>
                </a:cubicBezTo>
                <a:cubicBezTo>
                  <a:pt x="12136" y="13742"/>
                  <a:pt x="12051" y="13768"/>
                  <a:pt x="12030" y="13841"/>
                </a:cubicBezTo>
                <a:cubicBezTo>
                  <a:pt x="12003" y="13934"/>
                  <a:pt x="12087" y="13943"/>
                  <a:pt x="12129" y="13990"/>
                </a:cubicBezTo>
                <a:cubicBezTo>
                  <a:pt x="12199" y="14068"/>
                  <a:pt x="12259" y="14146"/>
                  <a:pt x="12303" y="14238"/>
                </a:cubicBezTo>
                <a:cubicBezTo>
                  <a:pt x="12324" y="14282"/>
                  <a:pt x="12389" y="14412"/>
                  <a:pt x="12278" y="14412"/>
                </a:cubicBezTo>
                <a:cubicBezTo>
                  <a:pt x="12223" y="14412"/>
                  <a:pt x="12110" y="14380"/>
                  <a:pt x="12055" y="14362"/>
                </a:cubicBezTo>
                <a:cubicBezTo>
                  <a:pt x="12033" y="14355"/>
                  <a:pt x="11903" y="14299"/>
                  <a:pt x="11906" y="14263"/>
                </a:cubicBezTo>
                <a:cubicBezTo>
                  <a:pt x="11914" y="14246"/>
                  <a:pt x="11923" y="14230"/>
                  <a:pt x="11931" y="14213"/>
                </a:cubicBezTo>
              </a:path>
              <a:path w="4094" h="2258">
                <a:moveTo>
                  <a:pt x="12576" y="14064"/>
                </a:moveTo>
                <a:cubicBezTo>
                  <a:pt x="12576" y="14141"/>
                  <a:pt x="12616" y="14351"/>
                  <a:pt x="12526" y="14263"/>
                </a:cubicBezTo>
              </a:path>
              <a:path w="4094" h="2258">
                <a:moveTo>
                  <a:pt x="12576" y="13543"/>
                </a:moveTo>
                <a:cubicBezTo>
                  <a:pt x="12617" y="13560"/>
                  <a:pt x="12659" y="13576"/>
                  <a:pt x="12700" y="13593"/>
                </a:cubicBezTo>
              </a:path>
              <a:path w="4094" h="2258">
                <a:moveTo>
                  <a:pt x="12725" y="14139"/>
                </a:moveTo>
                <a:cubicBezTo>
                  <a:pt x="12717" y="14164"/>
                  <a:pt x="12708" y="14188"/>
                  <a:pt x="12700" y="14213"/>
                </a:cubicBezTo>
                <a:cubicBezTo>
                  <a:pt x="12723" y="14122"/>
                  <a:pt x="12729" y="14046"/>
                  <a:pt x="12774" y="13965"/>
                </a:cubicBezTo>
                <a:cubicBezTo>
                  <a:pt x="12840" y="13846"/>
                  <a:pt x="12869" y="13855"/>
                  <a:pt x="12973" y="13915"/>
                </a:cubicBezTo>
                <a:cubicBezTo>
                  <a:pt x="13046" y="13958"/>
                  <a:pt x="13062" y="14029"/>
                  <a:pt x="13072" y="14114"/>
                </a:cubicBezTo>
                <a:cubicBezTo>
                  <a:pt x="13082" y="14200"/>
                  <a:pt x="13097" y="14273"/>
                  <a:pt x="13097" y="14362"/>
                </a:cubicBezTo>
                <a:cubicBezTo>
                  <a:pt x="13097" y="14354"/>
                  <a:pt x="13097" y="14345"/>
                  <a:pt x="13097" y="14337"/>
                </a:cubicBezTo>
              </a:path>
              <a:path w="4094" h="2258">
                <a:moveTo>
                  <a:pt x="13395" y="13742"/>
                </a:moveTo>
                <a:cubicBezTo>
                  <a:pt x="13339" y="13908"/>
                  <a:pt x="13249" y="14029"/>
                  <a:pt x="13320" y="14188"/>
                </a:cubicBezTo>
                <a:cubicBezTo>
                  <a:pt x="13350" y="14255"/>
                  <a:pt x="13405" y="14301"/>
                  <a:pt x="13469" y="14263"/>
                </a:cubicBezTo>
                <a:cubicBezTo>
                  <a:pt x="13530" y="14227"/>
                  <a:pt x="13592" y="14171"/>
                  <a:pt x="13568" y="14089"/>
                </a:cubicBezTo>
                <a:cubicBezTo>
                  <a:pt x="13560" y="14081"/>
                  <a:pt x="13551" y="14072"/>
                  <a:pt x="13543" y="14064"/>
                </a:cubicBezTo>
                <a:cubicBezTo>
                  <a:pt x="13501" y="14088"/>
                  <a:pt x="13419" y="14148"/>
                  <a:pt x="13469" y="14213"/>
                </a:cubicBezTo>
                <a:cubicBezTo>
                  <a:pt x="13486" y="14221"/>
                  <a:pt x="13502" y="14230"/>
                  <a:pt x="13519" y="14238"/>
                </a:cubicBezTo>
              </a:path>
              <a:path w="4094" h="2258">
                <a:moveTo>
                  <a:pt x="13767" y="13841"/>
                </a:moveTo>
                <a:cubicBezTo>
                  <a:pt x="13689" y="13996"/>
                  <a:pt x="13609" y="14072"/>
                  <a:pt x="13717" y="14213"/>
                </a:cubicBezTo>
                <a:cubicBezTo>
                  <a:pt x="13798" y="14319"/>
                  <a:pt x="13859" y="14386"/>
                  <a:pt x="13990" y="14337"/>
                </a:cubicBezTo>
                <a:cubicBezTo>
                  <a:pt x="14082" y="14303"/>
                  <a:pt x="14148" y="14178"/>
                  <a:pt x="14163" y="14089"/>
                </a:cubicBezTo>
                <a:cubicBezTo>
                  <a:pt x="14179" y="13997"/>
                  <a:pt x="14157" y="13884"/>
                  <a:pt x="14089" y="13816"/>
                </a:cubicBezTo>
                <a:cubicBezTo>
                  <a:pt x="14043" y="13770"/>
                  <a:pt x="13879" y="13730"/>
                  <a:pt x="13841" y="13717"/>
                </a:cubicBezTo>
              </a:path>
              <a:path w="4094" h="2258">
                <a:moveTo>
                  <a:pt x="12105" y="14536"/>
                </a:moveTo>
                <a:cubicBezTo>
                  <a:pt x="12387" y="14536"/>
                  <a:pt x="12668" y="14527"/>
                  <a:pt x="12948" y="14511"/>
                </a:cubicBezTo>
                <a:cubicBezTo>
                  <a:pt x="13117" y="14501"/>
                  <a:pt x="13277" y="14532"/>
                  <a:pt x="13444" y="14536"/>
                </a:cubicBezTo>
                <a:cubicBezTo>
                  <a:pt x="13545" y="14539"/>
                  <a:pt x="13656" y="14557"/>
                  <a:pt x="13742" y="14536"/>
                </a:cubicBezTo>
              </a:path>
              <a:path w="4094" h="2258">
                <a:moveTo>
                  <a:pt x="13047" y="15056"/>
                </a:moveTo>
                <a:cubicBezTo>
                  <a:pt x="13113" y="15019"/>
                  <a:pt x="13164" y="14981"/>
                  <a:pt x="13196" y="14908"/>
                </a:cubicBezTo>
                <a:cubicBezTo>
                  <a:pt x="13234" y="14821"/>
                  <a:pt x="13234" y="14741"/>
                  <a:pt x="13122" y="14709"/>
                </a:cubicBezTo>
                <a:cubicBezTo>
                  <a:pt x="13056" y="14690"/>
                  <a:pt x="12927" y="14745"/>
                  <a:pt x="12874" y="14784"/>
                </a:cubicBezTo>
                <a:cubicBezTo>
                  <a:pt x="12821" y="14823"/>
                  <a:pt x="12758" y="14938"/>
                  <a:pt x="12774" y="15007"/>
                </a:cubicBezTo>
                <a:cubicBezTo>
                  <a:pt x="12790" y="15076"/>
                  <a:pt x="12856" y="15157"/>
                  <a:pt x="12923" y="15180"/>
                </a:cubicBezTo>
                <a:cubicBezTo>
                  <a:pt x="12968" y="15196"/>
                  <a:pt x="13065" y="15156"/>
                  <a:pt x="13097" y="15131"/>
                </a:cubicBezTo>
                <a:cubicBezTo>
                  <a:pt x="13138" y="15098"/>
                  <a:pt x="13180" y="15065"/>
                  <a:pt x="13221" y="15032"/>
                </a:cubicBezTo>
                <a:cubicBezTo>
                  <a:pt x="13212" y="15162"/>
                  <a:pt x="13177" y="15276"/>
                  <a:pt x="13146" y="15404"/>
                </a:cubicBezTo>
                <a:cubicBezTo>
                  <a:pt x="13115" y="15529"/>
                  <a:pt x="13063" y="15652"/>
                  <a:pt x="13047" y="15776"/>
                </a:cubicBezTo>
              </a:path>
              <a:path w="4094" h="2258">
                <a:moveTo>
                  <a:pt x="13841" y="14560"/>
                </a:moveTo>
                <a:cubicBezTo>
                  <a:pt x="13967" y="14560"/>
                  <a:pt x="14067" y="14581"/>
                  <a:pt x="14188" y="14585"/>
                </a:cubicBezTo>
                <a:cubicBezTo>
                  <a:pt x="14213" y="14585"/>
                  <a:pt x="14238" y="14585"/>
                  <a:pt x="14263" y="14585"/>
                </a:cubicBezTo>
              </a:path>
              <a:path w="4094" h="2258">
                <a:moveTo>
                  <a:pt x="13940" y="14784"/>
                </a:moveTo>
                <a:cubicBezTo>
                  <a:pt x="14006" y="14810"/>
                  <a:pt x="14081" y="14822"/>
                  <a:pt x="14139" y="14858"/>
                </a:cubicBezTo>
                <a:cubicBezTo>
                  <a:pt x="14187" y="14888"/>
                  <a:pt x="14190" y="14879"/>
                  <a:pt x="14213" y="14833"/>
                </a:cubicBezTo>
              </a:path>
              <a:path w="4094" h="2258">
                <a:moveTo>
                  <a:pt x="14957" y="14114"/>
                </a:moveTo>
                <a:cubicBezTo>
                  <a:pt x="14907" y="14080"/>
                  <a:pt x="14815" y="14016"/>
                  <a:pt x="14759" y="14089"/>
                </a:cubicBezTo>
                <a:cubicBezTo>
                  <a:pt x="14721" y="14138"/>
                  <a:pt x="14736" y="14216"/>
                  <a:pt x="14759" y="14263"/>
                </a:cubicBezTo>
                <a:cubicBezTo>
                  <a:pt x="14800" y="14345"/>
                  <a:pt x="14873" y="14404"/>
                  <a:pt x="14908" y="14486"/>
                </a:cubicBezTo>
                <a:cubicBezTo>
                  <a:pt x="14928" y="14546"/>
                  <a:pt x="14946" y="14561"/>
                  <a:pt x="14908" y="14585"/>
                </a:cubicBezTo>
                <a:cubicBezTo>
                  <a:pt x="14818" y="14585"/>
                  <a:pt x="14802" y="14593"/>
                  <a:pt x="14759" y="14511"/>
                </a:cubicBezTo>
                <a:cubicBezTo>
                  <a:pt x="14699" y="14398"/>
                  <a:pt x="14710" y="14372"/>
                  <a:pt x="14734" y="14238"/>
                </a:cubicBezTo>
              </a:path>
              <a:path w="4094" h="2258">
                <a:moveTo>
                  <a:pt x="15081" y="14188"/>
                </a:moveTo>
                <a:cubicBezTo>
                  <a:pt x="15081" y="14198"/>
                  <a:pt x="15101" y="14483"/>
                  <a:pt x="15056" y="14436"/>
                </a:cubicBezTo>
              </a:path>
              <a:path w="4094" h="2258">
                <a:moveTo>
                  <a:pt x="15131" y="13618"/>
                </a:moveTo>
                <a:cubicBezTo>
                  <a:pt x="15147" y="13626"/>
                  <a:pt x="15164" y="13635"/>
                  <a:pt x="15180" y="13643"/>
                </a:cubicBezTo>
              </a:path>
              <a:path w="4094" h="2258">
                <a:moveTo>
                  <a:pt x="15230" y="14139"/>
                </a:moveTo>
                <a:cubicBezTo>
                  <a:pt x="15222" y="14180"/>
                  <a:pt x="15213" y="14222"/>
                  <a:pt x="15205" y="14263"/>
                </a:cubicBezTo>
                <a:cubicBezTo>
                  <a:pt x="15205" y="14182"/>
                  <a:pt x="15218" y="14114"/>
                  <a:pt x="15230" y="14039"/>
                </a:cubicBezTo>
                <a:cubicBezTo>
                  <a:pt x="15240" y="13976"/>
                  <a:pt x="15262" y="13944"/>
                  <a:pt x="15304" y="13891"/>
                </a:cubicBezTo>
                <a:cubicBezTo>
                  <a:pt x="15363" y="13963"/>
                  <a:pt x="15359" y="14004"/>
                  <a:pt x="15379" y="14089"/>
                </a:cubicBezTo>
                <a:cubicBezTo>
                  <a:pt x="15395" y="14158"/>
                  <a:pt x="15430" y="14236"/>
                  <a:pt x="15478" y="14288"/>
                </a:cubicBezTo>
                <a:cubicBezTo>
                  <a:pt x="15500" y="14310"/>
                  <a:pt x="15509" y="14321"/>
                  <a:pt x="15503" y="14288"/>
                </a:cubicBezTo>
              </a:path>
              <a:path w="4094" h="2258">
                <a:moveTo>
                  <a:pt x="15652" y="13692"/>
                </a:moveTo>
                <a:cubicBezTo>
                  <a:pt x="15645" y="13825"/>
                  <a:pt x="15640" y="13915"/>
                  <a:pt x="15652" y="14039"/>
                </a:cubicBezTo>
                <a:cubicBezTo>
                  <a:pt x="15661" y="14131"/>
                  <a:pt x="15655" y="14401"/>
                  <a:pt x="15677" y="14312"/>
                </a:cubicBezTo>
                <a:cubicBezTo>
                  <a:pt x="15685" y="14271"/>
                  <a:pt x="15693" y="14229"/>
                  <a:pt x="15701" y="14188"/>
                </a:cubicBezTo>
              </a:path>
              <a:path w="4094" h="2258">
                <a:moveTo>
                  <a:pt x="15751" y="13742"/>
                </a:moveTo>
                <a:cubicBezTo>
                  <a:pt x="15797" y="13834"/>
                  <a:pt x="15851" y="13891"/>
                  <a:pt x="15925" y="13965"/>
                </a:cubicBezTo>
              </a:path>
              <a:path w="4094" h="2258">
                <a:moveTo>
                  <a:pt x="15999" y="13519"/>
                </a:moveTo>
                <a:cubicBezTo>
                  <a:pt x="15955" y="13687"/>
                  <a:pt x="15929" y="13840"/>
                  <a:pt x="15925" y="14015"/>
                </a:cubicBezTo>
                <a:cubicBezTo>
                  <a:pt x="15921" y="14169"/>
                  <a:pt x="15972" y="14316"/>
                  <a:pt x="15925" y="14461"/>
                </a:cubicBezTo>
              </a:path>
              <a:path w="4094" h="2258">
                <a:moveTo>
                  <a:pt x="14883" y="14560"/>
                </a:moveTo>
                <a:cubicBezTo>
                  <a:pt x="15091" y="14560"/>
                  <a:pt x="15296" y="14554"/>
                  <a:pt x="15503" y="14585"/>
                </a:cubicBezTo>
                <a:cubicBezTo>
                  <a:pt x="15621" y="14603"/>
                  <a:pt x="15730" y="14610"/>
                  <a:pt x="15850" y="14610"/>
                </a:cubicBezTo>
                <a:cubicBezTo>
                  <a:pt x="15858" y="14610"/>
                  <a:pt x="15867" y="14610"/>
                  <a:pt x="15875" y="14610"/>
                </a:cubicBezTo>
              </a:path>
              <a:path w="4094" h="2258">
                <a:moveTo>
                  <a:pt x="15404" y="14982"/>
                </a:moveTo>
                <a:cubicBezTo>
                  <a:pt x="15429" y="14999"/>
                  <a:pt x="15453" y="15015"/>
                  <a:pt x="15478" y="15032"/>
                </a:cubicBezTo>
                <a:cubicBezTo>
                  <a:pt x="15526" y="14971"/>
                  <a:pt x="15548" y="14931"/>
                  <a:pt x="15503" y="14858"/>
                </a:cubicBezTo>
                <a:cubicBezTo>
                  <a:pt x="15460" y="14788"/>
                  <a:pt x="15321" y="14795"/>
                  <a:pt x="15255" y="14808"/>
                </a:cubicBezTo>
                <a:cubicBezTo>
                  <a:pt x="15154" y="14828"/>
                  <a:pt x="15103" y="14969"/>
                  <a:pt x="15106" y="15056"/>
                </a:cubicBezTo>
                <a:cubicBezTo>
                  <a:pt x="15110" y="15175"/>
                  <a:pt x="15199" y="15287"/>
                  <a:pt x="15280" y="15354"/>
                </a:cubicBezTo>
                <a:cubicBezTo>
                  <a:pt x="15364" y="15423"/>
                  <a:pt x="15423" y="15510"/>
                  <a:pt x="15528" y="15553"/>
                </a:cubicBezTo>
                <a:cubicBezTo>
                  <a:pt x="15627" y="15594"/>
                  <a:pt x="15699" y="15600"/>
                  <a:pt x="15726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Ink 79"/>
          <p:cNvSpPr/>
          <p:nvPr/>
        </p:nvSpPr>
        <p:spPr>
          <a:xfrm>
            <a:off x="6259680" y="4894200"/>
            <a:ext cx="741240" cy="446040"/>
          </a:xfrm>
          <a:custGeom>
            <a:avLst/>
            <a:gdLst/>
            <a:ahLst/>
            <a:rect l="l" t="t" r="r" b="b"/>
            <a:pathLst>
              <a:path w="2060" h="1241">
                <a:moveTo>
                  <a:pt x="17785" y="14213"/>
                </a:moveTo>
                <a:cubicBezTo>
                  <a:pt x="17852" y="14280"/>
                  <a:pt x="17746" y="14174"/>
                  <a:pt x="17735" y="14163"/>
                </a:cubicBezTo>
                <a:cubicBezTo>
                  <a:pt x="17701" y="14129"/>
                  <a:pt x="17668" y="14070"/>
                  <a:pt x="17611" y="14089"/>
                </a:cubicBezTo>
                <a:cubicBezTo>
                  <a:pt x="17574" y="14102"/>
                  <a:pt x="17530" y="14183"/>
                  <a:pt x="17512" y="14213"/>
                </a:cubicBezTo>
                <a:cubicBezTo>
                  <a:pt x="17477" y="14271"/>
                  <a:pt x="17471" y="14326"/>
                  <a:pt x="17438" y="14387"/>
                </a:cubicBezTo>
                <a:cubicBezTo>
                  <a:pt x="17402" y="14456"/>
                  <a:pt x="17392" y="14558"/>
                  <a:pt x="17388" y="14635"/>
                </a:cubicBezTo>
                <a:cubicBezTo>
                  <a:pt x="17383" y="14727"/>
                  <a:pt x="17378" y="14753"/>
                  <a:pt x="17438" y="14808"/>
                </a:cubicBezTo>
                <a:cubicBezTo>
                  <a:pt x="17506" y="14870"/>
                  <a:pt x="17562" y="14799"/>
                  <a:pt x="17636" y="14784"/>
                </a:cubicBezTo>
                <a:cubicBezTo>
                  <a:pt x="17697" y="14771"/>
                  <a:pt x="17702" y="14768"/>
                  <a:pt x="17760" y="14734"/>
                </a:cubicBezTo>
              </a:path>
              <a:path w="2060" h="1241">
                <a:moveTo>
                  <a:pt x="17934" y="14238"/>
                </a:moveTo>
                <a:cubicBezTo>
                  <a:pt x="17989" y="14205"/>
                  <a:pt x="18039" y="14213"/>
                  <a:pt x="18107" y="14213"/>
                </a:cubicBezTo>
                <a:cubicBezTo>
                  <a:pt x="18124" y="14213"/>
                  <a:pt x="18140" y="14213"/>
                  <a:pt x="18157" y="14213"/>
                </a:cubicBezTo>
              </a:path>
              <a:path w="2060" h="1241">
                <a:moveTo>
                  <a:pt x="17959" y="14362"/>
                </a:moveTo>
                <a:cubicBezTo>
                  <a:pt x="17951" y="14370"/>
                  <a:pt x="17942" y="14379"/>
                  <a:pt x="17934" y="14387"/>
                </a:cubicBezTo>
                <a:cubicBezTo>
                  <a:pt x="18003" y="14387"/>
                  <a:pt x="18051" y="14392"/>
                  <a:pt x="18107" y="14362"/>
                </a:cubicBezTo>
                <a:cubicBezTo>
                  <a:pt x="18124" y="14354"/>
                  <a:pt x="18140" y="14345"/>
                  <a:pt x="18157" y="14337"/>
                </a:cubicBezTo>
              </a:path>
              <a:path w="2060" h="1241">
                <a:moveTo>
                  <a:pt x="18331" y="13841"/>
                </a:moveTo>
                <a:cubicBezTo>
                  <a:pt x="18406" y="13841"/>
                  <a:pt x="18460" y="13827"/>
                  <a:pt x="18529" y="13816"/>
                </a:cubicBezTo>
                <a:cubicBezTo>
                  <a:pt x="18598" y="13805"/>
                  <a:pt x="18642" y="13832"/>
                  <a:pt x="18703" y="13841"/>
                </a:cubicBezTo>
                <a:cubicBezTo>
                  <a:pt x="18703" y="13910"/>
                  <a:pt x="18708" y="13959"/>
                  <a:pt x="18678" y="14015"/>
                </a:cubicBezTo>
                <a:cubicBezTo>
                  <a:pt x="18638" y="14088"/>
                  <a:pt x="18639" y="14172"/>
                  <a:pt x="18604" y="14238"/>
                </a:cubicBezTo>
                <a:cubicBezTo>
                  <a:pt x="18581" y="14282"/>
                  <a:pt x="18541" y="14368"/>
                  <a:pt x="18529" y="14412"/>
                </a:cubicBezTo>
                <a:cubicBezTo>
                  <a:pt x="18512" y="14475"/>
                  <a:pt x="18489" y="14570"/>
                  <a:pt x="18479" y="14635"/>
                </a:cubicBezTo>
                <a:cubicBezTo>
                  <a:pt x="18476" y="14652"/>
                  <a:pt x="18431" y="14807"/>
                  <a:pt x="18479" y="14808"/>
                </a:cubicBezTo>
                <a:cubicBezTo>
                  <a:pt x="18479" y="14800"/>
                  <a:pt x="18479" y="14792"/>
                  <a:pt x="18479" y="14784"/>
                </a:cubicBezTo>
              </a:path>
              <a:path w="2060" h="1241">
                <a:moveTo>
                  <a:pt x="18728" y="14461"/>
                </a:moveTo>
                <a:cubicBezTo>
                  <a:pt x="18722" y="14506"/>
                  <a:pt x="18656" y="14630"/>
                  <a:pt x="18728" y="14536"/>
                </a:cubicBezTo>
                <a:cubicBezTo>
                  <a:pt x="18703" y="14560"/>
                  <a:pt x="18694" y="14568"/>
                  <a:pt x="18678" y="14585"/>
                </a:cubicBezTo>
              </a:path>
              <a:path w="2060" h="1241">
                <a:moveTo>
                  <a:pt x="19100" y="13742"/>
                </a:moveTo>
                <a:cubicBezTo>
                  <a:pt x="19161" y="13669"/>
                  <a:pt x="19232" y="13661"/>
                  <a:pt x="19323" y="13618"/>
                </a:cubicBezTo>
                <a:cubicBezTo>
                  <a:pt x="19372" y="13594"/>
                  <a:pt x="19394" y="13593"/>
                  <a:pt x="19447" y="13593"/>
                </a:cubicBezTo>
              </a:path>
              <a:path w="2060" h="1241">
                <a:moveTo>
                  <a:pt x="19000" y="13742"/>
                </a:moveTo>
                <a:cubicBezTo>
                  <a:pt x="18951" y="13792"/>
                  <a:pt x="18930" y="13819"/>
                  <a:pt x="18926" y="13891"/>
                </a:cubicBezTo>
                <a:cubicBezTo>
                  <a:pt x="18922" y="13961"/>
                  <a:pt x="18954" y="13993"/>
                  <a:pt x="19000" y="14039"/>
                </a:cubicBezTo>
                <a:cubicBezTo>
                  <a:pt x="19031" y="14009"/>
                  <a:pt x="19085" y="13951"/>
                  <a:pt x="19124" y="13940"/>
                </a:cubicBezTo>
                <a:cubicBezTo>
                  <a:pt x="19171" y="13927"/>
                  <a:pt x="19290" y="13980"/>
                  <a:pt x="19323" y="14015"/>
                </a:cubicBezTo>
                <a:cubicBezTo>
                  <a:pt x="19361" y="14055"/>
                  <a:pt x="19394" y="14137"/>
                  <a:pt x="19397" y="14188"/>
                </a:cubicBezTo>
                <a:cubicBezTo>
                  <a:pt x="19400" y="14234"/>
                  <a:pt x="19377" y="14303"/>
                  <a:pt x="19348" y="14337"/>
                </a:cubicBezTo>
                <a:cubicBezTo>
                  <a:pt x="19310" y="14381"/>
                  <a:pt x="19265" y="14420"/>
                  <a:pt x="19224" y="14461"/>
                </a:cubicBezTo>
                <a:cubicBezTo>
                  <a:pt x="19174" y="14511"/>
                  <a:pt x="19128" y="14533"/>
                  <a:pt x="19075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Ink 80"/>
          <p:cNvSpPr/>
          <p:nvPr/>
        </p:nvSpPr>
        <p:spPr>
          <a:xfrm>
            <a:off x="250920" y="108000"/>
            <a:ext cx="955440" cy="1500120"/>
          </a:xfrm>
          <a:custGeom>
            <a:avLst/>
            <a:gdLst/>
            <a:ahLst/>
            <a:rect l="l" t="t" r="r" b="b"/>
            <a:pathLst>
              <a:path w="2655" h="4168">
                <a:moveTo>
                  <a:pt x="1761" y="1265"/>
                </a:moveTo>
                <a:cubicBezTo>
                  <a:pt x="1788" y="1338"/>
                  <a:pt x="1826" y="1434"/>
                  <a:pt x="1836" y="1513"/>
                </a:cubicBezTo>
                <a:cubicBezTo>
                  <a:pt x="1867" y="1755"/>
                  <a:pt x="1851" y="2017"/>
                  <a:pt x="1836" y="2257"/>
                </a:cubicBezTo>
                <a:cubicBezTo>
                  <a:pt x="1820" y="2517"/>
                  <a:pt x="1854" y="2771"/>
                  <a:pt x="1836" y="3026"/>
                </a:cubicBezTo>
                <a:cubicBezTo>
                  <a:pt x="1821" y="3239"/>
                  <a:pt x="1807" y="3458"/>
                  <a:pt x="1786" y="3671"/>
                </a:cubicBezTo>
                <a:cubicBezTo>
                  <a:pt x="1768" y="3846"/>
                  <a:pt x="1735" y="4040"/>
                  <a:pt x="1761" y="4217"/>
                </a:cubicBezTo>
                <a:cubicBezTo>
                  <a:pt x="1773" y="4303"/>
                  <a:pt x="1786" y="4376"/>
                  <a:pt x="1786" y="4465"/>
                </a:cubicBezTo>
              </a:path>
              <a:path w="2655" h="4168">
                <a:moveTo>
                  <a:pt x="769" y="2952"/>
                </a:moveTo>
                <a:cubicBezTo>
                  <a:pt x="692" y="3018"/>
                  <a:pt x="728" y="2963"/>
                  <a:pt x="695" y="3051"/>
                </a:cubicBezTo>
                <a:cubicBezTo>
                  <a:pt x="828" y="3040"/>
                  <a:pt x="958" y="2989"/>
                  <a:pt x="1091" y="2977"/>
                </a:cubicBezTo>
                <a:cubicBezTo>
                  <a:pt x="1283" y="2959"/>
                  <a:pt x="1468" y="2906"/>
                  <a:pt x="1662" y="2877"/>
                </a:cubicBezTo>
                <a:cubicBezTo>
                  <a:pt x="1880" y="2844"/>
                  <a:pt x="2090" y="2850"/>
                  <a:pt x="2307" y="2828"/>
                </a:cubicBezTo>
                <a:cubicBezTo>
                  <a:pt x="2476" y="2811"/>
                  <a:pt x="2611" y="2814"/>
                  <a:pt x="2778" y="2828"/>
                </a:cubicBezTo>
                <a:cubicBezTo>
                  <a:pt x="2877" y="2836"/>
                  <a:pt x="2927" y="2828"/>
                  <a:pt x="3026" y="2828"/>
                </a:cubicBezTo>
              </a:path>
              <a:path w="2655" h="4168">
                <a:moveTo>
                  <a:pt x="1786" y="2877"/>
                </a:moveTo>
                <a:cubicBezTo>
                  <a:pt x="1813" y="2806"/>
                  <a:pt x="1813" y="2718"/>
                  <a:pt x="1860" y="2654"/>
                </a:cubicBezTo>
                <a:cubicBezTo>
                  <a:pt x="1962" y="2515"/>
                  <a:pt x="1982" y="2392"/>
                  <a:pt x="2059" y="2232"/>
                </a:cubicBezTo>
                <a:cubicBezTo>
                  <a:pt x="2131" y="2081"/>
                  <a:pt x="2206" y="1934"/>
                  <a:pt x="2282" y="1786"/>
                </a:cubicBezTo>
                <a:cubicBezTo>
                  <a:pt x="2370" y="1615"/>
                  <a:pt x="2449" y="1453"/>
                  <a:pt x="2555" y="1290"/>
                </a:cubicBezTo>
                <a:cubicBezTo>
                  <a:pt x="2604" y="1215"/>
                  <a:pt x="2661" y="1145"/>
                  <a:pt x="2704" y="1067"/>
                </a:cubicBezTo>
                <a:cubicBezTo>
                  <a:pt x="2723" y="1034"/>
                  <a:pt x="2722" y="1029"/>
                  <a:pt x="2729" y="992"/>
                </a:cubicBezTo>
              </a:path>
              <a:path w="2655" h="4168">
                <a:moveTo>
                  <a:pt x="2456" y="769"/>
                </a:moveTo>
                <a:cubicBezTo>
                  <a:pt x="2502" y="686"/>
                  <a:pt x="2517" y="685"/>
                  <a:pt x="2604" y="645"/>
                </a:cubicBezTo>
                <a:cubicBezTo>
                  <a:pt x="2662" y="619"/>
                  <a:pt x="2734" y="568"/>
                  <a:pt x="2803" y="595"/>
                </a:cubicBezTo>
                <a:cubicBezTo>
                  <a:pt x="2871" y="621"/>
                  <a:pt x="2832" y="776"/>
                  <a:pt x="2828" y="819"/>
                </a:cubicBezTo>
                <a:cubicBezTo>
                  <a:pt x="2821" y="895"/>
                  <a:pt x="2841" y="957"/>
                  <a:pt x="2853" y="1017"/>
                </a:cubicBezTo>
                <a:cubicBezTo>
                  <a:pt x="2853" y="1034"/>
                  <a:pt x="2853" y="1050"/>
                  <a:pt x="2853" y="1067"/>
                </a:cubicBezTo>
              </a:path>
              <a:path w="2655" h="4168">
                <a:moveTo>
                  <a:pt x="2902" y="571"/>
                </a:moveTo>
                <a:cubicBezTo>
                  <a:pt x="2971" y="708"/>
                  <a:pt x="2955" y="733"/>
                  <a:pt x="3101" y="695"/>
                </a:cubicBezTo>
              </a:path>
              <a:path w="2655" h="4168">
                <a:moveTo>
                  <a:pt x="3150" y="397"/>
                </a:moveTo>
                <a:cubicBezTo>
                  <a:pt x="3150" y="415"/>
                  <a:pt x="3125" y="869"/>
                  <a:pt x="3175" y="868"/>
                </a:cubicBezTo>
                <a:cubicBezTo>
                  <a:pt x="3175" y="860"/>
                  <a:pt x="3175" y="851"/>
                  <a:pt x="3175" y="843"/>
                </a:cubicBezTo>
              </a:path>
              <a:path w="2655" h="4168">
                <a:moveTo>
                  <a:pt x="3324" y="397"/>
                </a:moveTo>
                <a:cubicBezTo>
                  <a:pt x="3373" y="397"/>
                  <a:pt x="3349" y="375"/>
                  <a:pt x="3349" y="298"/>
                </a:cubicBezTo>
                <a:cubicBezTo>
                  <a:pt x="3313" y="360"/>
                  <a:pt x="3312" y="361"/>
                  <a:pt x="3249" y="3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Ink 81"/>
          <p:cNvSpPr/>
          <p:nvPr/>
        </p:nvSpPr>
        <p:spPr>
          <a:xfrm>
            <a:off x="241200" y="88920"/>
            <a:ext cx="393840" cy="893880"/>
          </a:xfrm>
          <a:custGeom>
            <a:avLst/>
            <a:gdLst/>
            <a:ahLst/>
            <a:rect l="l" t="t" r="r" b="b"/>
            <a:pathLst>
              <a:path w="1092" h="2482">
                <a:moveTo>
                  <a:pt x="1761" y="2729"/>
                </a:moveTo>
                <a:cubicBezTo>
                  <a:pt x="1730" y="2652"/>
                  <a:pt x="1695" y="2582"/>
                  <a:pt x="1662" y="2505"/>
                </a:cubicBezTo>
                <a:cubicBezTo>
                  <a:pt x="1610" y="2384"/>
                  <a:pt x="1584" y="2256"/>
                  <a:pt x="1513" y="2133"/>
                </a:cubicBezTo>
                <a:cubicBezTo>
                  <a:pt x="1440" y="2008"/>
                  <a:pt x="1399" y="1884"/>
                  <a:pt x="1315" y="1761"/>
                </a:cubicBezTo>
                <a:cubicBezTo>
                  <a:pt x="1252" y="1668"/>
                  <a:pt x="1209" y="1578"/>
                  <a:pt x="1141" y="1488"/>
                </a:cubicBezTo>
                <a:cubicBezTo>
                  <a:pt x="1107" y="1443"/>
                  <a:pt x="1064" y="1348"/>
                  <a:pt x="1017" y="1315"/>
                </a:cubicBezTo>
                <a:cubicBezTo>
                  <a:pt x="960" y="1275"/>
                  <a:pt x="973" y="1283"/>
                  <a:pt x="943" y="1240"/>
                </a:cubicBezTo>
              </a:path>
              <a:path w="1092" h="2482">
                <a:moveTo>
                  <a:pt x="670" y="719"/>
                </a:moveTo>
                <a:cubicBezTo>
                  <a:pt x="688" y="805"/>
                  <a:pt x="693" y="910"/>
                  <a:pt x="719" y="992"/>
                </a:cubicBezTo>
                <a:cubicBezTo>
                  <a:pt x="738" y="1053"/>
                  <a:pt x="755" y="1109"/>
                  <a:pt x="769" y="1166"/>
                </a:cubicBezTo>
              </a:path>
              <a:path w="1092" h="2482">
                <a:moveTo>
                  <a:pt x="794" y="645"/>
                </a:moveTo>
                <a:cubicBezTo>
                  <a:pt x="828" y="792"/>
                  <a:pt x="848" y="908"/>
                  <a:pt x="943" y="992"/>
                </a:cubicBezTo>
                <a:cubicBezTo>
                  <a:pt x="977" y="897"/>
                  <a:pt x="992" y="845"/>
                  <a:pt x="992" y="744"/>
                </a:cubicBezTo>
                <a:cubicBezTo>
                  <a:pt x="992" y="650"/>
                  <a:pt x="973" y="622"/>
                  <a:pt x="893" y="645"/>
                </a:cubicBezTo>
              </a:path>
              <a:path w="1092" h="2482">
                <a:moveTo>
                  <a:pt x="1091" y="397"/>
                </a:moveTo>
                <a:cubicBezTo>
                  <a:pt x="1091" y="519"/>
                  <a:pt x="1071" y="656"/>
                  <a:pt x="1116" y="769"/>
                </a:cubicBezTo>
                <a:cubicBezTo>
                  <a:pt x="1145" y="841"/>
                  <a:pt x="1233" y="841"/>
                  <a:pt x="1290" y="794"/>
                </a:cubicBezTo>
                <a:cubicBezTo>
                  <a:pt x="1339" y="754"/>
                  <a:pt x="1405" y="691"/>
                  <a:pt x="1389" y="620"/>
                </a:cubicBezTo>
                <a:cubicBezTo>
                  <a:pt x="1367" y="577"/>
                  <a:pt x="1363" y="565"/>
                  <a:pt x="1339" y="546"/>
                </a:cubicBezTo>
                <a:cubicBezTo>
                  <a:pt x="1300" y="596"/>
                  <a:pt x="1239" y="673"/>
                  <a:pt x="1265" y="744"/>
                </a:cubicBezTo>
                <a:cubicBezTo>
                  <a:pt x="1273" y="744"/>
                  <a:pt x="1282" y="744"/>
                  <a:pt x="1290" y="744"/>
                </a:cubicBezTo>
              </a:path>
              <a:path w="1092" h="2482">
                <a:moveTo>
                  <a:pt x="1290" y="298"/>
                </a:moveTo>
                <a:cubicBezTo>
                  <a:pt x="1303" y="386"/>
                  <a:pt x="1323" y="381"/>
                  <a:pt x="1389" y="322"/>
                </a:cubicBezTo>
                <a:cubicBezTo>
                  <a:pt x="1397" y="314"/>
                  <a:pt x="1406" y="306"/>
                  <a:pt x="1414" y="298"/>
                </a:cubicBezTo>
                <a:cubicBezTo>
                  <a:pt x="1414" y="193"/>
                  <a:pt x="1316" y="315"/>
                  <a:pt x="1265" y="3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Ink 82"/>
          <p:cNvSpPr/>
          <p:nvPr/>
        </p:nvSpPr>
        <p:spPr>
          <a:xfrm>
            <a:off x="1982880" y="3268800"/>
            <a:ext cx="3133800" cy="731880"/>
          </a:xfrm>
          <a:custGeom>
            <a:avLst/>
            <a:gdLst/>
            <a:ahLst/>
            <a:rect l="l" t="t" r="r" b="b"/>
            <a:pathLst>
              <a:path w="8707" h="2034">
                <a:moveTo>
                  <a:pt x="6102" y="9227"/>
                </a:moveTo>
                <a:cubicBezTo>
                  <a:pt x="6095" y="9321"/>
                  <a:pt x="6080" y="9405"/>
                  <a:pt x="6077" y="9500"/>
                </a:cubicBezTo>
                <a:cubicBezTo>
                  <a:pt x="6072" y="9657"/>
                  <a:pt x="6057" y="9820"/>
                  <a:pt x="6052" y="9971"/>
                </a:cubicBezTo>
                <a:cubicBezTo>
                  <a:pt x="6048" y="10100"/>
                  <a:pt x="6043" y="10220"/>
                  <a:pt x="6028" y="10344"/>
                </a:cubicBezTo>
                <a:cubicBezTo>
                  <a:pt x="6022" y="10393"/>
                  <a:pt x="6011" y="10441"/>
                  <a:pt x="6003" y="10492"/>
                </a:cubicBezTo>
                <a:cubicBezTo>
                  <a:pt x="5991" y="10440"/>
                  <a:pt x="5962" y="10397"/>
                  <a:pt x="5953" y="10344"/>
                </a:cubicBezTo>
                <a:cubicBezTo>
                  <a:pt x="5924" y="10178"/>
                  <a:pt x="5966" y="10088"/>
                  <a:pt x="5978" y="9922"/>
                </a:cubicBezTo>
                <a:cubicBezTo>
                  <a:pt x="5987" y="9796"/>
                  <a:pt x="5983" y="9674"/>
                  <a:pt x="6003" y="9550"/>
                </a:cubicBezTo>
                <a:cubicBezTo>
                  <a:pt x="6019" y="9450"/>
                  <a:pt x="6030" y="9245"/>
                  <a:pt x="6127" y="9178"/>
                </a:cubicBezTo>
                <a:cubicBezTo>
                  <a:pt x="6180" y="9141"/>
                  <a:pt x="6214" y="9172"/>
                  <a:pt x="6276" y="9153"/>
                </a:cubicBezTo>
                <a:cubicBezTo>
                  <a:pt x="6527" y="9076"/>
                  <a:pt x="6913" y="9160"/>
                  <a:pt x="7169" y="9153"/>
                </a:cubicBezTo>
                <a:cubicBezTo>
                  <a:pt x="7536" y="9143"/>
                  <a:pt x="7901" y="9125"/>
                  <a:pt x="8260" y="9103"/>
                </a:cubicBezTo>
                <a:cubicBezTo>
                  <a:pt x="8548" y="9085"/>
                  <a:pt x="8840" y="9082"/>
                  <a:pt x="9128" y="9079"/>
                </a:cubicBezTo>
                <a:cubicBezTo>
                  <a:pt x="10427" y="9065"/>
                  <a:pt x="11758" y="9014"/>
                  <a:pt x="13047" y="9153"/>
                </a:cubicBezTo>
                <a:cubicBezTo>
                  <a:pt x="13264" y="9176"/>
                  <a:pt x="13439" y="9208"/>
                  <a:pt x="13643" y="9252"/>
                </a:cubicBezTo>
                <a:cubicBezTo>
                  <a:pt x="13742" y="9273"/>
                  <a:pt x="13961" y="9287"/>
                  <a:pt x="14015" y="9376"/>
                </a:cubicBezTo>
                <a:cubicBezTo>
                  <a:pt x="14047" y="9429"/>
                  <a:pt x="14027" y="9514"/>
                  <a:pt x="14039" y="9599"/>
                </a:cubicBezTo>
                <a:cubicBezTo>
                  <a:pt x="14057" y="9722"/>
                  <a:pt x="14072" y="9850"/>
                  <a:pt x="14089" y="9971"/>
                </a:cubicBezTo>
                <a:cubicBezTo>
                  <a:pt x="14115" y="10152"/>
                  <a:pt x="14139" y="10333"/>
                  <a:pt x="14163" y="10517"/>
                </a:cubicBezTo>
                <a:cubicBezTo>
                  <a:pt x="14178" y="10633"/>
                  <a:pt x="14181" y="10746"/>
                  <a:pt x="14188" y="10864"/>
                </a:cubicBezTo>
                <a:cubicBezTo>
                  <a:pt x="14193" y="10957"/>
                  <a:pt x="14197" y="10978"/>
                  <a:pt x="14188" y="11063"/>
                </a:cubicBezTo>
                <a:cubicBezTo>
                  <a:pt x="14180" y="11071"/>
                  <a:pt x="14171" y="11080"/>
                  <a:pt x="14163" y="11088"/>
                </a:cubicBezTo>
                <a:cubicBezTo>
                  <a:pt x="14065" y="11084"/>
                  <a:pt x="14000" y="11079"/>
                  <a:pt x="13891" y="11063"/>
                </a:cubicBezTo>
                <a:cubicBezTo>
                  <a:pt x="13801" y="11050"/>
                  <a:pt x="13708" y="11050"/>
                  <a:pt x="13618" y="11038"/>
                </a:cubicBezTo>
                <a:cubicBezTo>
                  <a:pt x="13509" y="11024"/>
                  <a:pt x="13404" y="11018"/>
                  <a:pt x="13295" y="11013"/>
                </a:cubicBezTo>
                <a:cubicBezTo>
                  <a:pt x="12470" y="10977"/>
                  <a:pt x="11638" y="10987"/>
                  <a:pt x="10815" y="10964"/>
                </a:cubicBezTo>
                <a:cubicBezTo>
                  <a:pt x="10500" y="10955"/>
                  <a:pt x="10186" y="10966"/>
                  <a:pt x="9872" y="10939"/>
                </a:cubicBezTo>
                <a:cubicBezTo>
                  <a:pt x="9542" y="10910"/>
                  <a:pt x="9210" y="10919"/>
                  <a:pt x="8880" y="10889"/>
                </a:cubicBezTo>
                <a:cubicBezTo>
                  <a:pt x="8625" y="10866"/>
                  <a:pt x="8367" y="10830"/>
                  <a:pt x="8111" y="10815"/>
                </a:cubicBezTo>
                <a:cubicBezTo>
                  <a:pt x="7788" y="10797"/>
                  <a:pt x="7467" y="10766"/>
                  <a:pt x="7144" y="10740"/>
                </a:cubicBezTo>
                <a:cubicBezTo>
                  <a:pt x="6882" y="10719"/>
                  <a:pt x="6610" y="10726"/>
                  <a:pt x="6350" y="10691"/>
                </a:cubicBezTo>
                <a:cubicBezTo>
                  <a:pt x="6190" y="10670"/>
                  <a:pt x="6047" y="10646"/>
                  <a:pt x="5879" y="10641"/>
                </a:cubicBezTo>
                <a:cubicBezTo>
                  <a:pt x="5790" y="10638"/>
                  <a:pt x="5543" y="10641"/>
                  <a:pt x="5531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Ink 83"/>
          <p:cNvSpPr/>
          <p:nvPr/>
        </p:nvSpPr>
        <p:spPr>
          <a:xfrm>
            <a:off x="2081160" y="3786120"/>
            <a:ext cx="2874960" cy="884160"/>
          </a:xfrm>
          <a:custGeom>
            <a:avLst/>
            <a:gdLst/>
            <a:ahLst/>
            <a:rect l="l" t="t" r="r" b="b"/>
            <a:pathLst>
              <a:path w="7989" h="2457">
                <a:moveTo>
                  <a:pt x="5854" y="10517"/>
                </a:moveTo>
                <a:cubicBezTo>
                  <a:pt x="5846" y="10594"/>
                  <a:pt x="5833" y="10666"/>
                  <a:pt x="5829" y="10740"/>
                </a:cubicBezTo>
                <a:cubicBezTo>
                  <a:pt x="5806" y="11185"/>
                  <a:pt x="5811" y="11637"/>
                  <a:pt x="5804" y="12080"/>
                </a:cubicBezTo>
                <a:cubicBezTo>
                  <a:pt x="5803" y="12158"/>
                  <a:pt x="5791" y="12219"/>
                  <a:pt x="5804" y="12303"/>
                </a:cubicBezTo>
                <a:cubicBezTo>
                  <a:pt x="5804" y="12348"/>
                  <a:pt x="5801" y="12361"/>
                  <a:pt x="5829" y="12378"/>
                </a:cubicBezTo>
                <a:cubicBezTo>
                  <a:pt x="5884" y="12376"/>
                  <a:pt x="5933" y="12384"/>
                  <a:pt x="6003" y="12378"/>
                </a:cubicBezTo>
                <a:cubicBezTo>
                  <a:pt x="6048" y="12374"/>
                  <a:pt x="6117" y="12356"/>
                  <a:pt x="6176" y="12353"/>
                </a:cubicBezTo>
                <a:cubicBezTo>
                  <a:pt x="6297" y="12348"/>
                  <a:pt x="6407" y="12365"/>
                  <a:pt x="6524" y="12378"/>
                </a:cubicBezTo>
                <a:cubicBezTo>
                  <a:pt x="6679" y="12395"/>
                  <a:pt x="6837" y="12433"/>
                  <a:pt x="6995" y="12452"/>
                </a:cubicBezTo>
                <a:cubicBezTo>
                  <a:pt x="7159" y="12471"/>
                  <a:pt x="7326" y="12486"/>
                  <a:pt x="7491" y="12502"/>
                </a:cubicBezTo>
                <a:cubicBezTo>
                  <a:pt x="7706" y="12523"/>
                  <a:pt x="7921" y="12556"/>
                  <a:pt x="8136" y="12576"/>
                </a:cubicBezTo>
                <a:cubicBezTo>
                  <a:pt x="8343" y="12595"/>
                  <a:pt x="8549" y="12611"/>
                  <a:pt x="8756" y="12626"/>
                </a:cubicBezTo>
                <a:cubicBezTo>
                  <a:pt x="9043" y="12647"/>
                  <a:pt x="9336" y="12644"/>
                  <a:pt x="9624" y="12675"/>
                </a:cubicBezTo>
                <a:cubicBezTo>
                  <a:pt x="9856" y="12700"/>
                  <a:pt x="10087" y="12724"/>
                  <a:pt x="10319" y="12750"/>
                </a:cubicBezTo>
                <a:cubicBezTo>
                  <a:pt x="10626" y="12785"/>
                  <a:pt x="10929" y="12834"/>
                  <a:pt x="11237" y="12849"/>
                </a:cubicBezTo>
                <a:cubicBezTo>
                  <a:pt x="11469" y="12860"/>
                  <a:pt x="11700" y="12888"/>
                  <a:pt x="11931" y="12898"/>
                </a:cubicBezTo>
                <a:cubicBezTo>
                  <a:pt x="12194" y="12909"/>
                  <a:pt x="12462" y="12976"/>
                  <a:pt x="12725" y="12973"/>
                </a:cubicBezTo>
                <a:cubicBezTo>
                  <a:pt x="12870" y="12971"/>
                  <a:pt x="13004" y="12942"/>
                  <a:pt x="13146" y="12923"/>
                </a:cubicBezTo>
                <a:cubicBezTo>
                  <a:pt x="13246" y="12910"/>
                  <a:pt x="13373" y="12901"/>
                  <a:pt x="13469" y="12874"/>
                </a:cubicBezTo>
                <a:cubicBezTo>
                  <a:pt x="13569" y="12845"/>
                  <a:pt x="13677" y="12785"/>
                  <a:pt x="13767" y="12750"/>
                </a:cubicBezTo>
                <a:cubicBezTo>
                  <a:pt x="13757" y="12710"/>
                  <a:pt x="13697" y="12669"/>
                  <a:pt x="13692" y="12626"/>
                </a:cubicBezTo>
                <a:cubicBezTo>
                  <a:pt x="13680" y="12520"/>
                  <a:pt x="13672" y="12408"/>
                  <a:pt x="13667" y="12303"/>
                </a:cubicBezTo>
                <a:cubicBezTo>
                  <a:pt x="13658" y="12128"/>
                  <a:pt x="13650" y="11954"/>
                  <a:pt x="13643" y="11782"/>
                </a:cubicBezTo>
                <a:cubicBezTo>
                  <a:pt x="13638" y="11654"/>
                  <a:pt x="13633" y="11535"/>
                  <a:pt x="13618" y="11410"/>
                </a:cubicBezTo>
                <a:cubicBezTo>
                  <a:pt x="13611" y="11354"/>
                  <a:pt x="13598" y="11146"/>
                  <a:pt x="13568" y="11088"/>
                </a:cubicBezTo>
                <a:cubicBezTo>
                  <a:pt x="13530" y="11015"/>
                  <a:pt x="13481" y="11027"/>
                  <a:pt x="13469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e5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Determine the number of solutions and solve the triangle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= 94</a:t>
            </a:r>
            <a:r>
              <a:rPr b="0" lang="en-US" sz="4000" spc="-1" strike="noStrike">
                <a:solidFill>
                  <a:srgbClr val="e5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, a = 15 and b = 16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10" name="Ink 3"/>
          <p:cNvSpPr/>
          <p:nvPr/>
        </p:nvSpPr>
        <p:spPr>
          <a:xfrm>
            <a:off x="588960" y="2313000"/>
            <a:ext cx="1974960" cy="1581120"/>
          </a:xfrm>
          <a:custGeom>
            <a:avLst/>
            <a:gdLst/>
            <a:ahLst/>
            <a:rect l="l" t="t" r="r" b="b"/>
            <a:pathLst>
              <a:path w="5483" h="4392">
                <a:moveTo>
                  <a:pt x="3175" y="6623"/>
                </a:moveTo>
                <a:cubicBezTo>
                  <a:pt x="3171" y="6659"/>
                  <a:pt x="3171" y="6708"/>
                  <a:pt x="3150" y="6772"/>
                </a:cubicBezTo>
                <a:cubicBezTo>
                  <a:pt x="3119" y="6867"/>
                  <a:pt x="3103" y="6950"/>
                  <a:pt x="3076" y="7045"/>
                </a:cubicBezTo>
                <a:cubicBezTo>
                  <a:pt x="3042" y="7164"/>
                  <a:pt x="2991" y="7276"/>
                  <a:pt x="2952" y="7392"/>
                </a:cubicBezTo>
                <a:cubicBezTo>
                  <a:pt x="2893" y="7570"/>
                  <a:pt x="2856" y="7759"/>
                  <a:pt x="2803" y="7938"/>
                </a:cubicBezTo>
                <a:cubicBezTo>
                  <a:pt x="2748" y="8122"/>
                  <a:pt x="2687" y="8299"/>
                  <a:pt x="2629" y="8483"/>
                </a:cubicBezTo>
                <a:cubicBezTo>
                  <a:pt x="2568" y="8677"/>
                  <a:pt x="2504" y="8891"/>
                  <a:pt x="2431" y="9079"/>
                </a:cubicBezTo>
                <a:cubicBezTo>
                  <a:pt x="2341" y="9312"/>
                  <a:pt x="2229" y="9541"/>
                  <a:pt x="2133" y="9773"/>
                </a:cubicBezTo>
                <a:cubicBezTo>
                  <a:pt x="2066" y="9935"/>
                  <a:pt x="1990" y="10103"/>
                  <a:pt x="1935" y="10269"/>
                </a:cubicBezTo>
                <a:cubicBezTo>
                  <a:pt x="1884" y="10422"/>
                  <a:pt x="1837" y="10575"/>
                  <a:pt x="1761" y="10716"/>
                </a:cubicBezTo>
                <a:cubicBezTo>
                  <a:pt x="1732" y="10771"/>
                  <a:pt x="1715" y="10823"/>
                  <a:pt x="1662" y="10790"/>
                </a:cubicBezTo>
                <a:cubicBezTo>
                  <a:pt x="1662" y="10765"/>
                  <a:pt x="1662" y="10741"/>
                  <a:pt x="1662" y="10716"/>
                </a:cubicBezTo>
              </a:path>
              <a:path w="5483" h="4392">
                <a:moveTo>
                  <a:pt x="3249" y="6424"/>
                </a:moveTo>
                <a:cubicBezTo>
                  <a:pt x="3291" y="6481"/>
                  <a:pt x="3328" y="6542"/>
                  <a:pt x="3373" y="6598"/>
                </a:cubicBezTo>
                <a:cubicBezTo>
                  <a:pt x="3405" y="6638"/>
                  <a:pt x="3459" y="6705"/>
                  <a:pt x="3497" y="6747"/>
                </a:cubicBezTo>
                <a:cubicBezTo>
                  <a:pt x="3621" y="6881"/>
                  <a:pt x="3742" y="7013"/>
                  <a:pt x="3870" y="7144"/>
                </a:cubicBezTo>
                <a:cubicBezTo>
                  <a:pt x="3966" y="7242"/>
                  <a:pt x="4089" y="7347"/>
                  <a:pt x="4167" y="7441"/>
                </a:cubicBezTo>
                <a:cubicBezTo>
                  <a:pt x="4256" y="7548"/>
                  <a:pt x="4346" y="7673"/>
                  <a:pt x="4440" y="7789"/>
                </a:cubicBezTo>
                <a:cubicBezTo>
                  <a:pt x="4581" y="7963"/>
                  <a:pt x="4709" y="8146"/>
                  <a:pt x="4862" y="8310"/>
                </a:cubicBezTo>
                <a:cubicBezTo>
                  <a:pt x="4985" y="8442"/>
                  <a:pt x="5117" y="8571"/>
                  <a:pt x="5234" y="8706"/>
                </a:cubicBezTo>
                <a:cubicBezTo>
                  <a:pt x="5391" y="8887"/>
                  <a:pt x="5551" y="9057"/>
                  <a:pt x="5705" y="9227"/>
                </a:cubicBezTo>
                <a:cubicBezTo>
                  <a:pt x="5838" y="9374"/>
                  <a:pt x="5973" y="9486"/>
                  <a:pt x="6102" y="9624"/>
                </a:cubicBezTo>
                <a:cubicBezTo>
                  <a:pt x="6215" y="9744"/>
                  <a:pt x="6323" y="9859"/>
                  <a:pt x="6449" y="9971"/>
                </a:cubicBezTo>
                <a:cubicBezTo>
                  <a:pt x="6586" y="10093"/>
                  <a:pt x="6719" y="10217"/>
                  <a:pt x="6846" y="10344"/>
                </a:cubicBezTo>
                <a:cubicBezTo>
                  <a:pt x="6944" y="10442"/>
                  <a:pt x="6970" y="10481"/>
                  <a:pt x="7045" y="10567"/>
                </a:cubicBezTo>
                <a:cubicBezTo>
                  <a:pt x="7072" y="10598"/>
                  <a:pt x="7042" y="10536"/>
                  <a:pt x="7069" y="10567"/>
                </a:cubicBezTo>
                <a:cubicBezTo>
                  <a:pt x="6995" y="10546"/>
                  <a:pt x="6961" y="10532"/>
                  <a:pt x="6896" y="10517"/>
                </a:cubicBezTo>
                <a:cubicBezTo>
                  <a:pt x="6827" y="10501"/>
                  <a:pt x="6742" y="10497"/>
                  <a:pt x="6672" y="10492"/>
                </a:cubicBezTo>
                <a:cubicBezTo>
                  <a:pt x="6219" y="10460"/>
                  <a:pt x="5761" y="10517"/>
                  <a:pt x="5308" y="10517"/>
                </a:cubicBezTo>
                <a:cubicBezTo>
                  <a:pt x="5113" y="10517"/>
                  <a:pt x="4954" y="10562"/>
                  <a:pt x="4762" y="10567"/>
                </a:cubicBezTo>
                <a:cubicBezTo>
                  <a:pt x="4472" y="10574"/>
                  <a:pt x="4182" y="10582"/>
                  <a:pt x="3894" y="10592"/>
                </a:cubicBezTo>
                <a:cubicBezTo>
                  <a:pt x="3659" y="10600"/>
                  <a:pt x="3433" y="10625"/>
                  <a:pt x="3200" y="10641"/>
                </a:cubicBezTo>
                <a:cubicBezTo>
                  <a:pt x="3010" y="10654"/>
                  <a:pt x="2839" y="10677"/>
                  <a:pt x="2654" y="10691"/>
                </a:cubicBezTo>
                <a:cubicBezTo>
                  <a:pt x="2509" y="10702"/>
                  <a:pt x="2351" y="10710"/>
                  <a:pt x="2208" y="10716"/>
                </a:cubicBezTo>
                <a:cubicBezTo>
                  <a:pt x="2100" y="10721"/>
                  <a:pt x="1989" y="10735"/>
                  <a:pt x="1885" y="10740"/>
                </a:cubicBezTo>
                <a:cubicBezTo>
                  <a:pt x="1803" y="10744"/>
                  <a:pt x="1720" y="10737"/>
                  <a:pt x="1637" y="1074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Ink 4"/>
          <p:cNvSpPr/>
          <p:nvPr/>
        </p:nvSpPr>
        <p:spPr>
          <a:xfrm>
            <a:off x="419040" y="3938760"/>
            <a:ext cx="243000" cy="29340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1364" y="11286"/>
                </a:moveTo>
                <a:cubicBezTo>
                  <a:pt x="1342" y="11379"/>
                  <a:pt x="1328" y="11474"/>
                  <a:pt x="1290" y="11559"/>
                </a:cubicBezTo>
                <a:cubicBezTo>
                  <a:pt x="1263" y="11620"/>
                  <a:pt x="1225" y="11656"/>
                  <a:pt x="1191" y="11708"/>
                </a:cubicBezTo>
                <a:cubicBezTo>
                  <a:pt x="1183" y="11724"/>
                  <a:pt x="1174" y="11741"/>
                  <a:pt x="1166" y="11757"/>
                </a:cubicBezTo>
                <a:cubicBezTo>
                  <a:pt x="1199" y="11703"/>
                  <a:pt x="1210" y="11648"/>
                  <a:pt x="1240" y="11584"/>
                </a:cubicBezTo>
                <a:cubicBezTo>
                  <a:pt x="1290" y="11478"/>
                  <a:pt x="1303" y="11388"/>
                  <a:pt x="1339" y="11286"/>
                </a:cubicBezTo>
                <a:cubicBezTo>
                  <a:pt x="1360" y="11225"/>
                  <a:pt x="1408" y="11151"/>
                  <a:pt x="1439" y="11088"/>
                </a:cubicBezTo>
                <a:cubicBezTo>
                  <a:pt x="1465" y="11036"/>
                  <a:pt x="1482" y="10986"/>
                  <a:pt x="1513" y="10939"/>
                </a:cubicBezTo>
                <a:cubicBezTo>
                  <a:pt x="1557" y="11004"/>
                  <a:pt x="1558" y="11067"/>
                  <a:pt x="1588" y="11137"/>
                </a:cubicBezTo>
                <a:cubicBezTo>
                  <a:pt x="1626" y="11224"/>
                  <a:pt x="1639" y="11299"/>
                  <a:pt x="1662" y="11385"/>
                </a:cubicBezTo>
                <a:cubicBezTo>
                  <a:pt x="1682" y="11458"/>
                  <a:pt x="1703" y="11566"/>
                  <a:pt x="1736" y="11633"/>
                </a:cubicBezTo>
                <a:cubicBezTo>
                  <a:pt x="1743" y="11647"/>
                  <a:pt x="1813" y="11762"/>
                  <a:pt x="1836" y="11757"/>
                </a:cubicBezTo>
                <a:cubicBezTo>
                  <a:pt x="1836" y="11749"/>
                  <a:pt x="1836" y="11741"/>
                  <a:pt x="1836" y="11733"/>
                </a:cubicBezTo>
              </a:path>
              <a:path w="671" h="819">
                <a:moveTo>
                  <a:pt x="1315" y="11410"/>
                </a:moveTo>
                <a:cubicBezTo>
                  <a:pt x="1358" y="11436"/>
                  <a:pt x="1434" y="11451"/>
                  <a:pt x="1488" y="11460"/>
                </a:cubicBezTo>
                <a:cubicBezTo>
                  <a:pt x="1565" y="11473"/>
                  <a:pt x="1638" y="11443"/>
                  <a:pt x="1712" y="1143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Ink 5"/>
          <p:cNvSpPr/>
          <p:nvPr/>
        </p:nvSpPr>
        <p:spPr>
          <a:xfrm>
            <a:off x="1295280" y="3983040"/>
            <a:ext cx="22392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3646" y="11063"/>
                </a:moveTo>
                <a:cubicBezTo>
                  <a:pt x="3628" y="11179"/>
                  <a:pt x="3621" y="11270"/>
                  <a:pt x="3621" y="11385"/>
                </a:cubicBezTo>
                <a:cubicBezTo>
                  <a:pt x="3621" y="11466"/>
                  <a:pt x="3601" y="11532"/>
                  <a:pt x="3597" y="11609"/>
                </a:cubicBezTo>
                <a:cubicBezTo>
                  <a:pt x="3596" y="11627"/>
                  <a:pt x="3597" y="11797"/>
                  <a:pt x="3597" y="11733"/>
                </a:cubicBezTo>
              </a:path>
              <a:path w="621" h="770">
                <a:moveTo>
                  <a:pt x="3795" y="11088"/>
                </a:moveTo>
                <a:cubicBezTo>
                  <a:pt x="3903" y="11088"/>
                  <a:pt x="4010" y="11088"/>
                  <a:pt x="4118" y="11088"/>
                </a:cubicBezTo>
              </a:path>
              <a:path w="621" h="770">
                <a:moveTo>
                  <a:pt x="3845" y="11063"/>
                </a:moveTo>
                <a:cubicBezTo>
                  <a:pt x="3799" y="11121"/>
                  <a:pt x="3737" y="11201"/>
                  <a:pt x="3770" y="11286"/>
                </a:cubicBezTo>
                <a:cubicBezTo>
                  <a:pt x="3804" y="11374"/>
                  <a:pt x="3865" y="11269"/>
                  <a:pt x="3894" y="11261"/>
                </a:cubicBezTo>
                <a:cubicBezTo>
                  <a:pt x="3952" y="11244"/>
                  <a:pt x="4023" y="11262"/>
                  <a:pt x="4068" y="11286"/>
                </a:cubicBezTo>
                <a:cubicBezTo>
                  <a:pt x="4163" y="11337"/>
                  <a:pt x="4151" y="11399"/>
                  <a:pt x="4192" y="11485"/>
                </a:cubicBezTo>
                <a:cubicBezTo>
                  <a:pt x="4215" y="11534"/>
                  <a:pt x="4235" y="11620"/>
                  <a:pt x="4217" y="11683"/>
                </a:cubicBezTo>
                <a:cubicBezTo>
                  <a:pt x="4203" y="11735"/>
                  <a:pt x="4154" y="11770"/>
                  <a:pt x="4118" y="11807"/>
                </a:cubicBezTo>
                <a:cubicBezTo>
                  <a:pt x="4075" y="11850"/>
                  <a:pt x="4003" y="11832"/>
                  <a:pt x="3944" y="11832"/>
                </a:cubicBezTo>
                <a:cubicBezTo>
                  <a:pt x="3899" y="11832"/>
                  <a:pt x="3879" y="11835"/>
                  <a:pt x="3919" y="11807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Ink 6"/>
          <p:cNvSpPr/>
          <p:nvPr/>
        </p:nvSpPr>
        <p:spPr>
          <a:xfrm>
            <a:off x="820800" y="1928880"/>
            <a:ext cx="206280" cy="376200"/>
          </a:xfrm>
          <a:custGeom>
            <a:avLst/>
            <a:gdLst/>
            <a:ahLst/>
            <a:rect l="l" t="t" r="r" b="b"/>
            <a:pathLst>
              <a:path w="572" h="1043">
                <a:moveTo>
                  <a:pt x="2356" y="5779"/>
                </a:moveTo>
                <a:cubicBezTo>
                  <a:pt x="2377" y="5878"/>
                  <a:pt x="2381" y="5952"/>
                  <a:pt x="2381" y="6052"/>
                </a:cubicBezTo>
                <a:cubicBezTo>
                  <a:pt x="2381" y="6131"/>
                  <a:pt x="2406" y="6210"/>
                  <a:pt x="2406" y="6300"/>
                </a:cubicBezTo>
                <a:cubicBezTo>
                  <a:pt x="2406" y="6350"/>
                  <a:pt x="2406" y="6367"/>
                  <a:pt x="2406" y="6400"/>
                </a:cubicBezTo>
                <a:cubicBezTo>
                  <a:pt x="2380" y="6323"/>
                  <a:pt x="2381" y="6258"/>
                  <a:pt x="2381" y="6176"/>
                </a:cubicBezTo>
                <a:cubicBezTo>
                  <a:pt x="2381" y="6100"/>
                  <a:pt x="2356" y="6034"/>
                  <a:pt x="2356" y="5953"/>
                </a:cubicBezTo>
                <a:cubicBezTo>
                  <a:pt x="2356" y="5806"/>
                  <a:pt x="2339" y="5648"/>
                  <a:pt x="2381" y="5507"/>
                </a:cubicBezTo>
                <a:cubicBezTo>
                  <a:pt x="2394" y="5465"/>
                  <a:pt x="2437" y="5354"/>
                  <a:pt x="2505" y="5358"/>
                </a:cubicBezTo>
                <a:cubicBezTo>
                  <a:pt x="2582" y="5363"/>
                  <a:pt x="2642" y="5474"/>
                  <a:pt x="2654" y="5531"/>
                </a:cubicBezTo>
                <a:cubicBezTo>
                  <a:pt x="2664" y="5582"/>
                  <a:pt x="2632" y="5669"/>
                  <a:pt x="2604" y="5705"/>
                </a:cubicBezTo>
                <a:cubicBezTo>
                  <a:pt x="2569" y="5750"/>
                  <a:pt x="2520" y="5789"/>
                  <a:pt x="2480" y="5829"/>
                </a:cubicBezTo>
                <a:cubicBezTo>
                  <a:pt x="2520" y="5759"/>
                  <a:pt x="2555" y="5744"/>
                  <a:pt x="2629" y="5730"/>
                </a:cubicBezTo>
                <a:cubicBezTo>
                  <a:pt x="2684" y="5720"/>
                  <a:pt x="2739" y="5769"/>
                  <a:pt x="2778" y="5804"/>
                </a:cubicBezTo>
                <a:cubicBezTo>
                  <a:pt x="2810" y="5833"/>
                  <a:pt x="2827" y="5871"/>
                  <a:pt x="2853" y="5904"/>
                </a:cubicBezTo>
                <a:cubicBezTo>
                  <a:pt x="2809" y="5947"/>
                  <a:pt x="2776" y="6018"/>
                  <a:pt x="2729" y="6052"/>
                </a:cubicBezTo>
                <a:cubicBezTo>
                  <a:pt x="2677" y="6089"/>
                  <a:pt x="2590" y="6117"/>
                  <a:pt x="2530" y="6127"/>
                </a:cubicBezTo>
                <a:cubicBezTo>
                  <a:pt x="2445" y="6141"/>
                  <a:pt x="2359" y="6131"/>
                  <a:pt x="2282" y="610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Ink 7"/>
          <p:cNvSpPr/>
          <p:nvPr/>
        </p:nvSpPr>
        <p:spPr>
          <a:xfrm>
            <a:off x="1108080" y="2598840"/>
            <a:ext cx="28584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3299" y="7565"/>
                </a:moveTo>
                <a:cubicBezTo>
                  <a:pt x="3299" y="7496"/>
                  <a:pt x="3312" y="7428"/>
                  <a:pt x="3274" y="7367"/>
                </a:cubicBezTo>
                <a:cubicBezTo>
                  <a:pt x="3266" y="7359"/>
                  <a:pt x="3257" y="7350"/>
                  <a:pt x="3249" y="7342"/>
                </a:cubicBezTo>
                <a:cubicBezTo>
                  <a:pt x="3199" y="7371"/>
                  <a:pt x="3166" y="7400"/>
                  <a:pt x="3125" y="7441"/>
                </a:cubicBezTo>
                <a:cubicBezTo>
                  <a:pt x="3089" y="7478"/>
                  <a:pt x="3081" y="7588"/>
                  <a:pt x="3101" y="7615"/>
                </a:cubicBezTo>
                <a:cubicBezTo>
                  <a:pt x="3146" y="7675"/>
                  <a:pt x="3208" y="7628"/>
                  <a:pt x="3249" y="7590"/>
                </a:cubicBezTo>
                <a:cubicBezTo>
                  <a:pt x="3294" y="7549"/>
                  <a:pt x="3290" y="7551"/>
                  <a:pt x="3299" y="7491"/>
                </a:cubicBezTo>
                <a:cubicBezTo>
                  <a:pt x="3272" y="7535"/>
                  <a:pt x="3258" y="7611"/>
                  <a:pt x="3249" y="7665"/>
                </a:cubicBezTo>
                <a:cubicBezTo>
                  <a:pt x="3237" y="7735"/>
                  <a:pt x="3249" y="7978"/>
                  <a:pt x="3249" y="7962"/>
                </a:cubicBezTo>
              </a:path>
              <a:path w="795" h="770">
                <a:moveTo>
                  <a:pt x="3473" y="7417"/>
                </a:moveTo>
                <a:cubicBezTo>
                  <a:pt x="3473" y="7511"/>
                  <a:pt x="3442" y="7536"/>
                  <a:pt x="3423" y="7615"/>
                </a:cubicBezTo>
                <a:cubicBezTo>
                  <a:pt x="3401" y="7708"/>
                  <a:pt x="3488" y="7689"/>
                  <a:pt x="3547" y="7689"/>
                </a:cubicBezTo>
                <a:cubicBezTo>
                  <a:pt x="3610" y="7689"/>
                  <a:pt x="3638" y="7686"/>
                  <a:pt x="3696" y="7665"/>
                </a:cubicBezTo>
              </a:path>
              <a:path w="795" h="770">
                <a:moveTo>
                  <a:pt x="3646" y="7342"/>
                </a:moveTo>
                <a:cubicBezTo>
                  <a:pt x="3624" y="7429"/>
                  <a:pt x="3621" y="7500"/>
                  <a:pt x="3621" y="7590"/>
                </a:cubicBezTo>
                <a:cubicBezTo>
                  <a:pt x="3621" y="7703"/>
                  <a:pt x="3614" y="7807"/>
                  <a:pt x="3597" y="7913"/>
                </a:cubicBezTo>
                <a:cubicBezTo>
                  <a:pt x="3597" y="7929"/>
                  <a:pt x="3597" y="7946"/>
                  <a:pt x="3597" y="7962"/>
                </a:cubicBezTo>
              </a:path>
              <a:path w="795" h="770">
                <a:moveTo>
                  <a:pt x="3795" y="7268"/>
                </a:moveTo>
                <a:cubicBezTo>
                  <a:pt x="3795" y="7336"/>
                  <a:pt x="3792" y="7355"/>
                  <a:pt x="3820" y="7392"/>
                </a:cubicBezTo>
                <a:cubicBezTo>
                  <a:pt x="3860" y="7352"/>
                  <a:pt x="3895" y="7307"/>
                  <a:pt x="3870" y="7243"/>
                </a:cubicBezTo>
                <a:cubicBezTo>
                  <a:pt x="3856" y="7208"/>
                  <a:pt x="3823" y="7218"/>
                  <a:pt x="3795" y="7218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Ink 8"/>
          <p:cNvSpPr/>
          <p:nvPr/>
        </p:nvSpPr>
        <p:spPr>
          <a:xfrm>
            <a:off x="2840040" y="2340000"/>
            <a:ext cx="1633680" cy="374760"/>
          </a:xfrm>
          <a:custGeom>
            <a:avLst/>
            <a:gdLst/>
            <a:ahLst/>
            <a:rect l="l" t="t" r="r" b="b"/>
            <a:pathLst>
              <a:path w="4540" h="1043">
                <a:moveTo>
                  <a:pt x="7888" y="6499"/>
                </a:moveTo>
                <a:cubicBezTo>
                  <a:pt x="7899" y="6587"/>
                  <a:pt x="7913" y="6652"/>
                  <a:pt x="7913" y="6747"/>
                </a:cubicBezTo>
                <a:cubicBezTo>
                  <a:pt x="7913" y="6864"/>
                  <a:pt x="7938" y="6976"/>
                  <a:pt x="7938" y="7094"/>
                </a:cubicBezTo>
                <a:cubicBezTo>
                  <a:pt x="7938" y="7221"/>
                  <a:pt x="7976" y="7436"/>
                  <a:pt x="7913" y="7541"/>
                </a:cubicBezTo>
                <a:cubicBezTo>
                  <a:pt x="7913" y="7430"/>
                  <a:pt x="7927" y="7325"/>
                  <a:pt x="7938" y="7218"/>
                </a:cubicBezTo>
                <a:cubicBezTo>
                  <a:pt x="7946" y="7141"/>
                  <a:pt x="7953" y="7083"/>
                  <a:pt x="7987" y="7020"/>
                </a:cubicBezTo>
                <a:cubicBezTo>
                  <a:pt x="8014" y="6970"/>
                  <a:pt x="8042" y="6905"/>
                  <a:pt x="8111" y="6921"/>
                </a:cubicBezTo>
                <a:cubicBezTo>
                  <a:pt x="8168" y="6934"/>
                  <a:pt x="8204" y="7020"/>
                  <a:pt x="8235" y="7069"/>
                </a:cubicBezTo>
                <a:cubicBezTo>
                  <a:pt x="8294" y="7160"/>
                  <a:pt x="8285" y="7264"/>
                  <a:pt x="8285" y="7367"/>
                </a:cubicBezTo>
                <a:cubicBezTo>
                  <a:pt x="8285" y="7431"/>
                  <a:pt x="8269" y="7514"/>
                  <a:pt x="8310" y="7541"/>
                </a:cubicBezTo>
              </a:path>
              <a:path w="4540" h="1043">
                <a:moveTo>
                  <a:pt x="8533" y="7094"/>
                </a:moveTo>
                <a:cubicBezTo>
                  <a:pt x="8614" y="7116"/>
                  <a:pt x="8673" y="7119"/>
                  <a:pt x="8756" y="7119"/>
                </a:cubicBezTo>
                <a:cubicBezTo>
                  <a:pt x="8773" y="7119"/>
                  <a:pt x="8789" y="7119"/>
                  <a:pt x="8806" y="7119"/>
                </a:cubicBezTo>
              </a:path>
              <a:path w="4540" h="1043">
                <a:moveTo>
                  <a:pt x="8558" y="7243"/>
                </a:moveTo>
                <a:cubicBezTo>
                  <a:pt x="8661" y="7243"/>
                  <a:pt x="8732" y="7243"/>
                  <a:pt x="8830" y="7218"/>
                </a:cubicBezTo>
                <a:cubicBezTo>
                  <a:pt x="8863" y="7210"/>
                  <a:pt x="8897" y="7201"/>
                  <a:pt x="8930" y="7193"/>
                </a:cubicBezTo>
              </a:path>
              <a:path w="4540" h="1043">
                <a:moveTo>
                  <a:pt x="9302" y="6548"/>
                </a:moveTo>
                <a:cubicBezTo>
                  <a:pt x="9274" y="6650"/>
                  <a:pt x="9277" y="6739"/>
                  <a:pt x="9277" y="6846"/>
                </a:cubicBezTo>
                <a:cubicBezTo>
                  <a:pt x="9277" y="6999"/>
                  <a:pt x="9280" y="7156"/>
                  <a:pt x="9252" y="7293"/>
                </a:cubicBezTo>
                <a:cubicBezTo>
                  <a:pt x="9252" y="7342"/>
                  <a:pt x="9252" y="7359"/>
                  <a:pt x="9252" y="7392"/>
                </a:cubicBezTo>
                <a:cubicBezTo>
                  <a:pt x="9200" y="7418"/>
                  <a:pt x="9270" y="7284"/>
                  <a:pt x="9277" y="7218"/>
                </a:cubicBezTo>
                <a:cubicBezTo>
                  <a:pt x="9286" y="7135"/>
                  <a:pt x="9293" y="7085"/>
                  <a:pt x="9351" y="7020"/>
                </a:cubicBezTo>
                <a:cubicBezTo>
                  <a:pt x="9407" y="6957"/>
                  <a:pt x="9455" y="6964"/>
                  <a:pt x="9525" y="6995"/>
                </a:cubicBezTo>
                <a:cubicBezTo>
                  <a:pt x="9614" y="7035"/>
                  <a:pt x="9621" y="7041"/>
                  <a:pt x="9649" y="7119"/>
                </a:cubicBezTo>
                <a:cubicBezTo>
                  <a:pt x="9679" y="7204"/>
                  <a:pt x="9664" y="7240"/>
                  <a:pt x="9649" y="7317"/>
                </a:cubicBezTo>
                <a:cubicBezTo>
                  <a:pt x="9635" y="7391"/>
                  <a:pt x="9558" y="7448"/>
                  <a:pt x="9475" y="7466"/>
                </a:cubicBezTo>
                <a:cubicBezTo>
                  <a:pt x="9390" y="7485"/>
                  <a:pt x="9305" y="7454"/>
                  <a:pt x="9227" y="7441"/>
                </a:cubicBezTo>
                <a:cubicBezTo>
                  <a:pt x="9211" y="7441"/>
                  <a:pt x="9194" y="7441"/>
                  <a:pt x="9178" y="7441"/>
                </a:cubicBezTo>
              </a:path>
              <a:path w="4540" h="1043">
                <a:moveTo>
                  <a:pt x="10418" y="6970"/>
                </a:moveTo>
                <a:cubicBezTo>
                  <a:pt x="10365" y="6918"/>
                  <a:pt x="10321" y="6908"/>
                  <a:pt x="10244" y="6921"/>
                </a:cubicBezTo>
                <a:cubicBezTo>
                  <a:pt x="10200" y="6928"/>
                  <a:pt x="10065" y="6955"/>
                  <a:pt x="10046" y="7020"/>
                </a:cubicBezTo>
                <a:cubicBezTo>
                  <a:pt x="10046" y="7036"/>
                  <a:pt x="10046" y="7053"/>
                  <a:pt x="10046" y="7069"/>
                </a:cubicBezTo>
                <a:cubicBezTo>
                  <a:pt x="10111" y="7093"/>
                  <a:pt x="10167" y="7095"/>
                  <a:pt x="10220" y="7144"/>
                </a:cubicBezTo>
                <a:cubicBezTo>
                  <a:pt x="10261" y="7182"/>
                  <a:pt x="10381" y="7233"/>
                  <a:pt x="10393" y="7293"/>
                </a:cubicBezTo>
                <a:cubicBezTo>
                  <a:pt x="10411" y="7382"/>
                  <a:pt x="10255" y="7430"/>
                  <a:pt x="10195" y="7441"/>
                </a:cubicBezTo>
                <a:cubicBezTo>
                  <a:pt x="10160" y="7447"/>
                  <a:pt x="9991" y="7445"/>
                  <a:pt x="9971" y="7417"/>
                </a:cubicBezTo>
                <a:cubicBezTo>
                  <a:pt x="9971" y="7400"/>
                  <a:pt x="9971" y="7384"/>
                  <a:pt x="9971" y="7367"/>
                </a:cubicBezTo>
              </a:path>
              <a:path w="4540" h="1043">
                <a:moveTo>
                  <a:pt x="10641" y="7045"/>
                </a:moveTo>
                <a:cubicBezTo>
                  <a:pt x="10641" y="7166"/>
                  <a:pt x="10648" y="7257"/>
                  <a:pt x="10666" y="7367"/>
                </a:cubicBezTo>
                <a:cubicBezTo>
                  <a:pt x="10666" y="7442"/>
                  <a:pt x="10666" y="7434"/>
                  <a:pt x="10666" y="7293"/>
                </a:cubicBezTo>
              </a:path>
              <a:path w="4540" h="1043">
                <a:moveTo>
                  <a:pt x="10641" y="6697"/>
                </a:moveTo>
                <a:cubicBezTo>
                  <a:pt x="10658" y="6689"/>
                  <a:pt x="10674" y="6680"/>
                  <a:pt x="10691" y="6672"/>
                </a:cubicBezTo>
              </a:path>
              <a:path w="4540" h="1043">
                <a:moveTo>
                  <a:pt x="10914" y="7045"/>
                </a:moveTo>
                <a:cubicBezTo>
                  <a:pt x="10926" y="7185"/>
                  <a:pt x="10914" y="7241"/>
                  <a:pt x="10914" y="7367"/>
                </a:cubicBezTo>
                <a:cubicBezTo>
                  <a:pt x="10914" y="7298"/>
                  <a:pt x="10920" y="7232"/>
                  <a:pt x="10939" y="7169"/>
                </a:cubicBezTo>
                <a:cubicBezTo>
                  <a:pt x="10957" y="7109"/>
                  <a:pt x="10996" y="7036"/>
                  <a:pt x="11063" y="7020"/>
                </a:cubicBezTo>
                <a:cubicBezTo>
                  <a:pt x="11129" y="7005"/>
                  <a:pt x="11171" y="7053"/>
                  <a:pt x="11212" y="7094"/>
                </a:cubicBezTo>
                <a:cubicBezTo>
                  <a:pt x="11259" y="7141"/>
                  <a:pt x="11324" y="7198"/>
                  <a:pt x="11336" y="7268"/>
                </a:cubicBezTo>
                <a:cubicBezTo>
                  <a:pt x="11339" y="7283"/>
                  <a:pt x="11352" y="7485"/>
                  <a:pt x="11361" y="7491"/>
                </a:cubicBezTo>
                <a:cubicBezTo>
                  <a:pt x="11369" y="7483"/>
                  <a:pt x="11377" y="7474"/>
                  <a:pt x="11385" y="7466"/>
                </a:cubicBezTo>
              </a:path>
              <a:path w="4540" h="1043">
                <a:moveTo>
                  <a:pt x="11757" y="6945"/>
                </a:moveTo>
                <a:cubicBezTo>
                  <a:pt x="11745" y="7074"/>
                  <a:pt x="11715" y="7201"/>
                  <a:pt x="11708" y="7317"/>
                </a:cubicBezTo>
                <a:cubicBezTo>
                  <a:pt x="11705" y="7372"/>
                  <a:pt x="11690" y="7412"/>
                  <a:pt x="11683" y="7466"/>
                </a:cubicBezTo>
                <a:cubicBezTo>
                  <a:pt x="11669" y="7438"/>
                  <a:pt x="11665" y="7344"/>
                  <a:pt x="11683" y="7293"/>
                </a:cubicBezTo>
                <a:cubicBezTo>
                  <a:pt x="11708" y="7224"/>
                  <a:pt x="11712" y="7144"/>
                  <a:pt x="11733" y="7069"/>
                </a:cubicBezTo>
                <a:cubicBezTo>
                  <a:pt x="11757" y="6984"/>
                  <a:pt x="11793" y="6885"/>
                  <a:pt x="11807" y="6796"/>
                </a:cubicBezTo>
                <a:cubicBezTo>
                  <a:pt x="11816" y="6736"/>
                  <a:pt x="11826" y="6625"/>
                  <a:pt x="11857" y="6573"/>
                </a:cubicBezTo>
                <a:cubicBezTo>
                  <a:pt x="11873" y="6557"/>
                  <a:pt x="11890" y="6540"/>
                  <a:pt x="11906" y="6524"/>
                </a:cubicBezTo>
                <a:cubicBezTo>
                  <a:pt x="11987" y="6484"/>
                  <a:pt x="11970" y="6606"/>
                  <a:pt x="12005" y="6672"/>
                </a:cubicBezTo>
                <a:cubicBezTo>
                  <a:pt x="12044" y="6745"/>
                  <a:pt x="12073" y="6816"/>
                  <a:pt x="12105" y="6896"/>
                </a:cubicBezTo>
                <a:cubicBezTo>
                  <a:pt x="12157" y="7026"/>
                  <a:pt x="12204" y="7125"/>
                  <a:pt x="12278" y="7243"/>
                </a:cubicBezTo>
                <a:cubicBezTo>
                  <a:pt x="12317" y="7306"/>
                  <a:pt x="12324" y="7363"/>
                  <a:pt x="12378" y="7417"/>
                </a:cubicBezTo>
                <a:cubicBezTo>
                  <a:pt x="12440" y="7479"/>
                  <a:pt x="12410" y="7395"/>
                  <a:pt x="12402" y="7367"/>
                </a:cubicBezTo>
              </a:path>
              <a:path w="4540" h="1043">
                <a:moveTo>
                  <a:pt x="11757" y="6995"/>
                </a:moveTo>
                <a:cubicBezTo>
                  <a:pt x="11811" y="6963"/>
                  <a:pt x="11888" y="6958"/>
                  <a:pt x="11956" y="6970"/>
                </a:cubicBezTo>
                <a:cubicBezTo>
                  <a:pt x="12080" y="6992"/>
                  <a:pt x="12201" y="7011"/>
                  <a:pt x="12328" y="702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Ink 13"/>
          <p:cNvSpPr/>
          <p:nvPr/>
        </p:nvSpPr>
        <p:spPr>
          <a:xfrm>
            <a:off x="2509920" y="3724200"/>
            <a:ext cx="258840" cy="312840"/>
          </a:xfrm>
          <a:custGeom>
            <a:avLst/>
            <a:gdLst/>
            <a:ahLst/>
            <a:rect l="l" t="t" r="r" b="b"/>
            <a:pathLst>
              <a:path w="720" h="869">
                <a:moveTo>
                  <a:pt x="7417" y="10492"/>
                </a:moveTo>
                <a:cubicBezTo>
                  <a:pt x="7436" y="10497"/>
                  <a:pt x="7508" y="10524"/>
                  <a:pt x="7516" y="10492"/>
                </a:cubicBezTo>
                <a:cubicBezTo>
                  <a:pt x="7541" y="10393"/>
                  <a:pt x="7483" y="10347"/>
                  <a:pt x="7392" y="10344"/>
                </a:cubicBezTo>
                <a:cubicBezTo>
                  <a:pt x="7188" y="10338"/>
                  <a:pt x="7286" y="10360"/>
                  <a:pt x="7169" y="10418"/>
                </a:cubicBezTo>
                <a:cubicBezTo>
                  <a:pt x="7067" y="10469"/>
                  <a:pt x="7088" y="10461"/>
                  <a:pt x="7020" y="10567"/>
                </a:cubicBezTo>
                <a:cubicBezTo>
                  <a:pt x="6981" y="10627"/>
                  <a:pt x="6974" y="10713"/>
                  <a:pt x="6970" y="10790"/>
                </a:cubicBezTo>
                <a:cubicBezTo>
                  <a:pt x="6967" y="10857"/>
                  <a:pt x="7000" y="10916"/>
                  <a:pt x="7045" y="10964"/>
                </a:cubicBezTo>
                <a:cubicBezTo>
                  <a:pt x="7137" y="11063"/>
                  <a:pt x="7224" y="11089"/>
                  <a:pt x="7342" y="11137"/>
                </a:cubicBezTo>
                <a:cubicBezTo>
                  <a:pt x="7411" y="11165"/>
                  <a:pt x="7500" y="11159"/>
                  <a:pt x="7565" y="11187"/>
                </a:cubicBezTo>
                <a:cubicBezTo>
                  <a:pt x="7592" y="11198"/>
                  <a:pt x="7713" y="11212"/>
                  <a:pt x="7665" y="1121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Ink 16"/>
          <p:cNvSpPr/>
          <p:nvPr/>
        </p:nvSpPr>
        <p:spPr>
          <a:xfrm>
            <a:off x="465120" y="2946240"/>
            <a:ext cx="214200" cy="250920"/>
          </a:xfrm>
          <a:custGeom>
            <a:avLst/>
            <a:gdLst/>
            <a:ahLst/>
            <a:rect l="l" t="t" r="r" b="b"/>
            <a:pathLst>
              <a:path w="596" h="695">
                <a:moveTo>
                  <a:pt x="1315" y="8186"/>
                </a:moveTo>
                <a:cubicBezTo>
                  <a:pt x="1332" y="8269"/>
                  <a:pt x="1339" y="8327"/>
                  <a:pt x="1339" y="8409"/>
                </a:cubicBezTo>
                <a:cubicBezTo>
                  <a:pt x="1339" y="8545"/>
                  <a:pt x="1339" y="8685"/>
                  <a:pt x="1315" y="8806"/>
                </a:cubicBezTo>
                <a:cubicBezTo>
                  <a:pt x="1309" y="8837"/>
                  <a:pt x="1316" y="8907"/>
                  <a:pt x="1290" y="8855"/>
                </a:cubicBezTo>
              </a:path>
              <a:path w="596" h="695">
                <a:moveTo>
                  <a:pt x="1588" y="8210"/>
                </a:moveTo>
                <a:cubicBezTo>
                  <a:pt x="1578" y="8283"/>
                  <a:pt x="1563" y="8326"/>
                  <a:pt x="1563" y="8409"/>
                </a:cubicBezTo>
                <a:cubicBezTo>
                  <a:pt x="1563" y="8506"/>
                  <a:pt x="1544" y="8616"/>
                  <a:pt x="1588" y="8706"/>
                </a:cubicBezTo>
                <a:cubicBezTo>
                  <a:pt x="1613" y="8757"/>
                  <a:pt x="1669" y="8818"/>
                  <a:pt x="1736" y="8781"/>
                </a:cubicBezTo>
                <a:cubicBezTo>
                  <a:pt x="1788" y="8752"/>
                  <a:pt x="1828" y="8696"/>
                  <a:pt x="1860" y="8657"/>
                </a:cubicBezTo>
                <a:cubicBezTo>
                  <a:pt x="1898" y="8610"/>
                  <a:pt x="1894" y="8560"/>
                  <a:pt x="1860" y="8508"/>
                </a:cubicBezTo>
                <a:cubicBezTo>
                  <a:pt x="1852" y="8500"/>
                  <a:pt x="1844" y="8491"/>
                  <a:pt x="1836" y="8483"/>
                </a:cubicBezTo>
                <a:cubicBezTo>
                  <a:pt x="1746" y="8517"/>
                  <a:pt x="1718" y="8540"/>
                  <a:pt x="1712" y="8632"/>
                </a:cubicBezTo>
                <a:cubicBezTo>
                  <a:pt x="1712" y="8665"/>
                  <a:pt x="1712" y="8681"/>
                  <a:pt x="1712" y="8706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Ink 17"/>
          <p:cNvSpPr/>
          <p:nvPr/>
        </p:nvSpPr>
        <p:spPr>
          <a:xfrm>
            <a:off x="1411200" y="4249800"/>
            <a:ext cx="27000" cy="363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3969" y="11881"/>
                </a:moveTo>
                <a:cubicBezTo>
                  <a:pt x="3977" y="11889"/>
                  <a:pt x="3986" y="11898"/>
                  <a:pt x="3994" y="11906"/>
                </a:cubicBezTo>
              </a:path>
              <a:path w="76" h="100">
                <a:moveTo>
                  <a:pt x="3969" y="11881"/>
                </a:moveTo>
                <a:lnTo>
                  <a:pt x="3969" y="11881"/>
                </a:lnTo>
              </a:path>
              <a:path w="76" h="100">
                <a:moveTo>
                  <a:pt x="3969" y="11881"/>
                </a:moveTo>
                <a:cubicBezTo>
                  <a:pt x="3969" y="11873"/>
                  <a:pt x="3969" y="11865"/>
                  <a:pt x="3969" y="11857"/>
                </a:cubicBezTo>
              </a:path>
              <a:path w="76" h="100">
                <a:moveTo>
                  <a:pt x="3969" y="11857"/>
                </a:moveTo>
                <a:lnTo>
                  <a:pt x="3969" y="11857"/>
                </a:lnTo>
              </a:path>
              <a:path w="76" h="100">
                <a:moveTo>
                  <a:pt x="3944" y="11832"/>
                </a:moveTo>
                <a:cubicBezTo>
                  <a:pt x="3952" y="11832"/>
                  <a:pt x="3961" y="11832"/>
                  <a:pt x="3969" y="11832"/>
                </a:cubicBezTo>
              </a:path>
              <a:path w="76" h="100">
                <a:moveTo>
                  <a:pt x="3969" y="11832"/>
                </a:moveTo>
                <a:lnTo>
                  <a:pt x="3969" y="11832"/>
                </a:lnTo>
              </a:path>
              <a:path w="76" h="100">
                <a:moveTo>
                  <a:pt x="3969" y="11832"/>
                </a:moveTo>
                <a:cubicBezTo>
                  <a:pt x="3952" y="11832"/>
                  <a:pt x="3936" y="11832"/>
                  <a:pt x="3919" y="11832"/>
                </a:cubicBezTo>
              </a:path>
              <a:path w="76" h="100">
                <a:moveTo>
                  <a:pt x="3919" y="11832"/>
                </a:moveTo>
                <a:cubicBezTo>
                  <a:pt x="3927" y="11832"/>
                  <a:pt x="3936" y="11832"/>
                  <a:pt x="3944" y="11832"/>
                </a:cubicBezTo>
              </a:path>
              <a:path w="76" h="100">
                <a:moveTo>
                  <a:pt x="3944" y="11832"/>
                </a:moveTo>
                <a:cubicBezTo>
                  <a:pt x="3936" y="11824"/>
                  <a:pt x="3927" y="11815"/>
                  <a:pt x="3919" y="11807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Ink 26"/>
          <p:cNvSpPr/>
          <p:nvPr/>
        </p:nvSpPr>
        <p:spPr>
          <a:xfrm>
            <a:off x="455760" y="3170160"/>
            <a:ext cx="107640" cy="15264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1265" y="8806"/>
                </a:moveTo>
                <a:cubicBezTo>
                  <a:pt x="1288" y="8875"/>
                  <a:pt x="1290" y="8930"/>
                  <a:pt x="1290" y="9004"/>
                </a:cubicBezTo>
                <a:cubicBezTo>
                  <a:pt x="1290" y="9054"/>
                  <a:pt x="1290" y="9103"/>
                  <a:pt x="1290" y="9153"/>
                </a:cubicBezTo>
                <a:cubicBezTo>
                  <a:pt x="1309" y="9109"/>
                  <a:pt x="1310" y="9011"/>
                  <a:pt x="1339" y="9004"/>
                </a:cubicBezTo>
                <a:cubicBezTo>
                  <a:pt x="1451" y="8978"/>
                  <a:pt x="1481" y="9004"/>
                  <a:pt x="1538" y="9079"/>
                </a:cubicBezTo>
                <a:cubicBezTo>
                  <a:pt x="1582" y="9136"/>
                  <a:pt x="1527" y="9216"/>
                  <a:pt x="1463" y="9227"/>
                </a:cubicBezTo>
                <a:cubicBezTo>
                  <a:pt x="1386" y="9241"/>
                  <a:pt x="1382" y="9228"/>
                  <a:pt x="1339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Ink 27"/>
          <p:cNvSpPr/>
          <p:nvPr/>
        </p:nvSpPr>
        <p:spPr>
          <a:xfrm>
            <a:off x="2527200" y="3598920"/>
            <a:ext cx="214560" cy="393480"/>
          </a:xfrm>
          <a:custGeom>
            <a:avLst/>
            <a:gdLst/>
            <a:ahLst/>
            <a:rect l="l" t="t" r="r" b="b"/>
            <a:pathLst>
              <a:path w="596" h="1093">
                <a:moveTo>
                  <a:pt x="7119" y="10344"/>
                </a:moveTo>
                <a:cubicBezTo>
                  <a:pt x="7064" y="10508"/>
                  <a:pt x="7032" y="10641"/>
                  <a:pt x="7020" y="10815"/>
                </a:cubicBezTo>
                <a:cubicBezTo>
                  <a:pt x="7013" y="10911"/>
                  <a:pt x="7016" y="11000"/>
                  <a:pt x="7045" y="11088"/>
                </a:cubicBezTo>
                <a:cubicBezTo>
                  <a:pt x="7045" y="11000"/>
                  <a:pt x="7060" y="10924"/>
                  <a:pt x="7069" y="10840"/>
                </a:cubicBezTo>
                <a:cubicBezTo>
                  <a:pt x="7084" y="10700"/>
                  <a:pt x="7101" y="10556"/>
                  <a:pt x="7119" y="10418"/>
                </a:cubicBezTo>
                <a:cubicBezTo>
                  <a:pt x="7132" y="10313"/>
                  <a:pt x="7159" y="10223"/>
                  <a:pt x="7193" y="10120"/>
                </a:cubicBezTo>
                <a:cubicBezTo>
                  <a:pt x="7225" y="10025"/>
                  <a:pt x="7314" y="10004"/>
                  <a:pt x="7417" y="9996"/>
                </a:cubicBezTo>
                <a:cubicBezTo>
                  <a:pt x="7523" y="9988"/>
                  <a:pt x="7572" y="10090"/>
                  <a:pt x="7541" y="10195"/>
                </a:cubicBezTo>
                <a:cubicBezTo>
                  <a:pt x="7525" y="10248"/>
                  <a:pt x="7422" y="10297"/>
                  <a:pt x="7367" y="10344"/>
                </a:cubicBezTo>
                <a:cubicBezTo>
                  <a:pt x="7291" y="10408"/>
                  <a:pt x="7263" y="10410"/>
                  <a:pt x="7169" y="10418"/>
                </a:cubicBezTo>
                <a:cubicBezTo>
                  <a:pt x="7028" y="10429"/>
                  <a:pt x="7268" y="10411"/>
                  <a:pt x="7293" y="10418"/>
                </a:cubicBezTo>
                <a:cubicBezTo>
                  <a:pt x="7349" y="10434"/>
                  <a:pt x="7485" y="10519"/>
                  <a:pt x="7516" y="10567"/>
                </a:cubicBezTo>
                <a:cubicBezTo>
                  <a:pt x="7569" y="10650"/>
                  <a:pt x="7611" y="10767"/>
                  <a:pt x="7615" y="10864"/>
                </a:cubicBezTo>
                <a:cubicBezTo>
                  <a:pt x="7618" y="10941"/>
                  <a:pt x="7586" y="10978"/>
                  <a:pt x="7541" y="11038"/>
                </a:cubicBezTo>
                <a:cubicBezTo>
                  <a:pt x="7508" y="11082"/>
                  <a:pt x="7353" y="11080"/>
                  <a:pt x="7293" y="11063"/>
                </a:cubicBezTo>
                <a:cubicBezTo>
                  <a:pt x="7228" y="11045"/>
                  <a:pt x="7148" y="10999"/>
                  <a:pt x="7094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Ink 28"/>
          <p:cNvSpPr/>
          <p:nvPr/>
        </p:nvSpPr>
        <p:spPr>
          <a:xfrm>
            <a:off x="2857680" y="2847960"/>
            <a:ext cx="2098440" cy="509760"/>
          </a:xfrm>
          <a:custGeom>
            <a:avLst/>
            <a:gdLst/>
            <a:ahLst/>
            <a:rect l="l" t="t" r="r" b="b"/>
            <a:pathLst>
              <a:path w="5830" h="1415">
                <a:moveTo>
                  <a:pt x="7987" y="7913"/>
                </a:moveTo>
                <a:cubicBezTo>
                  <a:pt x="7987" y="8083"/>
                  <a:pt x="7980" y="8244"/>
                  <a:pt x="7962" y="8409"/>
                </a:cubicBezTo>
                <a:cubicBezTo>
                  <a:pt x="7943" y="8581"/>
                  <a:pt x="7955" y="8760"/>
                  <a:pt x="7938" y="8930"/>
                </a:cubicBezTo>
                <a:cubicBezTo>
                  <a:pt x="7928" y="9033"/>
                  <a:pt x="7938" y="9281"/>
                  <a:pt x="7938" y="9302"/>
                </a:cubicBezTo>
                <a:cubicBezTo>
                  <a:pt x="7938" y="9224"/>
                  <a:pt x="7941" y="9150"/>
                  <a:pt x="7962" y="9079"/>
                </a:cubicBezTo>
                <a:cubicBezTo>
                  <a:pt x="7984" y="9006"/>
                  <a:pt x="8023" y="8932"/>
                  <a:pt x="8037" y="8855"/>
                </a:cubicBezTo>
                <a:cubicBezTo>
                  <a:pt x="8051" y="8779"/>
                  <a:pt x="8101" y="8698"/>
                  <a:pt x="8111" y="8632"/>
                </a:cubicBezTo>
                <a:cubicBezTo>
                  <a:pt x="8122" y="8560"/>
                  <a:pt x="8126" y="8526"/>
                  <a:pt x="8186" y="8483"/>
                </a:cubicBezTo>
                <a:cubicBezTo>
                  <a:pt x="8202" y="8483"/>
                  <a:pt x="8219" y="8483"/>
                  <a:pt x="8235" y="8483"/>
                </a:cubicBezTo>
                <a:cubicBezTo>
                  <a:pt x="8312" y="8546"/>
                  <a:pt x="8324" y="8605"/>
                  <a:pt x="8384" y="8706"/>
                </a:cubicBezTo>
                <a:cubicBezTo>
                  <a:pt x="8413" y="8754"/>
                  <a:pt x="8448" y="8867"/>
                  <a:pt x="8458" y="8930"/>
                </a:cubicBezTo>
                <a:cubicBezTo>
                  <a:pt x="8472" y="9014"/>
                  <a:pt x="8479" y="9092"/>
                  <a:pt x="8483" y="9178"/>
                </a:cubicBezTo>
                <a:cubicBezTo>
                  <a:pt x="8486" y="9255"/>
                  <a:pt x="8499" y="9282"/>
                  <a:pt x="8558" y="9302"/>
                </a:cubicBezTo>
              </a:path>
              <a:path w="5830" h="1415">
                <a:moveTo>
                  <a:pt x="8682" y="8781"/>
                </a:moveTo>
                <a:cubicBezTo>
                  <a:pt x="8768" y="8706"/>
                  <a:pt x="8819" y="8758"/>
                  <a:pt x="8930" y="8731"/>
                </a:cubicBezTo>
                <a:cubicBezTo>
                  <a:pt x="8988" y="8717"/>
                  <a:pt x="9016" y="8706"/>
                  <a:pt x="9079" y="8706"/>
                </a:cubicBezTo>
              </a:path>
              <a:path w="5830" h="1415">
                <a:moveTo>
                  <a:pt x="8781" y="8880"/>
                </a:moveTo>
                <a:cubicBezTo>
                  <a:pt x="8933" y="8880"/>
                  <a:pt x="9084" y="8888"/>
                  <a:pt x="9227" y="8855"/>
                </a:cubicBezTo>
                <a:cubicBezTo>
                  <a:pt x="9235" y="8855"/>
                  <a:pt x="9244" y="8855"/>
                  <a:pt x="9252" y="8855"/>
                </a:cubicBezTo>
              </a:path>
              <a:path w="5830" h="1415">
                <a:moveTo>
                  <a:pt x="9649" y="8235"/>
                </a:moveTo>
                <a:cubicBezTo>
                  <a:pt x="9649" y="8316"/>
                  <a:pt x="9674" y="9102"/>
                  <a:pt x="9624" y="9103"/>
                </a:cubicBezTo>
                <a:cubicBezTo>
                  <a:pt x="9624" y="9095"/>
                  <a:pt x="9624" y="9087"/>
                  <a:pt x="9624" y="9079"/>
                </a:cubicBezTo>
              </a:path>
              <a:path w="5830" h="1415">
                <a:moveTo>
                  <a:pt x="9872" y="8260"/>
                </a:moveTo>
                <a:cubicBezTo>
                  <a:pt x="9906" y="8317"/>
                  <a:pt x="9910" y="8411"/>
                  <a:pt x="9897" y="8483"/>
                </a:cubicBezTo>
                <a:cubicBezTo>
                  <a:pt x="9882" y="8565"/>
                  <a:pt x="9872" y="8620"/>
                  <a:pt x="9872" y="8706"/>
                </a:cubicBezTo>
                <a:cubicBezTo>
                  <a:pt x="9872" y="8811"/>
                  <a:pt x="9921" y="8870"/>
                  <a:pt x="9971" y="8954"/>
                </a:cubicBezTo>
                <a:cubicBezTo>
                  <a:pt x="10014" y="9025"/>
                  <a:pt x="10057" y="9025"/>
                  <a:pt x="10145" y="9029"/>
                </a:cubicBezTo>
                <a:cubicBezTo>
                  <a:pt x="10245" y="9034"/>
                  <a:pt x="10271" y="8977"/>
                  <a:pt x="10344" y="8930"/>
                </a:cubicBezTo>
                <a:cubicBezTo>
                  <a:pt x="10382" y="8905"/>
                  <a:pt x="10430" y="8846"/>
                  <a:pt x="10418" y="8781"/>
                </a:cubicBezTo>
                <a:cubicBezTo>
                  <a:pt x="10403" y="8701"/>
                  <a:pt x="10324" y="8675"/>
                  <a:pt x="10244" y="8706"/>
                </a:cubicBezTo>
                <a:cubicBezTo>
                  <a:pt x="10219" y="8716"/>
                  <a:pt x="10150" y="8828"/>
                  <a:pt x="10145" y="8855"/>
                </a:cubicBezTo>
                <a:cubicBezTo>
                  <a:pt x="10131" y="8934"/>
                  <a:pt x="10151" y="9005"/>
                  <a:pt x="10170" y="9079"/>
                </a:cubicBezTo>
              </a:path>
              <a:path w="5830" h="1415">
                <a:moveTo>
                  <a:pt x="11187" y="8434"/>
                </a:moveTo>
                <a:cubicBezTo>
                  <a:pt x="11196" y="8495"/>
                  <a:pt x="11205" y="8501"/>
                  <a:pt x="11237" y="8558"/>
                </a:cubicBezTo>
                <a:cubicBezTo>
                  <a:pt x="11171" y="8492"/>
                  <a:pt x="11140" y="8463"/>
                  <a:pt x="11038" y="8483"/>
                </a:cubicBezTo>
                <a:cubicBezTo>
                  <a:pt x="10965" y="8497"/>
                  <a:pt x="10939" y="8522"/>
                  <a:pt x="10914" y="8582"/>
                </a:cubicBezTo>
                <a:cubicBezTo>
                  <a:pt x="10953" y="8641"/>
                  <a:pt x="11026" y="8669"/>
                  <a:pt x="11063" y="8706"/>
                </a:cubicBezTo>
                <a:cubicBezTo>
                  <a:pt x="11130" y="8774"/>
                  <a:pt x="11187" y="8833"/>
                  <a:pt x="11212" y="8930"/>
                </a:cubicBezTo>
                <a:cubicBezTo>
                  <a:pt x="11227" y="8987"/>
                  <a:pt x="11118" y="9051"/>
                  <a:pt x="11088" y="9079"/>
                </a:cubicBezTo>
                <a:cubicBezTo>
                  <a:pt x="11034" y="9050"/>
                  <a:pt x="10904" y="9044"/>
                  <a:pt x="10864" y="9004"/>
                </a:cubicBezTo>
                <a:cubicBezTo>
                  <a:pt x="10840" y="8954"/>
                  <a:pt x="10832" y="8937"/>
                  <a:pt x="10790" y="8930"/>
                </a:cubicBezTo>
              </a:path>
              <a:path w="5830" h="1415">
                <a:moveTo>
                  <a:pt x="11485" y="8657"/>
                </a:moveTo>
                <a:cubicBezTo>
                  <a:pt x="11485" y="8822"/>
                  <a:pt x="11485" y="8839"/>
                  <a:pt x="11485" y="8930"/>
                </a:cubicBezTo>
              </a:path>
              <a:path w="5830" h="1415">
                <a:moveTo>
                  <a:pt x="11509" y="8260"/>
                </a:moveTo>
                <a:cubicBezTo>
                  <a:pt x="11517" y="8252"/>
                  <a:pt x="11526" y="8243"/>
                  <a:pt x="11534" y="8235"/>
                </a:cubicBezTo>
              </a:path>
              <a:path w="5830" h="1415">
                <a:moveTo>
                  <a:pt x="11683" y="8930"/>
                </a:moveTo>
                <a:cubicBezTo>
                  <a:pt x="11683" y="8955"/>
                  <a:pt x="11683" y="8979"/>
                  <a:pt x="11683" y="9004"/>
                </a:cubicBezTo>
                <a:cubicBezTo>
                  <a:pt x="11683" y="8879"/>
                  <a:pt x="11669" y="8752"/>
                  <a:pt x="11708" y="8632"/>
                </a:cubicBezTo>
                <a:cubicBezTo>
                  <a:pt x="11725" y="8580"/>
                  <a:pt x="11761" y="8483"/>
                  <a:pt x="11832" y="8483"/>
                </a:cubicBezTo>
                <a:cubicBezTo>
                  <a:pt x="11940" y="8483"/>
                  <a:pt x="12039" y="8666"/>
                  <a:pt x="12080" y="8731"/>
                </a:cubicBezTo>
                <a:cubicBezTo>
                  <a:pt x="12128" y="8806"/>
                  <a:pt x="12105" y="8918"/>
                  <a:pt x="12105" y="9004"/>
                </a:cubicBezTo>
                <a:cubicBezTo>
                  <a:pt x="12105" y="9037"/>
                  <a:pt x="12105" y="9054"/>
                  <a:pt x="12105" y="9079"/>
                </a:cubicBezTo>
              </a:path>
              <a:path w="5830" h="1415">
                <a:moveTo>
                  <a:pt x="12774" y="8334"/>
                </a:moveTo>
                <a:cubicBezTo>
                  <a:pt x="12692" y="8211"/>
                  <a:pt x="12665" y="8203"/>
                  <a:pt x="12526" y="8285"/>
                </a:cubicBezTo>
                <a:cubicBezTo>
                  <a:pt x="12445" y="8333"/>
                  <a:pt x="12378" y="8336"/>
                  <a:pt x="12353" y="8434"/>
                </a:cubicBezTo>
                <a:cubicBezTo>
                  <a:pt x="12353" y="8492"/>
                  <a:pt x="12353" y="8517"/>
                  <a:pt x="12353" y="8558"/>
                </a:cubicBezTo>
                <a:cubicBezTo>
                  <a:pt x="12421" y="8567"/>
                  <a:pt x="12473" y="8596"/>
                  <a:pt x="12551" y="8582"/>
                </a:cubicBezTo>
                <a:cubicBezTo>
                  <a:pt x="12685" y="8557"/>
                  <a:pt x="12655" y="8485"/>
                  <a:pt x="12725" y="8409"/>
                </a:cubicBezTo>
                <a:cubicBezTo>
                  <a:pt x="12768" y="8409"/>
                  <a:pt x="12771" y="8392"/>
                  <a:pt x="12725" y="8334"/>
                </a:cubicBezTo>
                <a:cubicBezTo>
                  <a:pt x="12688" y="8444"/>
                  <a:pt x="12672" y="8544"/>
                  <a:pt x="12650" y="8657"/>
                </a:cubicBezTo>
                <a:cubicBezTo>
                  <a:pt x="12627" y="8772"/>
                  <a:pt x="12589" y="8889"/>
                  <a:pt x="12576" y="9004"/>
                </a:cubicBezTo>
                <a:cubicBezTo>
                  <a:pt x="12569" y="9068"/>
                  <a:pt x="12526" y="9226"/>
                  <a:pt x="12601" y="9079"/>
                </a:cubicBezTo>
              </a:path>
              <a:path w="5830" h="1415">
                <a:moveTo>
                  <a:pt x="12923" y="8235"/>
                </a:moveTo>
                <a:cubicBezTo>
                  <a:pt x="12915" y="8343"/>
                  <a:pt x="12865" y="8377"/>
                  <a:pt x="12849" y="8483"/>
                </a:cubicBezTo>
                <a:cubicBezTo>
                  <a:pt x="12841" y="8533"/>
                  <a:pt x="12842" y="8628"/>
                  <a:pt x="12898" y="8657"/>
                </a:cubicBezTo>
                <a:cubicBezTo>
                  <a:pt x="13045" y="8733"/>
                  <a:pt x="13083" y="8724"/>
                  <a:pt x="13196" y="8632"/>
                </a:cubicBezTo>
              </a:path>
              <a:path w="5830" h="1415">
                <a:moveTo>
                  <a:pt x="13271" y="8161"/>
                </a:moveTo>
                <a:cubicBezTo>
                  <a:pt x="13246" y="8296"/>
                  <a:pt x="13203" y="8446"/>
                  <a:pt x="13196" y="8582"/>
                </a:cubicBezTo>
                <a:cubicBezTo>
                  <a:pt x="13186" y="8761"/>
                  <a:pt x="13195" y="8929"/>
                  <a:pt x="13171" y="9103"/>
                </a:cubicBezTo>
                <a:cubicBezTo>
                  <a:pt x="13171" y="9120"/>
                  <a:pt x="13171" y="9136"/>
                  <a:pt x="13171" y="9153"/>
                </a:cubicBezTo>
              </a:path>
              <a:path w="5830" h="1415">
                <a:moveTo>
                  <a:pt x="13444" y="8161"/>
                </a:moveTo>
                <a:cubicBezTo>
                  <a:pt x="13430" y="8217"/>
                  <a:pt x="13373" y="8327"/>
                  <a:pt x="13469" y="8334"/>
                </a:cubicBezTo>
                <a:cubicBezTo>
                  <a:pt x="13564" y="8341"/>
                  <a:pt x="13654" y="8346"/>
                  <a:pt x="13717" y="8260"/>
                </a:cubicBezTo>
                <a:cubicBezTo>
                  <a:pt x="13755" y="8208"/>
                  <a:pt x="13789" y="8165"/>
                  <a:pt x="13742" y="8111"/>
                </a:cubicBezTo>
                <a:cubicBezTo>
                  <a:pt x="13680" y="8040"/>
                  <a:pt x="13584" y="8045"/>
                  <a:pt x="13494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Ink 29"/>
          <p:cNvSpPr/>
          <p:nvPr/>
        </p:nvSpPr>
        <p:spPr>
          <a:xfrm>
            <a:off x="5589720" y="2438280"/>
            <a:ext cx="260280" cy="561960"/>
          </a:xfrm>
          <a:custGeom>
            <a:avLst/>
            <a:gdLst/>
            <a:ahLst/>
            <a:rect l="l" t="t" r="r" b="b"/>
            <a:pathLst>
              <a:path w="720" h="1563">
                <a:moveTo>
                  <a:pt x="15726" y="7541"/>
                </a:moveTo>
                <a:cubicBezTo>
                  <a:pt x="15761" y="7597"/>
                  <a:pt x="15764" y="7693"/>
                  <a:pt x="15751" y="7764"/>
                </a:cubicBezTo>
                <a:cubicBezTo>
                  <a:pt x="15726" y="7896"/>
                  <a:pt x="15673" y="8028"/>
                  <a:pt x="15652" y="8161"/>
                </a:cubicBezTo>
                <a:cubicBezTo>
                  <a:pt x="15640" y="8235"/>
                  <a:pt x="15615" y="8269"/>
                  <a:pt x="15577" y="8334"/>
                </a:cubicBezTo>
                <a:cubicBezTo>
                  <a:pt x="15563" y="8310"/>
                  <a:pt x="15539" y="8271"/>
                  <a:pt x="15553" y="8210"/>
                </a:cubicBezTo>
                <a:cubicBezTo>
                  <a:pt x="15604" y="7989"/>
                  <a:pt x="15649" y="7729"/>
                  <a:pt x="15726" y="7516"/>
                </a:cubicBezTo>
                <a:cubicBezTo>
                  <a:pt x="15774" y="7384"/>
                  <a:pt x="15809" y="7254"/>
                  <a:pt x="15850" y="7119"/>
                </a:cubicBezTo>
                <a:cubicBezTo>
                  <a:pt x="15876" y="7034"/>
                  <a:pt x="15891" y="6922"/>
                  <a:pt x="15925" y="6846"/>
                </a:cubicBezTo>
                <a:cubicBezTo>
                  <a:pt x="15954" y="6816"/>
                  <a:pt x="15965" y="6802"/>
                  <a:pt x="15974" y="6772"/>
                </a:cubicBezTo>
                <a:cubicBezTo>
                  <a:pt x="15999" y="6837"/>
                  <a:pt x="16017" y="6925"/>
                  <a:pt x="16024" y="6995"/>
                </a:cubicBezTo>
                <a:cubicBezTo>
                  <a:pt x="16037" y="7126"/>
                  <a:pt x="16033" y="7260"/>
                  <a:pt x="16049" y="7392"/>
                </a:cubicBezTo>
                <a:cubicBezTo>
                  <a:pt x="16067" y="7541"/>
                  <a:pt x="16108" y="7688"/>
                  <a:pt x="16123" y="7838"/>
                </a:cubicBezTo>
                <a:cubicBezTo>
                  <a:pt x="16139" y="7997"/>
                  <a:pt x="16167" y="8153"/>
                  <a:pt x="16197" y="8310"/>
                </a:cubicBezTo>
                <a:cubicBezTo>
                  <a:pt x="16197" y="8334"/>
                  <a:pt x="16197" y="8342"/>
                  <a:pt x="16197" y="8310"/>
                </a:cubicBezTo>
              </a:path>
              <a:path w="720" h="1563">
                <a:moveTo>
                  <a:pt x="15528" y="7838"/>
                </a:moveTo>
                <a:cubicBezTo>
                  <a:pt x="15705" y="7838"/>
                  <a:pt x="15875" y="7828"/>
                  <a:pt x="16049" y="7813"/>
                </a:cubicBezTo>
                <a:cubicBezTo>
                  <a:pt x="16148" y="7813"/>
                  <a:pt x="16181" y="7813"/>
                  <a:pt x="16247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Ink 30"/>
          <p:cNvSpPr/>
          <p:nvPr/>
        </p:nvSpPr>
        <p:spPr>
          <a:xfrm>
            <a:off x="6054840" y="2670120"/>
            <a:ext cx="231840" cy="295200"/>
          </a:xfrm>
          <a:custGeom>
            <a:avLst/>
            <a:gdLst/>
            <a:ahLst/>
            <a:rect l="l" t="t" r="r" b="b"/>
            <a:pathLst>
              <a:path w="645" h="819">
                <a:moveTo>
                  <a:pt x="16842" y="7789"/>
                </a:moveTo>
                <a:cubicBezTo>
                  <a:pt x="16842" y="7930"/>
                  <a:pt x="16860" y="8013"/>
                  <a:pt x="16867" y="8136"/>
                </a:cubicBezTo>
                <a:cubicBezTo>
                  <a:pt x="16871" y="8202"/>
                  <a:pt x="16837" y="8229"/>
                  <a:pt x="16892" y="8210"/>
                </a:cubicBezTo>
              </a:path>
              <a:path w="645" h="819">
                <a:moveTo>
                  <a:pt x="16842" y="7441"/>
                </a:moveTo>
                <a:cubicBezTo>
                  <a:pt x="16793" y="7392"/>
                  <a:pt x="16839" y="7434"/>
                  <a:pt x="16867" y="7441"/>
                </a:cubicBezTo>
              </a:path>
              <a:path w="645" h="819">
                <a:moveTo>
                  <a:pt x="17363" y="7665"/>
                </a:moveTo>
                <a:cubicBezTo>
                  <a:pt x="17269" y="7707"/>
                  <a:pt x="17168" y="7743"/>
                  <a:pt x="17090" y="7813"/>
                </a:cubicBezTo>
                <a:cubicBezTo>
                  <a:pt x="17082" y="7821"/>
                  <a:pt x="17074" y="7830"/>
                  <a:pt x="17066" y="7838"/>
                </a:cubicBezTo>
                <a:cubicBezTo>
                  <a:pt x="17110" y="7865"/>
                  <a:pt x="17160" y="7891"/>
                  <a:pt x="17214" y="7913"/>
                </a:cubicBezTo>
                <a:cubicBezTo>
                  <a:pt x="17279" y="7940"/>
                  <a:pt x="17433" y="7988"/>
                  <a:pt x="17462" y="8062"/>
                </a:cubicBezTo>
                <a:cubicBezTo>
                  <a:pt x="17495" y="8146"/>
                  <a:pt x="17402" y="8207"/>
                  <a:pt x="17338" y="8210"/>
                </a:cubicBezTo>
                <a:cubicBezTo>
                  <a:pt x="17273" y="8213"/>
                  <a:pt x="17178" y="8235"/>
                  <a:pt x="17214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Ink 31"/>
          <p:cNvSpPr/>
          <p:nvPr/>
        </p:nvSpPr>
        <p:spPr>
          <a:xfrm>
            <a:off x="6465960" y="2598840"/>
            <a:ext cx="1044360" cy="357120"/>
          </a:xfrm>
          <a:custGeom>
            <a:avLst/>
            <a:gdLst/>
            <a:ahLst/>
            <a:rect l="l" t="t" r="r" b="b"/>
            <a:pathLst>
              <a:path w="2903" h="993">
                <a:moveTo>
                  <a:pt x="18058" y="7838"/>
                </a:moveTo>
                <a:cubicBezTo>
                  <a:pt x="18015" y="7948"/>
                  <a:pt x="17972" y="8016"/>
                  <a:pt x="17983" y="8111"/>
                </a:cubicBezTo>
                <a:cubicBezTo>
                  <a:pt x="17992" y="8191"/>
                  <a:pt x="18052" y="8207"/>
                  <a:pt x="18132" y="8210"/>
                </a:cubicBezTo>
                <a:cubicBezTo>
                  <a:pt x="18201" y="8213"/>
                  <a:pt x="18302" y="8222"/>
                  <a:pt x="18331" y="8136"/>
                </a:cubicBezTo>
                <a:cubicBezTo>
                  <a:pt x="18352" y="8073"/>
                  <a:pt x="18352" y="8001"/>
                  <a:pt x="18331" y="7938"/>
                </a:cubicBezTo>
                <a:cubicBezTo>
                  <a:pt x="18295" y="7830"/>
                  <a:pt x="18181" y="7807"/>
                  <a:pt x="18083" y="7789"/>
                </a:cubicBezTo>
                <a:cubicBezTo>
                  <a:pt x="18010" y="7775"/>
                  <a:pt x="17992" y="7792"/>
                  <a:pt x="18058" y="7739"/>
                </a:cubicBezTo>
              </a:path>
              <a:path w="2903" h="993">
                <a:moveTo>
                  <a:pt x="18554" y="7243"/>
                </a:moveTo>
                <a:cubicBezTo>
                  <a:pt x="18523" y="7243"/>
                  <a:pt x="18491" y="7421"/>
                  <a:pt x="18479" y="7516"/>
                </a:cubicBezTo>
                <a:cubicBezTo>
                  <a:pt x="18465" y="7629"/>
                  <a:pt x="18492" y="7731"/>
                  <a:pt x="18504" y="7838"/>
                </a:cubicBezTo>
                <a:cubicBezTo>
                  <a:pt x="18513" y="7922"/>
                  <a:pt x="18506" y="8030"/>
                  <a:pt x="18529" y="8111"/>
                </a:cubicBezTo>
                <a:cubicBezTo>
                  <a:pt x="18553" y="8159"/>
                  <a:pt x="18561" y="8173"/>
                  <a:pt x="18554" y="8210"/>
                </a:cubicBezTo>
                <a:cubicBezTo>
                  <a:pt x="18554" y="8118"/>
                  <a:pt x="18533" y="8051"/>
                  <a:pt x="18529" y="7962"/>
                </a:cubicBezTo>
                <a:cubicBezTo>
                  <a:pt x="18523" y="7828"/>
                  <a:pt x="18541" y="7778"/>
                  <a:pt x="18678" y="7714"/>
                </a:cubicBezTo>
                <a:cubicBezTo>
                  <a:pt x="18737" y="7687"/>
                  <a:pt x="18845" y="7772"/>
                  <a:pt x="18876" y="7813"/>
                </a:cubicBezTo>
                <a:cubicBezTo>
                  <a:pt x="18909" y="7857"/>
                  <a:pt x="18904" y="7996"/>
                  <a:pt x="18876" y="8037"/>
                </a:cubicBezTo>
                <a:cubicBezTo>
                  <a:pt x="18845" y="8083"/>
                  <a:pt x="18676" y="8149"/>
                  <a:pt x="18628" y="8161"/>
                </a:cubicBezTo>
                <a:cubicBezTo>
                  <a:pt x="18557" y="8179"/>
                  <a:pt x="18534" y="8127"/>
                  <a:pt x="18554" y="8086"/>
                </a:cubicBezTo>
              </a:path>
              <a:path w="2903" h="993">
                <a:moveTo>
                  <a:pt x="19149" y="7417"/>
                </a:moveTo>
                <a:cubicBezTo>
                  <a:pt x="19149" y="7538"/>
                  <a:pt x="19128" y="7647"/>
                  <a:pt x="19124" y="7764"/>
                </a:cubicBezTo>
                <a:cubicBezTo>
                  <a:pt x="19120" y="7877"/>
                  <a:pt x="19145" y="7976"/>
                  <a:pt x="19149" y="8086"/>
                </a:cubicBezTo>
                <a:cubicBezTo>
                  <a:pt x="19150" y="8112"/>
                  <a:pt x="19149" y="8286"/>
                  <a:pt x="19174" y="8161"/>
                </a:cubicBezTo>
              </a:path>
              <a:path w="2903" h="993">
                <a:moveTo>
                  <a:pt x="19025" y="7739"/>
                </a:moveTo>
                <a:cubicBezTo>
                  <a:pt x="19114" y="7739"/>
                  <a:pt x="19187" y="7740"/>
                  <a:pt x="19273" y="7714"/>
                </a:cubicBezTo>
                <a:cubicBezTo>
                  <a:pt x="19363" y="7687"/>
                  <a:pt x="19365" y="7683"/>
                  <a:pt x="19447" y="7714"/>
                </a:cubicBezTo>
                <a:cubicBezTo>
                  <a:pt x="19434" y="7818"/>
                  <a:pt x="19403" y="7896"/>
                  <a:pt x="19422" y="8012"/>
                </a:cubicBezTo>
                <a:cubicBezTo>
                  <a:pt x="19434" y="8084"/>
                  <a:pt x="19484" y="8154"/>
                  <a:pt x="19546" y="8161"/>
                </a:cubicBezTo>
                <a:cubicBezTo>
                  <a:pt x="19652" y="8174"/>
                  <a:pt x="19666" y="8094"/>
                  <a:pt x="19695" y="8012"/>
                </a:cubicBezTo>
                <a:cubicBezTo>
                  <a:pt x="19722" y="7936"/>
                  <a:pt x="19720" y="7893"/>
                  <a:pt x="19720" y="7813"/>
                </a:cubicBezTo>
                <a:cubicBezTo>
                  <a:pt x="19720" y="7866"/>
                  <a:pt x="19708" y="8002"/>
                  <a:pt x="19769" y="8037"/>
                </a:cubicBezTo>
                <a:cubicBezTo>
                  <a:pt x="19814" y="8063"/>
                  <a:pt x="19851" y="8049"/>
                  <a:pt x="19893" y="8037"/>
                </a:cubicBezTo>
              </a:path>
              <a:path w="2903" h="993">
                <a:moveTo>
                  <a:pt x="20092" y="7665"/>
                </a:moveTo>
                <a:cubicBezTo>
                  <a:pt x="20014" y="7665"/>
                  <a:pt x="19997" y="7650"/>
                  <a:pt x="19968" y="7689"/>
                </a:cubicBezTo>
                <a:cubicBezTo>
                  <a:pt x="19979" y="7781"/>
                  <a:pt x="20031" y="7806"/>
                  <a:pt x="20067" y="7888"/>
                </a:cubicBezTo>
                <a:cubicBezTo>
                  <a:pt x="20106" y="7978"/>
                  <a:pt x="20135" y="8036"/>
                  <a:pt x="20067" y="8111"/>
                </a:cubicBezTo>
                <a:cubicBezTo>
                  <a:pt x="20046" y="8134"/>
                  <a:pt x="19930" y="8128"/>
                  <a:pt x="19918" y="8086"/>
                </a:cubicBezTo>
                <a:cubicBezTo>
                  <a:pt x="19918" y="8028"/>
                  <a:pt x="19918" y="8020"/>
                  <a:pt x="19918" y="7987"/>
                </a:cubicBezTo>
              </a:path>
              <a:path w="2903" h="993">
                <a:moveTo>
                  <a:pt x="20191" y="7888"/>
                </a:moveTo>
                <a:cubicBezTo>
                  <a:pt x="20267" y="7812"/>
                  <a:pt x="20327" y="7747"/>
                  <a:pt x="20389" y="7665"/>
                </a:cubicBezTo>
                <a:cubicBezTo>
                  <a:pt x="20414" y="7640"/>
                  <a:pt x="20422" y="7632"/>
                  <a:pt x="20389" y="7615"/>
                </a:cubicBezTo>
                <a:cubicBezTo>
                  <a:pt x="20338" y="7658"/>
                  <a:pt x="20232" y="7693"/>
                  <a:pt x="20216" y="7764"/>
                </a:cubicBezTo>
                <a:cubicBezTo>
                  <a:pt x="20198" y="7843"/>
                  <a:pt x="20243" y="7934"/>
                  <a:pt x="20290" y="7987"/>
                </a:cubicBezTo>
                <a:cubicBezTo>
                  <a:pt x="20355" y="8060"/>
                  <a:pt x="20536" y="8142"/>
                  <a:pt x="20638" y="8161"/>
                </a:cubicBezTo>
                <a:cubicBezTo>
                  <a:pt x="20724" y="8177"/>
                  <a:pt x="20795" y="8164"/>
                  <a:pt x="20861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Ink 32"/>
          <p:cNvSpPr/>
          <p:nvPr/>
        </p:nvSpPr>
        <p:spPr>
          <a:xfrm>
            <a:off x="3116160" y="3463920"/>
            <a:ext cx="179640" cy="563400"/>
          </a:xfrm>
          <a:custGeom>
            <a:avLst/>
            <a:gdLst/>
            <a:ahLst/>
            <a:rect l="l" t="t" r="r" b="b"/>
            <a:pathLst>
              <a:path w="497" h="1564">
                <a:moveTo>
                  <a:pt x="8657" y="9624"/>
                </a:moveTo>
                <a:cubicBezTo>
                  <a:pt x="8665" y="9763"/>
                  <a:pt x="8667" y="9860"/>
                  <a:pt x="8657" y="9996"/>
                </a:cubicBezTo>
                <a:cubicBezTo>
                  <a:pt x="8642" y="10197"/>
                  <a:pt x="8671" y="10395"/>
                  <a:pt x="8682" y="10592"/>
                </a:cubicBezTo>
                <a:cubicBezTo>
                  <a:pt x="8692" y="10770"/>
                  <a:pt x="8665" y="10937"/>
                  <a:pt x="8657" y="11112"/>
                </a:cubicBezTo>
                <a:cubicBezTo>
                  <a:pt x="8657" y="11252"/>
                  <a:pt x="8653" y="10964"/>
                  <a:pt x="8657" y="10939"/>
                </a:cubicBezTo>
                <a:cubicBezTo>
                  <a:pt x="8674" y="10831"/>
                  <a:pt x="8669" y="10665"/>
                  <a:pt x="8706" y="10567"/>
                </a:cubicBezTo>
                <a:cubicBezTo>
                  <a:pt x="8743" y="10470"/>
                  <a:pt x="8794" y="10397"/>
                  <a:pt x="8880" y="10344"/>
                </a:cubicBezTo>
                <a:cubicBezTo>
                  <a:pt x="8935" y="10411"/>
                  <a:pt x="8973" y="10485"/>
                  <a:pt x="9004" y="10567"/>
                </a:cubicBezTo>
                <a:cubicBezTo>
                  <a:pt x="9061" y="10721"/>
                  <a:pt x="9068" y="10901"/>
                  <a:pt x="9079" y="11063"/>
                </a:cubicBezTo>
                <a:cubicBezTo>
                  <a:pt x="9087" y="11175"/>
                  <a:pt x="9062" y="11189"/>
                  <a:pt x="9153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Ink 33"/>
          <p:cNvSpPr/>
          <p:nvPr/>
        </p:nvSpPr>
        <p:spPr>
          <a:xfrm>
            <a:off x="3419640" y="377676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9500" y="10567"/>
                </a:moveTo>
                <a:cubicBezTo>
                  <a:pt x="9598" y="10541"/>
                  <a:pt x="9684" y="10526"/>
                  <a:pt x="9773" y="10492"/>
                </a:cubicBezTo>
              </a:path>
              <a:path w="274" h="274">
                <a:moveTo>
                  <a:pt x="9525" y="10740"/>
                </a:moveTo>
                <a:cubicBezTo>
                  <a:pt x="9635" y="10756"/>
                  <a:pt x="9661" y="10748"/>
                  <a:pt x="9773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Ink 34"/>
          <p:cNvSpPr/>
          <p:nvPr/>
        </p:nvSpPr>
        <p:spPr>
          <a:xfrm>
            <a:off x="3751200" y="3616200"/>
            <a:ext cx="392040" cy="393840"/>
          </a:xfrm>
          <a:custGeom>
            <a:avLst/>
            <a:gdLst/>
            <a:ahLst/>
            <a:rect l="l" t="t" r="r" b="b"/>
            <a:pathLst>
              <a:path w="1092" h="1092">
                <a:moveTo>
                  <a:pt x="10567" y="10071"/>
                </a:moveTo>
                <a:cubicBezTo>
                  <a:pt x="10567" y="10200"/>
                  <a:pt x="10545" y="10317"/>
                  <a:pt x="10542" y="10443"/>
                </a:cubicBezTo>
                <a:cubicBezTo>
                  <a:pt x="10537" y="10638"/>
                  <a:pt x="10501" y="10774"/>
                  <a:pt x="10468" y="10964"/>
                </a:cubicBezTo>
                <a:cubicBezTo>
                  <a:pt x="10455" y="11041"/>
                  <a:pt x="10454" y="11066"/>
                  <a:pt x="10418" y="11137"/>
                </a:cubicBezTo>
              </a:path>
              <a:path w="1092" h="1092">
                <a:moveTo>
                  <a:pt x="10740" y="10145"/>
                </a:moveTo>
                <a:cubicBezTo>
                  <a:pt x="10757" y="10143"/>
                  <a:pt x="11080" y="10142"/>
                  <a:pt x="11112" y="10120"/>
                </a:cubicBezTo>
                <a:cubicBezTo>
                  <a:pt x="11134" y="10077"/>
                  <a:pt x="11138" y="10065"/>
                  <a:pt x="11162" y="10046"/>
                </a:cubicBezTo>
              </a:path>
              <a:path w="1092" h="1092">
                <a:moveTo>
                  <a:pt x="10691" y="10046"/>
                </a:moveTo>
                <a:cubicBezTo>
                  <a:pt x="10620" y="10182"/>
                  <a:pt x="10552" y="10237"/>
                  <a:pt x="10616" y="10368"/>
                </a:cubicBezTo>
                <a:cubicBezTo>
                  <a:pt x="10676" y="10343"/>
                  <a:pt x="10693" y="10286"/>
                  <a:pt x="10740" y="10269"/>
                </a:cubicBezTo>
                <a:cubicBezTo>
                  <a:pt x="10868" y="10223"/>
                  <a:pt x="10887" y="10361"/>
                  <a:pt x="10939" y="10418"/>
                </a:cubicBezTo>
                <a:cubicBezTo>
                  <a:pt x="10973" y="10455"/>
                  <a:pt x="11038" y="10575"/>
                  <a:pt x="11063" y="10641"/>
                </a:cubicBezTo>
                <a:cubicBezTo>
                  <a:pt x="11085" y="10700"/>
                  <a:pt x="11133" y="10883"/>
                  <a:pt x="11088" y="10939"/>
                </a:cubicBezTo>
                <a:cubicBezTo>
                  <a:pt x="11014" y="11030"/>
                  <a:pt x="10975" y="11003"/>
                  <a:pt x="10889" y="10988"/>
                </a:cubicBezTo>
                <a:cubicBezTo>
                  <a:pt x="10803" y="10973"/>
                  <a:pt x="10778" y="10977"/>
                  <a:pt x="10765" y="10889"/>
                </a:cubicBezTo>
              </a:path>
              <a:path w="1092" h="1092">
                <a:moveTo>
                  <a:pt x="11435" y="10889"/>
                </a:moveTo>
                <a:cubicBezTo>
                  <a:pt x="11400" y="10977"/>
                  <a:pt x="11365" y="11015"/>
                  <a:pt x="11460" y="10964"/>
                </a:cubicBezTo>
                <a:cubicBezTo>
                  <a:pt x="11575" y="10903"/>
                  <a:pt x="11403" y="10936"/>
                  <a:pt x="11460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Ink 35"/>
          <p:cNvSpPr/>
          <p:nvPr/>
        </p:nvSpPr>
        <p:spPr>
          <a:xfrm>
            <a:off x="4295880" y="3562200"/>
            <a:ext cx="196920" cy="411480"/>
          </a:xfrm>
          <a:custGeom>
            <a:avLst/>
            <a:gdLst/>
            <a:ahLst/>
            <a:rect l="l" t="t" r="r" b="b"/>
            <a:pathLst>
              <a:path w="547" h="1142">
                <a:moveTo>
                  <a:pt x="12303" y="10195"/>
                </a:moveTo>
                <a:cubicBezTo>
                  <a:pt x="12353" y="10220"/>
                  <a:pt x="12369" y="10228"/>
                  <a:pt x="12378" y="10269"/>
                </a:cubicBezTo>
                <a:cubicBezTo>
                  <a:pt x="12400" y="10201"/>
                  <a:pt x="12415" y="10121"/>
                  <a:pt x="12402" y="10046"/>
                </a:cubicBezTo>
                <a:cubicBezTo>
                  <a:pt x="12396" y="10013"/>
                  <a:pt x="12343" y="9911"/>
                  <a:pt x="12303" y="9897"/>
                </a:cubicBezTo>
                <a:cubicBezTo>
                  <a:pt x="12190" y="9856"/>
                  <a:pt x="12175" y="9936"/>
                  <a:pt x="12105" y="9971"/>
                </a:cubicBezTo>
                <a:cubicBezTo>
                  <a:pt x="11990" y="10028"/>
                  <a:pt x="11950" y="10058"/>
                  <a:pt x="11931" y="10220"/>
                </a:cubicBezTo>
                <a:cubicBezTo>
                  <a:pt x="11925" y="10272"/>
                  <a:pt x="12026" y="10334"/>
                  <a:pt x="12055" y="10344"/>
                </a:cubicBezTo>
                <a:cubicBezTo>
                  <a:pt x="12093" y="10357"/>
                  <a:pt x="12194" y="10373"/>
                  <a:pt x="12229" y="10344"/>
                </a:cubicBezTo>
                <a:cubicBezTo>
                  <a:pt x="12269" y="10310"/>
                  <a:pt x="12290" y="10235"/>
                  <a:pt x="12328" y="10195"/>
                </a:cubicBezTo>
                <a:cubicBezTo>
                  <a:pt x="12343" y="10179"/>
                  <a:pt x="12379" y="10149"/>
                  <a:pt x="12402" y="10120"/>
                </a:cubicBezTo>
                <a:cubicBezTo>
                  <a:pt x="12402" y="10227"/>
                  <a:pt x="12395" y="10319"/>
                  <a:pt x="12402" y="10418"/>
                </a:cubicBezTo>
                <a:cubicBezTo>
                  <a:pt x="12410" y="10527"/>
                  <a:pt x="12416" y="10632"/>
                  <a:pt x="12427" y="10740"/>
                </a:cubicBezTo>
                <a:cubicBezTo>
                  <a:pt x="12435" y="10824"/>
                  <a:pt x="12464" y="10916"/>
                  <a:pt x="12477" y="10988"/>
                </a:cubicBezTo>
                <a:cubicBezTo>
                  <a:pt x="12477" y="11040"/>
                  <a:pt x="12476" y="11055"/>
                  <a:pt x="12452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Ink 36"/>
          <p:cNvSpPr/>
          <p:nvPr/>
        </p:nvSpPr>
        <p:spPr>
          <a:xfrm>
            <a:off x="5776920" y="3330720"/>
            <a:ext cx="189000" cy="1872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6545" y="9451"/>
                </a:moveTo>
                <a:cubicBezTo>
                  <a:pt x="16569" y="9499"/>
                  <a:pt x="16578" y="9513"/>
                  <a:pt x="16570" y="9550"/>
                </a:cubicBezTo>
                <a:cubicBezTo>
                  <a:pt x="16563" y="9494"/>
                  <a:pt x="16534" y="9415"/>
                  <a:pt x="16495" y="9376"/>
                </a:cubicBezTo>
                <a:cubicBezTo>
                  <a:pt x="16486" y="9367"/>
                  <a:pt x="16392" y="9261"/>
                  <a:pt x="16371" y="9252"/>
                </a:cubicBezTo>
                <a:cubicBezTo>
                  <a:pt x="16285" y="9215"/>
                  <a:pt x="16233" y="9286"/>
                  <a:pt x="16173" y="9302"/>
                </a:cubicBezTo>
                <a:cubicBezTo>
                  <a:pt x="16070" y="9329"/>
                  <a:pt x="16056" y="9348"/>
                  <a:pt x="16049" y="9451"/>
                </a:cubicBezTo>
                <a:cubicBezTo>
                  <a:pt x="16044" y="9523"/>
                  <a:pt x="16026" y="9641"/>
                  <a:pt x="16073" y="9699"/>
                </a:cubicBezTo>
                <a:cubicBezTo>
                  <a:pt x="16138" y="9778"/>
                  <a:pt x="16146" y="9771"/>
                  <a:pt x="16222" y="9748"/>
                </a:cubicBezTo>
                <a:cubicBezTo>
                  <a:pt x="16266" y="9735"/>
                  <a:pt x="16319" y="9643"/>
                  <a:pt x="16346" y="9599"/>
                </a:cubicBezTo>
                <a:cubicBezTo>
                  <a:pt x="16389" y="9527"/>
                  <a:pt x="16406" y="9445"/>
                  <a:pt x="16446" y="9376"/>
                </a:cubicBezTo>
                <a:cubicBezTo>
                  <a:pt x="16473" y="9422"/>
                  <a:pt x="16497" y="9470"/>
                  <a:pt x="16520" y="9525"/>
                </a:cubicBezTo>
                <a:cubicBezTo>
                  <a:pt x="16556" y="9612"/>
                  <a:pt x="16561" y="9672"/>
                  <a:pt x="16570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Ink 37"/>
          <p:cNvSpPr/>
          <p:nvPr/>
        </p:nvSpPr>
        <p:spPr>
          <a:xfrm>
            <a:off x="6107040" y="3027240"/>
            <a:ext cx="1287360" cy="393840"/>
          </a:xfrm>
          <a:custGeom>
            <a:avLst/>
            <a:gdLst/>
            <a:ahLst/>
            <a:rect l="l" t="t" r="r" b="b"/>
            <a:pathLst>
              <a:path w="3573" h="1092">
                <a:moveTo>
                  <a:pt x="17438" y="8632"/>
                </a:moveTo>
                <a:cubicBezTo>
                  <a:pt x="17382" y="8711"/>
                  <a:pt x="17336" y="8774"/>
                  <a:pt x="17289" y="8855"/>
                </a:cubicBezTo>
                <a:cubicBezTo>
                  <a:pt x="17238" y="8944"/>
                  <a:pt x="17155" y="9037"/>
                  <a:pt x="17090" y="9103"/>
                </a:cubicBezTo>
                <a:cubicBezTo>
                  <a:pt x="17064" y="9129"/>
                  <a:pt x="16962" y="9175"/>
                  <a:pt x="16966" y="9227"/>
                </a:cubicBezTo>
                <a:cubicBezTo>
                  <a:pt x="16973" y="9306"/>
                  <a:pt x="17058" y="9302"/>
                  <a:pt x="17115" y="9302"/>
                </a:cubicBezTo>
                <a:cubicBezTo>
                  <a:pt x="17239" y="9302"/>
                  <a:pt x="17266" y="9332"/>
                  <a:pt x="17363" y="9376"/>
                </a:cubicBezTo>
                <a:cubicBezTo>
                  <a:pt x="17404" y="9395"/>
                  <a:pt x="17431" y="9427"/>
                  <a:pt x="17462" y="9451"/>
                </a:cubicBezTo>
                <a:cubicBezTo>
                  <a:pt x="17487" y="9475"/>
                  <a:pt x="17495" y="9483"/>
                  <a:pt x="17462" y="9500"/>
                </a:cubicBezTo>
              </a:path>
              <a:path w="3573" h="1092">
                <a:moveTo>
                  <a:pt x="17934" y="8558"/>
                </a:moveTo>
                <a:cubicBezTo>
                  <a:pt x="17934" y="8765"/>
                  <a:pt x="17868" y="9142"/>
                  <a:pt x="17959" y="9327"/>
                </a:cubicBezTo>
                <a:cubicBezTo>
                  <a:pt x="17986" y="9382"/>
                  <a:pt x="17994" y="9405"/>
                  <a:pt x="17983" y="9451"/>
                </a:cubicBezTo>
                <a:cubicBezTo>
                  <a:pt x="18074" y="9451"/>
                  <a:pt x="18031" y="9390"/>
                  <a:pt x="18058" y="9327"/>
                </a:cubicBezTo>
                <a:cubicBezTo>
                  <a:pt x="18086" y="9262"/>
                  <a:pt x="18095" y="9172"/>
                  <a:pt x="18132" y="9103"/>
                </a:cubicBezTo>
                <a:cubicBezTo>
                  <a:pt x="18149" y="9071"/>
                  <a:pt x="18188" y="8941"/>
                  <a:pt x="18231" y="8930"/>
                </a:cubicBezTo>
                <a:cubicBezTo>
                  <a:pt x="18269" y="8920"/>
                  <a:pt x="18427" y="8914"/>
                  <a:pt x="18455" y="8954"/>
                </a:cubicBezTo>
                <a:cubicBezTo>
                  <a:pt x="18488" y="9000"/>
                  <a:pt x="18523" y="9133"/>
                  <a:pt x="18529" y="9178"/>
                </a:cubicBezTo>
                <a:cubicBezTo>
                  <a:pt x="18540" y="9257"/>
                  <a:pt x="18557" y="9328"/>
                  <a:pt x="18579" y="9401"/>
                </a:cubicBezTo>
                <a:cubicBezTo>
                  <a:pt x="18607" y="9493"/>
                  <a:pt x="18593" y="9450"/>
                  <a:pt x="18628" y="9451"/>
                </a:cubicBezTo>
              </a:path>
              <a:path w="3573" h="1092">
                <a:moveTo>
                  <a:pt x="19447" y="8434"/>
                </a:moveTo>
                <a:cubicBezTo>
                  <a:pt x="19439" y="8566"/>
                  <a:pt x="19391" y="8670"/>
                  <a:pt x="19298" y="8781"/>
                </a:cubicBezTo>
                <a:cubicBezTo>
                  <a:pt x="19240" y="8850"/>
                  <a:pt x="19152" y="8920"/>
                  <a:pt x="19100" y="9004"/>
                </a:cubicBezTo>
                <a:cubicBezTo>
                  <a:pt x="19052" y="9082"/>
                  <a:pt x="19016" y="9120"/>
                  <a:pt x="18976" y="9178"/>
                </a:cubicBezTo>
                <a:cubicBezTo>
                  <a:pt x="18968" y="9194"/>
                  <a:pt x="18959" y="9211"/>
                  <a:pt x="18951" y="9227"/>
                </a:cubicBezTo>
                <a:cubicBezTo>
                  <a:pt x="19032" y="9227"/>
                  <a:pt x="19186" y="9194"/>
                  <a:pt x="19248" y="9252"/>
                </a:cubicBezTo>
                <a:cubicBezTo>
                  <a:pt x="19316" y="9316"/>
                  <a:pt x="19365" y="9271"/>
                  <a:pt x="19447" y="9327"/>
                </a:cubicBezTo>
                <a:cubicBezTo>
                  <a:pt x="19524" y="9379"/>
                  <a:pt x="19541" y="9408"/>
                  <a:pt x="19596" y="9327"/>
                </a:cubicBezTo>
              </a:path>
              <a:path w="3573" h="1092">
                <a:moveTo>
                  <a:pt x="19968" y="8409"/>
                </a:moveTo>
                <a:cubicBezTo>
                  <a:pt x="19962" y="8482"/>
                  <a:pt x="19957" y="8560"/>
                  <a:pt x="19943" y="8632"/>
                </a:cubicBezTo>
                <a:cubicBezTo>
                  <a:pt x="19920" y="8744"/>
                  <a:pt x="19918" y="8839"/>
                  <a:pt x="19918" y="8954"/>
                </a:cubicBezTo>
                <a:cubicBezTo>
                  <a:pt x="19918" y="9083"/>
                  <a:pt x="19973" y="9185"/>
                  <a:pt x="19993" y="9302"/>
                </a:cubicBezTo>
                <a:cubicBezTo>
                  <a:pt x="19993" y="9378"/>
                  <a:pt x="19993" y="9404"/>
                  <a:pt x="20017" y="9451"/>
                </a:cubicBezTo>
                <a:cubicBezTo>
                  <a:pt x="20040" y="9368"/>
                  <a:pt x="20036" y="9254"/>
                  <a:pt x="20067" y="9178"/>
                </a:cubicBezTo>
                <a:cubicBezTo>
                  <a:pt x="20090" y="9121"/>
                  <a:pt x="20133" y="9059"/>
                  <a:pt x="20166" y="9004"/>
                </a:cubicBezTo>
                <a:cubicBezTo>
                  <a:pt x="20218" y="8917"/>
                  <a:pt x="20212" y="8935"/>
                  <a:pt x="20315" y="8930"/>
                </a:cubicBezTo>
                <a:cubicBezTo>
                  <a:pt x="20397" y="8926"/>
                  <a:pt x="20440" y="8956"/>
                  <a:pt x="20489" y="9029"/>
                </a:cubicBezTo>
                <a:cubicBezTo>
                  <a:pt x="20545" y="9112"/>
                  <a:pt x="20539" y="9164"/>
                  <a:pt x="20513" y="9252"/>
                </a:cubicBezTo>
                <a:cubicBezTo>
                  <a:pt x="20486" y="9344"/>
                  <a:pt x="20370" y="9369"/>
                  <a:pt x="20290" y="9376"/>
                </a:cubicBezTo>
                <a:cubicBezTo>
                  <a:pt x="20155" y="9388"/>
                  <a:pt x="20029" y="9381"/>
                  <a:pt x="19893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Ink 38"/>
          <p:cNvSpPr/>
          <p:nvPr/>
        </p:nvSpPr>
        <p:spPr>
          <a:xfrm>
            <a:off x="2428920" y="4483080"/>
            <a:ext cx="2197080" cy="839880"/>
          </a:xfrm>
          <a:custGeom>
            <a:avLst/>
            <a:gdLst/>
            <a:ahLst/>
            <a:rect l="l" t="t" r="r" b="b"/>
            <a:pathLst>
              <a:path w="6103" h="2333">
                <a:moveTo>
                  <a:pt x="6970" y="12923"/>
                </a:moveTo>
                <a:cubicBezTo>
                  <a:pt x="6947" y="13163"/>
                  <a:pt x="6911" y="13402"/>
                  <a:pt x="6896" y="13643"/>
                </a:cubicBezTo>
                <a:cubicBezTo>
                  <a:pt x="6886" y="13807"/>
                  <a:pt x="6871" y="13977"/>
                  <a:pt x="6846" y="14139"/>
                </a:cubicBezTo>
                <a:cubicBezTo>
                  <a:pt x="6834" y="14219"/>
                  <a:pt x="6813" y="14293"/>
                  <a:pt x="6796" y="14362"/>
                </a:cubicBezTo>
              </a:path>
              <a:path w="6103" h="2333">
                <a:moveTo>
                  <a:pt x="6747" y="12452"/>
                </a:moveTo>
                <a:cubicBezTo>
                  <a:pt x="6802" y="12570"/>
                  <a:pt x="6867" y="12703"/>
                  <a:pt x="6921" y="12824"/>
                </a:cubicBezTo>
                <a:cubicBezTo>
                  <a:pt x="7002" y="13008"/>
                  <a:pt x="7082" y="13188"/>
                  <a:pt x="7169" y="13370"/>
                </a:cubicBezTo>
                <a:cubicBezTo>
                  <a:pt x="7263" y="13566"/>
                  <a:pt x="7401" y="13745"/>
                  <a:pt x="7491" y="13940"/>
                </a:cubicBezTo>
                <a:cubicBezTo>
                  <a:pt x="7563" y="14096"/>
                  <a:pt x="7617" y="14210"/>
                  <a:pt x="7739" y="14337"/>
                </a:cubicBezTo>
                <a:cubicBezTo>
                  <a:pt x="7764" y="14362"/>
                  <a:pt x="7772" y="14370"/>
                  <a:pt x="7789" y="14387"/>
                </a:cubicBezTo>
              </a:path>
              <a:path w="6103" h="2333">
                <a:moveTo>
                  <a:pt x="7565" y="12477"/>
                </a:moveTo>
                <a:cubicBezTo>
                  <a:pt x="7573" y="12642"/>
                  <a:pt x="7594" y="12809"/>
                  <a:pt x="7615" y="12973"/>
                </a:cubicBezTo>
                <a:cubicBezTo>
                  <a:pt x="7638" y="13156"/>
                  <a:pt x="7678" y="13334"/>
                  <a:pt x="7689" y="13519"/>
                </a:cubicBezTo>
                <a:cubicBezTo>
                  <a:pt x="7698" y="13677"/>
                  <a:pt x="7714" y="13830"/>
                  <a:pt x="7714" y="13990"/>
                </a:cubicBezTo>
                <a:cubicBezTo>
                  <a:pt x="7714" y="14048"/>
                  <a:pt x="7714" y="14105"/>
                  <a:pt x="7714" y="14163"/>
                </a:cubicBezTo>
              </a:path>
              <a:path w="6103" h="2333">
                <a:moveTo>
                  <a:pt x="8012" y="13618"/>
                </a:moveTo>
                <a:cubicBezTo>
                  <a:pt x="7958" y="13733"/>
                  <a:pt x="7903" y="13843"/>
                  <a:pt x="7888" y="13965"/>
                </a:cubicBezTo>
                <a:cubicBezTo>
                  <a:pt x="7872" y="14093"/>
                  <a:pt x="7936" y="14239"/>
                  <a:pt x="8062" y="14288"/>
                </a:cubicBezTo>
                <a:cubicBezTo>
                  <a:pt x="8146" y="14320"/>
                  <a:pt x="8223" y="14313"/>
                  <a:pt x="8285" y="14238"/>
                </a:cubicBezTo>
                <a:cubicBezTo>
                  <a:pt x="8341" y="14170"/>
                  <a:pt x="8395" y="14081"/>
                  <a:pt x="8409" y="13990"/>
                </a:cubicBezTo>
                <a:cubicBezTo>
                  <a:pt x="8426" y="13878"/>
                  <a:pt x="8334" y="13668"/>
                  <a:pt x="8260" y="13593"/>
                </a:cubicBezTo>
                <a:cubicBezTo>
                  <a:pt x="8209" y="13541"/>
                  <a:pt x="8157" y="13451"/>
                  <a:pt x="8086" y="13469"/>
                </a:cubicBezTo>
                <a:cubicBezTo>
                  <a:pt x="8086" y="13477"/>
                  <a:pt x="8086" y="13486"/>
                  <a:pt x="8086" y="13494"/>
                </a:cubicBezTo>
              </a:path>
              <a:path w="6103" h="2333">
                <a:moveTo>
                  <a:pt x="9451" y="12824"/>
                </a:moveTo>
                <a:cubicBezTo>
                  <a:pt x="9369" y="12661"/>
                  <a:pt x="9343" y="12637"/>
                  <a:pt x="9153" y="12626"/>
                </a:cubicBezTo>
                <a:cubicBezTo>
                  <a:pt x="9077" y="12621"/>
                  <a:pt x="8971" y="12631"/>
                  <a:pt x="8954" y="12725"/>
                </a:cubicBezTo>
                <a:cubicBezTo>
                  <a:pt x="8930" y="12855"/>
                  <a:pt x="9034" y="12940"/>
                  <a:pt x="9079" y="13047"/>
                </a:cubicBezTo>
                <a:cubicBezTo>
                  <a:pt x="9154" y="13228"/>
                  <a:pt x="9255" y="13391"/>
                  <a:pt x="9351" y="13568"/>
                </a:cubicBezTo>
                <a:cubicBezTo>
                  <a:pt x="9458" y="13765"/>
                  <a:pt x="9637" y="14126"/>
                  <a:pt x="9451" y="14312"/>
                </a:cubicBezTo>
                <a:cubicBezTo>
                  <a:pt x="9396" y="14367"/>
                  <a:pt x="9262" y="14344"/>
                  <a:pt x="9203" y="14312"/>
                </a:cubicBezTo>
                <a:cubicBezTo>
                  <a:pt x="9118" y="14266"/>
                  <a:pt x="9049" y="14198"/>
                  <a:pt x="9004" y="14114"/>
                </a:cubicBezTo>
                <a:cubicBezTo>
                  <a:pt x="8980" y="14066"/>
                  <a:pt x="8972" y="14052"/>
                  <a:pt x="8979" y="14015"/>
                </a:cubicBezTo>
              </a:path>
              <a:path w="6103" h="2333">
                <a:moveTo>
                  <a:pt x="9649" y="13816"/>
                </a:moveTo>
                <a:cubicBezTo>
                  <a:pt x="9601" y="13911"/>
                  <a:pt x="9511" y="14029"/>
                  <a:pt x="9525" y="14139"/>
                </a:cubicBezTo>
                <a:cubicBezTo>
                  <a:pt x="9540" y="14254"/>
                  <a:pt x="9587" y="14348"/>
                  <a:pt x="9699" y="14387"/>
                </a:cubicBezTo>
                <a:cubicBezTo>
                  <a:pt x="9787" y="14418"/>
                  <a:pt x="9825" y="14364"/>
                  <a:pt x="9872" y="14312"/>
                </a:cubicBezTo>
                <a:cubicBezTo>
                  <a:pt x="9959" y="14214"/>
                  <a:pt x="9956" y="14138"/>
                  <a:pt x="9922" y="14015"/>
                </a:cubicBezTo>
                <a:cubicBezTo>
                  <a:pt x="9901" y="13939"/>
                  <a:pt x="9849" y="13803"/>
                  <a:pt x="9798" y="13742"/>
                </a:cubicBezTo>
                <a:cubicBezTo>
                  <a:pt x="9720" y="13664"/>
                  <a:pt x="9687" y="13661"/>
                  <a:pt x="9699" y="13593"/>
                </a:cubicBezTo>
              </a:path>
              <a:path w="6103" h="2333">
                <a:moveTo>
                  <a:pt x="10170" y="12824"/>
                </a:moveTo>
                <a:cubicBezTo>
                  <a:pt x="10101" y="12909"/>
                  <a:pt x="10114" y="12968"/>
                  <a:pt x="10096" y="13072"/>
                </a:cubicBezTo>
                <a:cubicBezTo>
                  <a:pt x="10050" y="13343"/>
                  <a:pt x="10050" y="13595"/>
                  <a:pt x="10096" y="13866"/>
                </a:cubicBezTo>
                <a:cubicBezTo>
                  <a:pt x="10120" y="14005"/>
                  <a:pt x="10093" y="14153"/>
                  <a:pt x="10120" y="14288"/>
                </a:cubicBezTo>
                <a:cubicBezTo>
                  <a:pt x="10127" y="14325"/>
                  <a:pt x="10165" y="14378"/>
                  <a:pt x="10170" y="14387"/>
                </a:cubicBezTo>
              </a:path>
              <a:path w="6103" h="2333">
                <a:moveTo>
                  <a:pt x="10368" y="13791"/>
                </a:moveTo>
                <a:cubicBezTo>
                  <a:pt x="10368" y="13876"/>
                  <a:pt x="10374" y="13959"/>
                  <a:pt x="10393" y="14039"/>
                </a:cubicBezTo>
                <a:cubicBezTo>
                  <a:pt x="10413" y="14125"/>
                  <a:pt x="10445" y="14170"/>
                  <a:pt x="10517" y="14213"/>
                </a:cubicBezTo>
                <a:cubicBezTo>
                  <a:pt x="10534" y="14221"/>
                  <a:pt x="10550" y="14230"/>
                  <a:pt x="10567" y="14238"/>
                </a:cubicBezTo>
                <a:cubicBezTo>
                  <a:pt x="10606" y="14168"/>
                  <a:pt x="10624" y="14080"/>
                  <a:pt x="10666" y="14015"/>
                </a:cubicBezTo>
                <a:cubicBezTo>
                  <a:pt x="10714" y="13941"/>
                  <a:pt x="10716" y="13933"/>
                  <a:pt x="10740" y="13841"/>
                </a:cubicBezTo>
                <a:cubicBezTo>
                  <a:pt x="10740" y="13932"/>
                  <a:pt x="10738" y="14002"/>
                  <a:pt x="10765" y="14089"/>
                </a:cubicBezTo>
                <a:cubicBezTo>
                  <a:pt x="10784" y="14151"/>
                  <a:pt x="10824" y="14270"/>
                  <a:pt x="10914" y="14263"/>
                </a:cubicBezTo>
                <a:cubicBezTo>
                  <a:pt x="10939" y="14238"/>
                  <a:pt x="10947" y="14230"/>
                  <a:pt x="10964" y="14213"/>
                </a:cubicBezTo>
              </a:path>
              <a:path w="6103" h="2333">
                <a:moveTo>
                  <a:pt x="11137" y="13568"/>
                </a:moveTo>
                <a:cubicBezTo>
                  <a:pt x="11130" y="13365"/>
                  <a:pt x="11137" y="13317"/>
                  <a:pt x="11063" y="13146"/>
                </a:cubicBezTo>
                <a:cubicBezTo>
                  <a:pt x="11014" y="13245"/>
                  <a:pt x="10999" y="13330"/>
                  <a:pt x="11013" y="13444"/>
                </a:cubicBezTo>
                <a:cubicBezTo>
                  <a:pt x="11035" y="13621"/>
                  <a:pt x="11097" y="13792"/>
                  <a:pt x="11137" y="13965"/>
                </a:cubicBezTo>
                <a:cubicBezTo>
                  <a:pt x="11156" y="14047"/>
                  <a:pt x="11248" y="14375"/>
                  <a:pt x="11162" y="14263"/>
                </a:cubicBezTo>
                <a:cubicBezTo>
                  <a:pt x="11130" y="14135"/>
                  <a:pt x="11099" y="14037"/>
                  <a:pt x="11038" y="13915"/>
                </a:cubicBezTo>
                <a:cubicBezTo>
                  <a:pt x="10996" y="13831"/>
                  <a:pt x="10879" y="13655"/>
                  <a:pt x="10864" y="13568"/>
                </a:cubicBezTo>
                <a:cubicBezTo>
                  <a:pt x="10872" y="13560"/>
                  <a:pt x="10881" y="13551"/>
                  <a:pt x="10889" y="13543"/>
                </a:cubicBezTo>
                <a:cubicBezTo>
                  <a:pt x="10978" y="13554"/>
                  <a:pt x="11077" y="13582"/>
                  <a:pt x="11162" y="13618"/>
                </a:cubicBezTo>
                <a:cubicBezTo>
                  <a:pt x="11273" y="13665"/>
                  <a:pt x="11356" y="13741"/>
                  <a:pt x="11460" y="13791"/>
                </a:cubicBezTo>
                <a:cubicBezTo>
                  <a:pt x="11553" y="13835"/>
                  <a:pt x="11496" y="13908"/>
                  <a:pt x="11485" y="13990"/>
                </a:cubicBezTo>
                <a:cubicBezTo>
                  <a:pt x="11470" y="14096"/>
                  <a:pt x="11473" y="14158"/>
                  <a:pt x="11485" y="14263"/>
                </a:cubicBezTo>
                <a:cubicBezTo>
                  <a:pt x="11496" y="14361"/>
                  <a:pt x="11470" y="14362"/>
                  <a:pt x="11559" y="14337"/>
                </a:cubicBezTo>
              </a:path>
              <a:path w="6103" h="2333">
                <a:moveTo>
                  <a:pt x="11633" y="13568"/>
                </a:moveTo>
                <a:cubicBezTo>
                  <a:pt x="11599" y="13490"/>
                  <a:pt x="11554" y="13434"/>
                  <a:pt x="11584" y="13419"/>
                </a:cubicBezTo>
              </a:path>
              <a:path w="6103" h="2333">
                <a:moveTo>
                  <a:pt x="11832" y="13767"/>
                </a:moveTo>
                <a:cubicBezTo>
                  <a:pt x="11804" y="13858"/>
                  <a:pt x="11731" y="14007"/>
                  <a:pt x="11757" y="14114"/>
                </a:cubicBezTo>
                <a:cubicBezTo>
                  <a:pt x="11773" y="14180"/>
                  <a:pt x="11809" y="14203"/>
                  <a:pt x="11857" y="14238"/>
                </a:cubicBezTo>
                <a:cubicBezTo>
                  <a:pt x="11932" y="14181"/>
                  <a:pt x="12010" y="14090"/>
                  <a:pt x="12030" y="13990"/>
                </a:cubicBezTo>
                <a:cubicBezTo>
                  <a:pt x="12054" y="13868"/>
                  <a:pt x="11985" y="13709"/>
                  <a:pt x="11906" y="13618"/>
                </a:cubicBezTo>
                <a:cubicBezTo>
                  <a:pt x="11862" y="13573"/>
                  <a:pt x="11852" y="13556"/>
                  <a:pt x="11807" y="13568"/>
                </a:cubicBezTo>
              </a:path>
              <a:path w="6103" h="2333">
                <a:moveTo>
                  <a:pt x="12129" y="13940"/>
                </a:moveTo>
                <a:cubicBezTo>
                  <a:pt x="12115" y="14056"/>
                  <a:pt x="12105" y="14149"/>
                  <a:pt x="12105" y="14263"/>
                </a:cubicBezTo>
                <a:cubicBezTo>
                  <a:pt x="12167" y="14191"/>
                  <a:pt x="12220" y="14129"/>
                  <a:pt x="12254" y="14039"/>
                </a:cubicBezTo>
                <a:cubicBezTo>
                  <a:pt x="12282" y="13966"/>
                  <a:pt x="12307" y="13905"/>
                  <a:pt x="12353" y="13841"/>
                </a:cubicBezTo>
                <a:cubicBezTo>
                  <a:pt x="12353" y="13925"/>
                  <a:pt x="12369" y="13962"/>
                  <a:pt x="12402" y="14039"/>
                </a:cubicBezTo>
                <a:cubicBezTo>
                  <a:pt x="12419" y="14080"/>
                  <a:pt x="12435" y="14122"/>
                  <a:pt x="12452" y="14163"/>
                </a:cubicBezTo>
              </a:path>
              <a:path w="6103" h="2333">
                <a:moveTo>
                  <a:pt x="12849" y="13891"/>
                </a:moveTo>
                <a:cubicBezTo>
                  <a:pt x="12807" y="13773"/>
                  <a:pt x="12791" y="13765"/>
                  <a:pt x="12700" y="13692"/>
                </a:cubicBezTo>
                <a:cubicBezTo>
                  <a:pt x="12663" y="13766"/>
                  <a:pt x="12663" y="13902"/>
                  <a:pt x="12675" y="13990"/>
                </a:cubicBezTo>
                <a:cubicBezTo>
                  <a:pt x="12696" y="14152"/>
                  <a:pt x="12754" y="14348"/>
                  <a:pt x="12750" y="14511"/>
                </a:cubicBezTo>
                <a:cubicBezTo>
                  <a:pt x="12747" y="14615"/>
                  <a:pt x="12705" y="14795"/>
                  <a:pt x="12576" y="14784"/>
                </a:cubicBezTo>
                <a:cubicBezTo>
                  <a:pt x="12444" y="14772"/>
                  <a:pt x="12388" y="14662"/>
                  <a:pt x="12303" y="14585"/>
                </a:cubicBezTo>
                <a:cubicBezTo>
                  <a:pt x="12195" y="14504"/>
                  <a:pt x="12154" y="14470"/>
                  <a:pt x="12105" y="143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Ink 39"/>
          <p:cNvSpPr/>
          <p:nvPr/>
        </p:nvSpPr>
        <p:spPr>
          <a:xfrm>
            <a:off x="500040" y="3867120"/>
            <a:ext cx="223920" cy="419040"/>
          </a:xfrm>
          <a:custGeom>
            <a:avLst/>
            <a:gdLst/>
            <a:ahLst/>
            <a:rect l="l" t="t" r="r" b="b"/>
            <a:pathLst>
              <a:path w="621" h="1167">
                <a:moveTo>
                  <a:pt x="1811" y="11162"/>
                </a:moveTo>
                <a:cubicBezTo>
                  <a:pt x="1836" y="11212"/>
                  <a:pt x="1844" y="11228"/>
                  <a:pt x="1860" y="11261"/>
                </a:cubicBezTo>
                <a:cubicBezTo>
                  <a:pt x="1853" y="11195"/>
                  <a:pt x="1838" y="11096"/>
                  <a:pt x="1811" y="11038"/>
                </a:cubicBezTo>
                <a:cubicBezTo>
                  <a:pt x="1785" y="10981"/>
                  <a:pt x="1746" y="10973"/>
                  <a:pt x="1811" y="11038"/>
                </a:cubicBezTo>
              </a:path>
              <a:path w="621" h="1167">
                <a:moveTo>
                  <a:pt x="1910" y="11088"/>
                </a:moveTo>
                <a:cubicBezTo>
                  <a:pt x="1910" y="11016"/>
                  <a:pt x="1911" y="10954"/>
                  <a:pt x="1885" y="10889"/>
                </a:cubicBezTo>
                <a:cubicBezTo>
                  <a:pt x="1870" y="10851"/>
                  <a:pt x="1813" y="10762"/>
                  <a:pt x="1761" y="10765"/>
                </a:cubicBezTo>
                <a:cubicBezTo>
                  <a:pt x="1711" y="10768"/>
                  <a:pt x="1643" y="10861"/>
                  <a:pt x="1612" y="10889"/>
                </a:cubicBezTo>
                <a:cubicBezTo>
                  <a:pt x="1537" y="10956"/>
                  <a:pt x="1497" y="11018"/>
                  <a:pt x="1463" y="11112"/>
                </a:cubicBezTo>
                <a:cubicBezTo>
                  <a:pt x="1428" y="11208"/>
                  <a:pt x="1378" y="11307"/>
                  <a:pt x="1389" y="11410"/>
                </a:cubicBezTo>
                <a:cubicBezTo>
                  <a:pt x="1399" y="11507"/>
                  <a:pt x="1451" y="11629"/>
                  <a:pt x="1513" y="11708"/>
                </a:cubicBezTo>
                <a:cubicBezTo>
                  <a:pt x="1559" y="11767"/>
                  <a:pt x="1660" y="11840"/>
                  <a:pt x="1736" y="11857"/>
                </a:cubicBezTo>
                <a:cubicBezTo>
                  <a:pt x="1826" y="11877"/>
                  <a:pt x="1872" y="11823"/>
                  <a:pt x="1910" y="11757"/>
                </a:cubicBezTo>
              </a:path>
              <a:path w="621" h="1167">
                <a:moveTo>
                  <a:pt x="1960" y="10964"/>
                </a:moveTo>
                <a:cubicBezTo>
                  <a:pt x="1981" y="11007"/>
                  <a:pt x="1985" y="11019"/>
                  <a:pt x="2009" y="11038"/>
                </a:cubicBezTo>
                <a:cubicBezTo>
                  <a:pt x="1980" y="10979"/>
                  <a:pt x="1944" y="10941"/>
                  <a:pt x="1910" y="10889"/>
                </a:cubicBezTo>
                <a:cubicBezTo>
                  <a:pt x="1865" y="10820"/>
                  <a:pt x="1837" y="10746"/>
                  <a:pt x="1736" y="10765"/>
                </a:cubicBezTo>
                <a:cubicBezTo>
                  <a:pt x="1686" y="10775"/>
                  <a:pt x="1560" y="10939"/>
                  <a:pt x="1538" y="10988"/>
                </a:cubicBezTo>
                <a:cubicBezTo>
                  <a:pt x="1491" y="11094"/>
                  <a:pt x="1410" y="11314"/>
                  <a:pt x="1414" y="11435"/>
                </a:cubicBezTo>
                <a:cubicBezTo>
                  <a:pt x="1417" y="11537"/>
                  <a:pt x="1476" y="11684"/>
                  <a:pt x="1513" y="11782"/>
                </a:cubicBezTo>
                <a:cubicBezTo>
                  <a:pt x="1538" y="11848"/>
                  <a:pt x="1618" y="11884"/>
                  <a:pt x="1687" y="11857"/>
                </a:cubicBezTo>
                <a:cubicBezTo>
                  <a:pt x="1731" y="11840"/>
                  <a:pt x="1749" y="11741"/>
                  <a:pt x="1761" y="11708"/>
                </a:cubicBezTo>
              </a:path>
              <a:path w="621" h="1167">
                <a:moveTo>
                  <a:pt x="1910" y="10939"/>
                </a:moveTo>
                <a:cubicBezTo>
                  <a:pt x="1927" y="10972"/>
                  <a:pt x="1943" y="11005"/>
                  <a:pt x="1960" y="11038"/>
                </a:cubicBezTo>
                <a:cubicBezTo>
                  <a:pt x="1955" y="11000"/>
                  <a:pt x="1952" y="10923"/>
                  <a:pt x="1935" y="10889"/>
                </a:cubicBezTo>
                <a:cubicBezTo>
                  <a:pt x="1904" y="10827"/>
                  <a:pt x="1863" y="10819"/>
                  <a:pt x="1811" y="10840"/>
                </a:cubicBezTo>
                <a:cubicBezTo>
                  <a:pt x="1707" y="10882"/>
                  <a:pt x="1710" y="10968"/>
                  <a:pt x="1637" y="11038"/>
                </a:cubicBezTo>
                <a:cubicBezTo>
                  <a:pt x="1491" y="11178"/>
                  <a:pt x="1495" y="11303"/>
                  <a:pt x="1463" y="11485"/>
                </a:cubicBezTo>
                <a:cubicBezTo>
                  <a:pt x="1446" y="11583"/>
                  <a:pt x="1452" y="11691"/>
                  <a:pt x="1513" y="11782"/>
                </a:cubicBezTo>
                <a:cubicBezTo>
                  <a:pt x="1568" y="11864"/>
                  <a:pt x="1632" y="11868"/>
                  <a:pt x="1712" y="11832"/>
                </a:cubicBezTo>
                <a:cubicBezTo>
                  <a:pt x="1786" y="11799"/>
                  <a:pt x="1818" y="11747"/>
                  <a:pt x="1860" y="11683"/>
                </a:cubicBezTo>
              </a:path>
              <a:path w="621" h="1167">
                <a:moveTo>
                  <a:pt x="2009" y="10939"/>
                </a:moveTo>
                <a:cubicBezTo>
                  <a:pt x="1982" y="10898"/>
                  <a:pt x="1971" y="10855"/>
                  <a:pt x="1935" y="10815"/>
                </a:cubicBezTo>
                <a:cubicBezTo>
                  <a:pt x="1884" y="10759"/>
                  <a:pt x="1867" y="10757"/>
                  <a:pt x="1811" y="10765"/>
                </a:cubicBezTo>
                <a:cubicBezTo>
                  <a:pt x="1712" y="10778"/>
                  <a:pt x="1710" y="10836"/>
                  <a:pt x="1662" y="10914"/>
                </a:cubicBezTo>
                <a:cubicBezTo>
                  <a:pt x="1585" y="11040"/>
                  <a:pt x="1507" y="11159"/>
                  <a:pt x="1488" y="11311"/>
                </a:cubicBezTo>
                <a:cubicBezTo>
                  <a:pt x="1472" y="11443"/>
                  <a:pt x="1498" y="11559"/>
                  <a:pt x="1538" y="11683"/>
                </a:cubicBezTo>
                <a:cubicBezTo>
                  <a:pt x="1567" y="11771"/>
                  <a:pt x="1627" y="11843"/>
                  <a:pt x="1712" y="11881"/>
                </a:cubicBezTo>
                <a:cubicBezTo>
                  <a:pt x="1788" y="11915"/>
                  <a:pt x="1812" y="11890"/>
                  <a:pt x="1885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Ink 40"/>
          <p:cNvSpPr/>
          <p:nvPr/>
        </p:nvSpPr>
        <p:spPr>
          <a:xfrm>
            <a:off x="820800" y="1785960"/>
            <a:ext cx="295200" cy="509400"/>
          </a:xfrm>
          <a:custGeom>
            <a:avLst/>
            <a:gdLst/>
            <a:ahLst/>
            <a:rect l="l" t="t" r="r" b="b"/>
            <a:pathLst>
              <a:path w="820" h="1415">
                <a:moveTo>
                  <a:pt x="2580" y="5507"/>
                </a:moveTo>
                <a:cubicBezTo>
                  <a:pt x="2571" y="5609"/>
                  <a:pt x="2555" y="5704"/>
                  <a:pt x="2530" y="5804"/>
                </a:cubicBezTo>
                <a:cubicBezTo>
                  <a:pt x="2496" y="5938"/>
                  <a:pt x="2473" y="6090"/>
                  <a:pt x="2456" y="6226"/>
                </a:cubicBezTo>
                <a:cubicBezTo>
                  <a:pt x="2447" y="6297"/>
                  <a:pt x="2440" y="6311"/>
                  <a:pt x="2431" y="6375"/>
                </a:cubicBezTo>
                <a:cubicBezTo>
                  <a:pt x="2392" y="6310"/>
                  <a:pt x="2406" y="6233"/>
                  <a:pt x="2406" y="6152"/>
                </a:cubicBezTo>
                <a:cubicBezTo>
                  <a:pt x="2406" y="6033"/>
                  <a:pt x="2446" y="5922"/>
                  <a:pt x="2456" y="5804"/>
                </a:cubicBezTo>
                <a:cubicBezTo>
                  <a:pt x="2469" y="5648"/>
                  <a:pt x="2477" y="5487"/>
                  <a:pt x="2505" y="5333"/>
                </a:cubicBezTo>
                <a:cubicBezTo>
                  <a:pt x="2517" y="5266"/>
                  <a:pt x="2527" y="5145"/>
                  <a:pt x="2555" y="5085"/>
                </a:cubicBezTo>
                <a:cubicBezTo>
                  <a:pt x="2563" y="5077"/>
                  <a:pt x="2572" y="5068"/>
                  <a:pt x="2580" y="5060"/>
                </a:cubicBezTo>
                <a:cubicBezTo>
                  <a:pt x="2623" y="5182"/>
                  <a:pt x="2656" y="5280"/>
                  <a:pt x="2679" y="5407"/>
                </a:cubicBezTo>
                <a:cubicBezTo>
                  <a:pt x="2708" y="5564"/>
                  <a:pt x="2816" y="5706"/>
                  <a:pt x="2877" y="5854"/>
                </a:cubicBezTo>
                <a:cubicBezTo>
                  <a:pt x="2919" y="5956"/>
                  <a:pt x="2966" y="6036"/>
                  <a:pt x="3026" y="6127"/>
                </a:cubicBezTo>
                <a:cubicBezTo>
                  <a:pt x="3062" y="6182"/>
                  <a:pt x="3071" y="6226"/>
                  <a:pt x="3101" y="6276"/>
                </a:cubicBezTo>
                <a:cubicBezTo>
                  <a:pt x="3031" y="6226"/>
                  <a:pt x="2980" y="6153"/>
                  <a:pt x="2902" y="6102"/>
                </a:cubicBezTo>
                <a:cubicBezTo>
                  <a:pt x="2834" y="6058"/>
                  <a:pt x="2762" y="5992"/>
                  <a:pt x="2679" y="5978"/>
                </a:cubicBezTo>
                <a:cubicBezTo>
                  <a:pt x="2587" y="5963"/>
                  <a:pt x="2405" y="5958"/>
                  <a:pt x="2332" y="6003"/>
                </a:cubicBezTo>
                <a:cubicBezTo>
                  <a:pt x="2389" y="5944"/>
                  <a:pt x="2450" y="5926"/>
                  <a:pt x="2530" y="5904"/>
                </a:cubicBezTo>
                <a:cubicBezTo>
                  <a:pt x="2651" y="5870"/>
                  <a:pt x="2754" y="5820"/>
                  <a:pt x="2877" y="5779"/>
                </a:cubicBezTo>
                <a:cubicBezTo>
                  <a:pt x="3029" y="5751"/>
                  <a:pt x="2804" y="5840"/>
                  <a:pt x="2778" y="5854"/>
                </a:cubicBezTo>
                <a:cubicBezTo>
                  <a:pt x="2708" y="5892"/>
                  <a:pt x="2587" y="5965"/>
                  <a:pt x="2505" y="5953"/>
                </a:cubicBezTo>
                <a:cubicBezTo>
                  <a:pt x="2422" y="5941"/>
                  <a:pt x="2603" y="5805"/>
                  <a:pt x="2604" y="5804"/>
                </a:cubicBezTo>
                <a:cubicBezTo>
                  <a:pt x="2678" y="5751"/>
                  <a:pt x="2745" y="5715"/>
                  <a:pt x="2828" y="5680"/>
                </a:cubicBezTo>
                <a:cubicBezTo>
                  <a:pt x="2844" y="5672"/>
                  <a:pt x="2861" y="5663"/>
                  <a:pt x="2877" y="5655"/>
                </a:cubicBezTo>
                <a:cubicBezTo>
                  <a:pt x="2800" y="5718"/>
                  <a:pt x="2720" y="5719"/>
                  <a:pt x="2629" y="5755"/>
                </a:cubicBezTo>
                <a:cubicBezTo>
                  <a:pt x="2529" y="5795"/>
                  <a:pt x="2431" y="5881"/>
                  <a:pt x="2332" y="5904"/>
                </a:cubicBezTo>
                <a:cubicBezTo>
                  <a:pt x="2214" y="5932"/>
                  <a:pt x="2363" y="5845"/>
                  <a:pt x="2381" y="5829"/>
                </a:cubicBezTo>
              </a:path>
              <a:path w="820" h="1415">
                <a:moveTo>
                  <a:pt x="2406" y="6003"/>
                </a:moveTo>
                <a:cubicBezTo>
                  <a:pt x="2406" y="6093"/>
                  <a:pt x="2356" y="6375"/>
                  <a:pt x="2431" y="6350"/>
                </a:cubicBezTo>
                <a:cubicBezTo>
                  <a:pt x="2442" y="6261"/>
                  <a:pt x="2443" y="6169"/>
                  <a:pt x="2456" y="6077"/>
                </a:cubicBezTo>
                <a:cubicBezTo>
                  <a:pt x="2480" y="5914"/>
                  <a:pt x="2502" y="5746"/>
                  <a:pt x="2505" y="5581"/>
                </a:cubicBezTo>
                <a:cubicBezTo>
                  <a:pt x="2508" y="5442"/>
                  <a:pt x="2504" y="5273"/>
                  <a:pt x="2530" y="5135"/>
                </a:cubicBezTo>
                <a:cubicBezTo>
                  <a:pt x="2543" y="5066"/>
                  <a:pt x="2555" y="5031"/>
                  <a:pt x="2555" y="4961"/>
                </a:cubicBezTo>
                <a:cubicBezTo>
                  <a:pt x="2621" y="5040"/>
                  <a:pt x="2646" y="5112"/>
                  <a:pt x="2679" y="5209"/>
                </a:cubicBezTo>
                <a:cubicBezTo>
                  <a:pt x="2730" y="5359"/>
                  <a:pt x="2821" y="5488"/>
                  <a:pt x="2877" y="5631"/>
                </a:cubicBezTo>
                <a:cubicBezTo>
                  <a:pt x="2923" y="5749"/>
                  <a:pt x="2970" y="5844"/>
                  <a:pt x="3026" y="5953"/>
                </a:cubicBezTo>
                <a:cubicBezTo>
                  <a:pt x="3033" y="5967"/>
                  <a:pt x="3118" y="6167"/>
                  <a:pt x="3101" y="6176"/>
                </a:cubicBezTo>
                <a:cubicBezTo>
                  <a:pt x="3093" y="6168"/>
                  <a:pt x="3084" y="6160"/>
                  <a:pt x="3076" y="6152"/>
                </a:cubicBezTo>
              </a:path>
              <a:path w="820" h="1415">
                <a:moveTo>
                  <a:pt x="2505" y="5928"/>
                </a:moveTo>
                <a:cubicBezTo>
                  <a:pt x="2602" y="5872"/>
                  <a:pt x="2698" y="5818"/>
                  <a:pt x="2803" y="5779"/>
                </a:cubicBezTo>
                <a:cubicBezTo>
                  <a:pt x="2868" y="5758"/>
                  <a:pt x="2884" y="5750"/>
                  <a:pt x="2927" y="5755"/>
                </a:cubicBezTo>
                <a:cubicBezTo>
                  <a:pt x="3030" y="5780"/>
                  <a:pt x="2750" y="5855"/>
                  <a:pt x="2704" y="5879"/>
                </a:cubicBezTo>
                <a:cubicBezTo>
                  <a:pt x="2679" y="5892"/>
                  <a:pt x="2457" y="5989"/>
                  <a:pt x="2431" y="5953"/>
                </a:cubicBezTo>
                <a:cubicBezTo>
                  <a:pt x="2439" y="5945"/>
                  <a:pt x="2448" y="5936"/>
                  <a:pt x="2456" y="5928"/>
                </a:cubicBezTo>
                <a:cubicBezTo>
                  <a:pt x="2553" y="5855"/>
                  <a:pt x="2635" y="5785"/>
                  <a:pt x="2753" y="5730"/>
                </a:cubicBezTo>
                <a:cubicBezTo>
                  <a:pt x="2811" y="5705"/>
                  <a:pt x="2869" y="5680"/>
                  <a:pt x="2927" y="5655"/>
                </a:cubicBezTo>
                <a:cubicBezTo>
                  <a:pt x="2840" y="5758"/>
                  <a:pt x="2659" y="5816"/>
                  <a:pt x="2530" y="5879"/>
                </a:cubicBezTo>
                <a:cubicBezTo>
                  <a:pt x="2448" y="5907"/>
                  <a:pt x="2416" y="5917"/>
                  <a:pt x="2356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Ink 41"/>
          <p:cNvSpPr/>
          <p:nvPr/>
        </p:nvSpPr>
        <p:spPr>
          <a:xfrm>
            <a:off x="2205000" y="4268880"/>
            <a:ext cx="2554200" cy="1143000"/>
          </a:xfrm>
          <a:custGeom>
            <a:avLst/>
            <a:gdLst/>
            <a:ahLst/>
            <a:rect l="l" t="t" r="r" b="b"/>
            <a:pathLst>
              <a:path w="7095" h="3176">
                <a:moveTo>
                  <a:pt x="7169" y="11881"/>
                </a:moveTo>
                <a:cubicBezTo>
                  <a:pt x="6864" y="11954"/>
                  <a:pt x="6767" y="11951"/>
                  <a:pt x="6672" y="12278"/>
                </a:cubicBezTo>
                <a:cubicBezTo>
                  <a:pt x="6600" y="12526"/>
                  <a:pt x="6588" y="12817"/>
                  <a:pt x="6573" y="13072"/>
                </a:cubicBezTo>
                <a:cubicBezTo>
                  <a:pt x="6549" y="13491"/>
                  <a:pt x="6591" y="13935"/>
                  <a:pt x="6548" y="14337"/>
                </a:cubicBezTo>
                <a:cubicBezTo>
                  <a:pt x="6545" y="14326"/>
                  <a:pt x="6479" y="14094"/>
                  <a:pt x="6474" y="13990"/>
                </a:cubicBezTo>
                <a:cubicBezTo>
                  <a:pt x="6451" y="13550"/>
                  <a:pt x="6526" y="13135"/>
                  <a:pt x="6573" y="12700"/>
                </a:cubicBezTo>
                <a:cubicBezTo>
                  <a:pt x="6592" y="12525"/>
                  <a:pt x="6589" y="12352"/>
                  <a:pt x="6623" y="12179"/>
                </a:cubicBezTo>
                <a:cubicBezTo>
                  <a:pt x="6644" y="12070"/>
                  <a:pt x="6696" y="11965"/>
                  <a:pt x="6796" y="11906"/>
                </a:cubicBezTo>
                <a:cubicBezTo>
                  <a:pt x="6942" y="11820"/>
                  <a:pt x="7160" y="11859"/>
                  <a:pt x="7317" y="11857"/>
                </a:cubicBezTo>
                <a:cubicBezTo>
                  <a:pt x="7887" y="11849"/>
                  <a:pt x="8463" y="11853"/>
                  <a:pt x="9029" y="11931"/>
                </a:cubicBezTo>
                <a:cubicBezTo>
                  <a:pt x="9592" y="12009"/>
                  <a:pt x="10149" y="12085"/>
                  <a:pt x="10716" y="12129"/>
                </a:cubicBezTo>
                <a:cubicBezTo>
                  <a:pt x="11137" y="12162"/>
                  <a:pt x="11592" y="12102"/>
                  <a:pt x="12005" y="12204"/>
                </a:cubicBezTo>
                <a:cubicBezTo>
                  <a:pt x="12276" y="12271"/>
                  <a:pt x="12494" y="12331"/>
                  <a:pt x="12725" y="12477"/>
                </a:cubicBezTo>
                <a:cubicBezTo>
                  <a:pt x="12865" y="12566"/>
                  <a:pt x="12984" y="12687"/>
                  <a:pt x="13072" y="12824"/>
                </a:cubicBezTo>
                <a:cubicBezTo>
                  <a:pt x="13266" y="13127"/>
                  <a:pt x="13262" y="13597"/>
                  <a:pt x="13221" y="13940"/>
                </a:cubicBezTo>
                <a:cubicBezTo>
                  <a:pt x="13191" y="14191"/>
                  <a:pt x="13199" y="14766"/>
                  <a:pt x="13022" y="14982"/>
                </a:cubicBezTo>
                <a:cubicBezTo>
                  <a:pt x="12947" y="15074"/>
                  <a:pt x="12895" y="15015"/>
                  <a:pt x="12799" y="15007"/>
                </a:cubicBezTo>
                <a:cubicBezTo>
                  <a:pt x="12605" y="14990"/>
                  <a:pt x="12429" y="14918"/>
                  <a:pt x="12229" y="14908"/>
                </a:cubicBezTo>
                <a:cubicBezTo>
                  <a:pt x="11773" y="14885"/>
                  <a:pt x="11317" y="14960"/>
                  <a:pt x="10864" y="14932"/>
                </a:cubicBezTo>
                <a:cubicBezTo>
                  <a:pt x="10568" y="14913"/>
                  <a:pt x="10265" y="14908"/>
                  <a:pt x="9971" y="14858"/>
                </a:cubicBezTo>
                <a:cubicBezTo>
                  <a:pt x="9532" y="14783"/>
                  <a:pt x="9095" y="14712"/>
                  <a:pt x="8657" y="14635"/>
                </a:cubicBezTo>
                <a:cubicBezTo>
                  <a:pt x="8211" y="14556"/>
                  <a:pt x="7765" y="14472"/>
                  <a:pt x="7317" y="14412"/>
                </a:cubicBezTo>
                <a:cubicBezTo>
                  <a:pt x="7044" y="14375"/>
                  <a:pt x="6712" y="14371"/>
                  <a:pt x="6449" y="14288"/>
                </a:cubicBezTo>
                <a:cubicBezTo>
                  <a:pt x="6277" y="14201"/>
                  <a:pt x="6208" y="14158"/>
                  <a:pt x="6127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Page 434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#15-17</a:t>
            </a:r>
            <a:endParaRPr b="0" lang="en-US" sz="8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6" name="Ink 3"/>
          <p:cNvSpPr/>
          <p:nvPr/>
        </p:nvSpPr>
        <p:spPr>
          <a:xfrm>
            <a:off x="795240" y="223920"/>
            <a:ext cx="401760" cy="463320"/>
          </a:xfrm>
          <a:custGeom>
            <a:avLst/>
            <a:gdLst/>
            <a:ahLst/>
            <a:rect l="l" t="t" r="r" b="b"/>
            <a:pathLst>
              <a:path w="1117" h="1291">
                <a:moveTo>
                  <a:pt x="2232" y="992"/>
                </a:moveTo>
                <a:cubicBezTo>
                  <a:pt x="2265" y="1090"/>
                  <a:pt x="2257" y="1184"/>
                  <a:pt x="2257" y="1290"/>
                </a:cubicBezTo>
                <a:cubicBezTo>
                  <a:pt x="2257" y="1411"/>
                  <a:pt x="2246" y="1519"/>
                  <a:pt x="2232" y="1637"/>
                </a:cubicBezTo>
                <a:cubicBezTo>
                  <a:pt x="2224" y="1705"/>
                  <a:pt x="2211" y="1770"/>
                  <a:pt x="2208" y="1836"/>
                </a:cubicBezTo>
                <a:cubicBezTo>
                  <a:pt x="2208" y="1902"/>
                  <a:pt x="2208" y="1935"/>
                  <a:pt x="2208" y="1860"/>
                </a:cubicBezTo>
              </a:path>
              <a:path w="1117" h="1291">
                <a:moveTo>
                  <a:pt x="2530" y="992"/>
                </a:moveTo>
                <a:cubicBezTo>
                  <a:pt x="2598" y="992"/>
                  <a:pt x="2667" y="987"/>
                  <a:pt x="2729" y="967"/>
                </a:cubicBezTo>
                <a:cubicBezTo>
                  <a:pt x="2752" y="959"/>
                  <a:pt x="2902" y="944"/>
                  <a:pt x="2902" y="918"/>
                </a:cubicBezTo>
                <a:cubicBezTo>
                  <a:pt x="2894" y="910"/>
                  <a:pt x="2885" y="901"/>
                  <a:pt x="2877" y="893"/>
                </a:cubicBezTo>
              </a:path>
              <a:path w="1117" h="1291">
                <a:moveTo>
                  <a:pt x="2530" y="1017"/>
                </a:moveTo>
                <a:cubicBezTo>
                  <a:pt x="2507" y="1078"/>
                  <a:pt x="2483" y="1129"/>
                  <a:pt x="2480" y="1191"/>
                </a:cubicBezTo>
                <a:cubicBezTo>
                  <a:pt x="2480" y="1257"/>
                  <a:pt x="2480" y="1274"/>
                  <a:pt x="2480" y="1315"/>
                </a:cubicBezTo>
                <a:cubicBezTo>
                  <a:pt x="2516" y="1243"/>
                  <a:pt x="2524" y="1175"/>
                  <a:pt x="2604" y="1166"/>
                </a:cubicBezTo>
                <a:cubicBezTo>
                  <a:pt x="2713" y="1153"/>
                  <a:pt x="2742" y="1245"/>
                  <a:pt x="2803" y="1315"/>
                </a:cubicBezTo>
                <a:cubicBezTo>
                  <a:pt x="2859" y="1380"/>
                  <a:pt x="2898" y="1425"/>
                  <a:pt x="2902" y="1513"/>
                </a:cubicBezTo>
                <a:cubicBezTo>
                  <a:pt x="2907" y="1629"/>
                  <a:pt x="2837" y="1644"/>
                  <a:pt x="2753" y="1712"/>
                </a:cubicBezTo>
                <a:cubicBezTo>
                  <a:pt x="2703" y="1753"/>
                  <a:pt x="2634" y="1776"/>
                  <a:pt x="2580" y="1786"/>
                </a:cubicBezTo>
                <a:cubicBezTo>
                  <a:pt x="2521" y="1797"/>
                  <a:pt x="2516" y="1780"/>
                  <a:pt x="2505" y="1736"/>
                </a:cubicBezTo>
              </a:path>
              <a:path w="1117" h="1291">
                <a:moveTo>
                  <a:pt x="2828" y="620"/>
                </a:moveTo>
                <a:cubicBezTo>
                  <a:pt x="2934" y="653"/>
                  <a:pt x="3025" y="679"/>
                  <a:pt x="3101" y="769"/>
                </a:cubicBezTo>
                <a:cubicBezTo>
                  <a:pt x="3158" y="836"/>
                  <a:pt x="3273" y="979"/>
                  <a:pt x="3299" y="1067"/>
                </a:cubicBezTo>
                <a:cubicBezTo>
                  <a:pt x="3324" y="1151"/>
                  <a:pt x="3345" y="1301"/>
                  <a:pt x="3324" y="1389"/>
                </a:cubicBezTo>
                <a:cubicBezTo>
                  <a:pt x="3289" y="1539"/>
                  <a:pt x="3227" y="1634"/>
                  <a:pt x="3150" y="1761"/>
                </a:cubicBezTo>
                <a:cubicBezTo>
                  <a:pt x="3122" y="1808"/>
                  <a:pt x="3126" y="1842"/>
                  <a:pt x="3101" y="188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Ink 4"/>
          <p:cNvSpPr/>
          <p:nvPr/>
        </p:nvSpPr>
        <p:spPr>
          <a:xfrm>
            <a:off x="1446120" y="285840"/>
            <a:ext cx="474840" cy="500040"/>
          </a:xfrm>
          <a:custGeom>
            <a:avLst/>
            <a:gdLst/>
            <a:ahLst/>
            <a:rect l="l" t="t" r="r" b="b"/>
            <a:pathLst>
              <a:path w="1316" h="1390">
                <a:moveTo>
                  <a:pt x="4068" y="1885"/>
                </a:moveTo>
                <a:cubicBezTo>
                  <a:pt x="4053" y="1986"/>
                  <a:pt x="4063" y="2275"/>
                  <a:pt x="4018" y="2183"/>
                </a:cubicBezTo>
                <a:cubicBezTo>
                  <a:pt x="3996" y="2137"/>
                  <a:pt x="4033" y="2003"/>
                  <a:pt x="4043" y="1960"/>
                </a:cubicBezTo>
                <a:cubicBezTo>
                  <a:pt x="4070" y="1842"/>
                  <a:pt x="4096" y="1752"/>
                  <a:pt x="4142" y="1637"/>
                </a:cubicBezTo>
                <a:cubicBezTo>
                  <a:pt x="4192" y="1511"/>
                  <a:pt x="4212" y="1360"/>
                  <a:pt x="4266" y="1240"/>
                </a:cubicBezTo>
                <a:cubicBezTo>
                  <a:pt x="4302" y="1159"/>
                  <a:pt x="4379" y="949"/>
                  <a:pt x="4440" y="868"/>
                </a:cubicBezTo>
                <a:cubicBezTo>
                  <a:pt x="4485" y="807"/>
                  <a:pt x="4500" y="803"/>
                  <a:pt x="4564" y="794"/>
                </a:cubicBezTo>
                <a:cubicBezTo>
                  <a:pt x="4574" y="863"/>
                  <a:pt x="4589" y="914"/>
                  <a:pt x="4589" y="992"/>
                </a:cubicBezTo>
                <a:cubicBezTo>
                  <a:pt x="4589" y="1079"/>
                  <a:pt x="4606" y="1160"/>
                  <a:pt x="4614" y="1240"/>
                </a:cubicBezTo>
                <a:cubicBezTo>
                  <a:pt x="4625" y="1342"/>
                  <a:pt x="4617" y="1467"/>
                  <a:pt x="4663" y="1563"/>
                </a:cubicBezTo>
                <a:cubicBezTo>
                  <a:pt x="4718" y="1679"/>
                  <a:pt x="4769" y="1758"/>
                  <a:pt x="4787" y="1885"/>
                </a:cubicBezTo>
                <a:cubicBezTo>
                  <a:pt x="4797" y="1955"/>
                  <a:pt x="4813" y="2004"/>
                  <a:pt x="4862" y="2059"/>
                </a:cubicBezTo>
                <a:cubicBezTo>
                  <a:pt x="4923" y="2127"/>
                  <a:pt x="4873" y="2027"/>
                  <a:pt x="4862" y="2009"/>
                </a:cubicBezTo>
              </a:path>
              <a:path w="1316" h="1390">
                <a:moveTo>
                  <a:pt x="4167" y="1563"/>
                </a:moveTo>
                <a:cubicBezTo>
                  <a:pt x="4219" y="1532"/>
                  <a:pt x="4303" y="1523"/>
                  <a:pt x="4366" y="1513"/>
                </a:cubicBezTo>
                <a:cubicBezTo>
                  <a:pt x="4435" y="1502"/>
                  <a:pt x="4523" y="1507"/>
                  <a:pt x="4589" y="1488"/>
                </a:cubicBezTo>
                <a:cubicBezTo>
                  <a:pt x="4605" y="1480"/>
                  <a:pt x="4622" y="1471"/>
                  <a:pt x="4638" y="1463"/>
                </a:cubicBezTo>
              </a:path>
              <a:path w="1316" h="1390">
                <a:moveTo>
                  <a:pt x="5035" y="1364"/>
                </a:moveTo>
                <a:cubicBezTo>
                  <a:pt x="5139" y="1342"/>
                  <a:pt x="5232" y="1324"/>
                  <a:pt x="5333" y="1290"/>
                </a:cubicBezTo>
              </a:path>
              <a:path w="1316" h="1390">
                <a:moveTo>
                  <a:pt x="5035" y="1488"/>
                </a:moveTo>
                <a:cubicBezTo>
                  <a:pt x="5131" y="1524"/>
                  <a:pt x="5160" y="1502"/>
                  <a:pt x="5259" y="1488"/>
                </a:cubicBezTo>
                <a:cubicBezTo>
                  <a:pt x="5303" y="1488"/>
                  <a:pt x="5317" y="1491"/>
                  <a:pt x="5333" y="1463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Ink 5"/>
          <p:cNvSpPr/>
          <p:nvPr/>
        </p:nvSpPr>
        <p:spPr>
          <a:xfrm>
            <a:off x="2098800" y="241200"/>
            <a:ext cx="1822320" cy="598680"/>
          </a:xfrm>
          <a:custGeom>
            <a:avLst/>
            <a:gdLst/>
            <a:ahLst/>
            <a:rect l="l" t="t" r="r" b="b"/>
            <a:pathLst>
              <a:path w="5061" h="1663">
                <a:moveTo>
                  <a:pt x="5829" y="967"/>
                </a:moveTo>
                <a:cubicBezTo>
                  <a:pt x="5950" y="967"/>
                  <a:pt x="6062" y="948"/>
                  <a:pt x="6176" y="943"/>
                </a:cubicBezTo>
                <a:cubicBezTo>
                  <a:pt x="6251" y="940"/>
                  <a:pt x="6310" y="941"/>
                  <a:pt x="6375" y="918"/>
                </a:cubicBezTo>
                <a:cubicBezTo>
                  <a:pt x="6415" y="898"/>
                  <a:pt x="6431" y="899"/>
                  <a:pt x="6424" y="868"/>
                </a:cubicBezTo>
              </a:path>
              <a:path w="5061" h="1663">
                <a:moveTo>
                  <a:pt x="5928" y="992"/>
                </a:moveTo>
                <a:cubicBezTo>
                  <a:pt x="5909" y="1082"/>
                  <a:pt x="5884" y="1174"/>
                  <a:pt x="5879" y="1265"/>
                </a:cubicBezTo>
                <a:cubicBezTo>
                  <a:pt x="5879" y="1282"/>
                  <a:pt x="5879" y="1298"/>
                  <a:pt x="5879" y="1315"/>
                </a:cubicBezTo>
                <a:cubicBezTo>
                  <a:pt x="5903" y="1284"/>
                  <a:pt x="5935" y="1203"/>
                  <a:pt x="5978" y="1191"/>
                </a:cubicBezTo>
                <a:cubicBezTo>
                  <a:pt x="6068" y="1166"/>
                  <a:pt x="6161" y="1241"/>
                  <a:pt x="6226" y="1290"/>
                </a:cubicBezTo>
                <a:cubicBezTo>
                  <a:pt x="6286" y="1336"/>
                  <a:pt x="6313" y="1392"/>
                  <a:pt x="6325" y="1463"/>
                </a:cubicBezTo>
                <a:cubicBezTo>
                  <a:pt x="6338" y="1538"/>
                  <a:pt x="6311" y="1595"/>
                  <a:pt x="6300" y="1662"/>
                </a:cubicBezTo>
                <a:cubicBezTo>
                  <a:pt x="6283" y="1763"/>
                  <a:pt x="6251" y="1766"/>
                  <a:pt x="6176" y="1836"/>
                </a:cubicBezTo>
                <a:cubicBezTo>
                  <a:pt x="6111" y="1897"/>
                  <a:pt x="6043" y="1907"/>
                  <a:pt x="5953" y="1910"/>
                </a:cubicBezTo>
                <a:cubicBezTo>
                  <a:pt x="5822" y="1915"/>
                  <a:pt x="5850" y="1875"/>
                  <a:pt x="5904" y="1786"/>
                </a:cubicBezTo>
              </a:path>
              <a:path w="5061" h="1663">
                <a:moveTo>
                  <a:pt x="7069" y="992"/>
                </a:moveTo>
                <a:cubicBezTo>
                  <a:pt x="7069" y="924"/>
                  <a:pt x="7072" y="905"/>
                  <a:pt x="7045" y="868"/>
                </a:cubicBezTo>
                <a:cubicBezTo>
                  <a:pt x="6968" y="868"/>
                  <a:pt x="6908" y="864"/>
                  <a:pt x="6846" y="918"/>
                </a:cubicBezTo>
                <a:cubicBezTo>
                  <a:pt x="6792" y="965"/>
                  <a:pt x="6673" y="1024"/>
                  <a:pt x="6648" y="1091"/>
                </a:cubicBezTo>
                <a:cubicBezTo>
                  <a:pt x="6620" y="1167"/>
                  <a:pt x="6664" y="1229"/>
                  <a:pt x="6697" y="1290"/>
                </a:cubicBezTo>
                <a:cubicBezTo>
                  <a:pt x="6728" y="1348"/>
                  <a:pt x="6820" y="1396"/>
                  <a:pt x="6871" y="1439"/>
                </a:cubicBezTo>
                <a:cubicBezTo>
                  <a:pt x="6921" y="1482"/>
                  <a:pt x="7030" y="1513"/>
                  <a:pt x="7045" y="1588"/>
                </a:cubicBezTo>
                <a:cubicBezTo>
                  <a:pt x="7059" y="1660"/>
                  <a:pt x="7033" y="1745"/>
                  <a:pt x="6970" y="1786"/>
                </a:cubicBezTo>
                <a:cubicBezTo>
                  <a:pt x="6935" y="1809"/>
                  <a:pt x="6836" y="1846"/>
                  <a:pt x="6796" y="1836"/>
                </a:cubicBezTo>
                <a:cubicBezTo>
                  <a:pt x="6735" y="1822"/>
                  <a:pt x="6704" y="1772"/>
                  <a:pt x="6722" y="1712"/>
                </a:cubicBezTo>
                <a:cubicBezTo>
                  <a:pt x="6750" y="1618"/>
                  <a:pt x="6813" y="1532"/>
                  <a:pt x="6846" y="1439"/>
                </a:cubicBezTo>
                <a:cubicBezTo>
                  <a:pt x="6880" y="1343"/>
                  <a:pt x="6918" y="1273"/>
                  <a:pt x="6970" y="1191"/>
                </a:cubicBezTo>
                <a:cubicBezTo>
                  <a:pt x="7007" y="1132"/>
                  <a:pt x="7013" y="1069"/>
                  <a:pt x="7045" y="1017"/>
                </a:cubicBezTo>
              </a:path>
              <a:path w="5061" h="1663">
                <a:moveTo>
                  <a:pt x="7342" y="670"/>
                </a:moveTo>
                <a:cubicBezTo>
                  <a:pt x="7294" y="746"/>
                  <a:pt x="7202" y="850"/>
                  <a:pt x="7268" y="943"/>
                </a:cubicBezTo>
                <a:cubicBezTo>
                  <a:pt x="7313" y="1006"/>
                  <a:pt x="7401" y="948"/>
                  <a:pt x="7441" y="918"/>
                </a:cubicBezTo>
                <a:cubicBezTo>
                  <a:pt x="7494" y="878"/>
                  <a:pt x="7530" y="840"/>
                  <a:pt x="7516" y="769"/>
                </a:cubicBezTo>
                <a:cubicBezTo>
                  <a:pt x="7508" y="752"/>
                  <a:pt x="7499" y="736"/>
                  <a:pt x="7491" y="719"/>
                </a:cubicBezTo>
                <a:cubicBezTo>
                  <a:pt x="7444" y="719"/>
                  <a:pt x="7330" y="707"/>
                  <a:pt x="7367" y="744"/>
                </a:cubicBezTo>
              </a:path>
              <a:path w="5061" h="1663">
                <a:moveTo>
                  <a:pt x="7739" y="1860"/>
                </a:moveTo>
                <a:cubicBezTo>
                  <a:pt x="7739" y="1947"/>
                  <a:pt x="7750" y="2036"/>
                  <a:pt x="7714" y="2108"/>
                </a:cubicBezTo>
                <a:cubicBezTo>
                  <a:pt x="7684" y="2168"/>
                  <a:pt x="7655" y="2229"/>
                  <a:pt x="7615" y="2282"/>
                </a:cubicBezTo>
                <a:cubicBezTo>
                  <a:pt x="7587" y="2319"/>
                  <a:pt x="7581" y="2338"/>
                  <a:pt x="7565" y="2307"/>
                </a:cubicBezTo>
              </a:path>
              <a:path w="5061" h="1663">
                <a:moveTo>
                  <a:pt x="8558" y="1513"/>
                </a:moveTo>
                <a:cubicBezTo>
                  <a:pt x="8490" y="1457"/>
                  <a:pt x="8508" y="1422"/>
                  <a:pt x="8458" y="1339"/>
                </a:cubicBezTo>
                <a:cubicBezTo>
                  <a:pt x="8435" y="1301"/>
                  <a:pt x="8381" y="1249"/>
                  <a:pt x="8334" y="1265"/>
                </a:cubicBezTo>
                <a:cubicBezTo>
                  <a:pt x="8265" y="1289"/>
                  <a:pt x="8206" y="1511"/>
                  <a:pt x="8186" y="1563"/>
                </a:cubicBezTo>
                <a:cubicBezTo>
                  <a:pt x="8151" y="1654"/>
                  <a:pt x="8152" y="1729"/>
                  <a:pt x="8161" y="1811"/>
                </a:cubicBezTo>
                <a:cubicBezTo>
                  <a:pt x="8171" y="1897"/>
                  <a:pt x="8201" y="1900"/>
                  <a:pt x="8285" y="1910"/>
                </a:cubicBezTo>
                <a:cubicBezTo>
                  <a:pt x="8312" y="1865"/>
                  <a:pt x="8337" y="1815"/>
                  <a:pt x="8359" y="1761"/>
                </a:cubicBezTo>
                <a:cubicBezTo>
                  <a:pt x="8402" y="1657"/>
                  <a:pt x="8401" y="1637"/>
                  <a:pt x="8384" y="1538"/>
                </a:cubicBezTo>
                <a:cubicBezTo>
                  <a:pt x="8384" y="1486"/>
                  <a:pt x="8383" y="1468"/>
                  <a:pt x="8359" y="1439"/>
                </a:cubicBezTo>
                <a:cubicBezTo>
                  <a:pt x="8390" y="1519"/>
                  <a:pt x="8400" y="1604"/>
                  <a:pt x="8434" y="1687"/>
                </a:cubicBezTo>
                <a:cubicBezTo>
                  <a:pt x="8461" y="1753"/>
                  <a:pt x="8464" y="1802"/>
                  <a:pt x="8508" y="1860"/>
                </a:cubicBezTo>
                <a:cubicBezTo>
                  <a:pt x="8543" y="1907"/>
                  <a:pt x="8542" y="1906"/>
                  <a:pt x="8582" y="1885"/>
                </a:cubicBezTo>
              </a:path>
              <a:path w="5061" h="1663">
                <a:moveTo>
                  <a:pt x="8756" y="1364"/>
                </a:moveTo>
                <a:cubicBezTo>
                  <a:pt x="8807" y="1371"/>
                  <a:pt x="8873" y="1411"/>
                  <a:pt x="8930" y="1389"/>
                </a:cubicBezTo>
                <a:cubicBezTo>
                  <a:pt x="8938" y="1381"/>
                  <a:pt x="8946" y="1372"/>
                  <a:pt x="8954" y="1364"/>
                </a:cubicBezTo>
              </a:path>
              <a:path w="5061" h="1663">
                <a:moveTo>
                  <a:pt x="8731" y="1563"/>
                </a:moveTo>
                <a:cubicBezTo>
                  <a:pt x="8834" y="1563"/>
                  <a:pt x="8861" y="1550"/>
                  <a:pt x="8954" y="1513"/>
                </a:cubicBezTo>
              </a:path>
              <a:path w="5061" h="1663">
                <a:moveTo>
                  <a:pt x="9401" y="967"/>
                </a:moveTo>
                <a:cubicBezTo>
                  <a:pt x="9386" y="1039"/>
                  <a:pt x="9364" y="1129"/>
                  <a:pt x="9351" y="1191"/>
                </a:cubicBezTo>
                <a:cubicBezTo>
                  <a:pt x="9351" y="1240"/>
                  <a:pt x="9351" y="1257"/>
                  <a:pt x="9351" y="1290"/>
                </a:cubicBezTo>
                <a:cubicBezTo>
                  <a:pt x="9427" y="1301"/>
                  <a:pt x="9430" y="1318"/>
                  <a:pt x="9500" y="1265"/>
                </a:cubicBezTo>
                <a:cubicBezTo>
                  <a:pt x="9533" y="1240"/>
                  <a:pt x="9566" y="1217"/>
                  <a:pt x="9599" y="1191"/>
                </a:cubicBezTo>
              </a:path>
              <a:path w="5061" h="1663">
                <a:moveTo>
                  <a:pt x="9599" y="794"/>
                </a:moveTo>
                <a:cubicBezTo>
                  <a:pt x="9599" y="914"/>
                  <a:pt x="9585" y="1021"/>
                  <a:pt x="9575" y="1141"/>
                </a:cubicBezTo>
                <a:cubicBezTo>
                  <a:pt x="9562" y="1300"/>
                  <a:pt x="9570" y="1456"/>
                  <a:pt x="9550" y="1612"/>
                </a:cubicBezTo>
                <a:cubicBezTo>
                  <a:pt x="9544" y="1660"/>
                  <a:pt x="9550" y="1713"/>
                  <a:pt x="9550" y="1761"/>
                </a:cubicBezTo>
              </a:path>
              <a:path w="5061" h="1663">
                <a:moveTo>
                  <a:pt x="9798" y="1761"/>
                </a:moveTo>
                <a:lnTo>
                  <a:pt x="9798" y="1761"/>
                </a:lnTo>
              </a:path>
              <a:path w="5061" h="1663">
                <a:moveTo>
                  <a:pt x="10195" y="893"/>
                </a:moveTo>
                <a:cubicBezTo>
                  <a:pt x="10277" y="893"/>
                  <a:pt x="10337" y="871"/>
                  <a:pt x="10418" y="868"/>
                </a:cubicBezTo>
                <a:cubicBezTo>
                  <a:pt x="10495" y="865"/>
                  <a:pt x="10485" y="857"/>
                  <a:pt x="10542" y="843"/>
                </a:cubicBezTo>
              </a:path>
              <a:path w="5061" h="1663">
                <a:moveTo>
                  <a:pt x="10071" y="992"/>
                </a:moveTo>
                <a:cubicBezTo>
                  <a:pt x="10071" y="1100"/>
                  <a:pt x="10071" y="1207"/>
                  <a:pt x="10071" y="1315"/>
                </a:cubicBezTo>
                <a:cubicBezTo>
                  <a:pt x="10096" y="1290"/>
                  <a:pt x="10166" y="1177"/>
                  <a:pt x="10195" y="1166"/>
                </a:cubicBezTo>
                <a:cubicBezTo>
                  <a:pt x="10261" y="1142"/>
                  <a:pt x="10299" y="1150"/>
                  <a:pt x="10368" y="1191"/>
                </a:cubicBezTo>
                <a:cubicBezTo>
                  <a:pt x="10415" y="1219"/>
                  <a:pt x="10442" y="1337"/>
                  <a:pt x="10468" y="1389"/>
                </a:cubicBezTo>
                <a:cubicBezTo>
                  <a:pt x="10496" y="1445"/>
                  <a:pt x="10543" y="1521"/>
                  <a:pt x="10517" y="1588"/>
                </a:cubicBezTo>
                <a:cubicBezTo>
                  <a:pt x="10490" y="1658"/>
                  <a:pt x="10423" y="1694"/>
                  <a:pt x="10368" y="1736"/>
                </a:cubicBezTo>
                <a:cubicBezTo>
                  <a:pt x="10327" y="1768"/>
                  <a:pt x="10297" y="1761"/>
                  <a:pt x="10244" y="1761"/>
                </a:cubicBezTo>
              </a:path>
              <a:path w="5061" h="1663">
                <a:moveTo>
                  <a:pt x="10864" y="1736"/>
                </a:moveTo>
                <a:cubicBezTo>
                  <a:pt x="10896" y="1789"/>
                  <a:pt x="10906" y="1851"/>
                  <a:pt x="10864" y="1910"/>
                </a:cubicBezTo>
                <a:cubicBezTo>
                  <a:pt x="10830" y="1958"/>
                  <a:pt x="10782" y="2070"/>
                  <a:pt x="10740" y="2108"/>
                </a:cubicBezTo>
                <a:cubicBezTo>
                  <a:pt x="10732" y="2108"/>
                  <a:pt x="10724" y="2108"/>
                  <a:pt x="10716" y="2108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Ink 6"/>
          <p:cNvSpPr/>
          <p:nvPr/>
        </p:nvSpPr>
        <p:spPr>
          <a:xfrm>
            <a:off x="4170240" y="241200"/>
            <a:ext cx="1204920" cy="420840"/>
          </a:xfrm>
          <a:custGeom>
            <a:avLst/>
            <a:gdLst/>
            <a:ahLst/>
            <a:rect l="l" t="t" r="r" b="b"/>
            <a:pathLst>
              <a:path w="3349" h="1167">
                <a:moveTo>
                  <a:pt x="11658" y="670"/>
                </a:moveTo>
                <a:cubicBezTo>
                  <a:pt x="11634" y="790"/>
                  <a:pt x="11633" y="894"/>
                  <a:pt x="11633" y="1017"/>
                </a:cubicBezTo>
                <a:cubicBezTo>
                  <a:pt x="11633" y="1146"/>
                  <a:pt x="11599" y="1263"/>
                  <a:pt x="11584" y="1389"/>
                </a:cubicBezTo>
                <a:cubicBezTo>
                  <a:pt x="11568" y="1524"/>
                  <a:pt x="11591" y="1657"/>
                  <a:pt x="11609" y="1786"/>
                </a:cubicBezTo>
                <a:cubicBezTo>
                  <a:pt x="11623" y="1890"/>
                  <a:pt x="11627" y="1767"/>
                  <a:pt x="11633" y="1736"/>
                </a:cubicBezTo>
                <a:cubicBezTo>
                  <a:pt x="11645" y="1669"/>
                  <a:pt x="11641" y="1604"/>
                  <a:pt x="11658" y="1538"/>
                </a:cubicBezTo>
                <a:cubicBezTo>
                  <a:pt x="11684" y="1438"/>
                  <a:pt x="11694" y="1301"/>
                  <a:pt x="11757" y="1215"/>
                </a:cubicBezTo>
                <a:cubicBezTo>
                  <a:pt x="11793" y="1167"/>
                  <a:pt x="11895" y="1105"/>
                  <a:pt x="11956" y="1116"/>
                </a:cubicBezTo>
                <a:cubicBezTo>
                  <a:pt x="12055" y="1134"/>
                  <a:pt x="12094" y="1176"/>
                  <a:pt x="12129" y="1265"/>
                </a:cubicBezTo>
                <a:cubicBezTo>
                  <a:pt x="12159" y="1341"/>
                  <a:pt x="12168" y="1493"/>
                  <a:pt x="12129" y="1563"/>
                </a:cubicBezTo>
                <a:cubicBezTo>
                  <a:pt x="12068" y="1674"/>
                  <a:pt x="11985" y="1716"/>
                  <a:pt x="11881" y="1761"/>
                </a:cubicBezTo>
                <a:cubicBezTo>
                  <a:pt x="11825" y="1785"/>
                  <a:pt x="11693" y="1826"/>
                  <a:pt x="11633" y="1811"/>
                </a:cubicBezTo>
                <a:cubicBezTo>
                  <a:pt x="11574" y="1796"/>
                  <a:pt x="11626" y="1753"/>
                  <a:pt x="11633" y="1736"/>
                </a:cubicBezTo>
              </a:path>
              <a:path w="3349" h="1167">
                <a:moveTo>
                  <a:pt x="12378" y="1191"/>
                </a:moveTo>
                <a:cubicBezTo>
                  <a:pt x="12462" y="1191"/>
                  <a:pt x="12524" y="1184"/>
                  <a:pt x="12601" y="1166"/>
                </a:cubicBezTo>
                <a:cubicBezTo>
                  <a:pt x="12609" y="1166"/>
                  <a:pt x="12618" y="1166"/>
                  <a:pt x="12626" y="1166"/>
                </a:cubicBezTo>
              </a:path>
              <a:path w="3349" h="1167">
                <a:moveTo>
                  <a:pt x="12353" y="1364"/>
                </a:moveTo>
                <a:cubicBezTo>
                  <a:pt x="12435" y="1354"/>
                  <a:pt x="12522" y="1323"/>
                  <a:pt x="12601" y="1290"/>
                </a:cubicBezTo>
                <a:cubicBezTo>
                  <a:pt x="12673" y="1253"/>
                  <a:pt x="12714" y="1235"/>
                  <a:pt x="12774" y="1215"/>
                </a:cubicBezTo>
              </a:path>
              <a:path w="3349" h="1167">
                <a:moveTo>
                  <a:pt x="12998" y="819"/>
                </a:moveTo>
                <a:cubicBezTo>
                  <a:pt x="12998" y="979"/>
                  <a:pt x="12984" y="1135"/>
                  <a:pt x="12973" y="1290"/>
                </a:cubicBezTo>
                <a:cubicBezTo>
                  <a:pt x="12967" y="1371"/>
                  <a:pt x="12977" y="1531"/>
                  <a:pt x="12948" y="1612"/>
                </a:cubicBezTo>
                <a:cubicBezTo>
                  <a:pt x="12946" y="1617"/>
                  <a:pt x="12877" y="1763"/>
                  <a:pt x="12874" y="1761"/>
                </a:cubicBezTo>
                <a:cubicBezTo>
                  <a:pt x="12874" y="1745"/>
                  <a:pt x="12874" y="1728"/>
                  <a:pt x="12874" y="1712"/>
                </a:cubicBezTo>
              </a:path>
              <a:path w="3349" h="1167">
                <a:moveTo>
                  <a:pt x="13196" y="918"/>
                </a:moveTo>
                <a:cubicBezTo>
                  <a:pt x="13288" y="810"/>
                  <a:pt x="13311" y="837"/>
                  <a:pt x="13395" y="769"/>
                </a:cubicBezTo>
                <a:cubicBezTo>
                  <a:pt x="13426" y="744"/>
                  <a:pt x="13547" y="707"/>
                  <a:pt x="13568" y="769"/>
                </a:cubicBezTo>
                <a:cubicBezTo>
                  <a:pt x="13601" y="868"/>
                  <a:pt x="13522" y="1021"/>
                  <a:pt x="13469" y="1091"/>
                </a:cubicBezTo>
                <a:cubicBezTo>
                  <a:pt x="13414" y="1163"/>
                  <a:pt x="13395" y="1244"/>
                  <a:pt x="13345" y="1315"/>
                </a:cubicBezTo>
                <a:cubicBezTo>
                  <a:pt x="13294" y="1388"/>
                  <a:pt x="13237" y="1430"/>
                  <a:pt x="13196" y="1513"/>
                </a:cubicBezTo>
                <a:cubicBezTo>
                  <a:pt x="13173" y="1559"/>
                  <a:pt x="13147" y="1593"/>
                  <a:pt x="13122" y="1637"/>
                </a:cubicBezTo>
                <a:cubicBezTo>
                  <a:pt x="13189" y="1678"/>
                  <a:pt x="13238" y="1640"/>
                  <a:pt x="13320" y="1637"/>
                </a:cubicBezTo>
                <a:cubicBezTo>
                  <a:pt x="13402" y="1634"/>
                  <a:pt x="13477" y="1652"/>
                  <a:pt x="13543" y="1612"/>
                </a:cubicBezTo>
              </a:path>
              <a:path w="3349" h="1167">
                <a:moveTo>
                  <a:pt x="13915" y="1538"/>
                </a:moveTo>
                <a:cubicBezTo>
                  <a:pt x="13907" y="1546"/>
                  <a:pt x="13899" y="1555"/>
                  <a:pt x="13891" y="1563"/>
                </a:cubicBezTo>
              </a:path>
              <a:path w="3349" h="1167">
                <a:moveTo>
                  <a:pt x="14734" y="967"/>
                </a:moveTo>
                <a:cubicBezTo>
                  <a:pt x="14728" y="904"/>
                  <a:pt x="14721" y="837"/>
                  <a:pt x="14660" y="794"/>
                </a:cubicBezTo>
                <a:cubicBezTo>
                  <a:pt x="14598" y="750"/>
                  <a:pt x="14508" y="769"/>
                  <a:pt x="14436" y="769"/>
                </a:cubicBezTo>
                <a:cubicBezTo>
                  <a:pt x="14380" y="769"/>
                  <a:pt x="14312" y="809"/>
                  <a:pt x="14263" y="843"/>
                </a:cubicBezTo>
                <a:cubicBezTo>
                  <a:pt x="14200" y="887"/>
                  <a:pt x="14210" y="968"/>
                  <a:pt x="14263" y="1017"/>
                </a:cubicBezTo>
                <a:cubicBezTo>
                  <a:pt x="14326" y="1076"/>
                  <a:pt x="14419" y="1108"/>
                  <a:pt x="14486" y="1166"/>
                </a:cubicBezTo>
                <a:cubicBezTo>
                  <a:pt x="14538" y="1212"/>
                  <a:pt x="14587" y="1277"/>
                  <a:pt x="14635" y="1315"/>
                </a:cubicBezTo>
                <a:cubicBezTo>
                  <a:pt x="14686" y="1355"/>
                  <a:pt x="14724" y="1400"/>
                  <a:pt x="14734" y="1463"/>
                </a:cubicBezTo>
                <a:cubicBezTo>
                  <a:pt x="14747" y="1547"/>
                  <a:pt x="14713" y="1583"/>
                  <a:pt x="14660" y="1637"/>
                </a:cubicBezTo>
                <a:cubicBezTo>
                  <a:pt x="14614" y="1684"/>
                  <a:pt x="14558" y="1665"/>
                  <a:pt x="14511" y="1637"/>
                </a:cubicBezTo>
                <a:cubicBezTo>
                  <a:pt x="14519" y="1573"/>
                  <a:pt x="14524" y="1489"/>
                  <a:pt x="14560" y="1439"/>
                </a:cubicBezTo>
                <a:cubicBezTo>
                  <a:pt x="14593" y="1394"/>
                  <a:pt x="14630" y="1363"/>
                  <a:pt x="14660" y="1315"/>
                </a:cubicBezTo>
                <a:cubicBezTo>
                  <a:pt x="14713" y="1231"/>
                  <a:pt x="14757" y="1147"/>
                  <a:pt x="14808" y="1067"/>
                </a:cubicBezTo>
                <a:cubicBezTo>
                  <a:pt x="14846" y="1007"/>
                  <a:pt x="14866" y="980"/>
                  <a:pt x="14883" y="918"/>
                </a:cubicBezTo>
                <a:cubicBezTo>
                  <a:pt x="14902" y="850"/>
                  <a:pt x="14919" y="786"/>
                  <a:pt x="14932" y="719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Ink 7"/>
          <p:cNvSpPr/>
          <p:nvPr/>
        </p:nvSpPr>
        <p:spPr>
          <a:xfrm>
            <a:off x="946080" y="857160"/>
            <a:ext cx="447840" cy="527040"/>
          </a:xfrm>
          <a:custGeom>
            <a:avLst/>
            <a:gdLst/>
            <a:ahLst/>
            <a:rect l="l" t="t" r="r" b="b"/>
            <a:pathLst>
              <a:path w="1242" h="1465">
                <a:moveTo>
                  <a:pt x="2654" y="2729"/>
                </a:moveTo>
                <a:cubicBezTo>
                  <a:pt x="2654" y="2825"/>
                  <a:pt x="2642" y="2912"/>
                  <a:pt x="2629" y="3001"/>
                </a:cubicBezTo>
                <a:cubicBezTo>
                  <a:pt x="2607" y="3148"/>
                  <a:pt x="2629" y="3547"/>
                  <a:pt x="2629" y="3398"/>
                </a:cubicBezTo>
              </a:path>
              <a:path w="1242" h="1465">
                <a:moveTo>
                  <a:pt x="2952" y="2778"/>
                </a:moveTo>
                <a:cubicBezTo>
                  <a:pt x="3028" y="2789"/>
                  <a:pt x="3088" y="2803"/>
                  <a:pt x="3175" y="2803"/>
                </a:cubicBezTo>
                <a:cubicBezTo>
                  <a:pt x="3260" y="2803"/>
                  <a:pt x="3320" y="2791"/>
                  <a:pt x="3398" y="2778"/>
                </a:cubicBezTo>
                <a:cubicBezTo>
                  <a:pt x="3415" y="2778"/>
                  <a:pt x="3431" y="2778"/>
                  <a:pt x="3448" y="2778"/>
                </a:cubicBezTo>
                <a:cubicBezTo>
                  <a:pt x="3394" y="2846"/>
                  <a:pt x="3425" y="2883"/>
                  <a:pt x="3398" y="2952"/>
                </a:cubicBezTo>
                <a:cubicBezTo>
                  <a:pt x="3366" y="3034"/>
                  <a:pt x="3349" y="3108"/>
                  <a:pt x="3349" y="3200"/>
                </a:cubicBezTo>
                <a:cubicBezTo>
                  <a:pt x="3349" y="3282"/>
                  <a:pt x="3328" y="3343"/>
                  <a:pt x="3324" y="3423"/>
                </a:cubicBezTo>
                <a:cubicBezTo>
                  <a:pt x="3319" y="3529"/>
                  <a:pt x="3330" y="3430"/>
                  <a:pt x="3349" y="3398"/>
                </a:cubicBezTo>
              </a:path>
              <a:path w="1242" h="1465">
                <a:moveTo>
                  <a:pt x="3398" y="2381"/>
                </a:moveTo>
                <a:cubicBezTo>
                  <a:pt x="3460" y="2390"/>
                  <a:pt x="3541" y="2415"/>
                  <a:pt x="3597" y="2456"/>
                </a:cubicBezTo>
                <a:cubicBezTo>
                  <a:pt x="3645" y="2491"/>
                  <a:pt x="3749" y="2638"/>
                  <a:pt x="3770" y="2679"/>
                </a:cubicBezTo>
                <a:cubicBezTo>
                  <a:pt x="3822" y="2780"/>
                  <a:pt x="3858" y="2887"/>
                  <a:pt x="3870" y="3001"/>
                </a:cubicBezTo>
                <a:cubicBezTo>
                  <a:pt x="3883" y="3122"/>
                  <a:pt x="3859" y="3232"/>
                  <a:pt x="3845" y="3349"/>
                </a:cubicBezTo>
                <a:cubicBezTo>
                  <a:pt x="3830" y="3472"/>
                  <a:pt x="3774" y="3573"/>
                  <a:pt x="3696" y="3671"/>
                </a:cubicBezTo>
                <a:cubicBezTo>
                  <a:pt x="3657" y="3721"/>
                  <a:pt x="3614" y="3774"/>
                  <a:pt x="3572" y="3820"/>
                </a:cubicBezTo>
                <a:cubicBezTo>
                  <a:pt x="3549" y="3843"/>
                  <a:pt x="3545" y="3851"/>
                  <a:pt x="3522" y="384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Ink 8"/>
          <p:cNvSpPr/>
          <p:nvPr/>
        </p:nvSpPr>
        <p:spPr>
          <a:xfrm>
            <a:off x="1562040" y="884160"/>
            <a:ext cx="376200" cy="411120"/>
          </a:xfrm>
          <a:custGeom>
            <a:avLst/>
            <a:gdLst/>
            <a:ahLst/>
            <a:rect l="l" t="t" r="r" b="b"/>
            <a:pathLst>
              <a:path w="1043" h="1142">
                <a:moveTo>
                  <a:pt x="4589" y="2803"/>
                </a:moveTo>
                <a:cubicBezTo>
                  <a:pt x="4559" y="2884"/>
                  <a:pt x="4580" y="2943"/>
                  <a:pt x="4564" y="3026"/>
                </a:cubicBezTo>
                <a:cubicBezTo>
                  <a:pt x="4547" y="3115"/>
                  <a:pt x="4497" y="3191"/>
                  <a:pt x="4465" y="3274"/>
                </a:cubicBezTo>
                <a:cubicBezTo>
                  <a:pt x="4423" y="3382"/>
                  <a:pt x="4384" y="3490"/>
                  <a:pt x="4341" y="3597"/>
                </a:cubicBezTo>
                <a:cubicBezTo>
                  <a:pt x="4367" y="3511"/>
                  <a:pt x="4404" y="3410"/>
                  <a:pt x="4415" y="3324"/>
                </a:cubicBezTo>
                <a:cubicBezTo>
                  <a:pt x="4428" y="3225"/>
                  <a:pt x="4442" y="3119"/>
                  <a:pt x="4490" y="3026"/>
                </a:cubicBezTo>
                <a:cubicBezTo>
                  <a:pt x="4538" y="2932"/>
                  <a:pt x="4594" y="2836"/>
                  <a:pt x="4614" y="2729"/>
                </a:cubicBezTo>
                <a:cubicBezTo>
                  <a:pt x="4629" y="2646"/>
                  <a:pt x="4687" y="2575"/>
                  <a:pt x="4738" y="2505"/>
                </a:cubicBezTo>
                <a:cubicBezTo>
                  <a:pt x="4762" y="2480"/>
                  <a:pt x="4770" y="2472"/>
                  <a:pt x="4787" y="2456"/>
                </a:cubicBezTo>
                <a:cubicBezTo>
                  <a:pt x="4818" y="2507"/>
                  <a:pt x="4817" y="2549"/>
                  <a:pt x="4837" y="2604"/>
                </a:cubicBezTo>
                <a:cubicBezTo>
                  <a:pt x="4866" y="2687"/>
                  <a:pt x="4868" y="2767"/>
                  <a:pt x="4887" y="2853"/>
                </a:cubicBezTo>
                <a:cubicBezTo>
                  <a:pt x="4910" y="2958"/>
                  <a:pt x="4887" y="3073"/>
                  <a:pt x="4911" y="3175"/>
                </a:cubicBezTo>
                <a:cubicBezTo>
                  <a:pt x="4924" y="3229"/>
                  <a:pt x="4917" y="3323"/>
                  <a:pt x="4936" y="3373"/>
                </a:cubicBezTo>
                <a:cubicBezTo>
                  <a:pt x="4956" y="3426"/>
                  <a:pt x="4943" y="3423"/>
                  <a:pt x="4936" y="3448"/>
                </a:cubicBezTo>
              </a:path>
              <a:path w="1043" h="1142">
                <a:moveTo>
                  <a:pt x="4465" y="3175"/>
                </a:moveTo>
                <a:cubicBezTo>
                  <a:pt x="4579" y="3175"/>
                  <a:pt x="4689" y="3170"/>
                  <a:pt x="4787" y="3150"/>
                </a:cubicBezTo>
                <a:cubicBezTo>
                  <a:pt x="4825" y="3142"/>
                  <a:pt x="4872" y="3150"/>
                  <a:pt x="4911" y="3150"/>
                </a:cubicBezTo>
              </a:path>
              <a:path w="1043" h="1142">
                <a:moveTo>
                  <a:pt x="5060" y="3026"/>
                </a:moveTo>
                <a:cubicBezTo>
                  <a:pt x="5151" y="3026"/>
                  <a:pt x="5242" y="3026"/>
                  <a:pt x="5333" y="3026"/>
                </a:cubicBezTo>
              </a:path>
              <a:path w="1043" h="1142">
                <a:moveTo>
                  <a:pt x="5159" y="3175"/>
                </a:moveTo>
                <a:cubicBezTo>
                  <a:pt x="5236" y="3175"/>
                  <a:pt x="5287" y="3166"/>
                  <a:pt x="5358" y="3150"/>
                </a:cubicBezTo>
                <a:cubicBezTo>
                  <a:pt x="5366" y="3150"/>
                  <a:pt x="5375" y="3150"/>
                  <a:pt x="5383" y="315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Ink 9"/>
          <p:cNvSpPr/>
          <p:nvPr/>
        </p:nvSpPr>
        <p:spPr>
          <a:xfrm>
            <a:off x="2116080" y="901800"/>
            <a:ext cx="706320" cy="411120"/>
          </a:xfrm>
          <a:custGeom>
            <a:avLst/>
            <a:gdLst/>
            <a:ahLst/>
            <a:rect l="l" t="t" r="r" b="b"/>
            <a:pathLst>
              <a:path w="1960" h="1142">
                <a:moveTo>
                  <a:pt x="5879" y="2704"/>
                </a:moveTo>
                <a:cubicBezTo>
                  <a:pt x="6041" y="2704"/>
                  <a:pt x="6193" y="2702"/>
                  <a:pt x="6350" y="2679"/>
                </a:cubicBezTo>
                <a:cubicBezTo>
                  <a:pt x="6409" y="2670"/>
                  <a:pt x="6443" y="2686"/>
                  <a:pt x="6474" y="2654"/>
                </a:cubicBezTo>
              </a:path>
              <a:path w="1960" h="1142">
                <a:moveTo>
                  <a:pt x="6152" y="2654"/>
                </a:moveTo>
                <a:cubicBezTo>
                  <a:pt x="6106" y="2733"/>
                  <a:pt x="6067" y="2813"/>
                  <a:pt x="6052" y="2902"/>
                </a:cubicBezTo>
                <a:cubicBezTo>
                  <a:pt x="6043" y="2956"/>
                  <a:pt x="6052" y="2985"/>
                  <a:pt x="6077" y="3026"/>
                </a:cubicBezTo>
                <a:cubicBezTo>
                  <a:pt x="6124" y="2980"/>
                  <a:pt x="6173" y="2964"/>
                  <a:pt x="6226" y="2927"/>
                </a:cubicBezTo>
                <a:cubicBezTo>
                  <a:pt x="6296" y="2879"/>
                  <a:pt x="6339" y="2875"/>
                  <a:pt x="6424" y="2902"/>
                </a:cubicBezTo>
                <a:cubicBezTo>
                  <a:pt x="6460" y="2913"/>
                  <a:pt x="6546" y="2995"/>
                  <a:pt x="6573" y="3026"/>
                </a:cubicBezTo>
                <a:cubicBezTo>
                  <a:pt x="6628" y="3088"/>
                  <a:pt x="6681" y="3222"/>
                  <a:pt x="6697" y="3299"/>
                </a:cubicBezTo>
                <a:cubicBezTo>
                  <a:pt x="6712" y="3371"/>
                  <a:pt x="6678" y="3465"/>
                  <a:pt x="6648" y="3522"/>
                </a:cubicBezTo>
                <a:cubicBezTo>
                  <a:pt x="6619" y="3577"/>
                  <a:pt x="6540" y="3600"/>
                  <a:pt x="6474" y="3621"/>
                </a:cubicBezTo>
                <a:cubicBezTo>
                  <a:pt x="6408" y="3642"/>
                  <a:pt x="6308" y="3671"/>
                  <a:pt x="6276" y="3621"/>
                </a:cubicBezTo>
              </a:path>
              <a:path w="1960" h="1142">
                <a:moveTo>
                  <a:pt x="7392" y="2704"/>
                </a:moveTo>
                <a:cubicBezTo>
                  <a:pt x="7286" y="2624"/>
                  <a:pt x="7269" y="2621"/>
                  <a:pt x="7144" y="2654"/>
                </a:cubicBezTo>
                <a:cubicBezTo>
                  <a:pt x="7045" y="2680"/>
                  <a:pt x="7020" y="2720"/>
                  <a:pt x="6945" y="2778"/>
                </a:cubicBezTo>
                <a:cubicBezTo>
                  <a:pt x="6858" y="2845"/>
                  <a:pt x="6811" y="2859"/>
                  <a:pt x="6871" y="2977"/>
                </a:cubicBezTo>
                <a:cubicBezTo>
                  <a:pt x="6901" y="3036"/>
                  <a:pt x="7036" y="3167"/>
                  <a:pt x="7094" y="3200"/>
                </a:cubicBezTo>
                <a:cubicBezTo>
                  <a:pt x="7200" y="3260"/>
                  <a:pt x="7172" y="3258"/>
                  <a:pt x="7218" y="3349"/>
                </a:cubicBezTo>
                <a:cubicBezTo>
                  <a:pt x="7226" y="3357"/>
                  <a:pt x="7235" y="3365"/>
                  <a:pt x="7243" y="3373"/>
                </a:cubicBezTo>
                <a:cubicBezTo>
                  <a:pt x="7185" y="3431"/>
                  <a:pt x="7104" y="3446"/>
                  <a:pt x="7020" y="3423"/>
                </a:cubicBezTo>
                <a:cubicBezTo>
                  <a:pt x="6937" y="3400"/>
                  <a:pt x="7027" y="3262"/>
                  <a:pt x="7045" y="3225"/>
                </a:cubicBezTo>
                <a:cubicBezTo>
                  <a:pt x="7082" y="3150"/>
                  <a:pt x="7155" y="3098"/>
                  <a:pt x="7193" y="3026"/>
                </a:cubicBezTo>
                <a:cubicBezTo>
                  <a:pt x="7237" y="2942"/>
                  <a:pt x="7207" y="2857"/>
                  <a:pt x="7268" y="2778"/>
                </a:cubicBezTo>
                <a:cubicBezTo>
                  <a:pt x="7284" y="2762"/>
                  <a:pt x="7301" y="2745"/>
                  <a:pt x="7317" y="2729"/>
                </a:cubicBezTo>
              </a:path>
              <a:path w="1960" h="1142">
                <a:moveTo>
                  <a:pt x="7491" y="2580"/>
                </a:moveTo>
                <a:cubicBezTo>
                  <a:pt x="7453" y="2667"/>
                  <a:pt x="7390" y="2746"/>
                  <a:pt x="7516" y="2753"/>
                </a:cubicBezTo>
                <a:cubicBezTo>
                  <a:pt x="7589" y="2757"/>
                  <a:pt x="7609" y="2713"/>
                  <a:pt x="7640" y="2654"/>
                </a:cubicBezTo>
                <a:cubicBezTo>
                  <a:pt x="7656" y="2623"/>
                  <a:pt x="7656" y="2500"/>
                  <a:pt x="7590" y="2505"/>
                </a:cubicBezTo>
                <a:cubicBezTo>
                  <a:pt x="7574" y="2513"/>
                  <a:pt x="7557" y="2522"/>
                  <a:pt x="7541" y="2530"/>
                </a:cubicBezTo>
              </a:path>
              <a:path w="1960" h="1142">
                <a:moveTo>
                  <a:pt x="7838" y="3225"/>
                </a:moveTo>
                <a:cubicBezTo>
                  <a:pt x="7823" y="3337"/>
                  <a:pt x="7821" y="3470"/>
                  <a:pt x="7764" y="3572"/>
                </a:cubicBezTo>
                <a:cubicBezTo>
                  <a:pt x="7722" y="3647"/>
                  <a:pt x="7733" y="3610"/>
                  <a:pt x="7714" y="357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Ink 10"/>
          <p:cNvSpPr/>
          <p:nvPr/>
        </p:nvSpPr>
        <p:spPr>
          <a:xfrm>
            <a:off x="3054240" y="955800"/>
            <a:ext cx="517680" cy="33012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8756" y="3225"/>
                </a:moveTo>
                <a:cubicBezTo>
                  <a:pt x="8756" y="3148"/>
                  <a:pt x="8752" y="3114"/>
                  <a:pt x="8706" y="3051"/>
                </a:cubicBezTo>
                <a:cubicBezTo>
                  <a:pt x="8668" y="3000"/>
                  <a:pt x="8633" y="2982"/>
                  <a:pt x="8582" y="3026"/>
                </a:cubicBezTo>
                <a:cubicBezTo>
                  <a:pt x="8513" y="3087"/>
                  <a:pt x="8487" y="3159"/>
                  <a:pt x="8483" y="3249"/>
                </a:cubicBezTo>
                <a:cubicBezTo>
                  <a:pt x="8480" y="3329"/>
                  <a:pt x="8471" y="3424"/>
                  <a:pt x="8508" y="3497"/>
                </a:cubicBezTo>
                <a:cubicBezTo>
                  <a:pt x="8546" y="3573"/>
                  <a:pt x="8609" y="3532"/>
                  <a:pt x="8657" y="3497"/>
                </a:cubicBezTo>
                <a:cubicBezTo>
                  <a:pt x="8699" y="3466"/>
                  <a:pt x="8747" y="3399"/>
                  <a:pt x="8756" y="3349"/>
                </a:cubicBezTo>
                <a:cubicBezTo>
                  <a:pt x="8772" y="3257"/>
                  <a:pt x="8774" y="3263"/>
                  <a:pt x="8756" y="3175"/>
                </a:cubicBezTo>
                <a:cubicBezTo>
                  <a:pt x="8767" y="3248"/>
                  <a:pt x="8777" y="3331"/>
                  <a:pt x="8806" y="3398"/>
                </a:cubicBezTo>
                <a:cubicBezTo>
                  <a:pt x="8824" y="3439"/>
                  <a:pt x="8856" y="3544"/>
                  <a:pt x="8880" y="3497"/>
                </a:cubicBezTo>
              </a:path>
              <a:path w="1440" h="919">
                <a:moveTo>
                  <a:pt x="9004" y="3175"/>
                </a:moveTo>
                <a:cubicBezTo>
                  <a:pt x="9062" y="3175"/>
                  <a:pt x="9120" y="3175"/>
                  <a:pt x="9178" y="3175"/>
                </a:cubicBezTo>
              </a:path>
              <a:path w="1440" h="919">
                <a:moveTo>
                  <a:pt x="9004" y="3299"/>
                </a:moveTo>
                <a:cubicBezTo>
                  <a:pt x="9113" y="3315"/>
                  <a:pt x="9152" y="3312"/>
                  <a:pt x="9252" y="3274"/>
                </a:cubicBezTo>
              </a:path>
              <a:path w="1440" h="919">
                <a:moveTo>
                  <a:pt x="9599" y="2679"/>
                </a:moveTo>
                <a:cubicBezTo>
                  <a:pt x="9599" y="2865"/>
                  <a:pt x="9592" y="3041"/>
                  <a:pt x="9575" y="3225"/>
                </a:cubicBezTo>
                <a:cubicBezTo>
                  <a:pt x="9568" y="3304"/>
                  <a:pt x="9538" y="3374"/>
                  <a:pt x="9525" y="3448"/>
                </a:cubicBezTo>
                <a:cubicBezTo>
                  <a:pt x="9519" y="3483"/>
                  <a:pt x="9525" y="3646"/>
                  <a:pt x="9500" y="3522"/>
                </a:cubicBezTo>
              </a:path>
              <a:path w="1440" h="919">
                <a:moveTo>
                  <a:pt x="9823" y="2654"/>
                </a:moveTo>
                <a:cubicBezTo>
                  <a:pt x="9823" y="2787"/>
                  <a:pt x="9812" y="2899"/>
                  <a:pt x="9798" y="3026"/>
                </a:cubicBezTo>
                <a:cubicBezTo>
                  <a:pt x="9785" y="3138"/>
                  <a:pt x="9740" y="3241"/>
                  <a:pt x="9723" y="3349"/>
                </a:cubicBezTo>
                <a:cubicBezTo>
                  <a:pt x="9712" y="3419"/>
                  <a:pt x="9723" y="3501"/>
                  <a:pt x="9723" y="3572"/>
                </a:cubicBezTo>
              </a:path>
              <a:path w="1440" h="919">
                <a:moveTo>
                  <a:pt x="9922" y="3497"/>
                </a:moveTo>
                <a:lnTo>
                  <a:pt x="9922" y="3497"/>
                </a:ln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Ink 11"/>
          <p:cNvSpPr/>
          <p:nvPr/>
        </p:nvSpPr>
        <p:spPr>
          <a:xfrm>
            <a:off x="3714840" y="946080"/>
            <a:ext cx="142920" cy="339840"/>
          </a:xfrm>
          <a:custGeom>
            <a:avLst/>
            <a:gdLst/>
            <a:ahLst/>
            <a:rect l="l" t="t" r="r" b="b"/>
            <a:pathLst>
              <a:path w="398" h="944">
                <a:moveTo>
                  <a:pt x="10368" y="2853"/>
                </a:moveTo>
                <a:cubicBezTo>
                  <a:pt x="10413" y="2927"/>
                  <a:pt x="10380" y="2995"/>
                  <a:pt x="10344" y="3076"/>
                </a:cubicBezTo>
                <a:cubicBezTo>
                  <a:pt x="10310" y="3153"/>
                  <a:pt x="10299" y="3194"/>
                  <a:pt x="10393" y="3200"/>
                </a:cubicBezTo>
                <a:cubicBezTo>
                  <a:pt x="10460" y="3204"/>
                  <a:pt x="10534" y="3211"/>
                  <a:pt x="10592" y="3175"/>
                </a:cubicBezTo>
                <a:cubicBezTo>
                  <a:pt x="10634" y="3149"/>
                  <a:pt x="10677" y="3107"/>
                  <a:pt x="10716" y="3076"/>
                </a:cubicBezTo>
              </a:path>
              <a:path w="398" h="944">
                <a:moveTo>
                  <a:pt x="10666" y="2629"/>
                </a:moveTo>
                <a:cubicBezTo>
                  <a:pt x="10646" y="2760"/>
                  <a:pt x="10641" y="2869"/>
                  <a:pt x="10641" y="3001"/>
                </a:cubicBezTo>
                <a:cubicBezTo>
                  <a:pt x="10641" y="3132"/>
                  <a:pt x="10633" y="3247"/>
                  <a:pt x="10616" y="3373"/>
                </a:cubicBezTo>
                <a:cubicBezTo>
                  <a:pt x="10606" y="3444"/>
                  <a:pt x="10609" y="3501"/>
                  <a:pt x="10592" y="357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Ink 12"/>
          <p:cNvSpPr/>
          <p:nvPr/>
        </p:nvSpPr>
        <p:spPr>
          <a:xfrm>
            <a:off x="4037040" y="1258920"/>
            <a:ext cx="27000" cy="98280"/>
          </a:xfrm>
          <a:custGeom>
            <a:avLst/>
            <a:gdLst/>
            <a:ahLst/>
            <a:rect l="l" t="t" r="r" b="b"/>
            <a:pathLst>
              <a:path w="75" h="274">
                <a:moveTo>
                  <a:pt x="11286" y="3497"/>
                </a:moveTo>
                <a:cubicBezTo>
                  <a:pt x="11258" y="3592"/>
                  <a:pt x="11224" y="3677"/>
                  <a:pt x="11212" y="377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Ink 13"/>
          <p:cNvSpPr/>
          <p:nvPr/>
        </p:nvSpPr>
        <p:spPr>
          <a:xfrm>
            <a:off x="4259160" y="901800"/>
            <a:ext cx="1090800" cy="357120"/>
          </a:xfrm>
          <a:custGeom>
            <a:avLst/>
            <a:gdLst/>
            <a:ahLst/>
            <a:rect l="l" t="t" r="r" b="b"/>
            <a:pathLst>
              <a:path w="3027" h="993">
                <a:moveTo>
                  <a:pt x="11857" y="2505"/>
                </a:moveTo>
                <a:cubicBezTo>
                  <a:pt x="11857" y="2784"/>
                  <a:pt x="11785" y="3183"/>
                  <a:pt x="11881" y="3448"/>
                </a:cubicBezTo>
                <a:cubicBezTo>
                  <a:pt x="11881" y="3352"/>
                  <a:pt x="11894" y="3256"/>
                  <a:pt x="11906" y="3175"/>
                </a:cubicBezTo>
                <a:cubicBezTo>
                  <a:pt x="11920" y="3078"/>
                  <a:pt x="11918" y="2994"/>
                  <a:pt x="12005" y="2927"/>
                </a:cubicBezTo>
                <a:cubicBezTo>
                  <a:pt x="12070" y="2877"/>
                  <a:pt x="12162" y="2946"/>
                  <a:pt x="12204" y="3001"/>
                </a:cubicBezTo>
                <a:cubicBezTo>
                  <a:pt x="12253" y="3065"/>
                  <a:pt x="12275" y="3144"/>
                  <a:pt x="12254" y="3225"/>
                </a:cubicBezTo>
                <a:cubicBezTo>
                  <a:pt x="12241" y="3278"/>
                  <a:pt x="12170" y="3367"/>
                  <a:pt x="12129" y="3398"/>
                </a:cubicBezTo>
                <a:cubicBezTo>
                  <a:pt x="12081" y="3435"/>
                  <a:pt x="11988" y="3465"/>
                  <a:pt x="11931" y="3473"/>
                </a:cubicBezTo>
                <a:cubicBezTo>
                  <a:pt x="11863" y="3473"/>
                  <a:pt x="11841" y="3478"/>
                  <a:pt x="11832" y="3423"/>
                </a:cubicBezTo>
              </a:path>
              <a:path w="3027" h="993">
                <a:moveTo>
                  <a:pt x="12502" y="3026"/>
                </a:moveTo>
                <a:cubicBezTo>
                  <a:pt x="12571" y="3020"/>
                  <a:pt x="12632" y="3009"/>
                  <a:pt x="12700" y="3001"/>
                </a:cubicBezTo>
              </a:path>
              <a:path w="3027" h="993">
                <a:moveTo>
                  <a:pt x="12502" y="3225"/>
                </a:moveTo>
                <a:cubicBezTo>
                  <a:pt x="12600" y="3217"/>
                  <a:pt x="12663" y="3194"/>
                  <a:pt x="12750" y="3150"/>
                </a:cubicBezTo>
                <a:cubicBezTo>
                  <a:pt x="12766" y="3142"/>
                  <a:pt x="12783" y="3133"/>
                  <a:pt x="12799" y="3125"/>
                </a:cubicBezTo>
              </a:path>
              <a:path w="3027" h="993">
                <a:moveTo>
                  <a:pt x="13097" y="2629"/>
                </a:moveTo>
                <a:cubicBezTo>
                  <a:pt x="13086" y="2806"/>
                  <a:pt x="13078" y="2936"/>
                  <a:pt x="13072" y="3101"/>
                </a:cubicBezTo>
                <a:cubicBezTo>
                  <a:pt x="13068" y="3215"/>
                  <a:pt x="13065" y="3316"/>
                  <a:pt x="13047" y="3423"/>
                </a:cubicBezTo>
                <a:cubicBezTo>
                  <a:pt x="13047" y="3465"/>
                  <a:pt x="13039" y="3481"/>
                  <a:pt x="13072" y="3473"/>
                </a:cubicBezTo>
              </a:path>
              <a:path w="3027" h="993">
                <a:moveTo>
                  <a:pt x="13370" y="2629"/>
                </a:moveTo>
                <a:cubicBezTo>
                  <a:pt x="13437" y="2573"/>
                  <a:pt x="13519" y="2491"/>
                  <a:pt x="13618" y="2505"/>
                </a:cubicBezTo>
                <a:cubicBezTo>
                  <a:pt x="13716" y="2519"/>
                  <a:pt x="13816" y="2588"/>
                  <a:pt x="13816" y="2704"/>
                </a:cubicBezTo>
                <a:cubicBezTo>
                  <a:pt x="13816" y="2772"/>
                  <a:pt x="13774" y="2842"/>
                  <a:pt x="13742" y="2902"/>
                </a:cubicBezTo>
                <a:cubicBezTo>
                  <a:pt x="13698" y="2984"/>
                  <a:pt x="13643" y="3051"/>
                  <a:pt x="13593" y="3125"/>
                </a:cubicBezTo>
                <a:cubicBezTo>
                  <a:pt x="13554" y="3184"/>
                  <a:pt x="13471" y="3243"/>
                  <a:pt x="13444" y="3299"/>
                </a:cubicBezTo>
                <a:cubicBezTo>
                  <a:pt x="13418" y="3352"/>
                  <a:pt x="13403" y="3418"/>
                  <a:pt x="13395" y="3473"/>
                </a:cubicBezTo>
                <a:cubicBezTo>
                  <a:pt x="13447" y="3503"/>
                  <a:pt x="13557" y="3492"/>
                  <a:pt x="13618" y="3473"/>
                </a:cubicBezTo>
                <a:cubicBezTo>
                  <a:pt x="13665" y="3458"/>
                  <a:pt x="13724" y="3449"/>
                  <a:pt x="13767" y="3423"/>
                </a:cubicBezTo>
              </a:path>
              <a:path w="3027" h="993">
                <a:moveTo>
                  <a:pt x="13990" y="3398"/>
                </a:moveTo>
                <a:cubicBezTo>
                  <a:pt x="13914" y="3474"/>
                  <a:pt x="14058" y="3355"/>
                  <a:pt x="14064" y="3349"/>
                </a:cubicBezTo>
              </a:path>
              <a:path w="3027" h="993">
                <a:moveTo>
                  <a:pt x="14858" y="2803"/>
                </a:moveTo>
                <a:cubicBezTo>
                  <a:pt x="14824" y="2669"/>
                  <a:pt x="14832" y="2630"/>
                  <a:pt x="14684" y="2654"/>
                </a:cubicBezTo>
                <a:cubicBezTo>
                  <a:pt x="14620" y="2664"/>
                  <a:pt x="14509" y="2675"/>
                  <a:pt x="14461" y="2729"/>
                </a:cubicBezTo>
                <a:cubicBezTo>
                  <a:pt x="14382" y="2817"/>
                  <a:pt x="14416" y="2862"/>
                  <a:pt x="14461" y="2952"/>
                </a:cubicBezTo>
                <a:cubicBezTo>
                  <a:pt x="14492" y="3014"/>
                  <a:pt x="14542" y="3094"/>
                  <a:pt x="14585" y="3150"/>
                </a:cubicBezTo>
                <a:cubicBezTo>
                  <a:pt x="14645" y="3227"/>
                  <a:pt x="14703" y="3246"/>
                  <a:pt x="14709" y="3349"/>
                </a:cubicBezTo>
                <a:cubicBezTo>
                  <a:pt x="14709" y="3398"/>
                  <a:pt x="14709" y="3415"/>
                  <a:pt x="14709" y="3448"/>
                </a:cubicBezTo>
                <a:cubicBezTo>
                  <a:pt x="14633" y="3448"/>
                  <a:pt x="14597" y="3444"/>
                  <a:pt x="14536" y="3398"/>
                </a:cubicBezTo>
                <a:cubicBezTo>
                  <a:pt x="14468" y="3346"/>
                  <a:pt x="14535" y="3211"/>
                  <a:pt x="14560" y="3150"/>
                </a:cubicBezTo>
                <a:cubicBezTo>
                  <a:pt x="14599" y="3053"/>
                  <a:pt x="14687" y="2983"/>
                  <a:pt x="14709" y="2877"/>
                </a:cubicBezTo>
                <a:cubicBezTo>
                  <a:pt x="14724" y="2805"/>
                  <a:pt x="14748" y="2734"/>
                  <a:pt x="14759" y="2654"/>
                </a:cubicBezTo>
                <a:cubicBezTo>
                  <a:pt x="14759" y="2602"/>
                  <a:pt x="14760" y="2584"/>
                  <a:pt x="14784" y="255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(pg 434 #1-7)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5" name="Ink 3"/>
          <p:cNvSpPr/>
          <p:nvPr/>
        </p:nvSpPr>
        <p:spPr>
          <a:xfrm>
            <a:off x="901800" y="1938240"/>
            <a:ext cx="349200" cy="419040"/>
          </a:xfrm>
          <a:custGeom>
            <a:avLst/>
            <a:gdLst/>
            <a:ahLst/>
            <a:rect l="l" t="t" r="r" b="b"/>
            <a:pathLst>
              <a:path w="969" h="1166">
                <a:moveTo>
                  <a:pt x="3101" y="5655"/>
                </a:moveTo>
                <a:cubicBezTo>
                  <a:pt x="3116" y="5753"/>
                  <a:pt x="3133" y="5867"/>
                  <a:pt x="3150" y="5953"/>
                </a:cubicBezTo>
                <a:cubicBezTo>
                  <a:pt x="3167" y="6036"/>
                  <a:pt x="3150" y="6141"/>
                  <a:pt x="3150" y="6226"/>
                </a:cubicBezTo>
              </a:path>
              <a:path w="969" h="1166">
                <a:moveTo>
                  <a:pt x="3175" y="5383"/>
                </a:moveTo>
                <a:cubicBezTo>
                  <a:pt x="3104" y="5383"/>
                  <a:pt x="2992" y="5367"/>
                  <a:pt x="2927" y="5407"/>
                </a:cubicBezTo>
                <a:cubicBezTo>
                  <a:pt x="2855" y="5451"/>
                  <a:pt x="2789" y="5521"/>
                  <a:pt x="2729" y="5581"/>
                </a:cubicBezTo>
                <a:cubicBezTo>
                  <a:pt x="2645" y="5665"/>
                  <a:pt x="2576" y="5795"/>
                  <a:pt x="2530" y="5904"/>
                </a:cubicBezTo>
                <a:cubicBezTo>
                  <a:pt x="2499" y="5979"/>
                  <a:pt x="2488" y="6095"/>
                  <a:pt x="2505" y="6176"/>
                </a:cubicBezTo>
                <a:cubicBezTo>
                  <a:pt x="2525" y="6273"/>
                  <a:pt x="2562" y="6354"/>
                  <a:pt x="2629" y="6424"/>
                </a:cubicBezTo>
                <a:cubicBezTo>
                  <a:pt x="2685" y="6484"/>
                  <a:pt x="2772" y="6531"/>
                  <a:pt x="2853" y="6548"/>
                </a:cubicBezTo>
                <a:cubicBezTo>
                  <a:pt x="2953" y="6569"/>
                  <a:pt x="3034" y="6531"/>
                  <a:pt x="3125" y="6499"/>
                </a:cubicBezTo>
                <a:cubicBezTo>
                  <a:pt x="3250" y="6456"/>
                  <a:pt x="3356" y="6310"/>
                  <a:pt x="3423" y="6201"/>
                </a:cubicBezTo>
                <a:cubicBezTo>
                  <a:pt x="3492" y="6088"/>
                  <a:pt x="3473" y="5956"/>
                  <a:pt x="3473" y="5829"/>
                </a:cubicBezTo>
                <a:cubicBezTo>
                  <a:pt x="3473" y="5735"/>
                  <a:pt x="3483" y="5637"/>
                  <a:pt x="3423" y="5556"/>
                </a:cubicBezTo>
                <a:cubicBezTo>
                  <a:pt x="3382" y="5501"/>
                  <a:pt x="3272" y="5417"/>
                  <a:pt x="3200" y="5407"/>
                </a:cubicBezTo>
                <a:cubicBezTo>
                  <a:pt x="3139" y="5398"/>
                  <a:pt x="3064" y="5407"/>
                  <a:pt x="3001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Ink 4"/>
          <p:cNvSpPr/>
          <p:nvPr/>
        </p:nvSpPr>
        <p:spPr>
          <a:xfrm>
            <a:off x="1589040" y="1990800"/>
            <a:ext cx="1679760" cy="546120"/>
          </a:xfrm>
          <a:custGeom>
            <a:avLst/>
            <a:gdLst/>
            <a:ahLst/>
            <a:rect l="l" t="t" r="r" b="b"/>
            <a:pathLst>
              <a:path w="4665" h="1515">
                <a:moveTo>
                  <a:pt x="4887" y="5531"/>
                </a:moveTo>
                <a:cubicBezTo>
                  <a:pt x="4841" y="5577"/>
                  <a:pt x="4818" y="5626"/>
                  <a:pt x="4787" y="5680"/>
                </a:cubicBezTo>
                <a:cubicBezTo>
                  <a:pt x="4760" y="5729"/>
                  <a:pt x="4725" y="5824"/>
                  <a:pt x="4713" y="5879"/>
                </a:cubicBezTo>
                <a:cubicBezTo>
                  <a:pt x="4696" y="5957"/>
                  <a:pt x="4669" y="6025"/>
                  <a:pt x="4638" y="6102"/>
                </a:cubicBezTo>
                <a:cubicBezTo>
                  <a:pt x="4597" y="6202"/>
                  <a:pt x="4556" y="6301"/>
                  <a:pt x="4514" y="6400"/>
                </a:cubicBezTo>
                <a:cubicBezTo>
                  <a:pt x="4481" y="6477"/>
                  <a:pt x="4474" y="6577"/>
                  <a:pt x="4440" y="6648"/>
                </a:cubicBezTo>
                <a:cubicBezTo>
                  <a:pt x="4417" y="6670"/>
                  <a:pt x="4409" y="6675"/>
                  <a:pt x="4415" y="6697"/>
                </a:cubicBezTo>
              </a:path>
              <a:path w="4665" h="1515">
                <a:moveTo>
                  <a:pt x="4738" y="5581"/>
                </a:moveTo>
                <a:cubicBezTo>
                  <a:pt x="4769" y="5628"/>
                  <a:pt x="4818" y="5703"/>
                  <a:pt x="4837" y="5755"/>
                </a:cubicBezTo>
                <a:cubicBezTo>
                  <a:pt x="4860" y="5819"/>
                  <a:pt x="4884" y="5914"/>
                  <a:pt x="4887" y="5978"/>
                </a:cubicBezTo>
                <a:cubicBezTo>
                  <a:pt x="4891" y="6061"/>
                  <a:pt x="4926" y="6124"/>
                  <a:pt x="4936" y="6201"/>
                </a:cubicBezTo>
                <a:cubicBezTo>
                  <a:pt x="4948" y="6294"/>
                  <a:pt x="4950" y="6388"/>
                  <a:pt x="4986" y="6474"/>
                </a:cubicBezTo>
                <a:cubicBezTo>
                  <a:pt x="5007" y="6524"/>
                  <a:pt x="5011" y="6544"/>
                  <a:pt x="5011" y="6598"/>
                </a:cubicBezTo>
              </a:path>
              <a:path w="4665" h="1515">
                <a:moveTo>
                  <a:pt x="4564" y="6325"/>
                </a:moveTo>
                <a:cubicBezTo>
                  <a:pt x="4556" y="6333"/>
                  <a:pt x="4547" y="6342"/>
                  <a:pt x="4539" y="6350"/>
                </a:cubicBezTo>
              </a:path>
              <a:path w="4665" h="1515">
                <a:moveTo>
                  <a:pt x="4564" y="6325"/>
                </a:moveTo>
                <a:lnTo>
                  <a:pt x="4564" y="6325"/>
                </a:lnTo>
              </a:path>
              <a:path w="4665" h="1515">
                <a:moveTo>
                  <a:pt x="4663" y="6350"/>
                </a:moveTo>
                <a:cubicBezTo>
                  <a:pt x="4713" y="6350"/>
                  <a:pt x="4762" y="6350"/>
                  <a:pt x="4812" y="6350"/>
                </a:cubicBezTo>
              </a:path>
              <a:path w="4665" h="1515">
                <a:moveTo>
                  <a:pt x="5457" y="6127"/>
                </a:moveTo>
                <a:cubicBezTo>
                  <a:pt x="5538" y="6127"/>
                  <a:pt x="5603" y="6105"/>
                  <a:pt x="5680" y="6102"/>
                </a:cubicBezTo>
                <a:cubicBezTo>
                  <a:pt x="5738" y="6099"/>
                  <a:pt x="5796" y="6102"/>
                  <a:pt x="5854" y="6102"/>
                </a:cubicBezTo>
              </a:path>
              <a:path w="4665" h="1515">
                <a:moveTo>
                  <a:pt x="5407" y="6300"/>
                </a:moveTo>
                <a:cubicBezTo>
                  <a:pt x="5548" y="6300"/>
                  <a:pt x="5688" y="6300"/>
                  <a:pt x="5829" y="6300"/>
                </a:cubicBezTo>
              </a:path>
              <a:path w="4665" h="1515">
                <a:moveTo>
                  <a:pt x="6127" y="5978"/>
                </a:moveTo>
                <a:cubicBezTo>
                  <a:pt x="6192" y="5939"/>
                  <a:pt x="6270" y="5953"/>
                  <a:pt x="6350" y="5953"/>
                </a:cubicBezTo>
                <a:cubicBezTo>
                  <a:pt x="6378" y="5953"/>
                  <a:pt x="6503" y="5977"/>
                  <a:pt x="6499" y="6028"/>
                </a:cubicBezTo>
                <a:cubicBezTo>
                  <a:pt x="6494" y="6100"/>
                  <a:pt x="6423" y="6139"/>
                  <a:pt x="6375" y="6176"/>
                </a:cubicBezTo>
                <a:cubicBezTo>
                  <a:pt x="6434" y="6259"/>
                  <a:pt x="6467" y="6227"/>
                  <a:pt x="6548" y="6276"/>
                </a:cubicBezTo>
                <a:cubicBezTo>
                  <a:pt x="6621" y="6320"/>
                  <a:pt x="6671" y="6377"/>
                  <a:pt x="6648" y="6474"/>
                </a:cubicBezTo>
                <a:cubicBezTo>
                  <a:pt x="6643" y="6496"/>
                  <a:pt x="6577" y="6590"/>
                  <a:pt x="6548" y="6598"/>
                </a:cubicBezTo>
                <a:cubicBezTo>
                  <a:pt x="6525" y="6605"/>
                  <a:pt x="6393" y="6669"/>
                  <a:pt x="6375" y="6648"/>
                </a:cubicBezTo>
                <a:cubicBezTo>
                  <a:pt x="6375" y="6631"/>
                  <a:pt x="6375" y="6615"/>
                  <a:pt x="6375" y="6598"/>
                </a:cubicBezTo>
              </a:path>
              <a:path w="4665" h="1515">
                <a:moveTo>
                  <a:pt x="6995" y="6102"/>
                </a:moveTo>
                <a:cubicBezTo>
                  <a:pt x="6944" y="6128"/>
                  <a:pt x="6879" y="6150"/>
                  <a:pt x="6846" y="6201"/>
                </a:cubicBezTo>
                <a:cubicBezTo>
                  <a:pt x="6802" y="6269"/>
                  <a:pt x="6776" y="6344"/>
                  <a:pt x="6772" y="6424"/>
                </a:cubicBezTo>
                <a:cubicBezTo>
                  <a:pt x="6770" y="6462"/>
                  <a:pt x="6750" y="6580"/>
                  <a:pt x="6796" y="6598"/>
                </a:cubicBezTo>
                <a:cubicBezTo>
                  <a:pt x="6890" y="6634"/>
                  <a:pt x="6919" y="6579"/>
                  <a:pt x="6970" y="6524"/>
                </a:cubicBezTo>
                <a:cubicBezTo>
                  <a:pt x="7041" y="6448"/>
                  <a:pt x="7145" y="6359"/>
                  <a:pt x="7169" y="6251"/>
                </a:cubicBezTo>
                <a:cubicBezTo>
                  <a:pt x="7190" y="6159"/>
                  <a:pt x="7155" y="6128"/>
                  <a:pt x="7094" y="6077"/>
                </a:cubicBezTo>
                <a:cubicBezTo>
                  <a:pt x="7045" y="6036"/>
                  <a:pt x="7062" y="6037"/>
                  <a:pt x="6995" y="6028"/>
                </a:cubicBezTo>
              </a:path>
              <a:path w="4665" h="1515">
                <a:moveTo>
                  <a:pt x="7417" y="5879"/>
                </a:moveTo>
                <a:cubicBezTo>
                  <a:pt x="7374" y="5913"/>
                  <a:pt x="7332" y="5938"/>
                  <a:pt x="7293" y="5978"/>
                </a:cubicBezTo>
                <a:cubicBezTo>
                  <a:pt x="7267" y="6004"/>
                  <a:pt x="7256" y="6106"/>
                  <a:pt x="7317" y="6102"/>
                </a:cubicBezTo>
                <a:cubicBezTo>
                  <a:pt x="7383" y="6097"/>
                  <a:pt x="7472" y="6019"/>
                  <a:pt x="7516" y="5978"/>
                </a:cubicBezTo>
                <a:cubicBezTo>
                  <a:pt x="7581" y="5918"/>
                  <a:pt x="7530" y="5883"/>
                  <a:pt x="7466" y="5879"/>
                </a:cubicBezTo>
                <a:cubicBezTo>
                  <a:pt x="7450" y="5879"/>
                  <a:pt x="7433" y="5879"/>
                  <a:pt x="7417" y="5879"/>
                </a:cubicBezTo>
              </a:path>
              <a:path w="4665" h="1515">
                <a:moveTo>
                  <a:pt x="7665" y="6821"/>
                </a:moveTo>
                <a:cubicBezTo>
                  <a:pt x="7671" y="6925"/>
                  <a:pt x="7667" y="6967"/>
                  <a:pt x="7714" y="7045"/>
                </a:cubicBezTo>
              </a:path>
              <a:path w="4665" h="1515">
                <a:moveTo>
                  <a:pt x="8434" y="6325"/>
                </a:moveTo>
                <a:cubicBezTo>
                  <a:pt x="8374" y="6289"/>
                  <a:pt x="8321" y="6302"/>
                  <a:pt x="8260" y="6350"/>
                </a:cubicBezTo>
                <a:cubicBezTo>
                  <a:pt x="8235" y="6370"/>
                  <a:pt x="8133" y="6484"/>
                  <a:pt x="8136" y="6524"/>
                </a:cubicBezTo>
                <a:cubicBezTo>
                  <a:pt x="8144" y="6532"/>
                  <a:pt x="8153" y="6540"/>
                  <a:pt x="8161" y="6548"/>
                </a:cubicBezTo>
                <a:cubicBezTo>
                  <a:pt x="8207" y="6571"/>
                  <a:pt x="8236" y="6543"/>
                  <a:pt x="8285" y="6499"/>
                </a:cubicBezTo>
                <a:cubicBezTo>
                  <a:pt x="8317" y="6470"/>
                  <a:pt x="8368" y="6387"/>
                  <a:pt x="8409" y="6375"/>
                </a:cubicBezTo>
                <a:cubicBezTo>
                  <a:pt x="8425" y="6375"/>
                  <a:pt x="8442" y="6375"/>
                  <a:pt x="8458" y="6375"/>
                </a:cubicBezTo>
                <a:cubicBezTo>
                  <a:pt x="8450" y="6437"/>
                  <a:pt x="8419" y="6497"/>
                  <a:pt x="8409" y="6548"/>
                </a:cubicBezTo>
                <a:cubicBezTo>
                  <a:pt x="8395" y="6618"/>
                  <a:pt x="8373" y="6662"/>
                  <a:pt x="8409" y="6722"/>
                </a:cubicBezTo>
              </a:path>
              <a:path w="4665" h="1515">
                <a:moveTo>
                  <a:pt x="8781" y="6400"/>
                </a:moveTo>
                <a:cubicBezTo>
                  <a:pt x="8864" y="6400"/>
                  <a:pt x="8946" y="6400"/>
                  <a:pt x="9029" y="6400"/>
                </a:cubicBezTo>
              </a:path>
              <a:path w="4665" h="1515">
                <a:moveTo>
                  <a:pt x="8756" y="6524"/>
                </a:moveTo>
                <a:cubicBezTo>
                  <a:pt x="8818" y="6586"/>
                  <a:pt x="8859" y="6573"/>
                  <a:pt x="8954" y="6573"/>
                </a:cubicBezTo>
                <a:cubicBezTo>
                  <a:pt x="8996" y="6573"/>
                  <a:pt x="9037" y="6573"/>
                  <a:pt x="9079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Ink 5"/>
          <p:cNvSpPr/>
          <p:nvPr/>
        </p:nvSpPr>
        <p:spPr>
          <a:xfrm>
            <a:off x="3456000" y="2214720"/>
            <a:ext cx="223920" cy="250560"/>
          </a:xfrm>
          <a:custGeom>
            <a:avLst/>
            <a:gdLst/>
            <a:ahLst/>
            <a:rect l="l" t="t" r="r" b="b"/>
            <a:pathLst>
              <a:path w="622" h="695">
                <a:moveTo>
                  <a:pt x="9599" y="6152"/>
                </a:moveTo>
                <a:cubicBezTo>
                  <a:pt x="9599" y="6350"/>
                  <a:pt x="9599" y="6549"/>
                  <a:pt x="9599" y="6747"/>
                </a:cubicBezTo>
              </a:path>
              <a:path w="622" h="695">
                <a:moveTo>
                  <a:pt x="9847" y="6524"/>
                </a:moveTo>
                <a:cubicBezTo>
                  <a:pt x="9847" y="6448"/>
                  <a:pt x="9850" y="6412"/>
                  <a:pt x="9897" y="6350"/>
                </a:cubicBezTo>
                <a:cubicBezTo>
                  <a:pt x="9936" y="6298"/>
                  <a:pt x="10010" y="6218"/>
                  <a:pt x="10071" y="6201"/>
                </a:cubicBezTo>
                <a:cubicBezTo>
                  <a:pt x="10126" y="6186"/>
                  <a:pt x="10205" y="6249"/>
                  <a:pt x="10220" y="6300"/>
                </a:cubicBezTo>
                <a:cubicBezTo>
                  <a:pt x="10245" y="6384"/>
                  <a:pt x="10220" y="6483"/>
                  <a:pt x="10170" y="6548"/>
                </a:cubicBezTo>
                <a:cubicBezTo>
                  <a:pt x="10112" y="6623"/>
                  <a:pt x="10082" y="6624"/>
                  <a:pt x="10021" y="6672"/>
                </a:cubicBezTo>
                <a:cubicBezTo>
                  <a:pt x="9986" y="6700"/>
                  <a:pt x="9920" y="6715"/>
                  <a:pt x="9872" y="6697"/>
                </a:cubicBezTo>
                <a:cubicBezTo>
                  <a:pt x="9864" y="6689"/>
                  <a:pt x="9855" y="6680"/>
                  <a:pt x="9847" y="6672"/>
                </a:cubicBezTo>
                <a:cubicBezTo>
                  <a:pt x="9857" y="6591"/>
                  <a:pt x="9860" y="6553"/>
                  <a:pt x="9947" y="6548"/>
                </a:cubicBezTo>
                <a:cubicBezTo>
                  <a:pt x="10000" y="6545"/>
                  <a:pt x="10041" y="6577"/>
                  <a:pt x="10071" y="6623"/>
                </a:cubicBezTo>
                <a:cubicBezTo>
                  <a:pt x="10103" y="6671"/>
                  <a:pt x="10148" y="6718"/>
                  <a:pt x="10170" y="6772"/>
                </a:cubicBezTo>
                <a:cubicBezTo>
                  <a:pt x="10178" y="6797"/>
                  <a:pt x="10187" y="6821"/>
                  <a:pt x="10195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Ink 6"/>
          <p:cNvSpPr/>
          <p:nvPr/>
        </p:nvSpPr>
        <p:spPr>
          <a:xfrm>
            <a:off x="3830760" y="2214720"/>
            <a:ext cx="1098360" cy="428400"/>
          </a:xfrm>
          <a:custGeom>
            <a:avLst/>
            <a:gdLst/>
            <a:ahLst/>
            <a:rect l="l" t="t" r="r" b="b"/>
            <a:pathLst>
              <a:path w="3052" h="1191">
                <a:moveTo>
                  <a:pt x="10666" y="7045"/>
                </a:moveTo>
                <a:cubicBezTo>
                  <a:pt x="10666" y="7121"/>
                  <a:pt x="10657" y="7172"/>
                  <a:pt x="10641" y="7243"/>
                </a:cubicBezTo>
                <a:cubicBezTo>
                  <a:pt x="10641" y="7251"/>
                  <a:pt x="10641" y="7260"/>
                  <a:pt x="10641" y="7268"/>
                </a:cubicBezTo>
              </a:path>
              <a:path w="3052" h="1191">
                <a:moveTo>
                  <a:pt x="11162" y="6276"/>
                </a:moveTo>
                <a:cubicBezTo>
                  <a:pt x="11154" y="6351"/>
                  <a:pt x="11157" y="6452"/>
                  <a:pt x="11137" y="6524"/>
                </a:cubicBezTo>
                <a:cubicBezTo>
                  <a:pt x="11129" y="6540"/>
                  <a:pt x="11120" y="6557"/>
                  <a:pt x="11112" y="6573"/>
                </a:cubicBezTo>
              </a:path>
              <a:path w="3052" h="1191">
                <a:moveTo>
                  <a:pt x="11013" y="6722"/>
                </a:moveTo>
                <a:cubicBezTo>
                  <a:pt x="10993" y="6662"/>
                  <a:pt x="11007" y="6592"/>
                  <a:pt x="11038" y="6524"/>
                </a:cubicBezTo>
                <a:cubicBezTo>
                  <a:pt x="11070" y="6452"/>
                  <a:pt x="11091" y="6366"/>
                  <a:pt x="11137" y="6300"/>
                </a:cubicBezTo>
                <a:cubicBezTo>
                  <a:pt x="11192" y="6222"/>
                  <a:pt x="11205" y="6224"/>
                  <a:pt x="11286" y="6176"/>
                </a:cubicBezTo>
                <a:cubicBezTo>
                  <a:pt x="11340" y="6144"/>
                  <a:pt x="11424" y="6150"/>
                  <a:pt x="11485" y="6176"/>
                </a:cubicBezTo>
                <a:cubicBezTo>
                  <a:pt x="11520" y="6191"/>
                  <a:pt x="11562" y="6319"/>
                  <a:pt x="11559" y="6350"/>
                </a:cubicBezTo>
                <a:cubicBezTo>
                  <a:pt x="11548" y="6446"/>
                  <a:pt x="11427" y="6487"/>
                  <a:pt x="11361" y="6499"/>
                </a:cubicBezTo>
                <a:cubicBezTo>
                  <a:pt x="11311" y="6499"/>
                  <a:pt x="11294" y="6499"/>
                  <a:pt x="11261" y="6499"/>
                </a:cubicBezTo>
                <a:cubicBezTo>
                  <a:pt x="11321" y="6522"/>
                  <a:pt x="11435" y="6529"/>
                  <a:pt x="11485" y="6573"/>
                </a:cubicBezTo>
                <a:cubicBezTo>
                  <a:pt x="11517" y="6601"/>
                  <a:pt x="11552" y="6713"/>
                  <a:pt x="11559" y="6747"/>
                </a:cubicBezTo>
                <a:cubicBezTo>
                  <a:pt x="11569" y="6797"/>
                  <a:pt x="11506" y="6899"/>
                  <a:pt x="11460" y="6921"/>
                </a:cubicBezTo>
                <a:cubicBezTo>
                  <a:pt x="11416" y="6942"/>
                  <a:pt x="11173" y="6939"/>
                  <a:pt x="11137" y="6896"/>
                </a:cubicBezTo>
                <a:cubicBezTo>
                  <a:pt x="11106" y="6860"/>
                  <a:pt x="11128" y="6806"/>
                  <a:pt x="11137" y="6772"/>
                </a:cubicBezTo>
              </a:path>
              <a:path w="3052" h="1191">
                <a:moveTo>
                  <a:pt x="11782" y="6548"/>
                </a:moveTo>
                <a:cubicBezTo>
                  <a:pt x="11853" y="6591"/>
                  <a:pt x="11920" y="6552"/>
                  <a:pt x="12005" y="6548"/>
                </a:cubicBezTo>
                <a:cubicBezTo>
                  <a:pt x="12063" y="6545"/>
                  <a:pt x="12121" y="6548"/>
                  <a:pt x="12179" y="6548"/>
                </a:cubicBezTo>
              </a:path>
              <a:path w="3052" h="1191">
                <a:moveTo>
                  <a:pt x="11733" y="6722"/>
                </a:moveTo>
                <a:cubicBezTo>
                  <a:pt x="11788" y="6750"/>
                  <a:pt x="11844" y="6761"/>
                  <a:pt x="11906" y="6772"/>
                </a:cubicBezTo>
                <a:cubicBezTo>
                  <a:pt x="12005" y="6791"/>
                  <a:pt x="12021" y="6799"/>
                  <a:pt x="12080" y="6796"/>
                </a:cubicBezTo>
              </a:path>
              <a:path w="3052" h="1191">
                <a:moveTo>
                  <a:pt x="12502" y="6499"/>
                </a:moveTo>
                <a:cubicBezTo>
                  <a:pt x="12469" y="6551"/>
                  <a:pt x="12368" y="6657"/>
                  <a:pt x="12452" y="6722"/>
                </a:cubicBezTo>
                <a:cubicBezTo>
                  <a:pt x="12515" y="6770"/>
                  <a:pt x="12576" y="6772"/>
                  <a:pt x="12650" y="6772"/>
                </a:cubicBezTo>
                <a:cubicBezTo>
                  <a:pt x="12695" y="6772"/>
                  <a:pt x="12708" y="6775"/>
                  <a:pt x="12725" y="6747"/>
                </a:cubicBezTo>
              </a:path>
              <a:path w="3052" h="1191">
                <a:moveTo>
                  <a:pt x="12774" y="6499"/>
                </a:moveTo>
                <a:cubicBezTo>
                  <a:pt x="12748" y="6570"/>
                  <a:pt x="12713" y="6673"/>
                  <a:pt x="12700" y="6747"/>
                </a:cubicBezTo>
                <a:cubicBezTo>
                  <a:pt x="12684" y="6835"/>
                  <a:pt x="12675" y="6936"/>
                  <a:pt x="12650" y="7020"/>
                </a:cubicBezTo>
                <a:cubicBezTo>
                  <a:pt x="12643" y="7044"/>
                  <a:pt x="12544" y="7235"/>
                  <a:pt x="12551" y="7268"/>
                </a:cubicBezTo>
                <a:cubicBezTo>
                  <a:pt x="12559" y="7276"/>
                  <a:pt x="12568" y="7285"/>
                  <a:pt x="12576" y="7293"/>
                </a:cubicBezTo>
              </a:path>
              <a:path w="3052" h="1191">
                <a:moveTo>
                  <a:pt x="13271" y="6648"/>
                </a:moveTo>
                <a:cubicBezTo>
                  <a:pt x="13195" y="6591"/>
                  <a:pt x="13169" y="6598"/>
                  <a:pt x="13072" y="6598"/>
                </a:cubicBezTo>
                <a:cubicBezTo>
                  <a:pt x="13017" y="6598"/>
                  <a:pt x="12977" y="6616"/>
                  <a:pt x="12923" y="6623"/>
                </a:cubicBezTo>
                <a:cubicBezTo>
                  <a:pt x="12936" y="6714"/>
                  <a:pt x="12984" y="6675"/>
                  <a:pt x="13022" y="6747"/>
                </a:cubicBezTo>
                <a:cubicBezTo>
                  <a:pt x="13049" y="6798"/>
                  <a:pt x="13112" y="6912"/>
                  <a:pt x="13122" y="6970"/>
                </a:cubicBezTo>
                <a:cubicBezTo>
                  <a:pt x="13130" y="7018"/>
                  <a:pt x="13165" y="7118"/>
                  <a:pt x="13146" y="7169"/>
                </a:cubicBezTo>
                <a:cubicBezTo>
                  <a:pt x="13122" y="7234"/>
                  <a:pt x="13103" y="7262"/>
                  <a:pt x="13047" y="7317"/>
                </a:cubicBezTo>
                <a:cubicBezTo>
                  <a:pt x="13015" y="7348"/>
                  <a:pt x="12919" y="7359"/>
                  <a:pt x="12874" y="7342"/>
                </a:cubicBezTo>
                <a:cubicBezTo>
                  <a:pt x="12815" y="7319"/>
                  <a:pt x="12828" y="7236"/>
                  <a:pt x="12824" y="7193"/>
                </a:cubicBezTo>
              </a:path>
              <a:path w="3052" h="1191">
                <a:moveTo>
                  <a:pt x="13593" y="6648"/>
                </a:moveTo>
                <a:cubicBezTo>
                  <a:pt x="13526" y="6657"/>
                  <a:pt x="13517" y="6674"/>
                  <a:pt x="13469" y="6722"/>
                </a:cubicBezTo>
                <a:cubicBezTo>
                  <a:pt x="13434" y="6757"/>
                  <a:pt x="13422" y="6823"/>
                  <a:pt x="13419" y="6871"/>
                </a:cubicBezTo>
                <a:cubicBezTo>
                  <a:pt x="13414" y="6950"/>
                  <a:pt x="13471" y="6964"/>
                  <a:pt x="13543" y="6945"/>
                </a:cubicBezTo>
                <a:cubicBezTo>
                  <a:pt x="13635" y="6920"/>
                  <a:pt x="13642" y="6891"/>
                  <a:pt x="13667" y="6821"/>
                </a:cubicBezTo>
                <a:cubicBezTo>
                  <a:pt x="13693" y="6748"/>
                  <a:pt x="13672" y="6751"/>
                  <a:pt x="13618" y="6697"/>
                </a:cubicBezTo>
                <a:cubicBezTo>
                  <a:pt x="13610" y="6689"/>
                  <a:pt x="13601" y="6680"/>
                  <a:pt x="13593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Ink 7"/>
          <p:cNvSpPr/>
          <p:nvPr/>
        </p:nvSpPr>
        <p:spPr>
          <a:xfrm>
            <a:off x="1357200" y="2911320"/>
            <a:ext cx="2598840" cy="1000440"/>
          </a:xfrm>
          <a:custGeom>
            <a:avLst/>
            <a:gdLst/>
            <a:ahLst/>
            <a:rect l="l" t="t" r="r" b="b"/>
            <a:pathLst>
              <a:path w="7219" h="2779">
                <a:moveTo>
                  <a:pt x="4564" y="8136"/>
                </a:moveTo>
                <a:cubicBezTo>
                  <a:pt x="4505" y="8077"/>
                  <a:pt x="4488" y="8083"/>
                  <a:pt x="4415" y="8111"/>
                </a:cubicBezTo>
                <a:cubicBezTo>
                  <a:pt x="4349" y="8137"/>
                  <a:pt x="4208" y="8133"/>
                  <a:pt x="4167" y="8186"/>
                </a:cubicBezTo>
                <a:cubicBezTo>
                  <a:pt x="4124" y="8241"/>
                  <a:pt x="4096" y="8263"/>
                  <a:pt x="4043" y="8310"/>
                </a:cubicBezTo>
                <a:cubicBezTo>
                  <a:pt x="3990" y="8357"/>
                  <a:pt x="3980" y="8357"/>
                  <a:pt x="4018" y="8434"/>
                </a:cubicBezTo>
                <a:cubicBezTo>
                  <a:pt x="4033" y="8465"/>
                  <a:pt x="4153" y="8546"/>
                  <a:pt x="4192" y="8558"/>
                </a:cubicBezTo>
                <a:cubicBezTo>
                  <a:pt x="4233" y="8571"/>
                  <a:pt x="4444" y="8590"/>
                  <a:pt x="4316" y="8706"/>
                </a:cubicBezTo>
                <a:cubicBezTo>
                  <a:pt x="4295" y="8725"/>
                  <a:pt x="4126" y="8777"/>
                  <a:pt x="4093" y="8781"/>
                </a:cubicBezTo>
                <a:cubicBezTo>
                  <a:pt x="3987" y="8793"/>
                  <a:pt x="3856" y="8805"/>
                  <a:pt x="3795" y="8731"/>
                </a:cubicBezTo>
                <a:cubicBezTo>
                  <a:pt x="3772" y="8708"/>
                  <a:pt x="3761" y="8700"/>
                  <a:pt x="3795" y="8706"/>
                </a:cubicBezTo>
              </a:path>
              <a:path w="7219" h="2779">
                <a:moveTo>
                  <a:pt x="4564" y="8632"/>
                </a:moveTo>
                <a:cubicBezTo>
                  <a:pt x="4555" y="8716"/>
                  <a:pt x="4539" y="8765"/>
                  <a:pt x="4539" y="8855"/>
                </a:cubicBezTo>
                <a:cubicBezTo>
                  <a:pt x="4539" y="8939"/>
                  <a:pt x="4538" y="9001"/>
                  <a:pt x="4564" y="9079"/>
                </a:cubicBezTo>
              </a:path>
              <a:path w="7219" h="2779">
                <a:moveTo>
                  <a:pt x="4812" y="9004"/>
                </a:moveTo>
                <a:cubicBezTo>
                  <a:pt x="4779" y="8928"/>
                  <a:pt x="4789" y="8881"/>
                  <a:pt x="4837" y="8806"/>
                </a:cubicBezTo>
                <a:cubicBezTo>
                  <a:pt x="4886" y="8730"/>
                  <a:pt x="4900" y="8706"/>
                  <a:pt x="4986" y="8706"/>
                </a:cubicBezTo>
                <a:cubicBezTo>
                  <a:pt x="5086" y="8706"/>
                  <a:pt x="5079" y="8705"/>
                  <a:pt x="5135" y="8781"/>
                </a:cubicBezTo>
                <a:cubicBezTo>
                  <a:pt x="5183" y="8846"/>
                  <a:pt x="5200" y="8923"/>
                  <a:pt x="5209" y="9004"/>
                </a:cubicBezTo>
                <a:cubicBezTo>
                  <a:pt x="5209" y="9062"/>
                  <a:pt x="5209" y="9070"/>
                  <a:pt x="5209" y="9103"/>
                </a:cubicBezTo>
              </a:path>
              <a:path w="7219" h="2779">
                <a:moveTo>
                  <a:pt x="5482" y="8334"/>
                </a:moveTo>
                <a:cubicBezTo>
                  <a:pt x="5570" y="8326"/>
                  <a:pt x="5629" y="8323"/>
                  <a:pt x="5705" y="8334"/>
                </a:cubicBezTo>
                <a:cubicBezTo>
                  <a:pt x="5783" y="8345"/>
                  <a:pt x="5839" y="8320"/>
                  <a:pt x="5904" y="8359"/>
                </a:cubicBezTo>
                <a:cubicBezTo>
                  <a:pt x="5880" y="8401"/>
                  <a:pt x="5850" y="8476"/>
                  <a:pt x="5804" y="8483"/>
                </a:cubicBezTo>
                <a:cubicBezTo>
                  <a:pt x="5734" y="8493"/>
                  <a:pt x="5717" y="8533"/>
                  <a:pt x="5655" y="8558"/>
                </a:cubicBezTo>
                <a:cubicBezTo>
                  <a:pt x="5765" y="8558"/>
                  <a:pt x="5754" y="8579"/>
                  <a:pt x="5829" y="8632"/>
                </a:cubicBezTo>
                <a:cubicBezTo>
                  <a:pt x="5887" y="8673"/>
                  <a:pt x="5926" y="8719"/>
                  <a:pt x="5904" y="8806"/>
                </a:cubicBezTo>
                <a:cubicBezTo>
                  <a:pt x="5888" y="8867"/>
                  <a:pt x="5826" y="8909"/>
                  <a:pt x="5779" y="8930"/>
                </a:cubicBezTo>
                <a:cubicBezTo>
                  <a:pt x="5702" y="8965"/>
                  <a:pt x="5722" y="9004"/>
                  <a:pt x="5631" y="9004"/>
                </a:cubicBezTo>
                <a:cubicBezTo>
                  <a:pt x="5606" y="9004"/>
                  <a:pt x="5598" y="9004"/>
                  <a:pt x="5581" y="9004"/>
                </a:cubicBezTo>
              </a:path>
              <a:path w="7219" h="2779">
                <a:moveTo>
                  <a:pt x="6400" y="8483"/>
                </a:moveTo>
                <a:cubicBezTo>
                  <a:pt x="6306" y="8449"/>
                  <a:pt x="6300" y="8439"/>
                  <a:pt x="6226" y="8508"/>
                </a:cubicBezTo>
                <a:cubicBezTo>
                  <a:pt x="6178" y="8553"/>
                  <a:pt x="6135" y="8602"/>
                  <a:pt x="6102" y="8657"/>
                </a:cubicBezTo>
                <a:cubicBezTo>
                  <a:pt x="6070" y="8710"/>
                  <a:pt x="6058" y="8819"/>
                  <a:pt x="6077" y="8880"/>
                </a:cubicBezTo>
                <a:cubicBezTo>
                  <a:pt x="6101" y="8956"/>
                  <a:pt x="6159" y="8930"/>
                  <a:pt x="6226" y="8930"/>
                </a:cubicBezTo>
                <a:cubicBezTo>
                  <a:pt x="6245" y="8930"/>
                  <a:pt x="6393" y="8865"/>
                  <a:pt x="6400" y="8855"/>
                </a:cubicBezTo>
                <a:cubicBezTo>
                  <a:pt x="6438" y="8799"/>
                  <a:pt x="6467" y="8773"/>
                  <a:pt x="6474" y="8706"/>
                </a:cubicBezTo>
                <a:cubicBezTo>
                  <a:pt x="6480" y="8654"/>
                  <a:pt x="6494" y="8498"/>
                  <a:pt x="6424" y="8483"/>
                </a:cubicBezTo>
                <a:cubicBezTo>
                  <a:pt x="6408" y="8483"/>
                  <a:pt x="6391" y="8483"/>
                  <a:pt x="6375" y="8483"/>
                </a:cubicBezTo>
              </a:path>
              <a:path w="7219" h="2779">
                <a:moveTo>
                  <a:pt x="4068" y="9302"/>
                </a:moveTo>
                <a:cubicBezTo>
                  <a:pt x="4188" y="9302"/>
                  <a:pt x="4302" y="9313"/>
                  <a:pt x="4415" y="9327"/>
                </a:cubicBezTo>
                <a:cubicBezTo>
                  <a:pt x="4535" y="9342"/>
                  <a:pt x="4636" y="9351"/>
                  <a:pt x="4738" y="9376"/>
                </a:cubicBezTo>
                <a:cubicBezTo>
                  <a:pt x="5066" y="9457"/>
                  <a:pt x="5686" y="9413"/>
                  <a:pt x="6003" y="9327"/>
                </a:cubicBezTo>
                <a:cubicBezTo>
                  <a:pt x="6114" y="9297"/>
                  <a:pt x="6236" y="9333"/>
                  <a:pt x="6350" y="9302"/>
                </a:cubicBezTo>
              </a:path>
              <a:path w="7219" h="2779">
                <a:moveTo>
                  <a:pt x="4887" y="9773"/>
                </a:moveTo>
                <a:cubicBezTo>
                  <a:pt x="4887" y="9971"/>
                  <a:pt x="4887" y="10170"/>
                  <a:pt x="4887" y="10368"/>
                </a:cubicBezTo>
              </a:path>
              <a:path w="7219" h="2779">
                <a:moveTo>
                  <a:pt x="5308" y="9922"/>
                </a:moveTo>
                <a:cubicBezTo>
                  <a:pt x="5322" y="9841"/>
                  <a:pt x="5351" y="9814"/>
                  <a:pt x="5407" y="9773"/>
                </a:cubicBezTo>
                <a:cubicBezTo>
                  <a:pt x="5449" y="9742"/>
                  <a:pt x="5556" y="9735"/>
                  <a:pt x="5606" y="9748"/>
                </a:cubicBezTo>
                <a:cubicBezTo>
                  <a:pt x="5711" y="9775"/>
                  <a:pt x="5669" y="9843"/>
                  <a:pt x="5705" y="9897"/>
                </a:cubicBezTo>
                <a:cubicBezTo>
                  <a:pt x="5751" y="9966"/>
                  <a:pt x="5695" y="10026"/>
                  <a:pt x="5680" y="10120"/>
                </a:cubicBezTo>
                <a:cubicBezTo>
                  <a:pt x="5673" y="10166"/>
                  <a:pt x="5653" y="10304"/>
                  <a:pt x="5606" y="10344"/>
                </a:cubicBezTo>
                <a:cubicBezTo>
                  <a:pt x="5558" y="10385"/>
                  <a:pt x="5516" y="10394"/>
                  <a:pt x="5457" y="10418"/>
                </a:cubicBezTo>
                <a:cubicBezTo>
                  <a:pt x="5370" y="10453"/>
                  <a:pt x="5270" y="10419"/>
                  <a:pt x="5209" y="10368"/>
                </a:cubicBezTo>
                <a:cubicBezTo>
                  <a:pt x="5181" y="10345"/>
                  <a:pt x="5185" y="10217"/>
                  <a:pt x="5209" y="10195"/>
                </a:cubicBezTo>
                <a:cubicBezTo>
                  <a:pt x="5236" y="10171"/>
                  <a:pt x="5382" y="10114"/>
                  <a:pt x="5432" y="10145"/>
                </a:cubicBezTo>
                <a:cubicBezTo>
                  <a:pt x="5474" y="10172"/>
                  <a:pt x="5502" y="10238"/>
                  <a:pt x="5556" y="10269"/>
                </a:cubicBezTo>
                <a:cubicBezTo>
                  <a:pt x="5561" y="10272"/>
                  <a:pt x="5651" y="10351"/>
                  <a:pt x="5655" y="10368"/>
                </a:cubicBezTo>
                <a:cubicBezTo>
                  <a:pt x="5670" y="10437"/>
                  <a:pt x="5659" y="10525"/>
                  <a:pt x="5680" y="10592"/>
                </a:cubicBezTo>
                <a:cubicBezTo>
                  <a:pt x="5688" y="10608"/>
                  <a:pt x="5697" y="10625"/>
                  <a:pt x="5705" y="10641"/>
                </a:cubicBezTo>
              </a:path>
              <a:path w="7219" h="2779">
                <a:moveTo>
                  <a:pt x="6796" y="9302"/>
                </a:moveTo>
                <a:cubicBezTo>
                  <a:pt x="7036" y="9302"/>
                  <a:pt x="7276" y="9302"/>
                  <a:pt x="7516" y="9302"/>
                </a:cubicBezTo>
              </a:path>
              <a:path w="7219" h="2779">
                <a:moveTo>
                  <a:pt x="6772" y="9599"/>
                </a:moveTo>
                <a:cubicBezTo>
                  <a:pt x="6839" y="9633"/>
                  <a:pt x="6914" y="9624"/>
                  <a:pt x="6995" y="9624"/>
                </a:cubicBezTo>
                <a:cubicBezTo>
                  <a:pt x="7136" y="9624"/>
                  <a:pt x="7218" y="9634"/>
                  <a:pt x="7317" y="9674"/>
                </a:cubicBezTo>
                <a:cubicBezTo>
                  <a:pt x="7334" y="9674"/>
                  <a:pt x="7350" y="9674"/>
                  <a:pt x="7367" y="9674"/>
                </a:cubicBezTo>
              </a:path>
              <a:path w="7219" h="2779">
                <a:moveTo>
                  <a:pt x="8582" y="8558"/>
                </a:moveTo>
                <a:cubicBezTo>
                  <a:pt x="8609" y="8499"/>
                  <a:pt x="8657" y="8403"/>
                  <a:pt x="8558" y="8359"/>
                </a:cubicBezTo>
                <a:cubicBezTo>
                  <a:pt x="8487" y="8328"/>
                  <a:pt x="8431" y="8355"/>
                  <a:pt x="8359" y="8359"/>
                </a:cubicBezTo>
                <a:cubicBezTo>
                  <a:pt x="8272" y="8364"/>
                  <a:pt x="8199" y="8447"/>
                  <a:pt x="8136" y="8483"/>
                </a:cubicBezTo>
                <a:cubicBezTo>
                  <a:pt x="8074" y="8519"/>
                  <a:pt x="8068" y="8548"/>
                  <a:pt x="8111" y="8632"/>
                </a:cubicBezTo>
                <a:cubicBezTo>
                  <a:pt x="8145" y="8700"/>
                  <a:pt x="8241" y="8748"/>
                  <a:pt x="8310" y="8781"/>
                </a:cubicBezTo>
                <a:cubicBezTo>
                  <a:pt x="8345" y="8798"/>
                  <a:pt x="8373" y="8846"/>
                  <a:pt x="8409" y="8880"/>
                </a:cubicBezTo>
                <a:cubicBezTo>
                  <a:pt x="8463" y="8930"/>
                  <a:pt x="8478" y="8965"/>
                  <a:pt x="8434" y="9004"/>
                </a:cubicBezTo>
                <a:cubicBezTo>
                  <a:pt x="8353" y="9076"/>
                  <a:pt x="8347" y="9079"/>
                  <a:pt x="8235" y="9079"/>
                </a:cubicBezTo>
                <a:cubicBezTo>
                  <a:pt x="8114" y="9079"/>
                  <a:pt x="8057" y="9085"/>
                  <a:pt x="7962" y="9029"/>
                </a:cubicBezTo>
                <a:cubicBezTo>
                  <a:pt x="7946" y="9021"/>
                  <a:pt x="7929" y="9012"/>
                  <a:pt x="7913" y="9004"/>
                </a:cubicBezTo>
              </a:path>
              <a:path w="7219" h="2779">
                <a:moveTo>
                  <a:pt x="8806" y="8880"/>
                </a:moveTo>
                <a:cubicBezTo>
                  <a:pt x="8806" y="9023"/>
                  <a:pt x="8797" y="9164"/>
                  <a:pt x="8830" y="9302"/>
                </a:cubicBezTo>
              </a:path>
              <a:path w="7219" h="2779">
                <a:moveTo>
                  <a:pt x="9079" y="9227"/>
                </a:moveTo>
                <a:cubicBezTo>
                  <a:pt x="9079" y="9140"/>
                  <a:pt x="9076" y="9098"/>
                  <a:pt x="9128" y="9029"/>
                </a:cubicBezTo>
                <a:cubicBezTo>
                  <a:pt x="9163" y="8983"/>
                  <a:pt x="9181" y="8914"/>
                  <a:pt x="9252" y="8930"/>
                </a:cubicBezTo>
                <a:cubicBezTo>
                  <a:pt x="9329" y="8947"/>
                  <a:pt x="9349" y="9043"/>
                  <a:pt x="9376" y="9103"/>
                </a:cubicBezTo>
                <a:cubicBezTo>
                  <a:pt x="9408" y="9173"/>
                  <a:pt x="9401" y="9223"/>
                  <a:pt x="9401" y="9302"/>
                </a:cubicBezTo>
                <a:cubicBezTo>
                  <a:pt x="9401" y="9364"/>
                  <a:pt x="9418" y="9394"/>
                  <a:pt x="9426" y="9451"/>
                </a:cubicBezTo>
              </a:path>
              <a:path w="7219" h="2779">
                <a:moveTo>
                  <a:pt x="9996" y="8632"/>
                </a:moveTo>
                <a:cubicBezTo>
                  <a:pt x="9996" y="8806"/>
                  <a:pt x="10012" y="8989"/>
                  <a:pt x="9971" y="9153"/>
                </a:cubicBezTo>
                <a:cubicBezTo>
                  <a:pt x="9953" y="9226"/>
                  <a:pt x="9979" y="9307"/>
                  <a:pt x="9996" y="9376"/>
                </a:cubicBezTo>
              </a:path>
              <a:path w="7219" h="2779">
                <a:moveTo>
                  <a:pt x="10393" y="8706"/>
                </a:moveTo>
                <a:cubicBezTo>
                  <a:pt x="10339" y="8706"/>
                  <a:pt x="10299" y="8727"/>
                  <a:pt x="10269" y="8781"/>
                </a:cubicBezTo>
                <a:cubicBezTo>
                  <a:pt x="10238" y="8837"/>
                  <a:pt x="10199" y="8886"/>
                  <a:pt x="10195" y="8954"/>
                </a:cubicBezTo>
                <a:cubicBezTo>
                  <a:pt x="10190" y="9041"/>
                  <a:pt x="10172" y="9140"/>
                  <a:pt x="10269" y="9153"/>
                </a:cubicBezTo>
                <a:cubicBezTo>
                  <a:pt x="10306" y="9158"/>
                  <a:pt x="10435" y="9110"/>
                  <a:pt x="10443" y="9079"/>
                </a:cubicBezTo>
                <a:cubicBezTo>
                  <a:pt x="10462" y="9004"/>
                  <a:pt x="10488" y="8930"/>
                  <a:pt x="10492" y="8855"/>
                </a:cubicBezTo>
                <a:cubicBezTo>
                  <a:pt x="10494" y="8811"/>
                  <a:pt x="10497" y="8725"/>
                  <a:pt x="10443" y="8706"/>
                </a:cubicBezTo>
                <a:cubicBezTo>
                  <a:pt x="10411" y="8695"/>
                  <a:pt x="10354" y="8706"/>
                  <a:pt x="10319" y="8706"/>
                </a:cubicBezTo>
              </a:path>
              <a:path w="7219" h="2779">
                <a:moveTo>
                  <a:pt x="10964" y="8781"/>
                </a:moveTo>
                <a:cubicBezTo>
                  <a:pt x="10906" y="8781"/>
                  <a:pt x="10830" y="8706"/>
                  <a:pt x="10790" y="8731"/>
                </a:cubicBezTo>
                <a:cubicBezTo>
                  <a:pt x="10756" y="8752"/>
                  <a:pt x="10749" y="8901"/>
                  <a:pt x="10740" y="8930"/>
                </a:cubicBezTo>
                <a:cubicBezTo>
                  <a:pt x="10722" y="8989"/>
                  <a:pt x="10643" y="9091"/>
                  <a:pt x="10716" y="9153"/>
                </a:cubicBezTo>
                <a:cubicBezTo>
                  <a:pt x="10761" y="9191"/>
                  <a:pt x="10842" y="9118"/>
                  <a:pt x="10889" y="9178"/>
                </a:cubicBezTo>
                <a:cubicBezTo>
                  <a:pt x="10940" y="9244"/>
                  <a:pt x="10912" y="9293"/>
                  <a:pt x="10840" y="9302"/>
                </a:cubicBezTo>
                <a:cubicBezTo>
                  <a:pt x="10767" y="9311"/>
                  <a:pt x="10660" y="9341"/>
                  <a:pt x="10592" y="9327"/>
                </a:cubicBezTo>
                <a:cubicBezTo>
                  <a:pt x="10544" y="9303"/>
                  <a:pt x="10529" y="9295"/>
                  <a:pt x="10492" y="9302"/>
                </a:cubicBezTo>
              </a:path>
              <a:path w="7219" h="2779">
                <a:moveTo>
                  <a:pt x="8012" y="9599"/>
                </a:moveTo>
                <a:cubicBezTo>
                  <a:pt x="8125" y="9599"/>
                  <a:pt x="8225" y="9608"/>
                  <a:pt x="8334" y="9624"/>
                </a:cubicBezTo>
                <a:cubicBezTo>
                  <a:pt x="8459" y="9642"/>
                  <a:pt x="8548" y="9639"/>
                  <a:pt x="8657" y="9674"/>
                </a:cubicBezTo>
                <a:cubicBezTo>
                  <a:pt x="9290" y="9876"/>
                  <a:pt x="10319" y="9674"/>
                  <a:pt x="10988" y="9674"/>
                </a:cubicBezTo>
              </a:path>
              <a:path w="7219" h="2779">
                <a:moveTo>
                  <a:pt x="9798" y="10145"/>
                </a:moveTo>
                <a:cubicBezTo>
                  <a:pt x="9758" y="10121"/>
                  <a:pt x="9676" y="10100"/>
                  <a:pt x="9624" y="10120"/>
                </a:cubicBezTo>
                <a:cubicBezTo>
                  <a:pt x="9551" y="10148"/>
                  <a:pt x="9535" y="10177"/>
                  <a:pt x="9451" y="10195"/>
                </a:cubicBezTo>
                <a:cubicBezTo>
                  <a:pt x="9402" y="10206"/>
                  <a:pt x="9263" y="10254"/>
                  <a:pt x="9227" y="10294"/>
                </a:cubicBezTo>
                <a:cubicBezTo>
                  <a:pt x="9181" y="10345"/>
                  <a:pt x="9132" y="10378"/>
                  <a:pt x="9079" y="10418"/>
                </a:cubicBezTo>
                <a:cubicBezTo>
                  <a:pt x="9024" y="10460"/>
                  <a:pt x="9014" y="10578"/>
                  <a:pt x="9029" y="10641"/>
                </a:cubicBezTo>
                <a:cubicBezTo>
                  <a:pt x="9039" y="10682"/>
                  <a:pt x="9092" y="10742"/>
                  <a:pt x="9128" y="10765"/>
                </a:cubicBezTo>
                <a:cubicBezTo>
                  <a:pt x="9176" y="10796"/>
                  <a:pt x="9249" y="10812"/>
                  <a:pt x="9302" y="10815"/>
                </a:cubicBezTo>
                <a:cubicBezTo>
                  <a:pt x="9403" y="10821"/>
                  <a:pt x="9498" y="10854"/>
                  <a:pt x="9599" y="10864"/>
                </a:cubicBezTo>
                <a:cubicBezTo>
                  <a:pt x="9686" y="10873"/>
                  <a:pt x="9826" y="10881"/>
                  <a:pt x="9897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8"/>
          <p:cNvSpPr/>
          <p:nvPr/>
        </p:nvSpPr>
        <p:spPr>
          <a:xfrm>
            <a:off x="4241880" y="3759120"/>
            <a:ext cx="2179440" cy="1214640"/>
          </a:xfrm>
          <a:custGeom>
            <a:avLst/>
            <a:gdLst/>
            <a:ahLst/>
            <a:rect l="l" t="t" r="r" b="b"/>
            <a:pathLst>
              <a:path w="6054" h="3374">
                <a:moveTo>
                  <a:pt x="12328" y="10492"/>
                </a:moveTo>
                <a:cubicBezTo>
                  <a:pt x="12320" y="10476"/>
                  <a:pt x="12311" y="10459"/>
                  <a:pt x="12303" y="10443"/>
                </a:cubicBezTo>
                <a:cubicBezTo>
                  <a:pt x="12235" y="10523"/>
                  <a:pt x="12238" y="10457"/>
                  <a:pt x="12154" y="10492"/>
                </a:cubicBezTo>
                <a:cubicBezTo>
                  <a:pt x="12129" y="10502"/>
                  <a:pt x="12058" y="10570"/>
                  <a:pt x="12030" y="10592"/>
                </a:cubicBezTo>
                <a:cubicBezTo>
                  <a:pt x="11966" y="10641"/>
                  <a:pt x="11960" y="10715"/>
                  <a:pt x="12030" y="10765"/>
                </a:cubicBezTo>
                <a:cubicBezTo>
                  <a:pt x="12084" y="10804"/>
                  <a:pt x="12149" y="10826"/>
                  <a:pt x="12204" y="10864"/>
                </a:cubicBezTo>
                <a:cubicBezTo>
                  <a:pt x="12231" y="10883"/>
                  <a:pt x="12318" y="10963"/>
                  <a:pt x="12328" y="10988"/>
                </a:cubicBezTo>
                <a:cubicBezTo>
                  <a:pt x="12345" y="11029"/>
                  <a:pt x="12298" y="11124"/>
                  <a:pt x="12254" y="11137"/>
                </a:cubicBezTo>
                <a:cubicBezTo>
                  <a:pt x="12141" y="11169"/>
                  <a:pt x="11988" y="11130"/>
                  <a:pt x="11881" y="11112"/>
                </a:cubicBezTo>
                <a:cubicBezTo>
                  <a:pt x="11798" y="11098"/>
                  <a:pt x="11804" y="11116"/>
                  <a:pt x="11782" y="11038"/>
                </a:cubicBezTo>
              </a:path>
              <a:path w="6054" h="3374">
                <a:moveTo>
                  <a:pt x="12551" y="10889"/>
                </a:moveTo>
                <a:cubicBezTo>
                  <a:pt x="12543" y="10954"/>
                  <a:pt x="12527" y="11054"/>
                  <a:pt x="12502" y="11112"/>
                </a:cubicBezTo>
                <a:cubicBezTo>
                  <a:pt x="12476" y="11172"/>
                  <a:pt x="12465" y="11200"/>
                  <a:pt x="12502" y="11261"/>
                </a:cubicBezTo>
              </a:path>
              <a:path w="6054" h="3374">
                <a:moveTo>
                  <a:pt x="12675" y="11286"/>
                </a:moveTo>
                <a:cubicBezTo>
                  <a:pt x="12675" y="11190"/>
                  <a:pt x="12678" y="11165"/>
                  <a:pt x="12725" y="11088"/>
                </a:cubicBezTo>
                <a:cubicBezTo>
                  <a:pt x="12763" y="11025"/>
                  <a:pt x="12821" y="10986"/>
                  <a:pt x="12874" y="11013"/>
                </a:cubicBezTo>
                <a:cubicBezTo>
                  <a:pt x="12989" y="11071"/>
                  <a:pt x="12937" y="11165"/>
                  <a:pt x="12923" y="11261"/>
                </a:cubicBezTo>
                <a:cubicBezTo>
                  <a:pt x="12915" y="11320"/>
                  <a:pt x="12905" y="11341"/>
                  <a:pt x="12923" y="11385"/>
                </a:cubicBezTo>
              </a:path>
              <a:path w="6054" h="3374">
                <a:moveTo>
                  <a:pt x="13171" y="10716"/>
                </a:moveTo>
                <a:cubicBezTo>
                  <a:pt x="13210" y="10693"/>
                  <a:pt x="13298" y="10624"/>
                  <a:pt x="13345" y="10641"/>
                </a:cubicBezTo>
                <a:cubicBezTo>
                  <a:pt x="13428" y="10670"/>
                  <a:pt x="13510" y="10699"/>
                  <a:pt x="13593" y="10740"/>
                </a:cubicBezTo>
                <a:cubicBezTo>
                  <a:pt x="13566" y="10835"/>
                  <a:pt x="13486" y="10816"/>
                  <a:pt x="13419" y="10889"/>
                </a:cubicBezTo>
                <a:cubicBezTo>
                  <a:pt x="13398" y="10933"/>
                  <a:pt x="13395" y="10945"/>
                  <a:pt x="13370" y="10964"/>
                </a:cubicBezTo>
                <a:cubicBezTo>
                  <a:pt x="13432" y="10972"/>
                  <a:pt x="13534" y="10970"/>
                  <a:pt x="13593" y="10988"/>
                </a:cubicBezTo>
                <a:cubicBezTo>
                  <a:pt x="13668" y="11012"/>
                  <a:pt x="13640" y="11094"/>
                  <a:pt x="13618" y="11137"/>
                </a:cubicBezTo>
                <a:cubicBezTo>
                  <a:pt x="13578" y="11216"/>
                  <a:pt x="13487" y="11257"/>
                  <a:pt x="13419" y="11311"/>
                </a:cubicBezTo>
                <a:cubicBezTo>
                  <a:pt x="13362" y="11356"/>
                  <a:pt x="13348" y="11376"/>
                  <a:pt x="13271" y="11385"/>
                </a:cubicBezTo>
              </a:path>
              <a:path w="6054" h="3374">
                <a:moveTo>
                  <a:pt x="13965" y="10840"/>
                </a:moveTo>
                <a:cubicBezTo>
                  <a:pt x="13882" y="10887"/>
                  <a:pt x="13833" y="10922"/>
                  <a:pt x="13767" y="10988"/>
                </a:cubicBezTo>
                <a:cubicBezTo>
                  <a:pt x="13723" y="11032"/>
                  <a:pt x="13695" y="11078"/>
                  <a:pt x="13692" y="11137"/>
                </a:cubicBezTo>
                <a:cubicBezTo>
                  <a:pt x="13688" y="11209"/>
                  <a:pt x="13721" y="11239"/>
                  <a:pt x="13767" y="11286"/>
                </a:cubicBezTo>
                <a:cubicBezTo>
                  <a:pt x="13824" y="11344"/>
                  <a:pt x="13888" y="11268"/>
                  <a:pt x="13940" y="11237"/>
                </a:cubicBezTo>
                <a:cubicBezTo>
                  <a:pt x="14006" y="11198"/>
                  <a:pt x="14064" y="11151"/>
                  <a:pt x="14114" y="11088"/>
                </a:cubicBezTo>
                <a:cubicBezTo>
                  <a:pt x="14160" y="11029"/>
                  <a:pt x="14235" y="10901"/>
                  <a:pt x="14139" y="10840"/>
                </a:cubicBezTo>
                <a:cubicBezTo>
                  <a:pt x="14099" y="10814"/>
                  <a:pt x="14016" y="10815"/>
                  <a:pt x="13965" y="10815"/>
                </a:cubicBezTo>
              </a:path>
              <a:path w="6054" h="3374">
                <a:moveTo>
                  <a:pt x="11906" y="11534"/>
                </a:moveTo>
                <a:cubicBezTo>
                  <a:pt x="11976" y="11543"/>
                  <a:pt x="12031" y="11559"/>
                  <a:pt x="12105" y="11559"/>
                </a:cubicBezTo>
                <a:cubicBezTo>
                  <a:pt x="12179" y="11559"/>
                  <a:pt x="12278" y="11572"/>
                  <a:pt x="12353" y="11584"/>
                </a:cubicBezTo>
                <a:cubicBezTo>
                  <a:pt x="12470" y="11603"/>
                  <a:pt x="12582" y="11640"/>
                  <a:pt x="12700" y="11658"/>
                </a:cubicBezTo>
                <a:cubicBezTo>
                  <a:pt x="12875" y="11685"/>
                  <a:pt x="13045" y="11728"/>
                  <a:pt x="13221" y="11733"/>
                </a:cubicBezTo>
                <a:cubicBezTo>
                  <a:pt x="13340" y="11736"/>
                  <a:pt x="13475" y="11740"/>
                  <a:pt x="13593" y="11757"/>
                </a:cubicBezTo>
                <a:cubicBezTo>
                  <a:pt x="13705" y="11773"/>
                  <a:pt x="13801" y="11782"/>
                  <a:pt x="13915" y="11782"/>
                </a:cubicBezTo>
                <a:cubicBezTo>
                  <a:pt x="13957" y="11782"/>
                  <a:pt x="13965" y="11782"/>
                  <a:pt x="13990" y="11782"/>
                </a:cubicBezTo>
              </a:path>
              <a:path w="6054" h="3374">
                <a:moveTo>
                  <a:pt x="12675" y="12154"/>
                </a:moveTo>
                <a:cubicBezTo>
                  <a:pt x="12652" y="12247"/>
                  <a:pt x="12654" y="12335"/>
                  <a:pt x="12626" y="12427"/>
                </a:cubicBezTo>
                <a:cubicBezTo>
                  <a:pt x="12598" y="12519"/>
                  <a:pt x="12564" y="12613"/>
                  <a:pt x="12526" y="12700"/>
                </a:cubicBezTo>
                <a:cubicBezTo>
                  <a:pt x="12504" y="12749"/>
                  <a:pt x="12502" y="12771"/>
                  <a:pt x="12502" y="12824"/>
                </a:cubicBezTo>
              </a:path>
              <a:path w="6054" h="3374">
                <a:moveTo>
                  <a:pt x="12824" y="12378"/>
                </a:moveTo>
                <a:cubicBezTo>
                  <a:pt x="12859" y="12283"/>
                  <a:pt x="12879" y="12217"/>
                  <a:pt x="12948" y="12154"/>
                </a:cubicBezTo>
                <a:cubicBezTo>
                  <a:pt x="13026" y="12082"/>
                  <a:pt x="13112" y="12096"/>
                  <a:pt x="13196" y="12154"/>
                </a:cubicBezTo>
                <a:cubicBezTo>
                  <a:pt x="13256" y="12195"/>
                  <a:pt x="13285" y="12285"/>
                  <a:pt x="13295" y="12353"/>
                </a:cubicBezTo>
                <a:cubicBezTo>
                  <a:pt x="13306" y="12429"/>
                  <a:pt x="13270" y="12508"/>
                  <a:pt x="13246" y="12576"/>
                </a:cubicBezTo>
                <a:cubicBezTo>
                  <a:pt x="13228" y="12626"/>
                  <a:pt x="13187" y="12736"/>
                  <a:pt x="13146" y="12774"/>
                </a:cubicBezTo>
                <a:cubicBezTo>
                  <a:pt x="13098" y="12819"/>
                  <a:pt x="13037" y="12871"/>
                  <a:pt x="12973" y="12874"/>
                </a:cubicBezTo>
                <a:cubicBezTo>
                  <a:pt x="12882" y="12878"/>
                  <a:pt x="12849" y="12845"/>
                  <a:pt x="12874" y="12750"/>
                </a:cubicBezTo>
                <a:cubicBezTo>
                  <a:pt x="12886" y="12706"/>
                  <a:pt x="12934" y="12651"/>
                  <a:pt x="12973" y="12626"/>
                </a:cubicBezTo>
                <a:cubicBezTo>
                  <a:pt x="13050" y="12577"/>
                  <a:pt x="13106" y="12553"/>
                  <a:pt x="13196" y="12601"/>
                </a:cubicBezTo>
                <a:cubicBezTo>
                  <a:pt x="13224" y="12616"/>
                  <a:pt x="13301" y="12723"/>
                  <a:pt x="13320" y="12750"/>
                </a:cubicBezTo>
                <a:cubicBezTo>
                  <a:pt x="13368" y="12818"/>
                  <a:pt x="13372" y="12902"/>
                  <a:pt x="13395" y="12973"/>
                </a:cubicBezTo>
                <a:cubicBezTo>
                  <a:pt x="13416" y="13016"/>
                  <a:pt x="13420" y="13028"/>
                  <a:pt x="13444" y="13047"/>
                </a:cubicBezTo>
              </a:path>
              <a:path w="6054" h="3374">
                <a:moveTo>
                  <a:pt x="14660" y="11534"/>
                </a:moveTo>
                <a:cubicBezTo>
                  <a:pt x="14754" y="11534"/>
                  <a:pt x="14821" y="11554"/>
                  <a:pt x="14908" y="11559"/>
                </a:cubicBezTo>
                <a:cubicBezTo>
                  <a:pt x="14949" y="11559"/>
                  <a:pt x="14965" y="11551"/>
                  <a:pt x="14957" y="11584"/>
                </a:cubicBezTo>
              </a:path>
              <a:path w="6054" h="3374">
                <a:moveTo>
                  <a:pt x="14536" y="11757"/>
                </a:moveTo>
                <a:cubicBezTo>
                  <a:pt x="14637" y="11765"/>
                  <a:pt x="14731" y="11782"/>
                  <a:pt x="14833" y="11782"/>
                </a:cubicBezTo>
                <a:cubicBezTo>
                  <a:pt x="14907" y="11782"/>
                  <a:pt x="14982" y="11782"/>
                  <a:pt x="15056" y="11782"/>
                </a:cubicBezTo>
              </a:path>
              <a:path w="6054" h="3374">
                <a:moveTo>
                  <a:pt x="15478" y="11088"/>
                </a:moveTo>
                <a:cubicBezTo>
                  <a:pt x="15532" y="11034"/>
                  <a:pt x="15573" y="11016"/>
                  <a:pt x="15652" y="11013"/>
                </a:cubicBezTo>
                <a:cubicBezTo>
                  <a:pt x="15726" y="11010"/>
                  <a:pt x="15777" y="10995"/>
                  <a:pt x="15850" y="10988"/>
                </a:cubicBezTo>
                <a:cubicBezTo>
                  <a:pt x="15753" y="10988"/>
                  <a:pt x="15668" y="10998"/>
                  <a:pt x="15577" y="11013"/>
                </a:cubicBezTo>
                <a:cubicBezTo>
                  <a:pt x="15526" y="11021"/>
                  <a:pt x="15403" y="11031"/>
                  <a:pt x="15379" y="11088"/>
                </a:cubicBezTo>
                <a:cubicBezTo>
                  <a:pt x="15339" y="11181"/>
                  <a:pt x="15412" y="11189"/>
                  <a:pt x="15453" y="11237"/>
                </a:cubicBezTo>
                <a:cubicBezTo>
                  <a:pt x="15493" y="11283"/>
                  <a:pt x="15508" y="11339"/>
                  <a:pt x="15553" y="11385"/>
                </a:cubicBezTo>
                <a:cubicBezTo>
                  <a:pt x="15615" y="11447"/>
                  <a:pt x="15660" y="11506"/>
                  <a:pt x="15701" y="11584"/>
                </a:cubicBezTo>
                <a:cubicBezTo>
                  <a:pt x="15720" y="11619"/>
                  <a:pt x="15764" y="11718"/>
                  <a:pt x="15751" y="11757"/>
                </a:cubicBezTo>
                <a:cubicBezTo>
                  <a:pt x="15732" y="11813"/>
                  <a:pt x="15652" y="11869"/>
                  <a:pt x="15602" y="11881"/>
                </a:cubicBezTo>
                <a:cubicBezTo>
                  <a:pt x="15547" y="11895"/>
                  <a:pt x="15464" y="11923"/>
                  <a:pt x="15404" y="11906"/>
                </a:cubicBezTo>
                <a:cubicBezTo>
                  <a:pt x="15390" y="11902"/>
                  <a:pt x="15243" y="11835"/>
                  <a:pt x="15255" y="11807"/>
                </a:cubicBezTo>
                <a:cubicBezTo>
                  <a:pt x="15271" y="11790"/>
                  <a:pt x="15288" y="11774"/>
                  <a:pt x="15304" y="11757"/>
                </a:cubicBezTo>
              </a:path>
              <a:path w="6054" h="3374">
                <a:moveTo>
                  <a:pt x="16024" y="11534"/>
                </a:moveTo>
                <a:cubicBezTo>
                  <a:pt x="15987" y="11620"/>
                  <a:pt x="15954" y="11690"/>
                  <a:pt x="15949" y="11782"/>
                </a:cubicBezTo>
                <a:cubicBezTo>
                  <a:pt x="15949" y="11824"/>
                  <a:pt x="15949" y="11832"/>
                  <a:pt x="15949" y="11857"/>
                </a:cubicBezTo>
              </a:path>
              <a:path w="6054" h="3374">
                <a:moveTo>
                  <a:pt x="16073" y="11906"/>
                </a:moveTo>
                <a:cubicBezTo>
                  <a:pt x="16086" y="11807"/>
                  <a:pt x="16123" y="11771"/>
                  <a:pt x="16197" y="11708"/>
                </a:cubicBezTo>
                <a:cubicBezTo>
                  <a:pt x="16254" y="11660"/>
                  <a:pt x="16295" y="11688"/>
                  <a:pt x="16346" y="11733"/>
                </a:cubicBezTo>
                <a:cubicBezTo>
                  <a:pt x="16390" y="11772"/>
                  <a:pt x="16371" y="11850"/>
                  <a:pt x="16371" y="11906"/>
                </a:cubicBezTo>
                <a:cubicBezTo>
                  <a:pt x="16371" y="11971"/>
                  <a:pt x="16353" y="12013"/>
                  <a:pt x="16421" y="12030"/>
                </a:cubicBezTo>
              </a:path>
              <a:path w="6054" h="3374">
                <a:moveTo>
                  <a:pt x="16793" y="11162"/>
                </a:moveTo>
                <a:cubicBezTo>
                  <a:pt x="16768" y="11227"/>
                  <a:pt x="16747" y="11291"/>
                  <a:pt x="16743" y="11361"/>
                </a:cubicBezTo>
                <a:cubicBezTo>
                  <a:pt x="16740" y="11422"/>
                  <a:pt x="16730" y="11487"/>
                  <a:pt x="16768" y="11534"/>
                </a:cubicBezTo>
                <a:cubicBezTo>
                  <a:pt x="16807" y="11582"/>
                  <a:pt x="16832" y="11606"/>
                  <a:pt x="16892" y="11609"/>
                </a:cubicBezTo>
                <a:cubicBezTo>
                  <a:pt x="16961" y="11612"/>
                  <a:pt x="17002" y="11594"/>
                  <a:pt x="17041" y="11534"/>
                </a:cubicBezTo>
                <a:cubicBezTo>
                  <a:pt x="17049" y="11518"/>
                  <a:pt x="17058" y="11501"/>
                  <a:pt x="17066" y="11485"/>
                </a:cubicBezTo>
              </a:path>
              <a:path w="6054" h="3374">
                <a:moveTo>
                  <a:pt x="17214" y="11212"/>
                </a:moveTo>
                <a:cubicBezTo>
                  <a:pt x="17214" y="11278"/>
                  <a:pt x="17210" y="11349"/>
                  <a:pt x="17190" y="11410"/>
                </a:cubicBezTo>
                <a:cubicBezTo>
                  <a:pt x="17153" y="11521"/>
                  <a:pt x="17088" y="11616"/>
                  <a:pt x="17066" y="11733"/>
                </a:cubicBezTo>
                <a:cubicBezTo>
                  <a:pt x="17049" y="11824"/>
                  <a:pt x="17049" y="11885"/>
                  <a:pt x="17090" y="11981"/>
                </a:cubicBezTo>
              </a:path>
              <a:path w="6054" h="3374">
                <a:moveTo>
                  <a:pt x="17835" y="11336"/>
                </a:moveTo>
                <a:cubicBezTo>
                  <a:pt x="17809" y="11233"/>
                  <a:pt x="17821" y="11167"/>
                  <a:pt x="17711" y="11162"/>
                </a:cubicBezTo>
                <a:cubicBezTo>
                  <a:pt x="17648" y="11159"/>
                  <a:pt x="17543" y="11186"/>
                  <a:pt x="17487" y="11212"/>
                </a:cubicBezTo>
                <a:cubicBezTo>
                  <a:pt x="17403" y="11251"/>
                  <a:pt x="17419" y="11294"/>
                  <a:pt x="17388" y="11361"/>
                </a:cubicBezTo>
                <a:cubicBezTo>
                  <a:pt x="17358" y="11425"/>
                  <a:pt x="17365" y="11445"/>
                  <a:pt x="17413" y="11509"/>
                </a:cubicBezTo>
                <a:cubicBezTo>
                  <a:pt x="17451" y="11559"/>
                  <a:pt x="17515" y="11559"/>
                  <a:pt x="17562" y="11584"/>
                </a:cubicBezTo>
                <a:cubicBezTo>
                  <a:pt x="17622" y="11616"/>
                  <a:pt x="17685" y="11637"/>
                  <a:pt x="17735" y="11683"/>
                </a:cubicBezTo>
                <a:cubicBezTo>
                  <a:pt x="17763" y="11711"/>
                  <a:pt x="17772" y="11724"/>
                  <a:pt x="17760" y="11757"/>
                </a:cubicBezTo>
                <a:cubicBezTo>
                  <a:pt x="17702" y="11796"/>
                  <a:pt x="17640" y="11805"/>
                  <a:pt x="17587" y="11832"/>
                </a:cubicBezTo>
                <a:cubicBezTo>
                  <a:pt x="17547" y="11852"/>
                  <a:pt x="17442" y="11898"/>
                  <a:pt x="17413" y="11931"/>
                </a:cubicBezTo>
                <a:cubicBezTo>
                  <a:pt x="17413" y="11939"/>
                  <a:pt x="17413" y="11948"/>
                  <a:pt x="17413" y="11956"/>
                </a:cubicBezTo>
              </a:path>
              <a:path w="6054" h="3374">
                <a:moveTo>
                  <a:pt x="15280" y="12229"/>
                </a:moveTo>
                <a:cubicBezTo>
                  <a:pt x="15441" y="12278"/>
                  <a:pt x="15610" y="12337"/>
                  <a:pt x="15776" y="12353"/>
                </a:cubicBezTo>
                <a:cubicBezTo>
                  <a:pt x="15910" y="12366"/>
                  <a:pt x="16038" y="12412"/>
                  <a:pt x="16173" y="12427"/>
                </a:cubicBezTo>
                <a:cubicBezTo>
                  <a:pt x="16345" y="12446"/>
                  <a:pt x="16522" y="12487"/>
                  <a:pt x="16694" y="12502"/>
                </a:cubicBezTo>
                <a:cubicBezTo>
                  <a:pt x="16849" y="12516"/>
                  <a:pt x="17010" y="12522"/>
                  <a:pt x="17165" y="12526"/>
                </a:cubicBezTo>
                <a:cubicBezTo>
                  <a:pt x="17313" y="12530"/>
                  <a:pt x="17463" y="12526"/>
                  <a:pt x="17611" y="12526"/>
                </a:cubicBezTo>
              </a:path>
              <a:path w="6054" h="3374">
                <a:moveTo>
                  <a:pt x="16421" y="12898"/>
                </a:moveTo>
                <a:cubicBezTo>
                  <a:pt x="16421" y="13068"/>
                  <a:pt x="16390" y="13257"/>
                  <a:pt x="16396" y="13419"/>
                </a:cubicBezTo>
                <a:cubicBezTo>
                  <a:pt x="16401" y="13554"/>
                  <a:pt x="16421" y="13681"/>
                  <a:pt x="16421" y="13816"/>
                </a:cubicBezTo>
              </a:path>
              <a:path w="6054" h="3374">
                <a:moveTo>
                  <a:pt x="16321" y="13295"/>
                </a:moveTo>
                <a:cubicBezTo>
                  <a:pt x="16419" y="13257"/>
                  <a:pt x="16412" y="13254"/>
                  <a:pt x="16495" y="13271"/>
                </a:cubicBezTo>
                <a:cubicBezTo>
                  <a:pt x="16572" y="13286"/>
                  <a:pt x="16633" y="13289"/>
                  <a:pt x="16694" y="13345"/>
                </a:cubicBezTo>
                <a:cubicBezTo>
                  <a:pt x="16729" y="13377"/>
                  <a:pt x="16853" y="13470"/>
                  <a:pt x="16867" y="13519"/>
                </a:cubicBezTo>
                <a:cubicBezTo>
                  <a:pt x="16881" y="13569"/>
                  <a:pt x="16870" y="13665"/>
                  <a:pt x="16818" y="13692"/>
                </a:cubicBezTo>
                <a:cubicBezTo>
                  <a:pt x="16760" y="13723"/>
                  <a:pt x="16658" y="13778"/>
                  <a:pt x="16594" y="13791"/>
                </a:cubicBezTo>
                <a:cubicBezTo>
                  <a:pt x="16523" y="13805"/>
                  <a:pt x="16461" y="13780"/>
                  <a:pt x="16396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9"/>
          <p:cNvSpPr/>
          <p:nvPr/>
        </p:nvSpPr>
        <p:spPr>
          <a:xfrm>
            <a:off x="1152360" y="4062240"/>
            <a:ext cx="2643480" cy="652680"/>
          </a:xfrm>
          <a:custGeom>
            <a:avLst/>
            <a:gdLst/>
            <a:ahLst/>
            <a:rect l="l" t="t" r="r" b="b"/>
            <a:pathLst>
              <a:path w="7343" h="1812">
                <a:moveTo>
                  <a:pt x="3324" y="11286"/>
                </a:moveTo>
                <a:cubicBezTo>
                  <a:pt x="3291" y="11375"/>
                  <a:pt x="3278" y="11475"/>
                  <a:pt x="3249" y="11559"/>
                </a:cubicBezTo>
                <a:cubicBezTo>
                  <a:pt x="3229" y="11617"/>
                  <a:pt x="3225" y="11663"/>
                  <a:pt x="3225" y="11733"/>
                </a:cubicBezTo>
                <a:cubicBezTo>
                  <a:pt x="3225" y="11802"/>
                  <a:pt x="3200" y="11858"/>
                  <a:pt x="3200" y="11931"/>
                </a:cubicBezTo>
                <a:cubicBezTo>
                  <a:pt x="3200" y="11989"/>
                  <a:pt x="3200" y="12014"/>
                  <a:pt x="3200" y="12055"/>
                </a:cubicBezTo>
              </a:path>
              <a:path w="7343" h="1812">
                <a:moveTo>
                  <a:pt x="3547" y="11658"/>
                </a:moveTo>
                <a:cubicBezTo>
                  <a:pt x="3510" y="11597"/>
                  <a:pt x="3515" y="11548"/>
                  <a:pt x="3547" y="11485"/>
                </a:cubicBezTo>
                <a:cubicBezTo>
                  <a:pt x="3588" y="11404"/>
                  <a:pt x="3597" y="11356"/>
                  <a:pt x="3696" y="11336"/>
                </a:cubicBezTo>
                <a:cubicBezTo>
                  <a:pt x="3734" y="11328"/>
                  <a:pt x="3808" y="11367"/>
                  <a:pt x="3820" y="11410"/>
                </a:cubicBezTo>
                <a:cubicBezTo>
                  <a:pt x="3836" y="11468"/>
                  <a:pt x="3867" y="11572"/>
                  <a:pt x="3845" y="11633"/>
                </a:cubicBezTo>
                <a:cubicBezTo>
                  <a:pt x="3825" y="11687"/>
                  <a:pt x="3794" y="11751"/>
                  <a:pt x="3770" y="11807"/>
                </a:cubicBezTo>
                <a:cubicBezTo>
                  <a:pt x="3746" y="11861"/>
                  <a:pt x="3705" y="11938"/>
                  <a:pt x="3646" y="11956"/>
                </a:cubicBezTo>
                <a:cubicBezTo>
                  <a:pt x="3561" y="11981"/>
                  <a:pt x="3568" y="11911"/>
                  <a:pt x="3572" y="11881"/>
                </a:cubicBezTo>
                <a:cubicBezTo>
                  <a:pt x="3580" y="11828"/>
                  <a:pt x="3640" y="11776"/>
                  <a:pt x="3696" y="11782"/>
                </a:cubicBezTo>
                <a:cubicBezTo>
                  <a:pt x="3757" y="11788"/>
                  <a:pt x="3902" y="11882"/>
                  <a:pt x="3919" y="11931"/>
                </a:cubicBezTo>
                <a:cubicBezTo>
                  <a:pt x="3939" y="11987"/>
                  <a:pt x="3944" y="12040"/>
                  <a:pt x="3944" y="12105"/>
                </a:cubicBezTo>
              </a:path>
              <a:path w="7343" h="1812">
                <a:moveTo>
                  <a:pt x="4663" y="11782"/>
                </a:moveTo>
                <a:cubicBezTo>
                  <a:pt x="4663" y="11766"/>
                  <a:pt x="4663" y="11749"/>
                  <a:pt x="4663" y="11733"/>
                </a:cubicBezTo>
                <a:cubicBezTo>
                  <a:pt x="4600" y="11733"/>
                  <a:pt x="4579" y="11727"/>
                  <a:pt x="4539" y="11733"/>
                </a:cubicBezTo>
                <a:cubicBezTo>
                  <a:pt x="4469" y="11743"/>
                  <a:pt x="4420" y="11757"/>
                  <a:pt x="4366" y="11807"/>
                </a:cubicBezTo>
                <a:cubicBezTo>
                  <a:pt x="4326" y="11843"/>
                  <a:pt x="4381" y="11893"/>
                  <a:pt x="4415" y="11931"/>
                </a:cubicBezTo>
                <a:cubicBezTo>
                  <a:pt x="4446" y="11966"/>
                  <a:pt x="4481" y="11997"/>
                  <a:pt x="4514" y="12030"/>
                </a:cubicBezTo>
                <a:cubicBezTo>
                  <a:pt x="4547" y="12064"/>
                  <a:pt x="4610" y="12135"/>
                  <a:pt x="4539" y="12179"/>
                </a:cubicBezTo>
                <a:cubicBezTo>
                  <a:pt x="4494" y="12207"/>
                  <a:pt x="4381" y="12172"/>
                  <a:pt x="4341" y="12154"/>
                </a:cubicBezTo>
                <a:cubicBezTo>
                  <a:pt x="4286" y="12129"/>
                  <a:pt x="4238" y="12108"/>
                  <a:pt x="4192" y="12080"/>
                </a:cubicBezTo>
              </a:path>
              <a:path w="7343" h="1812">
                <a:moveTo>
                  <a:pt x="4837" y="11906"/>
                </a:moveTo>
                <a:cubicBezTo>
                  <a:pt x="4813" y="12000"/>
                  <a:pt x="4772" y="12089"/>
                  <a:pt x="4762" y="12179"/>
                </a:cubicBezTo>
                <a:cubicBezTo>
                  <a:pt x="4762" y="12229"/>
                  <a:pt x="4762" y="12245"/>
                  <a:pt x="4762" y="12278"/>
                </a:cubicBezTo>
              </a:path>
              <a:path w="7343" h="1812">
                <a:moveTo>
                  <a:pt x="4911" y="12278"/>
                </a:moveTo>
                <a:cubicBezTo>
                  <a:pt x="4938" y="12164"/>
                  <a:pt x="4956" y="12122"/>
                  <a:pt x="5011" y="12030"/>
                </a:cubicBezTo>
                <a:cubicBezTo>
                  <a:pt x="5029" y="11999"/>
                  <a:pt x="5069" y="11918"/>
                  <a:pt x="5110" y="11906"/>
                </a:cubicBezTo>
                <a:cubicBezTo>
                  <a:pt x="5192" y="11882"/>
                  <a:pt x="5241" y="11926"/>
                  <a:pt x="5259" y="12005"/>
                </a:cubicBezTo>
                <a:cubicBezTo>
                  <a:pt x="5281" y="12102"/>
                  <a:pt x="5259" y="12227"/>
                  <a:pt x="5259" y="12328"/>
                </a:cubicBezTo>
              </a:path>
              <a:path w="7343" h="1812">
                <a:moveTo>
                  <a:pt x="5631" y="11683"/>
                </a:moveTo>
                <a:cubicBezTo>
                  <a:pt x="5631" y="11779"/>
                  <a:pt x="5610" y="11862"/>
                  <a:pt x="5606" y="11956"/>
                </a:cubicBezTo>
                <a:cubicBezTo>
                  <a:pt x="5603" y="12019"/>
                  <a:pt x="5596" y="12117"/>
                  <a:pt x="5581" y="12179"/>
                </a:cubicBezTo>
                <a:cubicBezTo>
                  <a:pt x="5569" y="12228"/>
                  <a:pt x="5556" y="12250"/>
                  <a:pt x="5556" y="12303"/>
                </a:cubicBezTo>
              </a:path>
              <a:path w="7343" h="1812">
                <a:moveTo>
                  <a:pt x="5953" y="11683"/>
                </a:moveTo>
                <a:cubicBezTo>
                  <a:pt x="5861" y="11710"/>
                  <a:pt x="5891" y="11734"/>
                  <a:pt x="5854" y="11807"/>
                </a:cubicBezTo>
                <a:cubicBezTo>
                  <a:pt x="5815" y="11884"/>
                  <a:pt x="5828" y="11914"/>
                  <a:pt x="5804" y="12005"/>
                </a:cubicBezTo>
                <a:cubicBezTo>
                  <a:pt x="5789" y="12060"/>
                  <a:pt x="5755" y="12142"/>
                  <a:pt x="5779" y="12204"/>
                </a:cubicBezTo>
                <a:cubicBezTo>
                  <a:pt x="5800" y="12257"/>
                  <a:pt x="5846" y="12270"/>
                  <a:pt x="5879" y="12254"/>
                </a:cubicBezTo>
                <a:cubicBezTo>
                  <a:pt x="5948" y="12219"/>
                  <a:pt x="5988" y="12195"/>
                  <a:pt x="6028" y="12129"/>
                </a:cubicBezTo>
                <a:cubicBezTo>
                  <a:pt x="6065" y="12067"/>
                  <a:pt x="6078" y="12023"/>
                  <a:pt x="6102" y="11956"/>
                </a:cubicBezTo>
                <a:cubicBezTo>
                  <a:pt x="6126" y="11886"/>
                  <a:pt x="6123" y="11814"/>
                  <a:pt x="6077" y="11757"/>
                </a:cubicBezTo>
                <a:cubicBezTo>
                  <a:pt x="6037" y="11708"/>
                  <a:pt x="6014" y="11708"/>
                  <a:pt x="5953" y="11708"/>
                </a:cubicBezTo>
              </a:path>
              <a:path w="7343" h="1812">
                <a:moveTo>
                  <a:pt x="6499" y="11782"/>
                </a:moveTo>
                <a:cubicBezTo>
                  <a:pt x="6458" y="11742"/>
                  <a:pt x="6414" y="11709"/>
                  <a:pt x="6350" y="11733"/>
                </a:cubicBezTo>
                <a:cubicBezTo>
                  <a:pt x="6321" y="11744"/>
                  <a:pt x="6306" y="11877"/>
                  <a:pt x="6300" y="11906"/>
                </a:cubicBezTo>
                <a:cubicBezTo>
                  <a:pt x="6282" y="11995"/>
                  <a:pt x="6345" y="12013"/>
                  <a:pt x="6400" y="12055"/>
                </a:cubicBezTo>
                <a:cubicBezTo>
                  <a:pt x="6446" y="12090"/>
                  <a:pt x="6509" y="12114"/>
                  <a:pt x="6524" y="12179"/>
                </a:cubicBezTo>
                <a:cubicBezTo>
                  <a:pt x="6544" y="12264"/>
                  <a:pt x="6504" y="12298"/>
                  <a:pt x="6449" y="12353"/>
                </a:cubicBezTo>
                <a:cubicBezTo>
                  <a:pt x="6403" y="12399"/>
                  <a:pt x="6389" y="12439"/>
                  <a:pt x="6325" y="12452"/>
                </a:cubicBezTo>
                <a:cubicBezTo>
                  <a:pt x="6264" y="12464"/>
                  <a:pt x="6226" y="12439"/>
                  <a:pt x="6176" y="12427"/>
                </a:cubicBezTo>
              </a:path>
              <a:path w="7343" h="1812">
                <a:moveTo>
                  <a:pt x="6697" y="12055"/>
                </a:moveTo>
                <a:cubicBezTo>
                  <a:pt x="6749" y="12051"/>
                  <a:pt x="6867" y="12009"/>
                  <a:pt x="6921" y="12030"/>
                </a:cubicBezTo>
                <a:cubicBezTo>
                  <a:pt x="6980" y="12053"/>
                  <a:pt x="7059" y="12032"/>
                  <a:pt x="7119" y="12055"/>
                </a:cubicBezTo>
                <a:cubicBezTo>
                  <a:pt x="7181" y="12079"/>
                  <a:pt x="7256" y="12078"/>
                  <a:pt x="7317" y="12105"/>
                </a:cubicBezTo>
              </a:path>
              <a:path w="7343" h="1812">
                <a:moveTo>
                  <a:pt x="6871" y="12303"/>
                </a:moveTo>
                <a:cubicBezTo>
                  <a:pt x="6959" y="12327"/>
                  <a:pt x="7027" y="12328"/>
                  <a:pt x="7119" y="12328"/>
                </a:cubicBezTo>
              </a:path>
              <a:path w="7343" h="1812">
                <a:moveTo>
                  <a:pt x="8235" y="12005"/>
                </a:moveTo>
                <a:cubicBezTo>
                  <a:pt x="8183" y="11954"/>
                  <a:pt x="8159" y="11910"/>
                  <a:pt x="8086" y="11906"/>
                </a:cubicBezTo>
                <a:cubicBezTo>
                  <a:pt x="8014" y="11902"/>
                  <a:pt x="7947" y="11901"/>
                  <a:pt x="7888" y="11931"/>
                </a:cubicBezTo>
                <a:cubicBezTo>
                  <a:pt x="7839" y="11956"/>
                  <a:pt x="7738" y="11978"/>
                  <a:pt x="7764" y="12055"/>
                </a:cubicBezTo>
                <a:cubicBezTo>
                  <a:pt x="7783" y="12113"/>
                  <a:pt x="7844" y="12185"/>
                  <a:pt x="7888" y="12229"/>
                </a:cubicBezTo>
                <a:cubicBezTo>
                  <a:pt x="7939" y="12280"/>
                  <a:pt x="7935" y="12298"/>
                  <a:pt x="7962" y="12353"/>
                </a:cubicBezTo>
                <a:cubicBezTo>
                  <a:pt x="7988" y="12405"/>
                  <a:pt x="8042" y="12425"/>
                  <a:pt x="8012" y="12502"/>
                </a:cubicBezTo>
                <a:cubicBezTo>
                  <a:pt x="7985" y="12570"/>
                  <a:pt x="7864" y="12551"/>
                  <a:pt x="7813" y="12551"/>
                </a:cubicBezTo>
                <a:cubicBezTo>
                  <a:pt x="7752" y="12551"/>
                  <a:pt x="7714" y="12547"/>
                  <a:pt x="7665" y="12526"/>
                </a:cubicBezTo>
                <a:cubicBezTo>
                  <a:pt x="7612" y="12504"/>
                  <a:pt x="7578" y="12479"/>
                  <a:pt x="7565" y="12427"/>
                </a:cubicBezTo>
              </a:path>
              <a:path w="7343" h="1812">
                <a:moveTo>
                  <a:pt x="8285" y="12402"/>
                </a:moveTo>
                <a:cubicBezTo>
                  <a:pt x="8267" y="12475"/>
                  <a:pt x="8286" y="12584"/>
                  <a:pt x="8260" y="12650"/>
                </a:cubicBezTo>
                <a:cubicBezTo>
                  <a:pt x="8231" y="12726"/>
                  <a:pt x="8230" y="12769"/>
                  <a:pt x="8260" y="12849"/>
                </a:cubicBezTo>
              </a:path>
              <a:path w="7343" h="1812">
                <a:moveTo>
                  <a:pt x="8483" y="12700"/>
                </a:moveTo>
                <a:cubicBezTo>
                  <a:pt x="8483" y="12624"/>
                  <a:pt x="8482" y="12498"/>
                  <a:pt x="8558" y="12452"/>
                </a:cubicBezTo>
                <a:cubicBezTo>
                  <a:pt x="8602" y="12452"/>
                  <a:pt x="8616" y="12455"/>
                  <a:pt x="8632" y="12427"/>
                </a:cubicBezTo>
                <a:cubicBezTo>
                  <a:pt x="8663" y="12478"/>
                  <a:pt x="8678" y="12565"/>
                  <a:pt x="8682" y="12626"/>
                </a:cubicBezTo>
                <a:cubicBezTo>
                  <a:pt x="8687" y="12708"/>
                  <a:pt x="8672" y="12779"/>
                  <a:pt x="8706" y="12849"/>
                </a:cubicBezTo>
              </a:path>
              <a:path w="7343" h="1812">
                <a:moveTo>
                  <a:pt x="9029" y="12154"/>
                </a:moveTo>
                <a:cubicBezTo>
                  <a:pt x="9089" y="12118"/>
                  <a:pt x="9159" y="12115"/>
                  <a:pt x="9227" y="12154"/>
                </a:cubicBezTo>
                <a:cubicBezTo>
                  <a:pt x="9326" y="12211"/>
                  <a:pt x="9417" y="12323"/>
                  <a:pt x="9376" y="12427"/>
                </a:cubicBezTo>
                <a:cubicBezTo>
                  <a:pt x="9359" y="12470"/>
                  <a:pt x="9288" y="12507"/>
                  <a:pt x="9252" y="12526"/>
                </a:cubicBezTo>
                <a:cubicBezTo>
                  <a:pt x="9197" y="12555"/>
                  <a:pt x="9164" y="12551"/>
                  <a:pt x="9103" y="12551"/>
                </a:cubicBezTo>
                <a:cubicBezTo>
                  <a:pt x="9144" y="12584"/>
                  <a:pt x="9261" y="12619"/>
                  <a:pt x="9277" y="12675"/>
                </a:cubicBezTo>
                <a:cubicBezTo>
                  <a:pt x="9295" y="12736"/>
                  <a:pt x="9276" y="12820"/>
                  <a:pt x="9252" y="12874"/>
                </a:cubicBezTo>
                <a:cubicBezTo>
                  <a:pt x="9219" y="12947"/>
                  <a:pt x="9187" y="13018"/>
                  <a:pt x="9103" y="13047"/>
                </a:cubicBezTo>
                <a:cubicBezTo>
                  <a:pt x="9059" y="13062"/>
                  <a:pt x="9001" y="13066"/>
                  <a:pt x="8954" y="13072"/>
                </a:cubicBezTo>
              </a:path>
              <a:path w="7343" h="1812">
                <a:moveTo>
                  <a:pt x="9723" y="12452"/>
                </a:moveTo>
                <a:cubicBezTo>
                  <a:pt x="9635" y="12430"/>
                  <a:pt x="9630" y="12460"/>
                  <a:pt x="9550" y="12502"/>
                </a:cubicBezTo>
                <a:cubicBezTo>
                  <a:pt x="9480" y="12539"/>
                  <a:pt x="9472" y="12590"/>
                  <a:pt x="9426" y="12650"/>
                </a:cubicBezTo>
                <a:cubicBezTo>
                  <a:pt x="9371" y="12723"/>
                  <a:pt x="9376" y="12810"/>
                  <a:pt x="9376" y="12898"/>
                </a:cubicBezTo>
                <a:cubicBezTo>
                  <a:pt x="9376" y="12935"/>
                  <a:pt x="9402" y="13012"/>
                  <a:pt x="9451" y="13022"/>
                </a:cubicBezTo>
                <a:cubicBezTo>
                  <a:pt x="9512" y="13035"/>
                  <a:pt x="9601" y="13029"/>
                  <a:pt x="9649" y="12998"/>
                </a:cubicBezTo>
                <a:cubicBezTo>
                  <a:pt x="9723" y="12950"/>
                  <a:pt x="9758" y="12899"/>
                  <a:pt x="9798" y="12824"/>
                </a:cubicBezTo>
                <a:cubicBezTo>
                  <a:pt x="9825" y="12774"/>
                  <a:pt x="9846" y="12659"/>
                  <a:pt x="9823" y="12601"/>
                </a:cubicBezTo>
                <a:cubicBezTo>
                  <a:pt x="9798" y="12537"/>
                  <a:pt x="9759" y="12488"/>
                  <a:pt x="9699" y="12452"/>
                </a:cubicBezTo>
                <a:cubicBezTo>
                  <a:pt x="9658" y="12432"/>
                  <a:pt x="9652" y="12423"/>
                  <a:pt x="9624" y="12427"/>
                </a:cubicBezTo>
              </a:path>
              <a:path w="7343" h="1812">
                <a:moveTo>
                  <a:pt x="10368" y="12824"/>
                </a:moveTo>
                <a:cubicBezTo>
                  <a:pt x="10360" y="12807"/>
                  <a:pt x="10352" y="12791"/>
                  <a:pt x="10344" y="12774"/>
                </a:cubicBezTo>
                <a:cubicBezTo>
                  <a:pt x="10275" y="12800"/>
                  <a:pt x="10235" y="12814"/>
                  <a:pt x="10170" y="12849"/>
                </a:cubicBezTo>
                <a:cubicBezTo>
                  <a:pt x="10123" y="12874"/>
                  <a:pt x="10034" y="12913"/>
                  <a:pt x="10046" y="12973"/>
                </a:cubicBezTo>
                <a:cubicBezTo>
                  <a:pt x="10050" y="12992"/>
                  <a:pt x="10127" y="13061"/>
                  <a:pt x="10145" y="13072"/>
                </a:cubicBezTo>
                <a:cubicBezTo>
                  <a:pt x="10205" y="13111"/>
                  <a:pt x="10276" y="13097"/>
                  <a:pt x="10344" y="13097"/>
                </a:cubicBezTo>
                <a:cubicBezTo>
                  <a:pt x="10410" y="13097"/>
                  <a:pt x="10476" y="13097"/>
                  <a:pt x="10542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10"/>
          <p:cNvSpPr/>
          <p:nvPr/>
        </p:nvSpPr>
        <p:spPr>
          <a:xfrm>
            <a:off x="1071720" y="4464000"/>
            <a:ext cx="2544480" cy="696960"/>
          </a:xfrm>
          <a:custGeom>
            <a:avLst/>
            <a:gdLst/>
            <a:ahLst/>
            <a:rect l="l" t="t" r="r" b="b"/>
            <a:pathLst>
              <a:path w="7070" h="1936">
                <a:moveTo>
                  <a:pt x="7392" y="12774"/>
                </a:moveTo>
                <a:cubicBezTo>
                  <a:pt x="7461" y="12812"/>
                  <a:pt x="7493" y="12804"/>
                  <a:pt x="7565" y="12824"/>
                </a:cubicBezTo>
                <a:cubicBezTo>
                  <a:pt x="7642" y="12846"/>
                  <a:pt x="7706" y="12849"/>
                  <a:pt x="7789" y="12849"/>
                </a:cubicBezTo>
                <a:cubicBezTo>
                  <a:pt x="7866" y="12849"/>
                  <a:pt x="7930" y="12874"/>
                  <a:pt x="8012" y="12874"/>
                </a:cubicBezTo>
                <a:cubicBezTo>
                  <a:pt x="8081" y="12874"/>
                  <a:pt x="8155" y="12891"/>
                  <a:pt x="8210" y="12898"/>
                </a:cubicBezTo>
                <a:cubicBezTo>
                  <a:pt x="8314" y="12911"/>
                  <a:pt x="8441" y="12912"/>
                  <a:pt x="8533" y="12923"/>
                </a:cubicBezTo>
                <a:cubicBezTo>
                  <a:pt x="8610" y="12932"/>
                  <a:pt x="8683" y="12924"/>
                  <a:pt x="8756" y="12948"/>
                </a:cubicBezTo>
                <a:cubicBezTo>
                  <a:pt x="8819" y="12969"/>
                  <a:pt x="8866" y="12995"/>
                  <a:pt x="8930" y="12998"/>
                </a:cubicBezTo>
                <a:cubicBezTo>
                  <a:pt x="8994" y="13001"/>
                  <a:pt x="9033" y="13022"/>
                  <a:pt x="9103" y="13022"/>
                </a:cubicBezTo>
                <a:cubicBezTo>
                  <a:pt x="9178" y="13022"/>
                  <a:pt x="9233" y="13035"/>
                  <a:pt x="9302" y="13047"/>
                </a:cubicBezTo>
                <a:cubicBezTo>
                  <a:pt x="9388" y="13062"/>
                  <a:pt x="9499" y="13061"/>
                  <a:pt x="9575" y="13072"/>
                </a:cubicBezTo>
                <a:cubicBezTo>
                  <a:pt x="9624" y="13072"/>
                  <a:pt x="9641" y="13072"/>
                  <a:pt x="9674" y="13072"/>
                </a:cubicBezTo>
              </a:path>
              <a:path w="7070" h="1936">
                <a:moveTo>
                  <a:pt x="8359" y="13047"/>
                </a:moveTo>
                <a:cubicBezTo>
                  <a:pt x="8274" y="13047"/>
                  <a:pt x="8239" y="13062"/>
                  <a:pt x="8161" y="13097"/>
                </a:cubicBezTo>
                <a:cubicBezTo>
                  <a:pt x="8110" y="13120"/>
                  <a:pt x="8056" y="13163"/>
                  <a:pt x="8012" y="13196"/>
                </a:cubicBezTo>
                <a:cubicBezTo>
                  <a:pt x="7950" y="13243"/>
                  <a:pt x="7964" y="13266"/>
                  <a:pt x="8012" y="13320"/>
                </a:cubicBezTo>
                <a:cubicBezTo>
                  <a:pt x="8053" y="13366"/>
                  <a:pt x="8113" y="13384"/>
                  <a:pt x="8161" y="13419"/>
                </a:cubicBezTo>
                <a:cubicBezTo>
                  <a:pt x="8205" y="13451"/>
                  <a:pt x="8245" y="13480"/>
                  <a:pt x="8285" y="13519"/>
                </a:cubicBezTo>
                <a:cubicBezTo>
                  <a:pt x="8336" y="13569"/>
                  <a:pt x="8297" y="13619"/>
                  <a:pt x="8260" y="13667"/>
                </a:cubicBezTo>
                <a:cubicBezTo>
                  <a:pt x="8230" y="13706"/>
                  <a:pt x="8134" y="13714"/>
                  <a:pt x="8086" y="13717"/>
                </a:cubicBezTo>
                <a:cubicBezTo>
                  <a:pt x="8013" y="13721"/>
                  <a:pt x="7927" y="13732"/>
                  <a:pt x="7863" y="13692"/>
                </a:cubicBezTo>
                <a:cubicBezTo>
                  <a:pt x="7855" y="13684"/>
                  <a:pt x="7846" y="13675"/>
                  <a:pt x="7838" y="13667"/>
                </a:cubicBezTo>
              </a:path>
              <a:path w="7070" h="1936">
                <a:moveTo>
                  <a:pt x="8582" y="13519"/>
                </a:moveTo>
                <a:cubicBezTo>
                  <a:pt x="8582" y="13586"/>
                  <a:pt x="8591" y="13632"/>
                  <a:pt x="8607" y="13692"/>
                </a:cubicBezTo>
                <a:cubicBezTo>
                  <a:pt x="8626" y="13762"/>
                  <a:pt x="8638" y="13821"/>
                  <a:pt x="8657" y="13891"/>
                </a:cubicBezTo>
              </a:path>
              <a:path w="7070" h="1936">
                <a:moveTo>
                  <a:pt x="8706" y="13990"/>
                </a:moveTo>
                <a:cubicBezTo>
                  <a:pt x="8706" y="13906"/>
                  <a:pt x="8738" y="13903"/>
                  <a:pt x="8756" y="13841"/>
                </a:cubicBezTo>
                <a:cubicBezTo>
                  <a:pt x="8773" y="13782"/>
                  <a:pt x="8790" y="13747"/>
                  <a:pt x="8830" y="13692"/>
                </a:cubicBezTo>
                <a:cubicBezTo>
                  <a:pt x="8868" y="13640"/>
                  <a:pt x="8903" y="13627"/>
                  <a:pt x="8954" y="13667"/>
                </a:cubicBezTo>
                <a:cubicBezTo>
                  <a:pt x="9000" y="13704"/>
                  <a:pt x="9020" y="13760"/>
                  <a:pt x="9029" y="13816"/>
                </a:cubicBezTo>
                <a:cubicBezTo>
                  <a:pt x="9041" y="13887"/>
                  <a:pt x="9015" y="13959"/>
                  <a:pt x="9004" y="14015"/>
                </a:cubicBezTo>
                <a:cubicBezTo>
                  <a:pt x="9004" y="14056"/>
                  <a:pt x="9004" y="14064"/>
                  <a:pt x="9004" y="14089"/>
                </a:cubicBezTo>
              </a:path>
              <a:path w="7070" h="1936">
                <a:moveTo>
                  <a:pt x="9302" y="13395"/>
                </a:moveTo>
                <a:cubicBezTo>
                  <a:pt x="9381" y="13395"/>
                  <a:pt x="9430" y="13401"/>
                  <a:pt x="9500" y="13444"/>
                </a:cubicBezTo>
                <a:cubicBezTo>
                  <a:pt x="9571" y="13487"/>
                  <a:pt x="9646" y="13549"/>
                  <a:pt x="9550" y="13618"/>
                </a:cubicBezTo>
                <a:cubicBezTo>
                  <a:pt x="9504" y="13651"/>
                  <a:pt x="9395" y="13652"/>
                  <a:pt x="9376" y="13717"/>
                </a:cubicBezTo>
                <a:cubicBezTo>
                  <a:pt x="9358" y="13779"/>
                  <a:pt x="9436" y="13802"/>
                  <a:pt x="9475" y="13841"/>
                </a:cubicBezTo>
                <a:cubicBezTo>
                  <a:pt x="9516" y="13882"/>
                  <a:pt x="9549" y="13955"/>
                  <a:pt x="9525" y="14015"/>
                </a:cubicBezTo>
                <a:cubicBezTo>
                  <a:pt x="9497" y="14087"/>
                  <a:pt x="9445" y="14115"/>
                  <a:pt x="9376" y="14139"/>
                </a:cubicBezTo>
                <a:cubicBezTo>
                  <a:pt x="9317" y="14160"/>
                  <a:pt x="9286" y="14163"/>
                  <a:pt x="9227" y="14163"/>
                </a:cubicBezTo>
              </a:path>
              <a:path w="7070" h="1936">
                <a:moveTo>
                  <a:pt x="9922" y="13841"/>
                </a:moveTo>
                <a:cubicBezTo>
                  <a:pt x="9893" y="13892"/>
                  <a:pt x="9864" y="13923"/>
                  <a:pt x="9823" y="13965"/>
                </a:cubicBezTo>
                <a:cubicBezTo>
                  <a:pt x="9789" y="14000"/>
                  <a:pt x="9719" y="14080"/>
                  <a:pt x="9699" y="14114"/>
                </a:cubicBezTo>
                <a:cubicBezTo>
                  <a:pt x="9671" y="14161"/>
                  <a:pt x="9649" y="14273"/>
                  <a:pt x="9699" y="14312"/>
                </a:cubicBezTo>
                <a:cubicBezTo>
                  <a:pt x="9767" y="14364"/>
                  <a:pt x="9875" y="14338"/>
                  <a:pt x="9947" y="14312"/>
                </a:cubicBezTo>
                <a:cubicBezTo>
                  <a:pt x="10008" y="14290"/>
                  <a:pt x="10035" y="14242"/>
                  <a:pt x="10046" y="14188"/>
                </a:cubicBezTo>
                <a:cubicBezTo>
                  <a:pt x="10062" y="14111"/>
                  <a:pt x="10029" y="14077"/>
                  <a:pt x="9996" y="14015"/>
                </a:cubicBezTo>
                <a:cubicBezTo>
                  <a:pt x="9974" y="13974"/>
                  <a:pt x="9918" y="13911"/>
                  <a:pt x="9872" y="13891"/>
                </a:cubicBezTo>
                <a:cubicBezTo>
                  <a:pt x="9864" y="13891"/>
                  <a:pt x="9855" y="13891"/>
                  <a:pt x="9847" y="13891"/>
                </a:cubicBezTo>
              </a:path>
              <a:path w="7070" h="1936">
                <a:moveTo>
                  <a:pt x="2977" y="12402"/>
                </a:moveTo>
                <a:cubicBezTo>
                  <a:pt x="3039" y="12423"/>
                  <a:pt x="3107" y="12445"/>
                  <a:pt x="3175" y="12452"/>
                </a:cubicBezTo>
                <a:cubicBezTo>
                  <a:pt x="3268" y="12462"/>
                  <a:pt x="3355" y="12493"/>
                  <a:pt x="3448" y="12502"/>
                </a:cubicBezTo>
                <a:cubicBezTo>
                  <a:pt x="3531" y="12510"/>
                  <a:pt x="3616" y="12508"/>
                  <a:pt x="3696" y="12526"/>
                </a:cubicBezTo>
                <a:cubicBezTo>
                  <a:pt x="3764" y="12541"/>
                  <a:pt x="3818" y="12549"/>
                  <a:pt x="3894" y="12551"/>
                </a:cubicBezTo>
                <a:cubicBezTo>
                  <a:pt x="3971" y="12553"/>
                  <a:pt x="4049" y="12571"/>
                  <a:pt x="4118" y="12576"/>
                </a:cubicBezTo>
                <a:cubicBezTo>
                  <a:pt x="4217" y="12583"/>
                  <a:pt x="4320" y="12595"/>
                  <a:pt x="4415" y="12601"/>
                </a:cubicBezTo>
                <a:cubicBezTo>
                  <a:pt x="4526" y="12608"/>
                  <a:pt x="4631" y="12614"/>
                  <a:pt x="4738" y="12626"/>
                </a:cubicBezTo>
                <a:cubicBezTo>
                  <a:pt x="4867" y="12641"/>
                  <a:pt x="5010" y="12639"/>
                  <a:pt x="5135" y="12650"/>
                </a:cubicBezTo>
                <a:cubicBezTo>
                  <a:pt x="5256" y="12661"/>
                  <a:pt x="5361" y="12647"/>
                  <a:pt x="5482" y="12675"/>
                </a:cubicBezTo>
                <a:cubicBezTo>
                  <a:pt x="5547" y="12690"/>
                  <a:pt x="5615" y="12709"/>
                  <a:pt x="5680" y="12725"/>
                </a:cubicBezTo>
                <a:cubicBezTo>
                  <a:pt x="5739" y="12740"/>
                  <a:pt x="5819" y="12767"/>
                  <a:pt x="5879" y="12774"/>
                </a:cubicBezTo>
                <a:cubicBezTo>
                  <a:pt x="5957" y="12782"/>
                  <a:pt x="6026" y="12785"/>
                  <a:pt x="6102" y="12799"/>
                </a:cubicBezTo>
                <a:cubicBezTo>
                  <a:pt x="6216" y="12820"/>
                  <a:pt x="6337" y="12825"/>
                  <a:pt x="6449" y="12849"/>
                </a:cubicBezTo>
                <a:cubicBezTo>
                  <a:pt x="6523" y="12865"/>
                  <a:pt x="6574" y="12869"/>
                  <a:pt x="664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Ink 11"/>
          <p:cNvSpPr/>
          <p:nvPr/>
        </p:nvSpPr>
        <p:spPr>
          <a:xfrm>
            <a:off x="1116000" y="4653000"/>
            <a:ext cx="866880" cy="384120"/>
          </a:xfrm>
          <a:custGeom>
            <a:avLst/>
            <a:gdLst/>
            <a:ahLst/>
            <a:rect l="l" t="t" r="r" b="b"/>
            <a:pathLst>
              <a:path w="2407" h="1068">
                <a:moveTo>
                  <a:pt x="3721" y="12948"/>
                </a:moveTo>
                <a:cubicBezTo>
                  <a:pt x="3639" y="12926"/>
                  <a:pt x="3554" y="12917"/>
                  <a:pt x="3473" y="12948"/>
                </a:cubicBezTo>
                <a:cubicBezTo>
                  <a:pt x="3425" y="12966"/>
                  <a:pt x="3390" y="12981"/>
                  <a:pt x="3349" y="13022"/>
                </a:cubicBezTo>
                <a:cubicBezTo>
                  <a:pt x="3289" y="13082"/>
                  <a:pt x="3342" y="13097"/>
                  <a:pt x="3373" y="13146"/>
                </a:cubicBezTo>
                <a:cubicBezTo>
                  <a:pt x="3409" y="13202"/>
                  <a:pt x="3451" y="13244"/>
                  <a:pt x="3497" y="13295"/>
                </a:cubicBezTo>
                <a:cubicBezTo>
                  <a:pt x="3527" y="13328"/>
                  <a:pt x="3579" y="13424"/>
                  <a:pt x="3572" y="13469"/>
                </a:cubicBezTo>
                <a:cubicBezTo>
                  <a:pt x="3559" y="13552"/>
                  <a:pt x="3517" y="13545"/>
                  <a:pt x="3448" y="13568"/>
                </a:cubicBezTo>
                <a:cubicBezTo>
                  <a:pt x="3389" y="13588"/>
                  <a:pt x="3315" y="13611"/>
                  <a:pt x="3249" y="13593"/>
                </a:cubicBezTo>
                <a:cubicBezTo>
                  <a:pt x="3195" y="13578"/>
                  <a:pt x="3150" y="13556"/>
                  <a:pt x="3101" y="13543"/>
                </a:cubicBezTo>
              </a:path>
              <a:path w="2407" h="1068">
                <a:moveTo>
                  <a:pt x="3845" y="13395"/>
                </a:moveTo>
                <a:cubicBezTo>
                  <a:pt x="3820" y="13444"/>
                  <a:pt x="3783" y="13530"/>
                  <a:pt x="3770" y="13593"/>
                </a:cubicBezTo>
                <a:cubicBezTo>
                  <a:pt x="3758" y="13652"/>
                  <a:pt x="3703" y="13783"/>
                  <a:pt x="3721" y="13841"/>
                </a:cubicBezTo>
                <a:cubicBezTo>
                  <a:pt x="3729" y="13849"/>
                  <a:pt x="3738" y="13858"/>
                  <a:pt x="3746" y="13866"/>
                </a:cubicBezTo>
              </a:path>
              <a:path w="2407" h="1068">
                <a:moveTo>
                  <a:pt x="3894" y="13742"/>
                </a:moveTo>
                <a:cubicBezTo>
                  <a:pt x="3918" y="13669"/>
                  <a:pt x="3914" y="13623"/>
                  <a:pt x="3969" y="13568"/>
                </a:cubicBezTo>
                <a:cubicBezTo>
                  <a:pt x="3995" y="13542"/>
                  <a:pt x="4065" y="13471"/>
                  <a:pt x="4093" y="13543"/>
                </a:cubicBezTo>
                <a:cubicBezTo>
                  <a:pt x="4135" y="13652"/>
                  <a:pt x="4093" y="13870"/>
                  <a:pt x="4093" y="13990"/>
                </a:cubicBezTo>
              </a:path>
              <a:path w="2407" h="1068">
                <a:moveTo>
                  <a:pt x="4589" y="13022"/>
                </a:moveTo>
                <a:cubicBezTo>
                  <a:pt x="4651" y="13046"/>
                  <a:pt x="4760" y="13042"/>
                  <a:pt x="4812" y="13072"/>
                </a:cubicBezTo>
                <a:cubicBezTo>
                  <a:pt x="4851" y="13095"/>
                  <a:pt x="4899" y="13141"/>
                  <a:pt x="4936" y="13171"/>
                </a:cubicBezTo>
                <a:cubicBezTo>
                  <a:pt x="4875" y="13233"/>
                  <a:pt x="4813" y="13232"/>
                  <a:pt x="4738" y="13271"/>
                </a:cubicBezTo>
                <a:cubicBezTo>
                  <a:pt x="4708" y="13300"/>
                  <a:pt x="4693" y="13311"/>
                  <a:pt x="4663" y="13320"/>
                </a:cubicBezTo>
                <a:cubicBezTo>
                  <a:pt x="4724" y="13361"/>
                  <a:pt x="4852" y="13369"/>
                  <a:pt x="4887" y="13444"/>
                </a:cubicBezTo>
                <a:cubicBezTo>
                  <a:pt x="4894" y="13460"/>
                  <a:pt x="4988" y="13599"/>
                  <a:pt x="4986" y="13618"/>
                </a:cubicBezTo>
                <a:cubicBezTo>
                  <a:pt x="4983" y="13651"/>
                  <a:pt x="4913" y="13716"/>
                  <a:pt x="4887" y="13742"/>
                </a:cubicBezTo>
                <a:cubicBezTo>
                  <a:pt x="4850" y="13779"/>
                  <a:pt x="4715" y="13828"/>
                  <a:pt x="4663" y="13841"/>
                </a:cubicBezTo>
                <a:cubicBezTo>
                  <a:pt x="4634" y="13848"/>
                  <a:pt x="4569" y="13841"/>
                  <a:pt x="4539" y="13841"/>
                </a:cubicBezTo>
              </a:path>
              <a:path w="2407" h="1068">
                <a:moveTo>
                  <a:pt x="5308" y="13345"/>
                </a:moveTo>
                <a:cubicBezTo>
                  <a:pt x="5242" y="13378"/>
                  <a:pt x="5170" y="13383"/>
                  <a:pt x="5110" y="13419"/>
                </a:cubicBezTo>
                <a:cubicBezTo>
                  <a:pt x="5036" y="13464"/>
                  <a:pt x="4952" y="13565"/>
                  <a:pt x="4911" y="13643"/>
                </a:cubicBezTo>
                <a:cubicBezTo>
                  <a:pt x="4878" y="13707"/>
                  <a:pt x="4881" y="13748"/>
                  <a:pt x="4887" y="13791"/>
                </a:cubicBezTo>
                <a:cubicBezTo>
                  <a:pt x="4900" y="13881"/>
                  <a:pt x="4909" y="13920"/>
                  <a:pt x="5011" y="13940"/>
                </a:cubicBezTo>
                <a:cubicBezTo>
                  <a:pt x="5125" y="13963"/>
                  <a:pt x="5252" y="13933"/>
                  <a:pt x="5358" y="13915"/>
                </a:cubicBezTo>
                <a:cubicBezTo>
                  <a:pt x="5426" y="13903"/>
                  <a:pt x="5484" y="13871"/>
                  <a:pt x="5507" y="13791"/>
                </a:cubicBezTo>
                <a:cubicBezTo>
                  <a:pt x="5524" y="13730"/>
                  <a:pt x="5467" y="13666"/>
                  <a:pt x="5457" y="13618"/>
                </a:cubicBezTo>
                <a:cubicBezTo>
                  <a:pt x="5441" y="13540"/>
                  <a:pt x="5416" y="13484"/>
                  <a:pt x="5358" y="13419"/>
                </a:cubicBezTo>
                <a:cubicBezTo>
                  <a:pt x="5292" y="13346"/>
                  <a:pt x="5279" y="13360"/>
                  <a:pt x="5234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Ink 12"/>
          <p:cNvSpPr/>
          <p:nvPr/>
        </p:nvSpPr>
        <p:spPr>
          <a:xfrm>
            <a:off x="6286680" y="1884240"/>
            <a:ext cx="366480" cy="24156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7537" y="5333"/>
                </a:moveTo>
                <a:cubicBezTo>
                  <a:pt x="17512" y="5316"/>
                  <a:pt x="17487" y="5300"/>
                  <a:pt x="17462" y="5283"/>
                </a:cubicBezTo>
                <a:cubicBezTo>
                  <a:pt x="17520" y="5250"/>
                  <a:pt x="17565" y="5237"/>
                  <a:pt x="17636" y="5234"/>
                </a:cubicBezTo>
                <a:cubicBezTo>
                  <a:pt x="17705" y="5231"/>
                  <a:pt x="17733" y="5228"/>
                  <a:pt x="17785" y="5259"/>
                </a:cubicBezTo>
                <a:cubicBezTo>
                  <a:pt x="17735" y="5307"/>
                  <a:pt x="17691" y="5343"/>
                  <a:pt x="17636" y="5383"/>
                </a:cubicBezTo>
                <a:cubicBezTo>
                  <a:pt x="17606" y="5412"/>
                  <a:pt x="17592" y="5423"/>
                  <a:pt x="17562" y="5432"/>
                </a:cubicBezTo>
                <a:cubicBezTo>
                  <a:pt x="17621" y="5479"/>
                  <a:pt x="17675" y="5478"/>
                  <a:pt x="17735" y="5507"/>
                </a:cubicBezTo>
                <a:cubicBezTo>
                  <a:pt x="17792" y="5535"/>
                  <a:pt x="17883" y="5530"/>
                  <a:pt x="17909" y="5606"/>
                </a:cubicBezTo>
                <a:cubicBezTo>
                  <a:pt x="17924" y="5650"/>
                  <a:pt x="17860" y="5722"/>
                  <a:pt x="17835" y="5755"/>
                </a:cubicBezTo>
                <a:cubicBezTo>
                  <a:pt x="17794" y="5809"/>
                  <a:pt x="17737" y="5811"/>
                  <a:pt x="17686" y="5829"/>
                </a:cubicBezTo>
                <a:cubicBezTo>
                  <a:pt x="17611" y="5856"/>
                  <a:pt x="17579" y="5906"/>
                  <a:pt x="17512" y="5879"/>
                </a:cubicBezTo>
              </a:path>
              <a:path w="1018" h="671">
                <a:moveTo>
                  <a:pt x="18281" y="5383"/>
                </a:moveTo>
                <a:cubicBezTo>
                  <a:pt x="18202" y="5421"/>
                  <a:pt x="18160" y="5443"/>
                  <a:pt x="18107" y="5507"/>
                </a:cubicBezTo>
                <a:cubicBezTo>
                  <a:pt x="18061" y="5563"/>
                  <a:pt x="17956" y="5620"/>
                  <a:pt x="17959" y="5705"/>
                </a:cubicBezTo>
                <a:cubicBezTo>
                  <a:pt x="17963" y="5815"/>
                  <a:pt x="18027" y="5804"/>
                  <a:pt x="18107" y="5804"/>
                </a:cubicBezTo>
                <a:cubicBezTo>
                  <a:pt x="18174" y="5804"/>
                  <a:pt x="18250" y="5769"/>
                  <a:pt x="18306" y="5730"/>
                </a:cubicBezTo>
                <a:cubicBezTo>
                  <a:pt x="18357" y="5695"/>
                  <a:pt x="18409" y="5648"/>
                  <a:pt x="18455" y="5606"/>
                </a:cubicBezTo>
                <a:cubicBezTo>
                  <a:pt x="18487" y="5576"/>
                  <a:pt x="18495" y="5475"/>
                  <a:pt x="18479" y="5432"/>
                </a:cubicBezTo>
                <a:cubicBezTo>
                  <a:pt x="18466" y="5396"/>
                  <a:pt x="18355" y="5392"/>
                  <a:pt x="18331" y="5407"/>
                </a:cubicBezTo>
                <a:cubicBezTo>
                  <a:pt x="18331" y="5415"/>
                  <a:pt x="18331" y="5424"/>
                  <a:pt x="18331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Ink 13"/>
          <p:cNvSpPr/>
          <p:nvPr/>
        </p:nvSpPr>
        <p:spPr>
          <a:xfrm>
            <a:off x="6224760" y="2428920"/>
            <a:ext cx="293400" cy="23328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17388" y="6796"/>
                </a:moveTo>
                <a:cubicBezTo>
                  <a:pt x="17364" y="6861"/>
                  <a:pt x="17357" y="6913"/>
                  <a:pt x="17314" y="6970"/>
                </a:cubicBezTo>
                <a:cubicBezTo>
                  <a:pt x="17286" y="6998"/>
                  <a:pt x="17277" y="7012"/>
                  <a:pt x="17289" y="7045"/>
                </a:cubicBezTo>
                <a:cubicBezTo>
                  <a:pt x="17362" y="7045"/>
                  <a:pt x="17444" y="7039"/>
                  <a:pt x="17512" y="7020"/>
                </a:cubicBezTo>
                <a:cubicBezTo>
                  <a:pt x="17553" y="7000"/>
                  <a:pt x="17569" y="7002"/>
                  <a:pt x="17562" y="6970"/>
                </a:cubicBezTo>
              </a:path>
              <a:path w="819" h="646">
                <a:moveTo>
                  <a:pt x="17611" y="6747"/>
                </a:moveTo>
                <a:cubicBezTo>
                  <a:pt x="17581" y="6838"/>
                  <a:pt x="17554" y="6947"/>
                  <a:pt x="17537" y="7045"/>
                </a:cubicBezTo>
                <a:cubicBezTo>
                  <a:pt x="17525" y="7115"/>
                  <a:pt x="17529" y="7213"/>
                  <a:pt x="17562" y="7268"/>
                </a:cubicBezTo>
              </a:path>
              <a:path w="819" h="646">
                <a:moveTo>
                  <a:pt x="18107" y="6772"/>
                </a:moveTo>
                <a:cubicBezTo>
                  <a:pt x="17989" y="6778"/>
                  <a:pt x="17903" y="6769"/>
                  <a:pt x="17810" y="6846"/>
                </a:cubicBezTo>
                <a:cubicBezTo>
                  <a:pt x="17802" y="6854"/>
                  <a:pt x="17793" y="6863"/>
                  <a:pt x="17785" y="6871"/>
                </a:cubicBezTo>
                <a:cubicBezTo>
                  <a:pt x="17845" y="6931"/>
                  <a:pt x="17809" y="6949"/>
                  <a:pt x="17835" y="7020"/>
                </a:cubicBezTo>
                <a:cubicBezTo>
                  <a:pt x="17858" y="7082"/>
                  <a:pt x="17897" y="7115"/>
                  <a:pt x="17959" y="7119"/>
                </a:cubicBezTo>
                <a:cubicBezTo>
                  <a:pt x="18006" y="7122"/>
                  <a:pt x="18088" y="7103"/>
                  <a:pt x="18107" y="7169"/>
                </a:cubicBezTo>
                <a:cubicBezTo>
                  <a:pt x="18130" y="7251"/>
                  <a:pt x="18098" y="7283"/>
                  <a:pt x="18033" y="7317"/>
                </a:cubicBezTo>
                <a:cubicBezTo>
                  <a:pt x="17978" y="7346"/>
                  <a:pt x="17900" y="7407"/>
                  <a:pt x="17835" y="7392"/>
                </a:cubicBezTo>
                <a:cubicBezTo>
                  <a:pt x="17791" y="7370"/>
                  <a:pt x="17779" y="7367"/>
                  <a:pt x="17760" y="73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Ink 14"/>
          <p:cNvSpPr/>
          <p:nvPr/>
        </p:nvSpPr>
        <p:spPr>
          <a:xfrm>
            <a:off x="6188040" y="3027240"/>
            <a:ext cx="349200" cy="30348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7214" y="8409"/>
                </a:moveTo>
                <a:cubicBezTo>
                  <a:pt x="17214" y="8497"/>
                  <a:pt x="17199" y="8572"/>
                  <a:pt x="17190" y="8657"/>
                </a:cubicBezTo>
                <a:cubicBezTo>
                  <a:pt x="17176" y="8787"/>
                  <a:pt x="17164" y="8958"/>
                  <a:pt x="17214" y="9079"/>
                </a:cubicBezTo>
              </a:path>
              <a:path w="968" h="844">
                <a:moveTo>
                  <a:pt x="17711" y="8558"/>
                </a:moveTo>
                <a:cubicBezTo>
                  <a:pt x="17652" y="8565"/>
                  <a:pt x="17585" y="8588"/>
                  <a:pt x="17562" y="8632"/>
                </a:cubicBezTo>
                <a:cubicBezTo>
                  <a:pt x="17534" y="8685"/>
                  <a:pt x="17430" y="8762"/>
                  <a:pt x="17413" y="8806"/>
                </a:cubicBezTo>
                <a:cubicBezTo>
                  <a:pt x="17403" y="8833"/>
                  <a:pt x="17366" y="8978"/>
                  <a:pt x="17413" y="9004"/>
                </a:cubicBezTo>
                <a:cubicBezTo>
                  <a:pt x="17494" y="9048"/>
                  <a:pt x="17533" y="8957"/>
                  <a:pt x="17587" y="8930"/>
                </a:cubicBezTo>
                <a:cubicBezTo>
                  <a:pt x="17630" y="8909"/>
                  <a:pt x="17651" y="8849"/>
                  <a:pt x="17686" y="8806"/>
                </a:cubicBezTo>
                <a:cubicBezTo>
                  <a:pt x="17736" y="8746"/>
                  <a:pt x="17735" y="8710"/>
                  <a:pt x="17735" y="8632"/>
                </a:cubicBezTo>
                <a:cubicBezTo>
                  <a:pt x="17735" y="8523"/>
                  <a:pt x="17694" y="8516"/>
                  <a:pt x="17611" y="8558"/>
                </a:cubicBezTo>
              </a:path>
              <a:path w="968" h="844">
                <a:moveTo>
                  <a:pt x="18157" y="8582"/>
                </a:moveTo>
                <a:cubicBezTo>
                  <a:pt x="18117" y="8559"/>
                  <a:pt x="18035" y="8538"/>
                  <a:pt x="17983" y="8558"/>
                </a:cubicBezTo>
                <a:cubicBezTo>
                  <a:pt x="17965" y="8565"/>
                  <a:pt x="17897" y="8639"/>
                  <a:pt x="17884" y="8657"/>
                </a:cubicBezTo>
                <a:cubicBezTo>
                  <a:pt x="17839" y="8721"/>
                  <a:pt x="17903" y="8754"/>
                  <a:pt x="17959" y="8781"/>
                </a:cubicBezTo>
                <a:cubicBezTo>
                  <a:pt x="18024" y="8812"/>
                  <a:pt x="18060" y="8818"/>
                  <a:pt x="18107" y="8855"/>
                </a:cubicBezTo>
                <a:cubicBezTo>
                  <a:pt x="18166" y="8901"/>
                  <a:pt x="18177" y="9012"/>
                  <a:pt x="18157" y="9079"/>
                </a:cubicBezTo>
                <a:cubicBezTo>
                  <a:pt x="18136" y="9148"/>
                  <a:pt x="18081" y="9142"/>
                  <a:pt x="18033" y="9178"/>
                </a:cubicBezTo>
                <a:cubicBezTo>
                  <a:pt x="17973" y="9224"/>
                  <a:pt x="17960" y="9247"/>
                  <a:pt x="17884" y="9252"/>
                </a:cubicBezTo>
                <a:cubicBezTo>
                  <a:pt x="17833" y="9252"/>
                  <a:pt x="17814" y="9251"/>
                  <a:pt x="17785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Ink 15"/>
          <p:cNvSpPr/>
          <p:nvPr/>
        </p:nvSpPr>
        <p:spPr>
          <a:xfrm>
            <a:off x="5697360" y="1830240"/>
            <a:ext cx="45576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15825" y="5978"/>
                </a:moveTo>
                <a:cubicBezTo>
                  <a:pt x="15834" y="5902"/>
                  <a:pt x="15865" y="5848"/>
                  <a:pt x="15900" y="5779"/>
                </a:cubicBezTo>
                <a:cubicBezTo>
                  <a:pt x="15936" y="5709"/>
                  <a:pt x="15999" y="5672"/>
                  <a:pt x="16024" y="5606"/>
                </a:cubicBezTo>
                <a:cubicBezTo>
                  <a:pt x="16068" y="5488"/>
                  <a:pt x="16103" y="5436"/>
                  <a:pt x="16173" y="5333"/>
                </a:cubicBezTo>
                <a:cubicBezTo>
                  <a:pt x="16206" y="5284"/>
                  <a:pt x="16236" y="5232"/>
                  <a:pt x="16272" y="5184"/>
                </a:cubicBezTo>
                <a:cubicBezTo>
                  <a:pt x="16305" y="5139"/>
                  <a:pt x="16349" y="5112"/>
                  <a:pt x="16396" y="5085"/>
                </a:cubicBezTo>
                <a:cubicBezTo>
                  <a:pt x="16430" y="5142"/>
                  <a:pt x="16434" y="5236"/>
                  <a:pt x="16421" y="5308"/>
                </a:cubicBezTo>
                <a:cubicBezTo>
                  <a:pt x="16404" y="5400"/>
                  <a:pt x="16364" y="5491"/>
                  <a:pt x="16346" y="5581"/>
                </a:cubicBezTo>
                <a:cubicBezTo>
                  <a:pt x="16330" y="5661"/>
                  <a:pt x="16298" y="5743"/>
                  <a:pt x="16272" y="5829"/>
                </a:cubicBezTo>
                <a:cubicBezTo>
                  <a:pt x="16251" y="5899"/>
                  <a:pt x="16238" y="5965"/>
                  <a:pt x="16222" y="6028"/>
                </a:cubicBezTo>
              </a:path>
              <a:path w="1266" h="944">
                <a:moveTo>
                  <a:pt x="16272" y="5755"/>
                </a:moveTo>
                <a:cubicBezTo>
                  <a:pt x="16189" y="5713"/>
                  <a:pt x="16100" y="5678"/>
                  <a:pt x="15999" y="5705"/>
                </a:cubicBezTo>
                <a:cubicBezTo>
                  <a:pt x="15959" y="5725"/>
                  <a:pt x="15952" y="5734"/>
                  <a:pt x="15925" y="5730"/>
                </a:cubicBezTo>
              </a:path>
              <a:path w="1266" h="944">
                <a:moveTo>
                  <a:pt x="16594" y="5581"/>
                </a:moveTo>
                <a:cubicBezTo>
                  <a:pt x="16753" y="5581"/>
                  <a:pt x="16941" y="5556"/>
                  <a:pt x="17090" y="5606"/>
                </a:cubicBezTo>
              </a:path>
              <a:path w="1266" h="944">
                <a:moveTo>
                  <a:pt x="16619" y="5730"/>
                </a:moveTo>
                <a:cubicBezTo>
                  <a:pt x="16713" y="5730"/>
                  <a:pt x="16781" y="5751"/>
                  <a:pt x="16867" y="5755"/>
                </a:cubicBezTo>
                <a:cubicBezTo>
                  <a:pt x="16929" y="5758"/>
                  <a:pt x="16964" y="5766"/>
                  <a:pt x="17016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Ink 16"/>
          <p:cNvSpPr/>
          <p:nvPr/>
        </p:nvSpPr>
        <p:spPr>
          <a:xfrm>
            <a:off x="5653080" y="2357280"/>
            <a:ext cx="446040" cy="295560"/>
          </a:xfrm>
          <a:custGeom>
            <a:avLst/>
            <a:gdLst/>
            <a:ahLst/>
            <a:rect l="l" t="t" r="r" b="b"/>
            <a:pathLst>
              <a:path w="1242" h="820">
                <a:moveTo>
                  <a:pt x="15776" y="6548"/>
                </a:moveTo>
                <a:cubicBezTo>
                  <a:pt x="15776" y="6625"/>
                  <a:pt x="15754" y="6678"/>
                  <a:pt x="15751" y="6747"/>
                </a:cubicBezTo>
                <a:cubicBezTo>
                  <a:pt x="15747" y="6861"/>
                  <a:pt x="15739" y="6957"/>
                  <a:pt x="15726" y="7069"/>
                </a:cubicBezTo>
                <a:cubicBezTo>
                  <a:pt x="15717" y="7141"/>
                  <a:pt x="15711" y="7176"/>
                  <a:pt x="15726" y="7243"/>
                </a:cubicBezTo>
              </a:path>
              <a:path w="1242" h="820">
                <a:moveTo>
                  <a:pt x="15726" y="6722"/>
                </a:moveTo>
                <a:cubicBezTo>
                  <a:pt x="15741" y="6671"/>
                  <a:pt x="15785" y="6615"/>
                  <a:pt x="15850" y="6598"/>
                </a:cubicBezTo>
                <a:cubicBezTo>
                  <a:pt x="15922" y="6579"/>
                  <a:pt x="16034" y="6594"/>
                  <a:pt x="16098" y="6623"/>
                </a:cubicBezTo>
                <a:cubicBezTo>
                  <a:pt x="16142" y="6645"/>
                  <a:pt x="16153" y="6648"/>
                  <a:pt x="16173" y="6672"/>
                </a:cubicBezTo>
                <a:cubicBezTo>
                  <a:pt x="16132" y="6713"/>
                  <a:pt x="16101" y="6745"/>
                  <a:pt x="16049" y="6772"/>
                </a:cubicBezTo>
                <a:cubicBezTo>
                  <a:pt x="15997" y="6799"/>
                  <a:pt x="15917" y="6790"/>
                  <a:pt x="15900" y="6846"/>
                </a:cubicBezTo>
                <a:cubicBezTo>
                  <a:pt x="15908" y="6854"/>
                  <a:pt x="15917" y="6863"/>
                  <a:pt x="15925" y="6871"/>
                </a:cubicBezTo>
                <a:cubicBezTo>
                  <a:pt x="15993" y="6906"/>
                  <a:pt x="16050" y="6900"/>
                  <a:pt x="16123" y="6921"/>
                </a:cubicBezTo>
                <a:cubicBezTo>
                  <a:pt x="16187" y="6940"/>
                  <a:pt x="16280" y="6997"/>
                  <a:pt x="16297" y="7069"/>
                </a:cubicBezTo>
                <a:cubicBezTo>
                  <a:pt x="16308" y="7115"/>
                  <a:pt x="16260" y="7191"/>
                  <a:pt x="16222" y="7218"/>
                </a:cubicBezTo>
                <a:cubicBezTo>
                  <a:pt x="16160" y="7263"/>
                  <a:pt x="16085" y="7266"/>
                  <a:pt x="16024" y="7293"/>
                </a:cubicBezTo>
                <a:cubicBezTo>
                  <a:pt x="15955" y="7324"/>
                  <a:pt x="15902" y="7357"/>
                  <a:pt x="15825" y="7367"/>
                </a:cubicBezTo>
              </a:path>
              <a:path w="1242" h="820">
                <a:moveTo>
                  <a:pt x="16619" y="6921"/>
                </a:moveTo>
                <a:cubicBezTo>
                  <a:pt x="16710" y="6921"/>
                  <a:pt x="16801" y="6921"/>
                  <a:pt x="16892" y="6921"/>
                </a:cubicBezTo>
              </a:path>
              <a:path w="1242" h="820">
                <a:moveTo>
                  <a:pt x="16619" y="7020"/>
                </a:moveTo>
                <a:cubicBezTo>
                  <a:pt x="16717" y="7093"/>
                  <a:pt x="16744" y="7048"/>
                  <a:pt x="16867" y="7069"/>
                </a:cubicBezTo>
                <a:cubicBezTo>
                  <a:pt x="16892" y="7077"/>
                  <a:pt x="16917" y="7086"/>
                  <a:pt x="16942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Ink 17"/>
          <p:cNvSpPr/>
          <p:nvPr/>
        </p:nvSpPr>
        <p:spPr>
          <a:xfrm>
            <a:off x="5491080" y="2874960"/>
            <a:ext cx="554040" cy="322200"/>
          </a:xfrm>
          <a:custGeom>
            <a:avLst/>
            <a:gdLst/>
            <a:ahLst/>
            <a:rect l="l" t="t" r="r" b="b"/>
            <a:pathLst>
              <a:path w="1539" h="894">
                <a:moveTo>
                  <a:pt x="16049" y="8037"/>
                </a:moveTo>
                <a:cubicBezTo>
                  <a:pt x="15973" y="7980"/>
                  <a:pt x="15947" y="7987"/>
                  <a:pt x="15850" y="7987"/>
                </a:cubicBezTo>
                <a:cubicBezTo>
                  <a:pt x="15767" y="7987"/>
                  <a:pt x="15590" y="8044"/>
                  <a:pt x="15528" y="8086"/>
                </a:cubicBezTo>
                <a:cubicBezTo>
                  <a:pt x="15499" y="8106"/>
                  <a:pt x="15437" y="8183"/>
                  <a:pt x="15404" y="8210"/>
                </a:cubicBezTo>
                <a:cubicBezTo>
                  <a:pt x="15360" y="8246"/>
                  <a:pt x="15303" y="8308"/>
                  <a:pt x="15280" y="8359"/>
                </a:cubicBezTo>
                <a:cubicBezTo>
                  <a:pt x="15252" y="8421"/>
                  <a:pt x="15241" y="8515"/>
                  <a:pt x="15255" y="8582"/>
                </a:cubicBezTo>
                <a:cubicBezTo>
                  <a:pt x="15264" y="8626"/>
                  <a:pt x="15292" y="8702"/>
                  <a:pt x="15329" y="8731"/>
                </a:cubicBezTo>
                <a:cubicBezTo>
                  <a:pt x="15352" y="8749"/>
                  <a:pt x="15498" y="8846"/>
                  <a:pt x="15528" y="8855"/>
                </a:cubicBezTo>
                <a:cubicBezTo>
                  <a:pt x="15590" y="8875"/>
                  <a:pt x="15737" y="8872"/>
                  <a:pt x="15801" y="8880"/>
                </a:cubicBezTo>
                <a:cubicBezTo>
                  <a:pt x="15904" y="8893"/>
                  <a:pt x="16019" y="8880"/>
                  <a:pt x="16123" y="8880"/>
                </a:cubicBezTo>
              </a:path>
              <a:path w="1539" h="894">
                <a:moveTo>
                  <a:pt x="16470" y="8409"/>
                </a:moveTo>
                <a:cubicBezTo>
                  <a:pt x="16563" y="8386"/>
                  <a:pt x="16608" y="8359"/>
                  <a:pt x="16718" y="8359"/>
                </a:cubicBezTo>
                <a:cubicBezTo>
                  <a:pt x="16743" y="8359"/>
                  <a:pt x="16768" y="8359"/>
                  <a:pt x="16793" y="8359"/>
                </a:cubicBezTo>
              </a:path>
              <a:path w="1539" h="894">
                <a:moveTo>
                  <a:pt x="16371" y="8632"/>
                </a:moveTo>
                <a:cubicBezTo>
                  <a:pt x="16452" y="8659"/>
                  <a:pt x="16536" y="8697"/>
                  <a:pt x="16619" y="8706"/>
                </a:cubicBezTo>
                <a:cubicBezTo>
                  <a:pt x="16661" y="8706"/>
                  <a:pt x="16669" y="8706"/>
                  <a:pt x="16694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Ink 18"/>
          <p:cNvSpPr/>
          <p:nvPr/>
        </p:nvSpPr>
        <p:spPr>
          <a:xfrm>
            <a:off x="7456320" y="2081160"/>
            <a:ext cx="312840" cy="142920"/>
          </a:xfrm>
          <a:custGeom>
            <a:avLst/>
            <a:gdLst/>
            <a:ahLst/>
            <a:rect l="l" t="t" r="r" b="b"/>
            <a:pathLst>
              <a:path w="869" h="398">
                <a:moveTo>
                  <a:pt x="20861" y="5854"/>
                </a:moveTo>
                <a:cubicBezTo>
                  <a:pt x="20886" y="5829"/>
                  <a:pt x="20894" y="5821"/>
                  <a:pt x="20910" y="5804"/>
                </a:cubicBezTo>
                <a:cubicBezTo>
                  <a:pt x="20859" y="5773"/>
                  <a:pt x="20824" y="5769"/>
                  <a:pt x="20786" y="5829"/>
                </a:cubicBezTo>
                <a:cubicBezTo>
                  <a:pt x="20757" y="5875"/>
                  <a:pt x="20694" y="5944"/>
                  <a:pt x="20712" y="6003"/>
                </a:cubicBezTo>
                <a:cubicBezTo>
                  <a:pt x="20720" y="6011"/>
                  <a:pt x="20729" y="6020"/>
                  <a:pt x="20737" y="6028"/>
                </a:cubicBezTo>
                <a:cubicBezTo>
                  <a:pt x="20770" y="5995"/>
                  <a:pt x="20802" y="5961"/>
                  <a:pt x="20836" y="5928"/>
                </a:cubicBezTo>
                <a:cubicBezTo>
                  <a:pt x="20866" y="5898"/>
                  <a:pt x="20902" y="5880"/>
                  <a:pt x="20935" y="5854"/>
                </a:cubicBezTo>
                <a:cubicBezTo>
                  <a:pt x="20972" y="5916"/>
                  <a:pt x="20960" y="5942"/>
                  <a:pt x="20935" y="6003"/>
                </a:cubicBezTo>
                <a:cubicBezTo>
                  <a:pt x="20909" y="6068"/>
                  <a:pt x="20910" y="6109"/>
                  <a:pt x="20910" y="6176"/>
                </a:cubicBezTo>
              </a:path>
              <a:path w="869" h="398">
                <a:moveTo>
                  <a:pt x="21282" y="5829"/>
                </a:moveTo>
                <a:cubicBezTo>
                  <a:pt x="21354" y="5819"/>
                  <a:pt x="21429" y="5818"/>
                  <a:pt x="21506" y="5804"/>
                </a:cubicBezTo>
                <a:cubicBezTo>
                  <a:pt x="21531" y="5796"/>
                  <a:pt x="21555" y="5787"/>
                  <a:pt x="21580" y="5779"/>
                </a:cubicBezTo>
              </a:path>
              <a:path w="869" h="398">
                <a:moveTo>
                  <a:pt x="21208" y="5928"/>
                </a:moveTo>
                <a:cubicBezTo>
                  <a:pt x="21332" y="5928"/>
                  <a:pt x="21456" y="5928"/>
                  <a:pt x="21580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19"/>
          <p:cNvSpPr/>
          <p:nvPr/>
        </p:nvSpPr>
        <p:spPr>
          <a:xfrm>
            <a:off x="7412040" y="2517840"/>
            <a:ext cx="303120" cy="277920"/>
          </a:xfrm>
          <a:custGeom>
            <a:avLst/>
            <a:gdLst/>
            <a:ahLst/>
            <a:rect l="l" t="t" r="r" b="b"/>
            <a:pathLst>
              <a:path w="844" h="770">
                <a:moveTo>
                  <a:pt x="20737" y="6995"/>
                </a:moveTo>
                <a:cubicBezTo>
                  <a:pt x="20720" y="7095"/>
                  <a:pt x="20692" y="7196"/>
                  <a:pt x="20687" y="7293"/>
                </a:cubicBezTo>
                <a:cubicBezTo>
                  <a:pt x="20682" y="7384"/>
                  <a:pt x="20662" y="7468"/>
                  <a:pt x="20662" y="7565"/>
                </a:cubicBezTo>
                <a:cubicBezTo>
                  <a:pt x="20662" y="7615"/>
                  <a:pt x="20662" y="7664"/>
                  <a:pt x="20662" y="7714"/>
                </a:cubicBezTo>
              </a:path>
              <a:path w="844" h="770">
                <a:moveTo>
                  <a:pt x="20613" y="7590"/>
                </a:moveTo>
                <a:cubicBezTo>
                  <a:pt x="20700" y="7503"/>
                  <a:pt x="20697" y="7491"/>
                  <a:pt x="20811" y="7491"/>
                </a:cubicBezTo>
                <a:cubicBezTo>
                  <a:pt x="20858" y="7491"/>
                  <a:pt x="20942" y="7477"/>
                  <a:pt x="20960" y="7541"/>
                </a:cubicBezTo>
                <a:cubicBezTo>
                  <a:pt x="20992" y="7652"/>
                  <a:pt x="20952" y="7656"/>
                  <a:pt x="20886" y="7689"/>
                </a:cubicBezTo>
                <a:cubicBezTo>
                  <a:pt x="20832" y="7716"/>
                  <a:pt x="20805" y="7755"/>
                  <a:pt x="20737" y="7764"/>
                </a:cubicBezTo>
                <a:cubicBezTo>
                  <a:pt x="20672" y="7773"/>
                  <a:pt x="20636" y="7768"/>
                  <a:pt x="20588" y="7739"/>
                </a:cubicBezTo>
              </a:path>
              <a:path w="844" h="770">
                <a:moveTo>
                  <a:pt x="21183" y="7417"/>
                </a:moveTo>
                <a:cubicBezTo>
                  <a:pt x="21266" y="7417"/>
                  <a:pt x="21348" y="7417"/>
                  <a:pt x="21431" y="7417"/>
                </a:cubicBezTo>
              </a:path>
              <a:path w="844" h="770">
                <a:moveTo>
                  <a:pt x="21208" y="7541"/>
                </a:moveTo>
                <a:cubicBezTo>
                  <a:pt x="21274" y="7541"/>
                  <a:pt x="21340" y="7541"/>
                  <a:pt x="21406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Ink 20"/>
          <p:cNvSpPr/>
          <p:nvPr/>
        </p:nvSpPr>
        <p:spPr>
          <a:xfrm>
            <a:off x="7340760" y="3241800"/>
            <a:ext cx="419040" cy="142920"/>
          </a:xfrm>
          <a:custGeom>
            <a:avLst/>
            <a:gdLst/>
            <a:ahLst/>
            <a:rect l="l" t="t" r="r" b="b"/>
            <a:pathLst>
              <a:path w="1167" h="398">
                <a:moveTo>
                  <a:pt x="20687" y="9004"/>
                </a:moveTo>
                <a:cubicBezTo>
                  <a:pt x="20610" y="9025"/>
                  <a:pt x="20549" y="9051"/>
                  <a:pt x="20489" y="9103"/>
                </a:cubicBezTo>
                <a:cubicBezTo>
                  <a:pt x="20431" y="9153"/>
                  <a:pt x="20370" y="9158"/>
                  <a:pt x="20389" y="9252"/>
                </a:cubicBezTo>
                <a:cubicBezTo>
                  <a:pt x="20405" y="9334"/>
                  <a:pt x="20493" y="9369"/>
                  <a:pt x="20563" y="9376"/>
                </a:cubicBezTo>
                <a:cubicBezTo>
                  <a:pt x="20641" y="9384"/>
                  <a:pt x="20719" y="9384"/>
                  <a:pt x="20786" y="9401"/>
                </a:cubicBezTo>
                <a:cubicBezTo>
                  <a:pt x="20794" y="9401"/>
                  <a:pt x="20803" y="9401"/>
                  <a:pt x="20811" y="9401"/>
                </a:cubicBezTo>
              </a:path>
              <a:path w="1167" h="398">
                <a:moveTo>
                  <a:pt x="21034" y="9079"/>
                </a:moveTo>
                <a:cubicBezTo>
                  <a:pt x="21158" y="9079"/>
                  <a:pt x="21282" y="9079"/>
                  <a:pt x="21406" y="9079"/>
                </a:cubicBezTo>
              </a:path>
              <a:path w="1167" h="398">
                <a:moveTo>
                  <a:pt x="21059" y="9252"/>
                </a:moveTo>
                <a:cubicBezTo>
                  <a:pt x="21114" y="9318"/>
                  <a:pt x="21142" y="9302"/>
                  <a:pt x="21233" y="9302"/>
                </a:cubicBezTo>
                <a:cubicBezTo>
                  <a:pt x="21307" y="9302"/>
                  <a:pt x="21371" y="9315"/>
                  <a:pt x="21431" y="9327"/>
                </a:cubicBezTo>
                <a:cubicBezTo>
                  <a:pt x="21489" y="9327"/>
                  <a:pt x="21514" y="9327"/>
                  <a:pt x="21555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Ink 21"/>
          <p:cNvSpPr/>
          <p:nvPr/>
        </p:nvSpPr>
        <p:spPr>
          <a:xfrm>
            <a:off x="7885080" y="2000160"/>
            <a:ext cx="2142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21903" y="5556"/>
                </a:moveTo>
                <a:cubicBezTo>
                  <a:pt x="21913" y="5628"/>
                  <a:pt x="21915" y="5641"/>
                  <a:pt x="21903" y="5705"/>
                </a:cubicBezTo>
                <a:cubicBezTo>
                  <a:pt x="21883" y="5810"/>
                  <a:pt x="21910" y="5937"/>
                  <a:pt x="21927" y="6028"/>
                </a:cubicBezTo>
                <a:cubicBezTo>
                  <a:pt x="21927" y="6072"/>
                  <a:pt x="21924" y="6086"/>
                  <a:pt x="21952" y="6102"/>
                </a:cubicBezTo>
              </a:path>
              <a:path w="596" h="696">
                <a:moveTo>
                  <a:pt x="22151" y="5854"/>
                </a:moveTo>
                <a:cubicBezTo>
                  <a:pt x="22161" y="5769"/>
                  <a:pt x="22188" y="5742"/>
                  <a:pt x="22250" y="5680"/>
                </a:cubicBezTo>
                <a:cubicBezTo>
                  <a:pt x="22291" y="5639"/>
                  <a:pt x="22335" y="5607"/>
                  <a:pt x="22399" y="5631"/>
                </a:cubicBezTo>
                <a:cubicBezTo>
                  <a:pt x="22456" y="5652"/>
                  <a:pt x="22470" y="5730"/>
                  <a:pt x="22473" y="5779"/>
                </a:cubicBezTo>
                <a:cubicBezTo>
                  <a:pt x="22478" y="5860"/>
                  <a:pt x="22422" y="5972"/>
                  <a:pt x="22374" y="6028"/>
                </a:cubicBezTo>
                <a:cubicBezTo>
                  <a:pt x="22330" y="6080"/>
                  <a:pt x="22291" y="6124"/>
                  <a:pt x="22225" y="6127"/>
                </a:cubicBezTo>
                <a:cubicBezTo>
                  <a:pt x="22159" y="6127"/>
                  <a:pt x="22134" y="6135"/>
                  <a:pt x="22151" y="6077"/>
                </a:cubicBezTo>
                <a:cubicBezTo>
                  <a:pt x="22216" y="6044"/>
                  <a:pt x="22261" y="6044"/>
                  <a:pt x="22324" y="6077"/>
                </a:cubicBezTo>
                <a:cubicBezTo>
                  <a:pt x="22382" y="6108"/>
                  <a:pt x="22401" y="6154"/>
                  <a:pt x="22448" y="6201"/>
                </a:cubicBezTo>
                <a:cubicBezTo>
                  <a:pt x="22465" y="6218"/>
                  <a:pt x="22481" y="6234"/>
                  <a:pt x="22498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Ink 22"/>
          <p:cNvSpPr/>
          <p:nvPr/>
        </p:nvSpPr>
        <p:spPr>
          <a:xfrm>
            <a:off x="7831080" y="2643120"/>
            <a:ext cx="277920" cy="258840"/>
          </a:xfrm>
          <a:custGeom>
            <a:avLst/>
            <a:gdLst/>
            <a:ahLst/>
            <a:rect l="l" t="t" r="r" b="b"/>
            <a:pathLst>
              <a:path w="770" h="721">
                <a:moveTo>
                  <a:pt x="21754" y="7342"/>
                </a:moveTo>
                <a:cubicBezTo>
                  <a:pt x="21785" y="7393"/>
                  <a:pt x="21799" y="7480"/>
                  <a:pt x="21803" y="7541"/>
                </a:cubicBezTo>
                <a:cubicBezTo>
                  <a:pt x="21808" y="7622"/>
                  <a:pt x="21814" y="7696"/>
                  <a:pt x="21828" y="7764"/>
                </a:cubicBezTo>
                <a:cubicBezTo>
                  <a:pt x="21840" y="7821"/>
                  <a:pt x="21840" y="7840"/>
                  <a:pt x="21878" y="7888"/>
                </a:cubicBezTo>
              </a:path>
              <a:path w="770" h="721">
                <a:moveTo>
                  <a:pt x="22126" y="8062"/>
                </a:moveTo>
                <a:cubicBezTo>
                  <a:pt x="22136" y="7995"/>
                  <a:pt x="22166" y="7949"/>
                  <a:pt x="22200" y="7888"/>
                </a:cubicBezTo>
                <a:cubicBezTo>
                  <a:pt x="22238" y="7820"/>
                  <a:pt x="22286" y="7790"/>
                  <a:pt x="22324" y="7714"/>
                </a:cubicBezTo>
                <a:cubicBezTo>
                  <a:pt x="22354" y="7655"/>
                  <a:pt x="22378" y="7589"/>
                  <a:pt x="22423" y="7541"/>
                </a:cubicBezTo>
                <a:cubicBezTo>
                  <a:pt x="22455" y="7507"/>
                  <a:pt x="22490" y="7474"/>
                  <a:pt x="22523" y="7441"/>
                </a:cubicBezTo>
                <a:cubicBezTo>
                  <a:pt x="22442" y="7402"/>
                  <a:pt x="22405" y="7428"/>
                  <a:pt x="22324" y="7441"/>
                </a:cubicBezTo>
                <a:cubicBezTo>
                  <a:pt x="22275" y="7441"/>
                  <a:pt x="22258" y="7441"/>
                  <a:pt x="22225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Ink 23"/>
          <p:cNvSpPr/>
          <p:nvPr/>
        </p:nvSpPr>
        <p:spPr>
          <a:xfrm>
            <a:off x="7804080" y="3295800"/>
            <a:ext cx="393840" cy="293400"/>
          </a:xfrm>
          <a:custGeom>
            <a:avLst/>
            <a:gdLst/>
            <a:ahLst/>
            <a:rect l="l" t="t" r="r" b="b"/>
            <a:pathLst>
              <a:path w="1093" h="819">
                <a:moveTo>
                  <a:pt x="21679" y="9302"/>
                </a:moveTo>
                <a:cubicBezTo>
                  <a:pt x="21706" y="9240"/>
                  <a:pt x="21745" y="9171"/>
                  <a:pt x="21828" y="9153"/>
                </a:cubicBezTo>
                <a:cubicBezTo>
                  <a:pt x="21945" y="9128"/>
                  <a:pt x="21976" y="9194"/>
                  <a:pt x="22051" y="9227"/>
                </a:cubicBezTo>
                <a:cubicBezTo>
                  <a:pt x="22135" y="9263"/>
                  <a:pt x="22129" y="9262"/>
                  <a:pt x="22151" y="9376"/>
                </a:cubicBezTo>
                <a:cubicBezTo>
                  <a:pt x="22165" y="9452"/>
                  <a:pt x="22071" y="9490"/>
                  <a:pt x="22027" y="9525"/>
                </a:cubicBezTo>
                <a:cubicBezTo>
                  <a:pt x="21959" y="9580"/>
                  <a:pt x="21945" y="9571"/>
                  <a:pt x="21878" y="9599"/>
                </a:cubicBezTo>
                <a:cubicBezTo>
                  <a:pt x="21816" y="9625"/>
                  <a:pt x="21825" y="9626"/>
                  <a:pt x="21754" y="9599"/>
                </a:cubicBezTo>
                <a:cubicBezTo>
                  <a:pt x="21812" y="9599"/>
                  <a:pt x="21915" y="9571"/>
                  <a:pt x="21952" y="9624"/>
                </a:cubicBezTo>
                <a:cubicBezTo>
                  <a:pt x="21985" y="9671"/>
                  <a:pt x="22022" y="9724"/>
                  <a:pt x="22051" y="9773"/>
                </a:cubicBezTo>
                <a:cubicBezTo>
                  <a:pt x="22073" y="9817"/>
                  <a:pt x="22076" y="9828"/>
                  <a:pt x="22101" y="9847"/>
                </a:cubicBezTo>
              </a:path>
              <a:path w="1093" h="819">
                <a:moveTo>
                  <a:pt x="22349" y="9227"/>
                </a:moveTo>
                <a:cubicBezTo>
                  <a:pt x="22357" y="9211"/>
                  <a:pt x="22366" y="9194"/>
                  <a:pt x="22374" y="9178"/>
                </a:cubicBezTo>
                <a:cubicBezTo>
                  <a:pt x="22447" y="9194"/>
                  <a:pt x="22524" y="9207"/>
                  <a:pt x="22597" y="9227"/>
                </a:cubicBezTo>
                <a:cubicBezTo>
                  <a:pt x="22668" y="9247"/>
                  <a:pt x="22710" y="9338"/>
                  <a:pt x="22622" y="9376"/>
                </a:cubicBezTo>
                <a:cubicBezTo>
                  <a:pt x="22604" y="9384"/>
                  <a:pt x="22518" y="9376"/>
                  <a:pt x="22498" y="9376"/>
                </a:cubicBezTo>
                <a:cubicBezTo>
                  <a:pt x="22551" y="9429"/>
                  <a:pt x="22600" y="9434"/>
                  <a:pt x="22647" y="9475"/>
                </a:cubicBezTo>
                <a:cubicBezTo>
                  <a:pt x="22713" y="9532"/>
                  <a:pt x="22750" y="9588"/>
                  <a:pt x="22771" y="9674"/>
                </a:cubicBezTo>
                <a:cubicBezTo>
                  <a:pt x="22784" y="9727"/>
                  <a:pt x="22705" y="9863"/>
                  <a:pt x="22671" y="9897"/>
                </a:cubicBezTo>
                <a:cubicBezTo>
                  <a:pt x="22630" y="9939"/>
                  <a:pt x="22497" y="9951"/>
                  <a:pt x="22423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Ink 24"/>
          <p:cNvSpPr/>
          <p:nvPr/>
        </p:nvSpPr>
        <p:spPr>
          <a:xfrm>
            <a:off x="5197320" y="5322960"/>
            <a:ext cx="2749680" cy="384120"/>
          </a:xfrm>
          <a:custGeom>
            <a:avLst/>
            <a:gdLst/>
            <a:ahLst/>
            <a:rect l="l" t="t" r="r" b="b"/>
            <a:pathLst>
              <a:path w="7641" h="1067">
                <a:moveTo>
                  <a:pt x="14436" y="14957"/>
                </a:moveTo>
                <a:cubicBezTo>
                  <a:pt x="14436" y="15048"/>
                  <a:pt x="14441" y="15123"/>
                  <a:pt x="14461" y="15205"/>
                </a:cubicBezTo>
                <a:cubicBezTo>
                  <a:pt x="14482" y="15293"/>
                  <a:pt x="14486" y="15361"/>
                  <a:pt x="14486" y="15453"/>
                </a:cubicBezTo>
                <a:cubicBezTo>
                  <a:pt x="14486" y="15503"/>
                  <a:pt x="14486" y="15552"/>
                  <a:pt x="14486" y="15602"/>
                </a:cubicBezTo>
              </a:path>
              <a:path w="7641" h="1067">
                <a:moveTo>
                  <a:pt x="14734" y="15280"/>
                </a:moveTo>
                <a:cubicBezTo>
                  <a:pt x="14697" y="15219"/>
                  <a:pt x="14702" y="15170"/>
                  <a:pt x="14734" y="15106"/>
                </a:cubicBezTo>
                <a:cubicBezTo>
                  <a:pt x="14762" y="15050"/>
                  <a:pt x="14808" y="14979"/>
                  <a:pt x="14883" y="14982"/>
                </a:cubicBezTo>
                <a:cubicBezTo>
                  <a:pt x="14927" y="14984"/>
                  <a:pt x="15011" y="15036"/>
                  <a:pt x="15032" y="15081"/>
                </a:cubicBezTo>
                <a:cubicBezTo>
                  <a:pt x="15085" y="15194"/>
                  <a:pt x="15003" y="15303"/>
                  <a:pt x="14957" y="15404"/>
                </a:cubicBezTo>
                <a:cubicBezTo>
                  <a:pt x="14922" y="15481"/>
                  <a:pt x="14866" y="15501"/>
                  <a:pt x="14808" y="15553"/>
                </a:cubicBezTo>
                <a:cubicBezTo>
                  <a:pt x="14800" y="15561"/>
                  <a:pt x="14792" y="15569"/>
                  <a:pt x="14784" y="15577"/>
                </a:cubicBezTo>
                <a:cubicBezTo>
                  <a:pt x="14795" y="15485"/>
                  <a:pt x="14818" y="15487"/>
                  <a:pt x="14883" y="15429"/>
                </a:cubicBezTo>
                <a:cubicBezTo>
                  <a:pt x="14930" y="15387"/>
                  <a:pt x="14961" y="15359"/>
                  <a:pt x="15032" y="15379"/>
                </a:cubicBezTo>
                <a:cubicBezTo>
                  <a:pt x="15118" y="15403"/>
                  <a:pt x="15103" y="15446"/>
                  <a:pt x="15131" y="15503"/>
                </a:cubicBezTo>
                <a:cubicBezTo>
                  <a:pt x="15155" y="15551"/>
                  <a:pt x="15149" y="15588"/>
                  <a:pt x="15205" y="15602"/>
                </a:cubicBezTo>
              </a:path>
              <a:path w="7641" h="1067">
                <a:moveTo>
                  <a:pt x="15999" y="15032"/>
                </a:moveTo>
                <a:cubicBezTo>
                  <a:pt x="15892" y="15017"/>
                  <a:pt x="15825" y="15018"/>
                  <a:pt x="15726" y="15081"/>
                </a:cubicBezTo>
                <a:cubicBezTo>
                  <a:pt x="15694" y="15102"/>
                  <a:pt x="15572" y="15142"/>
                  <a:pt x="15553" y="15180"/>
                </a:cubicBezTo>
                <a:cubicBezTo>
                  <a:pt x="15553" y="15197"/>
                  <a:pt x="15553" y="15213"/>
                  <a:pt x="15553" y="15230"/>
                </a:cubicBezTo>
                <a:cubicBezTo>
                  <a:pt x="15602" y="15260"/>
                  <a:pt x="15663" y="15276"/>
                  <a:pt x="15726" y="15280"/>
                </a:cubicBezTo>
                <a:cubicBezTo>
                  <a:pt x="15794" y="15284"/>
                  <a:pt x="15863" y="15301"/>
                  <a:pt x="15925" y="15329"/>
                </a:cubicBezTo>
                <a:cubicBezTo>
                  <a:pt x="15968" y="15351"/>
                  <a:pt x="15980" y="15355"/>
                  <a:pt x="15999" y="15379"/>
                </a:cubicBezTo>
                <a:cubicBezTo>
                  <a:pt x="15976" y="15424"/>
                  <a:pt x="15951" y="15504"/>
                  <a:pt x="15900" y="15528"/>
                </a:cubicBezTo>
                <a:cubicBezTo>
                  <a:pt x="15814" y="15569"/>
                  <a:pt x="15713" y="15575"/>
                  <a:pt x="15627" y="15602"/>
                </a:cubicBezTo>
                <a:cubicBezTo>
                  <a:pt x="15585" y="15615"/>
                  <a:pt x="15480" y="15649"/>
                  <a:pt x="15453" y="15577"/>
                </a:cubicBezTo>
                <a:cubicBezTo>
                  <a:pt x="15453" y="15552"/>
                  <a:pt x="15453" y="15528"/>
                  <a:pt x="15453" y="15503"/>
                </a:cubicBezTo>
              </a:path>
              <a:path w="7641" h="1067">
                <a:moveTo>
                  <a:pt x="16073" y="15205"/>
                </a:moveTo>
                <a:cubicBezTo>
                  <a:pt x="16073" y="15301"/>
                  <a:pt x="16065" y="15366"/>
                  <a:pt x="16024" y="15453"/>
                </a:cubicBezTo>
                <a:cubicBezTo>
                  <a:pt x="16016" y="15470"/>
                  <a:pt x="16007" y="15486"/>
                  <a:pt x="15999" y="15503"/>
                </a:cubicBezTo>
              </a:path>
              <a:path w="7641" h="1067">
                <a:moveTo>
                  <a:pt x="16123" y="15627"/>
                </a:moveTo>
                <a:cubicBezTo>
                  <a:pt x="16161" y="15552"/>
                  <a:pt x="16198" y="15472"/>
                  <a:pt x="16247" y="15404"/>
                </a:cubicBezTo>
                <a:cubicBezTo>
                  <a:pt x="16306" y="15321"/>
                  <a:pt x="16315" y="15329"/>
                  <a:pt x="16421" y="15329"/>
                </a:cubicBezTo>
                <a:cubicBezTo>
                  <a:pt x="16503" y="15329"/>
                  <a:pt x="16516" y="15432"/>
                  <a:pt x="16520" y="15503"/>
                </a:cubicBezTo>
                <a:cubicBezTo>
                  <a:pt x="16523" y="15556"/>
                  <a:pt x="16536" y="15601"/>
                  <a:pt x="16545" y="15652"/>
                </a:cubicBezTo>
              </a:path>
              <a:path w="7641" h="1067">
                <a:moveTo>
                  <a:pt x="17016" y="14908"/>
                </a:moveTo>
                <a:cubicBezTo>
                  <a:pt x="17007" y="14968"/>
                  <a:pt x="16974" y="15049"/>
                  <a:pt x="16942" y="15106"/>
                </a:cubicBezTo>
                <a:cubicBezTo>
                  <a:pt x="16905" y="15172"/>
                  <a:pt x="16904" y="15220"/>
                  <a:pt x="16991" y="15230"/>
                </a:cubicBezTo>
                <a:cubicBezTo>
                  <a:pt x="17041" y="15236"/>
                  <a:pt x="17125" y="15187"/>
                  <a:pt x="17165" y="15156"/>
                </a:cubicBezTo>
                <a:cubicBezTo>
                  <a:pt x="17181" y="15139"/>
                  <a:pt x="17198" y="15123"/>
                  <a:pt x="17214" y="15106"/>
                </a:cubicBezTo>
              </a:path>
              <a:path w="7641" h="1067">
                <a:moveTo>
                  <a:pt x="17264" y="14858"/>
                </a:moveTo>
                <a:cubicBezTo>
                  <a:pt x="17241" y="14948"/>
                  <a:pt x="17262" y="15045"/>
                  <a:pt x="17239" y="15131"/>
                </a:cubicBezTo>
                <a:cubicBezTo>
                  <a:pt x="17218" y="15211"/>
                  <a:pt x="17193" y="15293"/>
                  <a:pt x="17190" y="15379"/>
                </a:cubicBezTo>
                <a:cubicBezTo>
                  <a:pt x="17187" y="15450"/>
                  <a:pt x="17145" y="15530"/>
                  <a:pt x="17165" y="15602"/>
                </a:cubicBezTo>
                <a:cubicBezTo>
                  <a:pt x="17173" y="15619"/>
                  <a:pt x="17182" y="15635"/>
                  <a:pt x="17190" y="15652"/>
                </a:cubicBezTo>
              </a:path>
              <a:path w="7641" h="1067">
                <a:moveTo>
                  <a:pt x="17835" y="14784"/>
                </a:moveTo>
                <a:cubicBezTo>
                  <a:pt x="17739" y="14784"/>
                  <a:pt x="17648" y="14781"/>
                  <a:pt x="17562" y="14833"/>
                </a:cubicBezTo>
                <a:cubicBezTo>
                  <a:pt x="17520" y="14858"/>
                  <a:pt x="17449" y="14935"/>
                  <a:pt x="17438" y="14982"/>
                </a:cubicBezTo>
                <a:cubicBezTo>
                  <a:pt x="17425" y="15040"/>
                  <a:pt x="17418" y="15041"/>
                  <a:pt x="17438" y="15081"/>
                </a:cubicBezTo>
                <a:cubicBezTo>
                  <a:pt x="17498" y="15089"/>
                  <a:pt x="17566" y="15094"/>
                  <a:pt x="17611" y="15131"/>
                </a:cubicBezTo>
                <a:cubicBezTo>
                  <a:pt x="17675" y="15183"/>
                  <a:pt x="17754" y="15227"/>
                  <a:pt x="17735" y="15329"/>
                </a:cubicBezTo>
                <a:cubicBezTo>
                  <a:pt x="17725" y="15379"/>
                  <a:pt x="17675" y="15439"/>
                  <a:pt x="17636" y="15478"/>
                </a:cubicBezTo>
                <a:cubicBezTo>
                  <a:pt x="17582" y="15532"/>
                  <a:pt x="17513" y="15562"/>
                  <a:pt x="17438" y="15577"/>
                </a:cubicBezTo>
                <a:cubicBezTo>
                  <a:pt x="17393" y="15577"/>
                  <a:pt x="17380" y="15581"/>
                  <a:pt x="17363" y="15553"/>
                </a:cubicBezTo>
              </a:path>
              <a:path w="7641" h="1067">
                <a:moveTo>
                  <a:pt x="18058" y="15032"/>
                </a:moveTo>
                <a:cubicBezTo>
                  <a:pt x="18141" y="15014"/>
                  <a:pt x="18234" y="15002"/>
                  <a:pt x="18306" y="14982"/>
                </a:cubicBezTo>
                <a:cubicBezTo>
                  <a:pt x="18314" y="14982"/>
                  <a:pt x="18323" y="14982"/>
                  <a:pt x="18331" y="14982"/>
                </a:cubicBezTo>
              </a:path>
              <a:path w="7641" h="1067">
                <a:moveTo>
                  <a:pt x="17934" y="15230"/>
                </a:moveTo>
                <a:cubicBezTo>
                  <a:pt x="18028" y="15336"/>
                  <a:pt x="18021" y="15287"/>
                  <a:pt x="18157" y="15280"/>
                </a:cubicBezTo>
                <a:cubicBezTo>
                  <a:pt x="18220" y="15277"/>
                  <a:pt x="18266" y="15261"/>
                  <a:pt x="18331" y="15255"/>
                </a:cubicBezTo>
              </a:path>
              <a:path w="7641" h="1067">
                <a:moveTo>
                  <a:pt x="19199" y="14784"/>
                </a:moveTo>
                <a:cubicBezTo>
                  <a:pt x="19111" y="14810"/>
                  <a:pt x="19020" y="14821"/>
                  <a:pt x="18951" y="14883"/>
                </a:cubicBezTo>
                <a:cubicBezTo>
                  <a:pt x="18902" y="14928"/>
                  <a:pt x="18863" y="14941"/>
                  <a:pt x="18901" y="15007"/>
                </a:cubicBezTo>
                <a:cubicBezTo>
                  <a:pt x="18938" y="15070"/>
                  <a:pt x="19043" y="15069"/>
                  <a:pt x="19100" y="15106"/>
                </a:cubicBezTo>
                <a:cubicBezTo>
                  <a:pt x="19150" y="15139"/>
                  <a:pt x="19328" y="15165"/>
                  <a:pt x="19323" y="15255"/>
                </a:cubicBezTo>
                <a:cubicBezTo>
                  <a:pt x="19318" y="15336"/>
                  <a:pt x="19202" y="15374"/>
                  <a:pt x="19149" y="15404"/>
                </a:cubicBezTo>
                <a:cubicBezTo>
                  <a:pt x="19101" y="15432"/>
                  <a:pt x="18999" y="15466"/>
                  <a:pt x="18951" y="15478"/>
                </a:cubicBezTo>
                <a:cubicBezTo>
                  <a:pt x="18862" y="15500"/>
                  <a:pt x="18736" y="15484"/>
                  <a:pt x="18653" y="15453"/>
                </a:cubicBezTo>
              </a:path>
              <a:path w="7641" h="1067">
                <a:moveTo>
                  <a:pt x="19521" y="15329"/>
                </a:moveTo>
                <a:cubicBezTo>
                  <a:pt x="19499" y="15418"/>
                  <a:pt x="19488" y="15484"/>
                  <a:pt x="19447" y="15553"/>
                </a:cubicBezTo>
              </a:path>
              <a:path w="7641" h="1067">
                <a:moveTo>
                  <a:pt x="19621" y="15602"/>
                </a:moveTo>
                <a:cubicBezTo>
                  <a:pt x="19630" y="15541"/>
                  <a:pt x="19650" y="15502"/>
                  <a:pt x="19695" y="15453"/>
                </a:cubicBezTo>
                <a:cubicBezTo>
                  <a:pt x="19740" y="15404"/>
                  <a:pt x="19760" y="15347"/>
                  <a:pt x="19844" y="15379"/>
                </a:cubicBezTo>
                <a:cubicBezTo>
                  <a:pt x="19926" y="15410"/>
                  <a:pt x="19932" y="15497"/>
                  <a:pt x="19943" y="15577"/>
                </a:cubicBezTo>
                <a:cubicBezTo>
                  <a:pt x="19953" y="15647"/>
                  <a:pt x="19927" y="15638"/>
                  <a:pt x="19943" y="15701"/>
                </a:cubicBezTo>
              </a:path>
              <a:path w="7641" h="1067">
                <a:moveTo>
                  <a:pt x="20265" y="15007"/>
                </a:moveTo>
                <a:cubicBezTo>
                  <a:pt x="20406" y="15007"/>
                  <a:pt x="20546" y="15007"/>
                  <a:pt x="20687" y="15007"/>
                </a:cubicBezTo>
                <a:cubicBezTo>
                  <a:pt x="20703" y="15054"/>
                  <a:pt x="20704" y="15125"/>
                  <a:pt x="20638" y="15156"/>
                </a:cubicBezTo>
                <a:cubicBezTo>
                  <a:pt x="20560" y="15192"/>
                  <a:pt x="20508" y="15178"/>
                  <a:pt x="20439" y="15230"/>
                </a:cubicBezTo>
                <a:cubicBezTo>
                  <a:pt x="20409" y="15260"/>
                  <a:pt x="20395" y="15271"/>
                  <a:pt x="20365" y="15280"/>
                </a:cubicBezTo>
                <a:cubicBezTo>
                  <a:pt x="20426" y="15352"/>
                  <a:pt x="20474" y="15356"/>
                  <a:pt x="20563" y="15379"/>
                </a:cubicBezTo>
                <a:cubicBezTo>
                  <a:pt x="20657" y="15404"/>
                  <a:pt x="20678" y="15425"/>
                  <a:pt x="20712" y="15478"/>
                </a:cubicBezTo>
                <a:cubicBezTo>
                  <a:pt x="20750" y="15538"/>
                  <a:pt x="20731" y="15569"/>
                  <a:pt x="20687" y="15627"/>
                </a:cubicBezTo>
                <a:cubicBezTo>
                  <a:pt x="20648" y="15678"/>
                  <a:pt x="20594" y="15698"/>
                  <a:pt x="20538" y="15726"/>
                </a:cubicBezTo>
                <a:cubicBezTo>
                  <a:pt x="20476" y="15757"/>
                  <a:pt x="20469" y="15773"/>
                  <a:pt x="20414" y="15751"/>
                </a:cubicBezTo>
              </a:path>
              <a:path w="7641" h="1067">
                <a:moveTo>
                  <a:pt x="21233" y="15205"/>
                </a:moveTo>
                <a:cubicBezTo>
                  <a:pt x="21144" y="15237"/>
                  <a:pt x="21100" y="15262"/>
                  <a:pt x="21034" y="15329"/>
                </a:cubicBezTo>
                <a:cubicBezTo>
                  <a:pt x="20984" y="15380"/>
                  <a:pt x="20945" y="15386"/>
                  <a:pt x="20910" y="15453"/>
                </a:cubicBezTo>
                <a:cubicBezTo>
                  <a:pt x="20877" y="15516"/>
                  <a:pt x="20869" y="15594"/>
                  <a:pt x="20910" y="15652"/>
                </a:cubicBezTo>
                <a:cubicBezTo>
                  <a:pt x="20947" y="15703"/>
                  <a:pt x="21039" y="15680"/>
                  <a:pt x="21084" y="15652"/>
                </a:cubicBezTo>
                <a:cubicBezTo>
                  <a:pt x="21141" y="15617"/>
                  <a:pt x="21207" y="15571"/>
                  <a:pt x="21258" y="15528"/>
                </a:cubicBezTo>
                <a:cubicBezTo>
                  <a:pt x="21296" y="15495"/>
                  <a:pt x="21370" y="15380"/>
                  <a:pt x="21382" y="15329"/>
                </a:cubicBezTo>
                <a:cubicBezTo>
                  <a:pt x="21394" y="15278"/>
                  <a:pt x="21431" y="15205"/>
                  <a:pt x="21382" y="15156"/>
                </a:cubicBezTo>
                <a:cubicBezTo>
                  <a:pt x="21337" y="15111"/>
                  <a:pt x="21268" y="15059"/>
                  <a:pt x="21208" y="15056"/>
                </a:cubicBezTo>
                <a:cubicBezTo>
                  <a:pt x="21130" y="15052"/>
                  <a:pt x="21081" y="15066"/>
                  <a:pt x="21010" y="15081"/>
                </a:cubicBezTo>
              </a:path>
              <a:path w="7641" h="1067">
                <a:moveTo>
                  <a:pt x="21654" y="15007"/>
                </a:moveTo>
                <a:cubicBezTo>
                  <a:pt x="21640" y="15119"/>
                  <a:pt x="21622" y="15225"/>
                  <a:pt x="21605" y="15329"/>
                </a:cubicBezTo>
                <a:cubicBezTo>
                  <a:pt x="21594" y="15396"/>
                  <a:pt x="21545" y="15434"/>
                  <a:pt x="21530" y="15503"/>
                </a:cubicBezTo>
                <a:cubicBezTo>
                  <a:pt x="21516" y="15565"/>
                  <a:pt x="21490" y="15589"/>
                  <a:pt x="21481" y="15652"/>
                </a:cubicBezTo>
                <a:cubicBezTo>
                  <a:pt x="21519" y="15576"/>
                  <a:pt x="21545" y="15557"/>
                  <a:pt x="21605" y="15503"/>
                </a:cubicBezTo>
                <a:cubicBezTo>
                  <a:pt x="21685" y="15431"/>
                  <a:pt x="21759" y="15444"/>
                  <a:pt x="21853" y="15453"/>
                </a:cubicBezTo>
                <a:cubicBezTo>
                  <a:pt x="21922" y="15459"/>
                  <a:pt x="21974" y="15480"/>
                  <a:pt x="22027" y="15528"/>
                </a:cubicBezTo>
                <a:cubicBezTo>
                  <a:pt x="22069" y="15567"/>
                  <a:pt x="22098" y="15644"/>
                  <a:pt x="22076" y="15701"/>
                </a:cubicBezTo>
                <a:cubicBezTo>
                  <a:pt x="22044" y="15783"/>
                  <a:pt x="21996" y="15779"/>
                  <a:pt x="21927" y="15801"/>
                </a:cubicBezTo>
                <a:cubicBezTo>
                  <a:pt x="21844" y="15828"/>
                  <a:pt x="21808" y="15837"/>
                  <a:pt x="21729" y="15825"/>
                </a:cubicBezTo>
                <a:cubicBezTo>
                  <a:pt x="21721" y="15825"/>
                  <a:pt x="21712" y="15825"/>
                  <a:pt x="21704" y="158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Ink 25"/>
          <p:cNvSpPr/>
          <p:nvPr/>
        </p:nvSpPr>
        <p:spPr>
          <a:xfrm>
            <a:off x="5153040" y="5607000"/>
            <a:ext cx="2616120" cy="519120"/>
          </a:xfrm>
          <a:custGeom>
            <a:avLst/>
            <a:gdLst/>
            <a:ahLst/>
            <a:rect l="l" t="t" r="r" b="b"/>
            <a:pathLst>
              <a:path w="7269" h="1440">
                <a:moveTo>
                  <a:pt x="18752" y="15801"/>
                </a:moveTo>
                <a:cubicBezTo>
                  <a:pt x="18921" y="15801"/>
                  <a:pt x="19084" y="15807"/>
                  <a:pt x="19248" y="15825"/>
                </a:cubicBezTo>
                <a:cubicBezTo>
                  <a:pt x="19354" y="15837"/>
                  <a:pt x="19468" y="15841"/>
                  <a:pt x="19571" y="15850"/>
                </a:cubicBezTo>
                <a:cubicBezTo>
                  <a:pt x="19758" y="15867"/>
                  <a:pt x="19953" y="15863"/>
                  <a:pt x="20141" y="15875"/>
                </a:cubicBezTo>
                <a:cubicBezTo>
                  <a:pt x="20505" y="15898"/>
                  <a:pt x="20871" y="15863"/>
                  <a:pt x="21233" y="15900"/>
                </a:cubicBezTo>
                <a:cubicBezTo>
                  <a:pt x="21299" y="15900"/>
                  <a:pt x="21332" y="15900"/>
                  <a:pt x="21382" y="15900"/>
                </a:cubicBezTo>
              </a:path>
              <a:path w="7269" h="1440">
                <a:moveTo>
                  <a:pt x="19720" y="16173"/>
                </a:moveTo>
                <a:cubicBezTo>
                  <a:pt x="19644" y="16173"/>
                  <a:pt x="19592" y="16177"/>
                  <a:pt x="19521" y="16197"/>
                </a:cubicBezTo>
                <a:cubicBezTo>
                  <a:pt x="19429" y="16223"/>
                  <a:pt x="19365" y="16230"/>
                  <a:pt x="19298" y="16297"/>
                </a:cubicBezTo>
                <a:cubicBezTo>
                  <a:pt x="19348" y="16346"/>
                  <a:pt x="19403" y="16360"/>
                  <a:pt x="19472" y="16371"/>
                </a:cubicBezTo>
                <a:cubicBezTo>
                  <a:pt x="19544" y="16383"/>
                  <a:pt x="19613" y="16422"/>
                  <a:pt x="19670" y="16470"/>
                </a:cubicBezTo>
                <a:cubicBezTo>
                  <a:pt x="19739" y="16528"/>
                  <a:pt x="19673" y="16567"/>
                  <a:pt x="19621" y="16594"/>
                </a:cubicBezTo>
                <a:cubicBezTo>
                  <a:pt x="19555" y="16629"/>
                  <a:pt x="19468" y="16657"/>
                  <a:pt x="19397" y="16669"/>
                </a:cubicBezTo>
                <a:cubicBezTo>
                  <a:pt x="19312" y="16683"/>
                  <a:pt x="19201" y="16679"/>
                  <a:pt x="19124" y="16644"/>
                </a:cubicBezTo>
                <a:cubicBezTo>
                  <a:pt x="19049" y="16610"/>
                  <a:pt x="19035" y="16587"/>
                  <a:pt x="19075" y="16520"/>
                </a:cubicBezTo>
              </a:path>
              <a:path w="7269" h="1440">
                <a:moveTo>
                  <a:pt x="19968" y="16446"/>
                </a:moveTo>
                <a:cubicBezTo>
                  <a:pt x="19968" y="16513"/>
                  <a:pt x="19954" y="16565"/>
                  <a:pt x="19943" y="16619"/>
                </a:cubicBezTo>
                <a:cubicBezTo>
                  <a:pt x="19943" y="16664"/>
                  <a:pt x="19946" y="16677"/>
                  <a:pt x="19918" y="16694"/>
                </a:cubicBezTo>
              </a:path>
              <a:path w="7269" h="1440">
                <a:moveTo>
                  <a:pt x="20042" y="16718"/>
                </a:moveTo>
                <a:cubicBezTo>
                  <a:pt x="20087" y="16674"/>
                  <a:pt x="20105" y="16576"/>
                  <a:pt x="20141" y="16545"/>
                </a:cubicBezTo>
                <a:cubicBezTo>
                  <a:pt x="20192" y="16502"/>
                  <a:pt x="20295" y="16509"/>
                  <a:pt x="20340" y="16545"/>
                </a:cubicBezTo>
                <a:cubicBezTo>
                  <a:pt x="20390" y="16585"/>
                  <a:pt x="20402" y="16657"/>
                  <a:pt x="20389" y="16718"/>
                </a:cubicBezTo>
                <a:cubicBezTo>
                  <a:pt x="20368" y="16784"/>
                  <a:pt x="20360" y="16799"/>
                  <a:pt x="20365" y="16842"/>
                </a:cubicBezTo>
              </a:path>
              <a:path w="7269" h="1440">
                <a:moveTo>
                  <a:pt x="20588" y="16321"/>
                </a:moveTo>
                <a:cubicBezTo>
                  <a:pt x="20672" y="16313"/>
                  <a:pt x="20751" y="16297"/>
                  <a:pt x="20836" y="16297"/>
                </a:cubicBezTo>
                <a:cubicBezTo>
                  <a:pt x="20887" y="16297"/>
                  <a:pt x="20946" y="16315"/>
                  <a:pt x="20985" y="16346"/>
                </a:cubicBezTo>
                <a:cubicBezTo>
                  <a:pt x="21070" y="16414"/>
                  <a:pt x="20953" y="16440"/>
                  <a:pt x="20935" y="16495"/>
                </a:cubicBezTo>
                <a:cubicBezTo>
                  <a:pt x="20911" y="16567"/>
                  <a:pt x="20994" y="16583"/>
                  <a:pt x="21034" y="16619"/>
                </a:cubicBezTo>
                <a:cubicBezTo>
                  <a:pt x="21102" y="16681"/>
                  <a:pt x="21083" y="16733"/>
                  <a:pt x="21010" y="16793"/>
                </a:cubicBezTo>
                <a:cubicBezTo>
                  <a:pt x="20981" y="16817"/>
                  <a:pt x="20874" y="16885"/>
                  <a:pt x="20836" y="16892"/>
                </a:cubicBezTo>
                <a:cubicBezTo>
                  <a:pt x="20774" y="16903"/>
                  <a:pt x="20688" y="16931"/>
                  <a:pt x="20662" y="16892"/>
                </a:cubicBezTo>
              </a:path>
              <a:path w="7269" h="1440">
                <a:moveTo>
                  <a:pt x="21456" y="16545"/>
                </a:moveTo>
                <a:cubicBezTo>
                  <a:pt x="21401" y="16591"/>
                  <a:pt x="21334" y="16621"/>
                  <a:pt x="21282" y="16669"/>
                </a:cubicBezTo>
                <a:cubicBezTo>
                  <a:pt x="21216" y="16730"/>
                  <a:pt x="21154" y="16734"/>
                  <a:pt x="21109" y="16818"/>
                </a:cubicBezTo>
                <a:cubicBezTo>
                  <a:pt x="21072" y="16887"/>
                  <a:pt x="21035" y="16912"/>
                  <a:pt x="21084" y="16991"/>
                </a:cubicBezTo>
                <a:cubicBezTo>
                  <a:pt x="21127" y="17060"/>
                  <a:pt x="21235" y="16998"/>
                  <a:pt x="21282" y="16966"/>
                </a:cubicBezTo>
                <a:cubicBezTo>
                  <a:pt x="21333" y="16931"/>
                  <a:pt x="21417" y="16932"/>
                  <a:pt x="21456" y="16892"/>
                </a:cubicBezTo>
                <a:cubicBezTo>
                  <a:pt x="21478" y="16870"/>
                  <a:pt x="21582" y="16711"/>
                  <a:pt x="21580" y="16694"/>
                </a:cubicBezTo>
                <a:cubicBezTo>
                  <a:pt x="21572" y="16609"/>
                  <a:pt x="21496" y="16555"/>
                  <a:pt x="21431" y="16520"/>
                </a:cubicBezTo>
                <a:cubicBezTo>
                  <a:pt x="21365" y="16485"/>
                  <a:pt x="21317" y="16467"/>
                  <a:pt x="21258" y="16421"/>
                </a:cubicBezTo>
              </a:path>
              <a:path w="7269" h="1440">
                <a:moveTo>
                  <a:pt x="14312" y="15825"/>
                </a:moveTo>
                <a:cubicBezTo>
                  <a:pt x="14464" y="15825"/>
                  <a:pt x="14614" y="15817"/>
                  <a:pt x="14759" y="15801"/>
                </a:cubicBezTo>
                <a:cubicBezTo>
                  <a:pt x="14886" y="15787"/>
                  <a:pt x="15029" y="15785"/>
                  <a:pt x="15156" y="15776"/>
                </a:cubicBezTo>
                <a:cubicBezTo>
                  <a:pt x="15273" y="15768"/>
                  <a:pt x="15390" y="15761"/>
                  <a:pt x="15503" y="15751"/>
                </a:cubicBezTo>
                <a:cubicBezTo>
                  <a:pt x="15633" y="15739"/>
                  <a:pt x="15770" y="15730"/>
                  <a:pt x="15900" y="15726"/>
                </a:cubicBezTo>
                <a:cubicBezTo>
                  <a:pt x="16027" y="15722"/>
                  <a:pt x="16147" y="15705"/>
                  <a:pt x="16272" y="15701"/>
                </a:cubicBezTo>
                <a:cubicBezTo>
                  <a:pt x="16432" y="15696"/>
                  <a:pt x="16586" y="15681"/>
                  <a:pt x="16743" y="15677"/>
                </a:cubicBezTo>
                <a:cubicBezTo>
                  <a:pt x="16860" y="15674"/>
                  <a:pt x="16975" y="15673"/>
                  <a:pt x="17090" y="15652"/>
                </a:cubicBezTo>
                <a:cubicBezTo>
                  <a:pt x="17244" y="15624"/>
                  <a:pt x="17406" y="15591"/>
                  <a:pt x="17562" y="15577"/>
                </a:cubicBezTo>
                <a:cubicBezTo>
                  <a:pt x="17620" y="15577"/>
                  <a:pt x="17645" y="15577"/>
                  <a:pt x="17686" y="15577"/>
                </a:cubicBezTo>
              </a:path>
              <a:path w="7269" h="1440">
                <a:moveTo>
                  <a:pt x="15379" y="16098"/>
                </a:moveTo>
                <a:cubicBezTo>
                  <a:pt x="15249" y="16034"/>
                  <a:pt x="15222" y="16059"/>
                  <a:pt x="15081" y="16073"/>
                </a:cubicBezTo>
                <a:cubicBezTo>
                  <a:pt x="14995" y="16082"/>
                  <a:pt x="14906" y="16097"/>
                  <a:pt x="14833" y="16148"/>
                </a:cubicBezTo>
                <a:cubicBezTo>
                  <a:pt x="14789" y="16179"/>
                  <a:pt x="14695" y="16262"/>
                  <a:pt x="14709" y="16321"/>
                </a:cubicBezTo>
                <a:cubicBezTo>
                  <a:pt x="14726" y="16392"/>
                  <a:pt x="14846" y="16413"/>
                  <a:pt x="14908" y="16421"/>
                </a:cubicBezTo>
                <a:cubicBezTo>
                  <a:pt x="14962" y="16428"/>
                  <a:pt x="15070" y="16423"/>
                  <a:pt x="15106" y="16470"/>
                </a:cubicBezTo>
                <a:cubicBezTo>
                  <a:pt x="15151" y="16528"/>
                  <a:pt x="15102" y="16628"/>
                  <a:pt x="15032" y="16644"/>
                </a:cubicBezTo>
                <a:cubicBezTo>
                  <a:pt x="14942" y="16664"/>
                  <a:pt x="14845" y="16694"/>
                  <a:pt x="14759" y="16743"/>
                </a:cubicBezTo>
                <a:cubicBezTo>
                  <a:pt x="14717" y="16767"/>
                  <a:pt x="14615" y="16790"/>
                  <a:pt x="14560" y="16768"/>
                </a:cubicBezTo>
                <a:cubicBezTo>
                  <a:pt x="14533" y="16740"/>
                  <a:pt x="14525" y="16726"/>
                  <a:pt x="14536" y="16694"/>
                </a:cubicBezTo>
              </a:path>
              <a:path w="7269" h="1440">
                <a:moveTo>
                  <a:pt x="15280" y="16421"/>
                </a:moveTo>
                <a:cubicBezTo>
                  <a:pt x="15312" y="16476"/>
                  <a:pt x="15317" y="16533"/>
                  <a:pt x="15280" y="16594"/>
                </a:cubicBezTo>
                <a:cubicBezTo>
                  <a:pt x="15249" y="16645"/>
                  <a:pt x="15217" y="16683"/>
                  <a:pt x="15205" y="16743"/>
                </a:cubicBezTo>
              </a:path>
              <a:path w="7269" h="1440">
                <a:moveTo>
                  <a:pt x="15354" y="16768"/>
                </a:moveTo>
                <a:cubicBezTo>
                  <a:pt x="15404" y="16719"/>
                  <a:pt x="15453" y="16669"/>
                  <a:pt x="15503" y="16619"/>
                </a:cubicBezTo>
                <a:cubicBezTo>
                  <a:pt x="15550" y="16572"/>
                  <a:pt x="15599" y="16557"/>
                  <a:pt x="15652" y="16520"/>
                </a:cubicBezTo>
                <a:cubicBezTo>
                  <a:pt x="15690" y="16494"/>
                  <a:pt x="15757" y="16479"/>
                  <a:pt x="15776" y="16545"/>
                </a:cubicBezTo>
                <a:cubicBezTo>
                  <a:pt x="15799" y="16624"/>
                  <a:pt x="15745" y="16672"/>
                  <a:pt x="15726" y="16743"/>
                </a:cubicBezTo>
                <a:cubicBezTo>
                  <a:pt x="15726" y="16751"/>
                  <a:pt x="15726" y="16760"/>
                  <a:pt x="15726" y="16768"/>
                </a:cubicBezTo>
              </a:path>
              <a:path w="7269" h="1440">
                <a:moveTo>
                  <a:pt x="16024" y="16222"/>
                </a:moveTo>
                <a:cubicBezTo>
                  <a:pt x="16080" y="16166"/>
                  <a:pt x="16102" y="16143"/>
                  <a:pt x="16173" y="16123"/>
                </a:cubicBezTo>
                <a:cubicBezTo>
                  <a:pt x="16271" y="16096"/>
                  <a:pt x="16329" y="16052"/>
                  <a:pt x="16421" y="16098"/>
                </a:cubicBezTo>
                <a:cubicBezTo>
                  <a:pt x="16392" y="16127"/>
                  <a:pt x="16309" y="16163"/>
                  <a:pt x="16297" y="16197"/>
                </a:cubicBezTo>
                <a:cubicBezTo>
                  <a:pt x="16265" y="16287"/>
                  <a:pt x="16374" y="16269"/>
                  <a:pt x="16421" y="16297"/>
                </a:cubicBezTo>
                <a:cubicBezTo>
                  <a:pt x="16473" y="16328"/>
                  <a:pt x="16512" y="16384"/>
                  <a:pt x="16495" y="16446"/>
                </a:cubicBezTo>
                <a:cubicBezTo>
                  <a:pt x="16482" y="16495"/>
                  <a:pt x="16381" y="16571"/>
                  <a:pt x="16346" y="16594"/>
                </a:cubicBezTo>
                <a:cubicBezTo>
                  <a:pt x="16287" y="16632"/>
                  <a:pt x="16207" y="16687"/>
                  <a:pt x="16148" y="16718"/>
                </a:cubicBezTo>
                <a:cubicBezTo>
                  <a:pt x="16123" y="16726"/>
                  <a:pt x="16098" y="16735"/>
                  <a:pt x="16073" y="16743"/>
                </a:cubicBezTo>
              </a:path>
              <a:path w="7269" h="1440">
                <a:moveTo>
                  <a:pt x="16892" y="16197"/>
                </a:moveTo>
                <a:cubicBezTo>
                  <a:pt x="16819" y="16238"/>
                  <a:pt x="16721" y="16278"/>
                  <a:pt x="16669" y="16346"/>
                </a:cubicBezTo>
                <a:cubicBezTo>
                  <a:pt x="16621" y="16409"/>
                  <a:pt x="16558" y="16455"/>
                  <a:pt x="16520" y="16520"/>
                </a:cubicBezTo>
                <a:cubicBezTo>
                  <a:pt x="16489" y="16573"/>
                  <a:pt x="16445" y="16653"/>
                  <a:pt x="16470" y="16718"/>
                </a:cubicBezTo>
                <a:cubicBezTo>
                  <a:pt x="16491" y="16772"/>
                  <a:pt x="16571" y="16781"/>
                  <a:pt x="16619" y="16768"/>
                </a:cubicBezTo>
                <a:cubicBezTo>
                  <a:pt x="16679" y="16751"/>
                  <a:pt x="16764" y="16701"/>
                  <a:pt x="16818" y="16669"/>
                </a:cubicBezTo>
                <a:cubicBezTo>
                  <a:pt x="16891" y="16626"/>
                  <a:pt x="17014" y="16557"/>
                  <a:pt x="17041" y="16470"/>
                </a:cubicBezTo>
                <a:cubicBezTo>
                  <a:pt x="17059" y="16414"/>
                  <a:pt x="17040" y="16352"/>
                  <a:pt x="16991" y="16321"/>
                </a:cubicBezTo>
                <a:cubicBezTo>
                  <a:pt x="16944" y="16291"/>
                  <a:pt x="16871" y="16283"/>
                  <a:pt x="16818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4"/>
          <p:cNvSpPr/>
          <p:nvPr/>
        </p:nvSpPr>
        <p:spPr>
          <a:xfrm>
            <a:off x="4875120" y="946080"/>
            <a:ext cx="1063800" cy="519120"/>
          </a:xfrm>
          <a:custGeom>
            <a:avLst/>
            <a:gdLst/>
            <a:ahLst/>
            <a:rect l="l" t="t" r="r" b="b"/>
            <a:pathLst>
              <a:path w="2953" h="1440">
                <a:moveTo>
                  <a:pt x="13866" y="3349"/>
                </a:moveTo>
                <a:cubicBezTo>
                  <a:pt x="13890" y="3285"/>
                  <a:pt x="13906" y="3239"/>
                  <a:pt x="13915" y="3175"/>
                </a:cubicBezTo>
                <a:cubicBezTo>
                  <a:pt x="13876" y="3274"/>
                  <a:pt x="13823" y="3370"/>
                  <a:pt x="13791" y="3473"/>
                </a:cubicBezTo>
                <a:cubicBezTo>
                  <a:pt x="13757" y="3585"/>
                  <a:pt x="13713" y="3687"/>
                  <a:pt x="13667" y="3795"/>
                </a:cubicBezTo>
                <a:cubicBezTo>
                  <a:pt x="13635" y="3870"/>
                  <a:pt x="13605" y="3945"/>
                  <a:pt x="13568" y="4018"/>
                </a:cubicBezTo>
                <a:cubicBezTo>
                  <a:pt x="13568" y="3906"/>
                  <a:pt x="13583" y="3803"/>
                  <a:pt x="13593" y="3696"/>
                </a:cubicBezTo>
                <a:cubicBezTo>
                  <a:pt x="13605" y="3570"/>
                  <a:pt x="13597" y="3447"/>
                  <a:pt x="13618" y="3324"/>
                </a:cubicBezTo>
                <a:cubicBezTo>
                  <a:pt x="13643" y="3178"/>
                  <a:pt x="13716" y="3083"/>
                  <a:pt x="13767" y="2952"/>
                </a:cubicBezTo>
                <a:cubicBezTo>
                  <a:pt x="13809" y="2844"/>
                  <a:pt x="13835" y="2725"/>
                  <a:pt x="13940" y="2654"/>
                </a:cubicBezTo>
                <a:cubicBezTo>
                  <a:pt x="13957" y="2646"/>
                  <a:pt x="13973" y="2637"/>
                  <a:pt x="13990" y="2629"/>
                </a:cubicBezTo>
                <a:cubicBezTo>
                  <a:pt x="14052" y="2679"/>
                  <a:pt x="14077" y="2704"/>
                  <a:pt x="14114" y="2778"/>
                </a:cubicBezTo>
                <a:cubicBezTo>
                  <a:pt x="14168" y="2885"/>
                  <a:pt x="14220" y="3035"/>
                  <a:pt x="14238" y="3150"/>
                </a:cubicBezTo>
                <a:cubicBezTo>
                  <a:pt x="14260" y="3286"/>
                  <a:pt x="14286" y="3414"/>
                  <a:pt x="14312" y="3547"/>
                </a:cubicBezTo>
                <a:cubicBezTo>
                  <a:pt x="14334" y="3660"/>
                  <a:pt x="14332" y="3785"/>
                  <a:pt x="14362" y="3894"/>
                </a:cubicBezTo>
                <a:cubicBezTo>
                  <a:pt x="14377" y="3949"/>
                  <a:pt x="14430" y="4042"/>
                  <a:pt x="14362" y="4018"/>
                </a:cubicBezTo>
              </a:path>
              <a:path w="2953" h="1440">
                <a:moveTo>
                  <a:pt x="13543" y="3473"/>
                </a:moveTo>
                <a:cubicBezTo>
                  <a:pt x="13639" y="3466"/>
                  <a:pt x="13745" y="3464"/>
                  <a:pt x="13841" y="3448"/>
                </a:cubicBezTo>
                <a:cubicBezTo>
                  <a:pt x="13958" y="3429"/>
                  <a:pt x="14068" y="3423"/>
                  <a:pt x="14188" y="3423"/>
                </a:cubicBezTo>
              </a:path>
              <a:path w="2953" h="1440">
                <a:moveTo>
                  <a:pt x="14585" y="3448"/>
                </a:moveTo>
                <a:cubicBezTo>
                  <a:pt x="14702" y="3448"/>
                  <a:pt x="14792" y="3430"/>
                  <a:pt x="14908" y="3423"/>
                </a:cubicBezTo>
              </a:path>
              <a:path w="2953" h="1440">
                <a:moveTo>
                  <a:pt x="14536" y="3646"/>
                </a:moveTo>
                <a:cubicBezTo>
                  <a:pt x="14685" y="3669"/>
                  <a:pt x="14744" y="3665"/>
                  <a:pt x="14883" y="3646"/>
                </a:cubicBezTo>
                <a:cubicBezTo>
                  <a:pt x="14899" y="3646"/>
                  <a:pt x="14916" y="3646"/>
                  <a:pt x="14932" y="3646"/>
                </a:cubicBezTo>
              </a:path>
              <a:path w="2953" h="1440">
                <a:moveTo>
                  <a:pt x="15230" y="3076"/>
                </a:moveTo>
                <a:cubicBezTo>
                  <a:pt x="15299" y="3006"/>
                  <a:pt x="15350" y="2962"/>
                  <a:pt x="15453" y="2952"/>
                </a:cubicBezTo>
                <a:cubicBezTo>
                  <a:pt x="15508" y="2947"/>
                  <a:pt x="15598" y="3001"/>
                  <a:pt x="15553" y="3076"/>
                </a:cubicBezTo>
                <a:cubicBezTo>
                  <a:pt x="15526" y="3121"/>
                  <a:pt x="15429" y="3223"/>
                  <a:pt x="15379" y="3249"/>
                </a:cubicBezTo>
                <a:cubicBezTo>
                  <a:pt x="15295" y="3292"/>
                  <a:pt x="15239" y="3352"/>
                  <a:pt x="15156" y="3398"/>
                </a:cubicBezTo>
                <a:cubicBezTo>
                  <a:pt x="15139" y="3406"/>
                  <a:pt x="15123" y="3415"/>
                  <a:pt x="15106" y="3423"/>
                </a:cubicBezTo>
                <a:cubicBezTo>
                  <a:pt x="15168" y="3441"/>
                  <a:pt x="15250" y="3423"/>
                  <a:pt x="15329" y="3423"/>
                </a:cubicBezTo>
                <a:cubicBezTo>
                  <a:pt x="15421" y="3423"/>
                  <a:pt x="15451" y="3432"/>
                  <a:pt x="15528" y="3473"/>
                </a:cubicBezTo>
                <a:cubicBezTo>
                  <a:pt x="15581" y="3501"/>
                  <a:pt x="15634" y="3583"/>
                  <a:pt x="15627" y="3646"/>
                </a:cubicBezTo>
                <a:cubicBezTo>
                  <a:pt x="15615" y="3751"/>
                  <a:pt x="15512" y="3842"/>
                  <a:pt x="15429" y="3894"/>
                </a:cubicBezTo>
                <a:cubicBezTo>
                  <a:pt x="15355" y="3941"/>
                  <a:pt x="15214" y="4002"/>
                  <a:pt x="15131" y="3994"/>
                </a:cubicBezTo>
                <a:cubicBezTo>
                  <a:pt x="15041" y="3985"/>
                  <a:pt x="15020" y="3946"/>
                  <a:pt x="14982" y="3870"/>
                </a:cubicBezTo>
              </a:path>
              <a:path w="2953" h="1440">
                <a:moveTo>
                  <a:pt x="15776" y="3051"/>
                </a:moveTo>
                <a:cubicBezTo>
                  <a:pt x="15831" y="3218"/>
                  <a:pt x="15819" y="3278"/>
                  <a:pt x="15776" y="3448"/>
                </a:cubicBezTo>
                <a:cubicBezTo>
                  <a:pt x="15750" y="3552"/>
                  <a:pt x="15685" y="3687"/>
                  <a:pt x="15701" y="3795"/>
                </a:cubicBezTo>
                <a:cubicBezTo>
                  <a:pt x="15718" y="3912"/>
                  <a:pt x="15772" y="3946"/>
                  <a:pt x="15850" y="4018"/>
                </a:cubicBezTo>
                <a:cubicBezTo>
                  <a:pt x="15945" y="4105"/>
                  <a:pt x="16015" y="4030"/>
                  <a:pt x="16073" y="3969"/>
                </a:cubicBezTo>
                <a:cubicBezTo>
                  <a:pt x="16122" y="3917"/>
                  <a:pt x="16181" y="3843"/>
                  <a:pt x="16197" y="3770"/>
                </a:cubicBezTo>
                <a:cubicBezTo>
                  <a:pt x="16217" y="3676"/>
                  <a:pt x="16147" y="3650"/>
                  <a:pt x="16073" y="3646"/>
                </a:cubicBezTo>
                <a:cubicBezTo>
                  <a:pt x="15999" y="3642"/>
                  <a:pt x="15947" y="3729"/>
                  <a:pt x="15925" y="3795"/>
                </a:cubicBezTo>
                <a:cubicBezTo>
                  <a:pt x="15901" y="3867"/>
                  <a:pt x="15876" y="3980"/>
                  <a:pt x="15925" y="4043"/>
                </a:cubicBezTo>
                <a:cubicBezTo>
                  <a:pt x="15947" y="4066"/>
                  <a:pt x="15952" y="4074"/>
                  <a:pt x="15974" y="4068"/>
                </a:cubicBezTo>
              </a:path>
              <a:path w="2953" h="1440">
                <a:moveTo>
                  <a:pt x="16297" y="2977"/>
                </a:moveTo>
                <a:cubicBezTo>
                  <a:pt x="16297" y="3018"/>
                  <a:pt x="16297" y="3060"/>
                  <a:pt x="16297" y="3101"/>
                </a:cubicBezTo>
                <a:cubicBezTo>
                  <a:pt x="16360" y="3095"/>
                  <a:pt x="16437" y="3096"/>
                  <a:pt x="16470" y="3026"/>
                </a:cubicBezTo>
                <a:cubicBezTo>
                  <a:pt x="16503" y="2955"/>
                  <a:pt x="16511" y="2865"/>
                  <a:pt x="16421" y="2828"/>
                </a:cubicBezTo>
                <a:cubicBezTo>
                  <a:pt x="16404" y="2828"/>
                  <a:pt x="16388" y="2828"/>
                  <a:pt x="16371" y="28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Ink 5"/>
          <p:cNvSpPr/>
          <p:nvPr/>
        </p:nvSpPr>
        <p:spPr>
          <a:xfrm>
            <a:off x="4697280" y="1697040"/>
            <a:ext cx="500040" cy="1116000"/>
          </a:xfrm>
          <a:custGeom>
            <a:avLst/>
            <a:gdLst/>
            <a:ahLst/>
            <a:rect l="l" t="t" r="r" b="b"/>
            <a:pathLst>
              <a:path w="1390" h="3101">
                <a:moveTo>
                  <a:pt x="13593" y="4911"/>
                </a:moveTo>
                <a:cubicBezTo>
                  <a:pt x="13630" y="4985"/>
                  <a:pt x="13640" y="5070"/>
                  <a:pt x="13643" y="5159"/>
                </a:cubicBezTo>
                <a:cubicBezTo>
                  <a:pt x="13646" y="5259"/>
                  <a:pt x="13685" y="5353"/>
                  <a:pt x="13667" y="5457"/>
                </a:cubicBezTo>
                <a:cubicBezTo>
                  <a:pt x="13651" y="5552"/>
                  <a:pt x="13643" y="5632"/>
                  <a:pt x="13643" y="5730"/>
                </a:cubicBezTo>
                <a:cubicBezTo>
                  <a:pt x="13643" y="5779"/>
                  <a:pt x="13643" y="5796"/>
                  <a:pt x="13643" y="5829"/>
                </a:cubicBezTo>
                <a:cubicBezTo>
                  <a:pt x="13612" y="5756"/>
                  <a:pt x="13635" y="5685"/>
                  <a:pt x="13618" y="5606"/>
                </a:cubicBezTo>
                <a:cubicBezTo>
                  <a:pt x="13592" y="5486"/>
                  <a:pt x="13573" y="5357"/>
                  <a:pt x="13568" y="5234"/>
                </a:cubicBezTo>
                <a:cubicBezTo>
                  <a:pt x="13564" y="5115"/>
                  <a:pt x="13533" y="5004"/>
                  <a:pt x="13568" y="4887"/>
                </a:cubicBezTo>
                <a:cubicBezTo>
                  <a:pt x="13586" y="4827"/>
                  <a:pt x="13629" y="4732"/>
                  <a:pt x="13692" y="4713"/>
                </a:cubicBezTo>
                <a:cubicBezTo>
                  <a:pt x="13767" y="4691"/>
                  <a:pt x="13846" y="4728"/>
                  <a:pt x="13891" y="4787"/>
                </a:cubicBezTo>
                <a:cubicBezTo>
                  <a:pt x="13963" y="4882"/>
                  <a:pt x="13860" y="4982"/>
                  <a:pt x="13816" y="5060"/>
                </a:cubicBezTo>
                <a:cubicBezTo>
                  <a:pt x="13759" y="5163"/>
                  <a:pt x="13711" y="5193"/>
                  <a:pt x="13618" y="5259"/>
                </a:cubicBezTo>
                <a:cubicBezTo>
                  <a:pt x="13578" y="5287"/>
                  <a:pt x="13539" y="5310"/>
                  <a:pt x="13494" y="5333"/>
                </a:cubicBezTo>
                <a:cubicBezTo>
                  <a:pt x="13432" y="5395"/>
                  <a:pt x="13541" y="5288"/>
                  <a:pt x="13568" y="5283"/>
                </a:cubicBezTo>
                <a:cubicBezTo>
                  <a:pt x="13680" y="5263"/>
                  <a:pt x="13772" y="5302"/>
                  <a:pt x="13866" y="5358"/>
                </a:cubicBezTo>
                <a:cubicBezTo>
                  <a:pt x="13939" y="5402"/>
                  <a:pt x="13985" y="5449"/>
                  <a:pt x="13990" y="5531"/>
                </a:cubicBezTo>
                <a:cubicBezTo>
                  <a:pt x="13995" y="5618"/>
                  <a:pt x="13987" y="5672"/>
                  <a:pt x="13915" y="5730"/>
                </a:cubicBezTo>
                <a:cubicBezTo>
                  <a:pt x="13787" y="5834"/>
                  <a:pt x="13704" y="5893"/>
                  <a:pt x="13519" y="5904"/>
                </a:cubicBezTo>
                <a:cubicBezTo>
                  <a:pt x="13494" y="5879"/>
                  <a:pt x="13486" y="5871"/>
                  <a:pt x="13469" y="5854"/>
                </a:cubicBezTo>
              </a:path>
              <a:path w="1390" h="3101">
                <a:moveTo>
                  <a:pt x="13965" y="5333"/>
                </a:moveTo>
                <a:cubicBezTo>
                  <a:pt x="14063" y="5298"/>
                  <a:pt x="14147" y="5279"/>
                  <a:pt x="14238" y="5234"/>
                </a:cubicBezTo>
              </a:path>
              <a:path w="1390" h="3101">
                <a:moveTo>
                  <a:pt x="14114" y="5482"/>
                </a:moveTo>
                <a:cubicBezTo>
                  <a:pt x="14203" y="5490"/>
                  <a:pt x="14268" y="5466"/>
                  <a:pt x="14362" y="5432"/>
                </a:cubicBezTo>
              </a:path>
              <a:path w="1390" h="3101">
                <a:moveTo>
                  <a:pt x="13891" y="6325"/>
                </a:moveTo>
                <a:cubicBezTo>
                  <a:pt x="13899" y="6388"/>
                  <a:pt x="13909" y="6434"/>
                  <a:pt x="13915" y="6499"/>
                </a:cubicBezTo>
                <a:cubicBezTo>
                  <a:pt x="14022" y="6577"/>
                  <a:pt x="13934" y="6478"/>
                  <a:pt x="13891" y="6424"/>
                </a:cubicBezTo>
                <a:cubicBezTo>
                  <a:pt x="13858" y="6382"/>
                  <a:pt x="13791" y="6290"/>
                  <a:pt x="13742" y="6276"/>
                </a:cubicBezTo>
                <a:cubicBezTo>
                  <a:pt x="13678" y="6258"/>
                  <a:pt x="13600" y="6280"/>
                  <a:pt x="13543" y="6300"/>
                </a:cubicBezTo>
                <a:cubicBezTo>
                  <a:pt x="13429" y="6339"/>
                  <a:pt x="13381" y="6388"/>
                  <a:pt x="13295" y="6474"/>
                </a:cubicBezTo>
                <a:cubicBezTo>
                  <a:pt x="13172" y="6598"/>
                  <a:pt x="13120" y="6714"/>
                  <a:pt x="13072" y="6871"/>
                </a:cubicBezTo>
                <a:cubicBezTo>
                  <a:pt x="13039" y="6981"/>
                  <a:pt x="13028" y="7128"/>
                  <a:pt x="13047" y="7243"/>
                </a:cubicBezTo>
                <a:cubicBezTo>
                  <a:pt x="13068" y="7370"/>
                  <a:pt x="13119" y="7488"/>
                  <a:pt x="13196" y="7590"/>
                </a:cubicBezTo>
                <a:cubicBezTo>
                  <a:pt x="13258" y="7673"/>
                  <a:pt x="13359" y="7723"/>
                  <a:pt x="13444" y="7764"/>
                </a:cubicBezTo>
                <a:cubicBezTo>
                  <a:pt x="13567" y="7823"/>
                  <a:pt x="13709" y="7813"/>
                  <a:pt x="13841" y="7813"/>
                </a:cubicBezTo>
              </a:path>
              <a:path w="1390" h="3101">
                <a:moveTo>
                  <a:pt x="14263" y="7094"/>
                </a:moveTo>
                <a:cubicBezTo>
                  <a:pt x="14342" y="7114"/>
                  <a:pt x="14350" y="7101"/>
                  <a:pt x="14436" y="7069"/>
                </a:cubicBezTo>
              </a:path>
              <a:path w="1390" h="3101">
                <a:moveTo>
                  <a:pt x="14213" y="7268"/>
                </a:moveTo>
                <a:cubicBezTo>
                  <a:pt x="14241" y="7296"/>
                  <a:pt x="14255" y="7305"/>
                  <a:pt x="14288" y="72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Ink 6"/>
          <p:cNvSpPr/>
          <p:nvPr/>
        </p:nvSpPr>
        <p:spPr>
          <a:xfrm>
            <a:off x="5330880" y="5180040"/>
            <a:ext cx="260280" cy="338040"/>
          </a:xfrm>
          <a:custGeom>
            <a:avLst/>
            <a:gdLst/>
            <a:ahLst/>
            <a:rect l="l" t="t" r="r" b="b"/>
            <a:pathLst>
              <a:path w="721" h="943">
                <a:moveTo>
                  <a:pt x="14908" y="14387"/>
                </a:moveTo>
                <a:cubicBezTo>
                  <a:pt x="14908" y="14540"/>
                  <a:pt x="14898" y="14689"/>
                  <a:pt x="14883" y="14833"/>
                </a:cubicBezTo>
                <a:cubicBezTo>
                  <a:pt x="14874" y="14918"/>
                  <a:pt x="14878" y="15022"/>
                  <a:pt x="14858" y="15106"/>
                </a:cubicBezTo>
                <a:cubicBezTo>
                  <a:pt x="14842" y="15175"/>
                  <a:pt x="14769" y="15206"/>
                  <a:pt x="14833" y="15205"/>
                </a:cubicBezTo>
              </a:path>
              <a:path w="721" h="943">
                <a:moveTo>
                  <a:pt x="15106" y="14412"/>
                </a:moveTo>
                <a:cubicBezTo>
                  <a:pt x="15177" y="14385"/>
                  <a:pt x="15233" y="14369"/>
                  <a:pt x="15304" y="14412"/>
                </a:cubicBezTo>
                <a:cubicBezTo>
                  <a:pt x="15338" y="14433"/>
                  <a:pt x="15418" y="14523"/>
                  <a:pt x="15429" y="14560"/>
                </a:cubicBezTo>
                <a:cubicBezTo>
                  <a:pt x="15454" y="14644"/>
                  <a:pt x="15376" y="14667"/>
                  <a:pt x="15329" y="14709"/>
                </a:cubicBezTo>
                <a:cubicBezTo>
                  <a:pt x="15286" y="14747"/>
                  <a:pt x="15213" y="14752"/>
                  <a:pt x="15156" y="14759"/>
                </a:cubicBezTo>
                <a:cubicBezTo>
                  <a:pt x="15234" y="14748"/>
                  <a:pt x="15247" y="14730"/>
                  <a:pt x="15329" y="14759"/>
                </a:cubicBezTo>
                <a:cubicBezTo>
                  <a:pt x="15435" y="14796"/>
                  <a:pt x="15473" y="14818"/>
                  <a:pt x="15503" y="14932"/>
                </a:cubicBezTo>
                <a:cubicBezTo>
                  <a:pt x="15523" y="15007"/>
                  <a:pt x="15551" y="15148"/>
                  <a:pt x="15528" y="15230"/>
                </a:cubicBezTo>
                <a:cubicBezTo>
                  <a:pt x="15510" y="15296"/>
                  <a:pt x="15465" y="15326"/>
                  <a:pt x="15404" y="15329"/>
                </a:cubicBezTo>
                <a:cubicBezTo>
                  <a:pt x="15293" y="15334"/>
                  <a:pt x="15200" y="15299"/>
                  <a:pt x="15131" y="15230"/>
                </a:cubicBezTo>
                <a:cubicBezTo>
                  <a:pt x="15090" y="15189"/>
                  <a:pt x="15052" y="15165"/>
                  <a:pt x="15007" y="15131"/>
                </a:cubicBezTo>
                <a:cubicBezTo>
                  <a:pt x="14973" y="15097"/>
                  <a:pt x="14965" y="15076"/>
                  <a:pt x="14982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Ink 7"/>
          <p:cNvSpPr/>
          <p:nvPr/>
        </p:nvSpPr>
        <p:spPr>
          <a:xfrm>
            <a:off x="5322960" y="1724040"/>
            <a:ext cx="507960" cy="1089000"/>
          </a:xfrm>
          <a:custGeom>
            <a:avLst/>
            <a:gdLst/>
            <a:ahLst/>
            <a:rect l="l" t="t" r="r" b="b"/>
            <a:pathLst>
              <a:path w="1414" h="3027">
                <a:moveTo>
                  <a:pt x="14808" y="4911"/>
                </a:moveTo>
                <a:cubicBezTo>
                  <a:pt x="14808" y="5064"/>
                  <a:pt x="14824" y="5204"/>
                  <a:pt x="14833" y="5358"/>
                </a:cubicBezTo>
                <a:cubicBezTo>
                  <a:pt x="14843" y="5528"/>
                  <a:pt x="14822" y="5689"/>
                  <a:pt x="14808" y="5854"/>
                </a:cubicBezTo>
                <a:cubicBezTo>
                  <a:pt x="14801" y="5935"/>
                  <a:pt x="14808" y="6021"/>
                  <a:pt x="14808" y="6102"/>
                </a:cubicBezTo>
                <a:cubicBezTo>
                  <a:pt x="14777" y="6049"/>
                  <a:pt x="14784" y="6022"/>
                  <a:pt x="14784" y="5953"/>
                </a:cubicBezTo>
              </a:path>
              <a:path w="1414" h="3027">
                <a:moveTo>
                  <a:pt x="15106" y="4961"/>
                </a:moveTo>
                <a:cubicBezTo>
                  <a:pt x="15101" y="5050"/>
                  <a:pt x="15092" y="5153"/>
                  <a:pt x="15056" y="5234"/>
                </a:cubicBezTo>
                <a:cubicBezTo>
                  <a:pt x="15037" y="5275"/>
                  <a:pt x="14981" y="5316"/>
                  <a:pt x="14957" y="5358"/>
                </a:cubicBezTo>
                <a:cubicBezTo>
                  <a:pt x="15031" y="5395"/>
                  <a:pt x="15116" y="5403"/>
                  <a:pt x="15205" y="5407"/>
                </a:cubicBezTo>
                <a:cubicBezTo>
                  <a:pt x="15288" y="5410"/>
                  <a:pt x="15294" y="5430"/>
                  <a:pt x="15379" y="5383"/>
                </a:cubicBezTo>
                <a:cubicBezTo>
                  <a:pt x="15429" y="5358"/>
                  <a:pt x="15445" y="5350"/>
                  <a:pt x="15453" y="5308"/>
                </a:cubicBezTo>
              </a:path>
              <a:path w="1414" h="3027">
                <a:moveTo>
                  <a:pt x="15354" y="4787"/>
                </a:moveTo>
                <a:cubicBezTo>
                  <a:pt x="15325" y="4926"/>
                  <a:pt x="15304" y="5042"/>
                  <a:pt x="15304" y="5184"/>
                </a:cubicBezTo>
                <a:cubicBezTo>
                  <a:pt x="15304" y="5350"/>
                  <a:pt x="15304" y="6150"/>
                  <a:pt x="15304" y="5904"/>
                </a:cubicBezTo>
                <a:cubicBezTo>
                  <a:pt x="15304" y="5879"/>
                  <a:pt x="15304" y="5854"/>
                  <a:pt x="15304" y="5829"/>
                </a:cubicBezTo>
              </a:path>
              <a:path w="1414" h="3027">
                <a:moveTo>
                  <a:pt x="15478" y="4887"/>
                </a:moveTo>
                <a:cubicBezTo>
                  <a:pt x="15484" y="4994"/>
                  <a:pt x="15476" y="5045"/>
                  <a:pt x="15528" y="5135"/>
                </a:cubicBezTo>
                <a:cubicBezTo>
                  <a:pt x="15623" y="5124"/>
                  <a:pt x="15657" y="5119"/>
                  <a:pt x="15701" y="5035"/>
                </a:cubicBezTo>
                <a:cubicBezTo>
                  <a:pt x="15741" y="4959"/>
                  <a:pt x="15774" y="4882"/>
                  <a:pt x="15751" y="4812"/>
                </a:cubicBezTo>
                <a:cubicBezTo>
                  <a:pt x="15706" y="4789"/>
                  <a:pt x="15669" y="4829"/>
                  <a:pt x="15602" y="4837"/>
                </a:cubicBezTo>
              </a:path>
              <a:path w="1414" h="3027">
                <a:moveTo>
                  <a:pt x="14908" y="6772"/>
                </a:moveTo>
                <a:cubicBezTo>
                  <a:pt x="14928" y="6914"/>
                  <a:pt x="14932" y="7049"/>
                  <a:pt x="14932" y="7193"/>
                </a:cubicBezTo>
                <a:cubicBezTo>
                  <a:pt x="14932" y="7276"/>
                  <a:pt x="14924" y="7384"/>
                  <a:pt x="14908" y="7466"/>
                </a:cubicBezTo>
                <a:cubicBezTo>
                  <a:pt x="14889" y="7560"/>
                  <a:pt x="14863" y="7643"/>
                  <a:pt x="14858" y="7739"/>
                </a:cubicBezTo>
                <a:cubicBezTo>
                  <a:pt x="14856" y="7786"/>
                  <a:pt x="14852" y="7855"/>
                  <a:pt x="14833" y="7764"/>
                </a:cubicBezTo>
              </a:path>
              <a:path w="1414" h="3027">
                <a:moveTo>
                  <a:pt x="15131" y="6945"/>
                </a:moveTo>
                <a:cubicBezTo>
                  <a:pt x="15185" y="6859"/>
                  <a:pt x="15232" y="6794"/>
                  <a:pt x="15304" y="6722"/>
                </a:cubicBezTo>
                <a:cubicBezTo>
                  <a:pt x="15342" y="6684"/>
                  <a:pt x="15436" y="6680"/>
                  <a:pt x="15478" y="6722"/>
                </a:cubicBezTo>
                <a:cubicBezTo>
                  <a:pt x="15532" y="6777"/>
                  <a:pt x="15506" y="6870"/>
                  <a:pt x="15478" y="6921"/>
                </a:cubicBezTo>
                <a:cubicBezTo>
                  <a:pt x="15446" y="6981"/>
                  <a:pt x="15425" y="7044"/>
                  <a:pt x="15379" y="7094"/>
                </a:cubicBezTo>
                <a:cubicBezTo>
                  <a:pt x="15368" y="7106"/>
                  <a:pt x="15262" y="7211"/>
                  <a:pt x="15329" y="7144"/>
                </a:cubicBezTo>
                <a:cubicBezTo>
                  <a:pt x="15352" y="7121"/>
                  <a:pt x="15467" y="7082"/>
                  <a:pt x="15503" y="7094"/>
                </a:cubicBezTo>
                <a:cubicBezTo>
                  <a:pt x="15561" y="7113"/>
                  <a:pt x="15611" y="7185"/>
                  <a:pt x="15627" y="7243"/>
                </a:cubicBezTo>
                <a:cubicBezTo>
                  <a:pt x="15665" y="7380"/>
                  <a:pt x="15635" y="7472"/>
                  <a:pt x="15577" y="7590"/>
                </a:cubicBezTo>
                <a:cubicBezTo>
                  <a:pt x="15551" y="7643"/>
                  <a:pt x="15484" y="7734"/>
                  <a:pt x="15429" y="7764"/>
                </a:cubicBezTo>
                <a:cubicBezTo>
                  <a:pt x="15378" y="7792"/>
                  <a:pt x="15263" y="7805"/>
                  <a:pt x="15205" y="7789"/>
                </a:cubicBezTo>
                <a:cubicBezTo>
                  <a:pt x="15127" y="7767"/>
                  <a:pt x="15138" y="7705"/>
                  <a:pt x="15131" y="7640"/>
                </a:cubicBezTo>
              </a:path>
              <a:path w="1414" h="3027">
                <a:moveTo>
                  <a:pt x="15751" y="6772"/>
                </a:moveTo>
                <a:cubicBezTo>
                  <a:pt x="15751" y="6878"/>
                  <a:pt x="15747" y="6992"/>
                  <a:pt x="15726" y="7094"/>
                </a:cubicBezTo>
                <a:cubicBezTo>
                  <a:pt x="15705" y="7194"/>
                  <a:pt x="15681" y="7312"/>
                  <a:pt x="15701" y="7417"/>
                </a:cubicBezTo>
                <a:cubicBezTo>
                  <a:pt x="15711" y="7472"/>
                  <a:pt x="15727" y="7629"/>
                  <a:pt x="15776" y="7665"/>
                </a:cubicBezTo>
                <a:cubicBezTo>
                  <a:pt x="15823" y="7699"/>
                  <a:pt x="15931" y="7693"/>
                  <a:pt x="15974" y="7665"/>
                </a:cubicBezTo>
                <a:cubicBezTo>
                  <a:pt x="16070" y="7603"/>
                  <a:pt x="16065" y="7413"/>
                  <a:pt x="16073" y="7317"/>
                </a:cubicBezTo>
                <a:cubicBezTo>
                  <a:pt x="16080" y="7227"/>
                  <a:pt x="16070" y="7130"/>
                  <a:pt x="16049" y="7045"/>
                </a:cubicBezTo>
                <a:cubicBezTo>
                  <a:pt x="16027" y="6957"/>
                  <a:pt x="15973" y="6915"/>
                  <a:pt x="15900" y="6871"/>
                </a:cubicBezTo>
                <a:cubicBezTo>
                  <a:pt x="15850" y="6841"/>
                  <a:pt x="15803" y="6833"/>
                  <a:pt x="15776" y="6796"/>
                </a:cubicBezTo>
              </a:path>
              <a:path w="1414" h="3027">
                <a:moveTo>
                  <a:pt x="16024" y="6449"/>
                </a:moveTo>
                <a:cubicBezTo>
                  <a:pt x="16033" y="6544"/>
                  <a:pt x="16037" y="6615"/>
                  <a:pt x="16148" y="6548"/>
                </a:cubicBezTo>
                <a:cubicBezTo>
                  <a:pt x="16237" y="6495"/>
                  <a:pt x="16176" y="6445"/>
                  <a:pt x="16123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Ink 8"/>
          <p:cNvSpPr/>
          <p:nvPr/>
        </p:nvSpPr>
        <p:spPr>
          <a:xfrm>
            <a:off x="544680" y="2071800"/>
            <a:ext cx="2143080" cy="1438200"/>
          </a:xfrm>
          <a:custGeom>
            <a:avLst/>
            <a:gdLst/>
            <a:ahLst/>
            <a:rect l="l" t="t" r="r" b="b"/>
            <a:pathLst>
              <a:path w="5954" h="3994">
                <a:moveTo>
                  <a:pt x="1984" y="6325"/>
                </a:moveTo>
                <a:cubicBezTo>
                  <a:pt x="1925" y="6265"/>
                  <a:pt x="1898" y="6254"/>
                  <a:pt x="1811" y="6251"/>
                </a:cubicBezTo>
                <a:cubicBezTo>
                  <a:pt x="1763" y="6249"/>
                  <a:pt x="1618" y="6278"/>
                  <a:pt x="1588" y="6325"/>
                </a:cubicBezTo>
                <a:cubicBezTo>
                  <a:pt x="1565" y="6361"/>
                  <a:pt x="1590" y="6461"/>
                  <a:pt x="1637" y="6474"/>
                </a:cubicBezTo>
                <a:cubicBezTo>
                  <a:pt x="1705" y="6494"/>
                  <a:pt x="1748" y="6508"/>
                  <a:pt x="1811" y="6548"/>
                </a:cubicBezTo>
                <a:cubicBezTo>
                  <a:pt x="1865" y="6583"/>
                  <a:pt x="1971" y="6622"/>
                  <a:pt x="1984" y="6697"/>
                </a:cubicBezTo>
                <a:cubicBezTo>
                  <a:pt x="2006" y="6823"/>
                  <a:pt x="1945" y="6817"/>
                  <a:pt x="1860" y="6846"/>
                </a:cubicBezTo>
                <a:cubicBezTo>
                  <a:pt x="1778" y="6873"/>
                  <a:pt x="1637" y="6894"/>
                  <a:pt x="1563" y="6846"/>
                </a:cubicBezTo>
                <a:cubicBezTo>
                  <a:pt x="1517" y="6816"/>
                  <a:pt x="1513" y="6773"/>
                  <a:pt x="1513" y="6722"/>
                </a:cubicBezTo>
              </a:path>
              <a:path w="5954" h="3994">
                <a:moveTo>
                  <a:pt x="2232" y="6449"/>
                </a:moveTo>
                <a:cubicBezTo>
                  <a:pt x="2232" y="6534"/>
                  <a:pt x="2232" y="6875"/>
                  <a:pt x="2232" y="6796"/>
                </a:cubicBezTo>
              </a:path>
              <a:path w="5954" h="3994">
                <a:moveTo>
                  <a:pt x="2282" y="6201"/>
                </a:moveTo>
                <a:cubicBezTo>
                  <a:pt x="2290" y="6185"/>
                  <a:pt x="2299" y="6168"/>
                  <a:pt x="2307" y="6152"/>
                </a:cubicBezTo>
              </a:path>
              <a:path w="5954" h="3994">
                <a:moveTo>
                  <a:pt x="2480" y="6623"/>
                </a:moveTo>
                <a:cubicBezTo>
                  <a:pt x="2480" y="6689"/>
                  <a:pt x="2480" y="6755"/>
                  <a:pt x="2480" y="6821"/>
                </a:cubicBezTo>
                <a:cubicBezTo>
                  <a:pt x="2508" y="6746"/>
                  <a:pt x="2521" y="6653"/>
                  <a:pt x="2530" y="6573"/>
                </a:cubicBezTo>
                <a:cubicBezTo>
                  <a:pt x="2538" y="6499"/>
                  <a:pt x="2542" y="6382"/>
                  <a:pt x="2654" y="6400"/>
                </a:cubicBezTo>
                <a:cubicBezTo>
                  <a:pt x="2700" y="6407"/>
                  <a:pt x="2802" y="6494"/>
                  <a:pt x="2828" y="6524"/>
                </a:cubicBezTo>
                <a:cubicBezTo>
                  <a:pt x="2879" y="6582"/>
                  <a:pt x="2865" y="6824"/>
                  <a:pt x="2877" y="6747"/>
                </a:cubicBezTo>
                <a:cubicBezTo>
                  <a:pt x="2877" y="6722"/>
                  <a:pt x="2877" y="6697"/>
                  <a:pt x="2877" y="6672"/>
                </a:cubicBezTo>
              </a:path>
              <a:path w="5954" h="3994">
                <a:moveTo>
                  <a:pt x="3051" y="6077"/>
                </a:moveTo>
                <a:cubicBezTo>
                  <a:pt x="3134" y="6030"/>
                  <a:pt x="3117" y="6018"/>
                  <a:pt x="3200" y="6028"/>
                </a:cubicBezTo>
                <a:cubicBezTo>
                  <a:pt x="3290" y="6039"/>
                  <a:pt x="3294" y="6060"/>
                  <a:pt x="3299" y="6152"/>
                </a:cubicBezTo>
                <a:cubicBezTo>
                  <a:pt x="3304" y="6260"/>
                  <a:pt x="3246" y="6296"/>
                  <a:pt x="3175" y="6350"/>
                </a:cubicBezTo>
                <a:cubicBezTo>
                  <a:pt x="3148" y="6370"/>
                  <a:pt x="3125" y="6400"/>
                  <a:pt x="3101" y="6424"/>
                </a:cubicBezTo>
                <a:cubicBezTo>
                  <a:pt x="3187" y="6412"/>
                  <a:pt x="3206" y="6409"/>
                  <a:pt x="3299" y="6449"/>
                </a:cubicBezTo>
                <a:cubicBezTo>
                  <a:pt x="3361" y="6475"/>
                  <a:pt x="3408" y="6530"/>
                  <a:pt x="3423" y="6598"/>
                </a:cubicBezTo>
                <a:cubicBezTo>
                  <a:pt x="3446" y="6700"/>
                  <a:pt x="3337" y="6747"/>
                  <a:pt x="3274" y="6796"/>
                </a:cubicBezTo>
                <a:cubicBezTo>
                  <a:pt x="3220" y="6838"/>
                  <a:pt x="3136" y="6832"/>
                  <a:pt x="3076" y="6796"/>
                </a:cubicBezTo>
                <a:cubicBezTo>
                  <a:pt x="3024" y="6764"/>
                  <a:pt x="3055" y="6731"/>
                  <a:pt x="3076" y="6697"/>
                </a:cubicBezTo>
              </a:path>
              <a:path w="5954" h="3994">
                <a:moveTo>
                  <a:pt x="3597" y="6052"/>
                </a:moveTo>
                <a:cubicBezTo>
                  <a:pt x="3597" y="6140"/>
                  <a:pt x="3581" y="6216"/>
                  <a:pt x="3572" y="6300"/>
                </a:cubicBezTo>
                <a:cubicBezTo>
                  <a:pt x="3560" y="6410"/>
                  <a:pt x="3521" y="6537"/>
                  <a:pt x="3547" y="6648"/>
                </a:cubicBezTo>
                <a:cubicBezTo>
                  <a:pt x="3571" y="6751"/>
                  <a:pt x="3628" y="6837"/>
                  <a:pt x="3721" y="6846"/>
                </a:cubicBezTo>
                <a:cubicBezTo>
                  <a:pt x="3820" y="6856"/>
                  <a:pt x="3789" y="6774"/>
                  <a:pt x="3845" y="6722"/>
                </a:cubicBezTo>
                <a:cubicBezTo>
                  <a:pt x="3888" y="6681"/>
                  <a:pt x="3933" y="6626"/>
                  <a:pt x="3919" y="6548"/>
                </a:cubicBezTo>
                <a:cubicBezTo>
                  <a:pt x="3897" y="6483"/>
                  <a:pt x="3898" y="6459"/>
                  <a:pt x="3845" y="6474"/>
                </a:cubicBezTo>
                <a:cubicBezTo>
                  <a:pt x="3796" y="6535"/>
                  <a:pt x="3740" y="6620"/>
                  <a:pt x="3721" y="6697"/>
                </a:cubicBezTo>
                <a:cubicBezTo>
                  <a:pt x="3699" y="6785"/>
                  <a:pt x="3749" y="6760"/>
                  <a:pt x="3795" y="6747"/>
                </a:cubicBezTo>
              </a:path>
              <a:path w="5954" h="3994">
                <a:moveTo>
                  <a:pt x="4068" y="6077"/>
                </a:moveTo>
                <a:cubicBezTo>
                  <a:pt x="4068" y="6168"/>
                  <a:pt x="4068" y="6193"/>
                  <a:pt x="4068" y="6251"/>
                </a:cubicBezTo>
                <a:cubicBezTo>
                  <a:pt x="4138" y="6275"/>
                  <a:pt x="4212" y="6302"/>
                  <a:pt x="4266" y="6226"/>
                </a:cubicBezTo>
                <a:cubicBezTo>
                  <a:pt x="4310" y="6163"/>
                  <a:pt x="4387" y="6099"/>
                  <a:pt x="4341" y="6028"/>
                </a:cubicBezTo>
                <a:cubicBezTo>
                  <a:pt x="4316" y="5989"/>
                  <a:pt x="4208" y="5991"/>
                  <a:pt x="4167" y="6003"/>
                </a:cubicBezTo>
                <a:cubicBezTo>
                  <a:pt x="4151" y="6011"/>
                  <a:pt x="4134" y="6020"/>
                  <a:pt x="4118" y="6028"/>
                </a:cubicBezTo>
              </a:path>
              <a:path w="5954" h="3994">
                <a:moveTo>
                  <a:pt x="1513" y="6995"/>
                </a:moveTo>
                <a:cubicBezTo>
                  <a:pt x="1626" y="7023"/>
                  <a:pt x="1740" y="7020"/>
                  <a:pt x="1860" y="7020"/>
                </a:cubicBezTo>
                <a:cubicBezTo>
                  <a:pt x="2094" y="7020"/>
                  <a:pt x="2323" y="7006"/>
                  <a:pt x="2555" y="6995"/>
                </a:cubicBezTo>
                <a:cubicBezTo>
                  <a:pt x="3025" y="6972"/>
                  <a:pt x="3500" y="6999"/>
                  <a:pt x="3969" y="7020"/>
                </a:cubicBezTo>
                <a:cubicBezTo>
                  <a:pt x="4076" y="7025"/>
                  <a:pt x="4184" y="7020"/>
                  <a:pt x="4291" y="7020"/>
                </a:cubicBezTo>
              </a:path>
              <a:path w="5954" h="3994">
                <a:moveTo>
                  <a:pt x="2332" y="7392"/>
                </a:moveTo>
                <a:cubicBezTo>
                  <a:pt x="2353" y="7513"/>
                  <a:pt x="2356" y="7616"/>
                  <a:pt x="2356" y="7739"/>
                </a:cubicBezTo>
                <a:cubicBezTo>
                  <a:pt x="2356" y="7890"/>
                  <a:pt x="2359" y="8049"/>
                  <a:pt x="2332" y="8186"/>
                </a:cubicBezTo>
                <a:cubicBezTo>
                  <a:pt x="2332" y="8243"/>
                  <a:pt x="2332" y="8251"/>
                  <a:pt x="2332" y="8161"/>
                </a:cubicBezTo>
              </a:path>
              <a:path w="5954" h="3994">
                <a:moveTo>
                  <a:pt x="2679" y="7541"/>
                </a:moveTo>
                <a:cubicBezTo>
                  <a:pt x="2694" y="7613"/>
                  <a:pt x="2697" y="7709"/>
                  <a:pt x="2679" y="7789"/>
                </a:cubicBezTo>
                <a:cubicBezTo>
                  <a:pt x="2655" y="7900"/>
                  <a:pt x="2634" y="8004"/>
                  <a:pt x="2679" y="8111"/>
                </a:cubicBezTo>
                <a:cubicBezTo>
                  <a:pt x="2711" y="8186"/>
                  <a:pt x="2761" y="8213"/>
                  <a:pt x="2828" y="8186"/>
                </a:cubicBezTo>
                <a:cubicBezTo>
                  <a:pt x="2913" y="8151"/>
                  <a:pt x="2944" y="8069"/>
                  <a:pt x="2977" y="7987"/>
                </a:cubicBezTo>
                <a:cubicBezTo>
                  <a:pt x="3023" y="7870"/>
                  <a:pt x="2999" y="7774"/>
                  <a:pt x="2952" y="7665"/>
                </a:cubicBezTo>
                <a:cubicBezTo>
                  <a:pt x="2927" y="7608"/>
                  <a:pt x="2867" y="7548"/>
                  <a:pt x="2853" y="7491"/>
                </a:cubicBezTo>
                <a:cubicBezTo>
                  <a:pt x="2853" y="7450"/>
                  <a:pt x="2844" y="7433"/>
                  <a:pt x="2877" y="7441"/>
                </a:cubicBezTo>
              </a:path>
              <a:path w="5954" h="3994">
                <a:moveTo>
                  <a:pt x="4514" y="6896"/>
                </a:moveTo>
                <a:cubicBezTo>
                  <a:pt x="4558" y="6918"/>
                  <a:pt x="4570" y="6931"/>
                  <a:pt x="4589" y="6896"/>
                </a:cubicBezTo>
                <a:cubicBezTo>
                  <a:pt x="4644" y="6929"/>
                  <a:pt x="4694" y="6921"/>
                  <a:pt x="4762" y="6921"/>
                </a:cubicBezTo>
              </a:path>
              <a:path w="5954" h="3994">
                <a:moveTo>
                  <a:pt x="4589" y="7069"/>
                </a:moveTo>
                <a:cubicBezTo>
                  <a:pt x="4681" y="7095"/>
                  <a:pt x="4743" y="7119"/>
                  <a:pt x="4837" y="7119"/>
                </a:cubicBezTo>
                <a:cubicBezTo>
                  <a:pt x="4887" y="7119"/>
                  <a:pt x="4903" y="7119"/>
                  <a:pt x="4936" y="7119"/>
                </a:cubicBezTo>
              </a:path>
              <a:path w="5954" h="3994">
                <a:moveTo>
                  <a:pt x="5904" y="6325"/>
                </a:moveTo>
                <a:cubicBezTo>
                  <a:pt x="5855" y="6349"/>
                  <a:pt x="5826" y="6304"/>
                  <a:pt x="5755" y="6300"/>
                </a:cubicBezTo>
                <a:cubicBezTo>
                  <a:pt x="5689" y="6296"/>
                  <a:pt x="5588" y="6341"/>
                  <a:pt x="5531" y="6375"/>
                </a:cubicBezTo>
                <a:cubicBezTo>
                  <a:pt x="5476" y="6407"/>
                  <a:pt x="5512" y="6520"/>
                  <a:pt x="5556" y="6548"/>
                </a:cubicBezTo>
                <a:cubicBezTo>
                  <a:pt x="5641" y="6601"/>
                  <a:pt x="5749" y="6639"/>
                  <a:pt x="5829" y="6697"/>
                </a:cubicBezTo>
                <a:cubicBezTo>
                  <a:pt x="5893" y="6743"/>
                  <a:pt x="5929" y="6808"/>
                  <a:pt x="5879" y="6871"/>
                </a:cubicBezTo>
                <a:cubicBezTo>
                  <a:pt x="5825" y="6938"/>
                  <a:pt x="5719" y="6879"/>
                  <a:pt x="5655" y="6871"/>
                </a:cubicBezTo>
                <a:cubicBezTo>
                  <a:pt x="5533" y="6856"/>
                  <a:pt x="5507" y="6844"/>
                  <a:pt x="5507" y="6722"/>
                </a:cubicBezTo>
              </a:path>
              <a:path w="5954" h="3994">
                <a:moveTo>
                  <a:pt x="6152" y="6400"/>
                </a:moveTo>
                <a:cubicBezTo>
                  <a:pt x="6146" y="6444"/>
                  <a:pt x="6096" y="6652"/>
                  <a:pt x="6102" y="6697"/>
                </a:cubicBezTo>
                <a:cubicBezTo>
                  <a:pt x="6108" y="6740"/>
                  <a:pt x="6127" y="6815"/>
                  <a:pt x="6127" y="6772"/>
                </a:cubicBezTo>
              </a:path>
              <a:path w="5954" h="3994">
                <a:moveTo>
                  <a:pt x="6127" y="6127"/>
                </a:moveTo>
                <a:lnTo>
                  <a:pt x="6127" y="6127"/>
                </a:lnTo>
              </a:path>
              <a:path w="5954" h="3994">
                <a:moveTo>
                  <a:pt x="6400" y="6697"/>
                </a:moveTo>
                <a:cubicBezTo>
                  <a:pt x="6400" y="6738"/>
                  <a:pt x="6400" y="6780"/>
                  <a:pt x="6400" y="6821"/>
                </a:cubicBezTo>
                <a:cubicBezTo>
                  <a:pt x="6400" y="6733"/>
                  <a:pt x="6413" y="6658"/>
                  <a:pt x="6424" y="6573"/>
                </a:cubicBezTo>
                <a:cubicBezTo>
                  <a:pt x="6438" y="6464"/>
                  <a:pt x="6475" y="6357"/>
                  <a:pt x="6598" y="6325"/>
                </a:cubicBezTo>
                <a:cubicBezTo>
                  <a:pt x="6634" y="6316"/>
                  <a:pt x="6685" y="6458"/>
                  <a:pt x="6697" y="6474"/>
                </a:cubicBezTo>
                <a:cubicBezTo>
                  <a:pt x="6768" y="6565"/>
                  <a:pt x="6736" y="6551"/>
                  <a:pt x="6772" y="6648"/>
                </a:cubicBezTo>
                <a:cubicBezTo>
                  <a:pt x="6788" y="6690"/>
                  <a:pt x="6782" y="6696"/>
                  <a:pt x="6772" y="6747"/>
                </a:cubicBezTo>
              </a:path>
              <a:path w="5954" h="3994">
                <a:moveTo>
                  <a:pt x="7069" y="6003"/>
                </a:moveTo>
                <a:cubicBezTo>
                  <a:pt x="7069" y="6171"/>
                  <a:pt x="7070" y="6338"/>
                  <a:pt x="7045" y="6499"/>
                </a:cubicBezTo>
                <a:cubicBezTo>
                  <a:pt x="7032" y="6582"/>
                  <a:pt x="7029" y="6728"/>
                  <a:pt x="7069" y="6796"/>
                </a:cubicBezTo>
                <a:cubicBezTo>
                  <a:pt x="7078" y="6734"/>
                  <a:pt x="7108" y="6687"/>
                  <a:pt x="7119" y="6623"/>
                </a:cubicBezTo>
                <a:cubicBezTo>
                  <a:pt x="7132" y="6545"/>
                  <a:pt x="7144" y="6483"/>
                  <a:pt x="7144" y="6400"/>
                </a:cubicBezTo>
                <a:cubicBezTo>
                  <a:pt x="7144" y="6277"/>
                  <a:pt x="7152" y="6170"/>
                  <a:pt x="7169" y="6052"/>
                </a:cubicBezTo>
                <a:cubicBezTo>
                  <a:pt x="7182" y="5962"/>
                  <a:pt x="7187" y="5838"/>
                  <a:pt x="7268" y="5779"/>
                </a:cubicBezTo>
                <a:cubicBezTo>
                  <a:pt x="7316" y="5744"/>
                  <a:pt x="7386" y="5755"/>
                  <a:pt x="7441" y="5755"/>
                </a:cubicBezTo>
                <a:cubicBezTo>
                  <a:pt x="7441" y="5886"/>
                  <a:pt x="7416" y="5955"/>
                  <a:pt x="7293" y="6028"/>
                </a:cubicBezTo>
                <a:cubicBezTo>
                  <a:pt x="7233" y="6063"/>
                  <a:pt x="7203" y="6081"/>
                  <a:pt x="7144" y="6102"/>
                </a:cubicBezTo>
                <a:cubicBezTo>
                  <a:pt x="7127" y="6110"/>
                  <a:pt x="7111" y="6119"/>
                  <a:pt x="7094" y="6127"/>
                </a:cubicBezTo>
                <a:cubicBezTo>
                  <a:pt x="7185" y="6127"/>
                  <a:pt x="7257" y="6138"/>
                  <a:pt x="7342" y="6176"/>
                </a:cubicBezTo>
                <a:cubicBezTo>
                  <a:pt x="7414" y="6208"/>
                  <a:pt x="7429" y="6302"/>
                  <a:pt x="7441" y="6375"/>
                </a:cubicBezTo>
                <a:cubicBezTo>
                  <a:pt x="7450" y="6432"/>
                  <a:pt x="7438" y="6508"/>
                  <a:pt x="7392" y="6548"/>
                </a:cubicBezTo>
                <a:cubicBezTo>
                  <a:pt x="7343" y="6590"/>
                  <a:pt x="7205" y="6650"/>
                  <a:pt x="7144" y="6648"/>
                </a:cubicBezTo>
                <a:cubicBezTo>
                  <a:pt x="7078" y="6646"/>
                  <a:pt x="7016" y="6623"/>
                  <a:pt x="6945" y="6623"/>
                </a:cubicBezTo>
              </a:path>
              <a:path w="5954" h="3994">
                <a:moveTo>
                  <a:pt x="5655" y="6945"/>
                </a:moveTo>
                <a:cubicBezTo>
                  <a:pt x="5865" y="6928"/>
                  <a:pt x="6066" y="6921"/>
                  <a:pt x="6276" y="6921"/>
                </a:cubicBezTo>
                <a:cubicBezTo>
                  <a:pt x="6511" y="6921"/>
                  <a:pt x="6761" y="6923"/>
                  <a:pt x="6995" y="6945"/>
                </a:cubicBezTo>
                <a:cubicBezTo>
                  <a:pt x="7091" y="6954"/>
                  <a:pt x="7244" y="7005"/>
                  <a:pt x="7342" y="6970"/>
                </a:cubicBezTo>
                <a:cubicBezTo>
                  <a:pt x="7393" y="6952"/>
                  <a:pt x="7294" y="6938"/>
                  <a:pt x="7243" y="6921"/>
                </a:cubicBezTo>
              </a:path>
              <a:path w="5954" h="3994">
                <a:moveTo>
                  <a:pt x="6400" y="7243"/>
                </a:moveTo>
                <a:cubicBezTo>
                  <a:pt x="6367" y="7322"/>
                  <a:pt x="6327" y="7397"/>
                  <a:pt x="6276" y="7466"/>
                </a:cubicBezTo>
                <a:cubicBezTo>
                  <a:pt x="6226" y="7533"/>
                  <a:pt x="6343" y="7555"/>
                  <a:pt x="6400" y="7565"/>
                </a:cubicBezTo>
                <a:cubicBezTo>
                  <a:pt x="6502" y="7582"/>
                  <a:pt x="6603" y="7556"/>
                  <a:pt x="6697" y="7541"/>
                </a:cubicBezTo>
                <a:cubicBezTo>
                  <a:pt x="6714" y="7541"/>
                  <a:pt x="6730" y="7541"/>
                  <a:pt x="6747" y="7541"/>
                </a:cubicBezTo>
              </a:path>
              <a:path w="5954" h="3994">
                <a:moveTo>
                  <a:pt x="6672" y="7218"/>
                </a:moveTo>
                <a:cubicBezTo>
                  <a:pt x="6644" y="7404"/>
                  <a:pt x="6589" y="7673"/>
                  <a:pt x="6598" y="7863"/>
                </a:cubicBezTo>
                <a:cubicBezTo>
                  <a:pt x="6604" y="7976"/>
                  <a:pt x="6646" y="8094"/>
                  <a:pt x="6623" y="8210"/>
                </a:cubicBezTo>
                <a:cubicBezTo>
                  <a:pt x="6601" y="8275"/>
                  <a:pt x="6593" y="8290"/>
                  <a:pt x="6598" y="8334"/>
                </a:cubicBezTo>
              </a:path>
              <a:path w="5954" h="3994">
                <a:moveTo>
                  <a:pt x="4465" y="6747"/>
                </a:moveTo>
                <a:cubicBezTo>
                  <a:pt x="4547" y="6815"/>
                  <a:pt x="4623" y="6865"/>
                  <a:pt x="4713" y="6921"/>
                </a:cubicBezTo>
                <a:cubicBezTo>
                  <a:pt x="4831" y="6994"/>
                  <a:pt x="4948" y="7064"/>
                  <a:pt x="5060" y="7144"/>
                </a:cubicBezTo>
                <a:cubicBezTo>
                  <a:pt x="5199" y="7243"/>
                  <a:pt x="5339" y="7322"/>
                  <a:pt x="5482" y="7417"/>
                </a:cubicBezTo>
                <a:cubicBezTo>
                  <a:pt x="5549" y="7461"/>
                  <a:pt x="5660" y="7567"/>
                  <a:pt x="5730" y="7590"/>
                </a:cubicBezTo>
                <a:cubicBezTo>
                  <a:pt x="5809" y="7616"/>
                  <a:pt x="5779" y="7535"/>
                  <a:pt x="5779" y="7491"/>
                </a:cubicBezTo>
              </a:path>
              <a:path w="5954" h="3994">
                <a:moveTo>
                  <a:pt x="5432" y="6672"/>
                </a:moveTo>
                <a:cubicBezTo>
                  <a:pt x="5379" y="6725"/>
                  <a:pt x="5335" y="6796"/>
                  <a:pt x="5283" y="6846"/>
                </a:cubicBezTo>
                <a:cubicBezTo>
                  <a:pt x="5146" y="6976"/>
                  <a:pt x="4991" y="7093"/>
                  <a:pt x="4837" y="7193"/>
                </a:cubicBezTo>
                <a:cubicBezTo>
                  <a:pt x="4725" y="7266"/>
                  <a:pt x="4621" y="7336"/>
                  <a:pt x="4514" y="7417"/>
                </a:cubicBezTo>
                <a:cubicBezTo>
                  <a:pt x="4489" y="7433"/>
                  <a:pt x="4465" y="7450"/>
                  <a:pt x="4440" y="7466"/>
                </a:cubicBezTo>
              </a:path>
              <a:path w="5954" h="3994">
                <a:moveTo>
                  <a:pt x="6102" y="9748"/>
                </a:moveTo>
                <a:cubicBezTo>
                  <a:pt x="6206" y="9644"/>
                  <a:pt x="6302" y="9544"/>
                  <a:pt x="6400" y="9451"/>
                </a:cubicBezTo>
                <a:cubicBezTo>
                  <a:pt x="6481" y="9373"/>
                  <a:pt x="6555" y="9240"/>
                  <a:pt x="6648" y="9178"/>
                </a:cubicBezTo>
                <a:cubicBezTo>
                  <a:pt x="6727" y="9125"/>
                  <a:pt x="6838" y="9040"/>
                  <a:pt x="6921" y="9004"/>
                </a:cubicBezTo>
                <a:cubicBezTo>
                  <a:pt x="6968" y="8984"/>
                  <a:pt x="7002" y="8960"/>
                  <a:pt x="7045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Ink 9"/>
          <p:cNvSpPr/>
          <p:nvPr/>
        </p:nvSpPr>
        <p:spPr>
          <a:xfrm>
            <a:off x="500040" y="3214800"/>
            <a:ext cx="2697120" cy="938160"/>
          </a:xfrm>
          <a:custGeom>
            <a:avLst/>
            <a:gdLst/>
            <a:ahLst/>
            <a:rect l="l" t="t" r="r" b="b"/>
            <a:pathLst>
              <a:path w="7492" h="2605">
                <a:moveTo>
                  <a:pt x="1563" y="9153"/>
                </a:moveTo>
                <a:cubicBezTo>
                  <a:pt x="1548" y="9243"/>
                  <a:pt x="1536" y="9298"/>
                  <a:pt x="1488" y="9376"/>
                </a:cubicBezTo>
                <a:cubicBezTo>
                  <a:pt x="1434" y="9465"/>
                  <a:pt x="1448" y="9433"/>
                  <a:pt x="1389" y="9475"/>
                </a:cubicBezTo>
                <a:cubicBezTo>
                  <a:pt x="1439" y="9525"/>
                  <a:pt x="1494" y="9539"/>
                  <a:pt x="1563" y="9550"/>
                </a:cubicBezTo>
                <a:cubicBezTo>
                  <a:pt x="1616" y="9558"/>
                  <a:pt x="1734" y="9609"/>
                  <a:pt x="1761" y="9599"/>
                </a:cubicBezTo>
                <a:cubicBezTo>
                  <a:pt x="1786" y="9583"/>
                  <a:pt x="1811" y="9566"/>
                  <a:pt x="1836" y="9550"/>
                </a:cubicBezTo>
              </a:path>
              <a:path w="7492" h="2605">
                <a:moveTo>
                  <a:pt x="1910" y="8954"/>
                </a:moveTo>
                <a:cubicBezTo>
                  <a:pt x="1850" y="8956"/>
                  <a:pt x="1901" y="9066"/>
                  <a:pt x="1885" y="9153"/>
                </a:cubicBezTo>
                <a:cubicBezTo>
                  <a:pt x="1863" y="9271"/>
                  <a:pt x="1853" y="9382"/>
                  <a:pt x="1836" y="9500"/>
                </a:cubicBezTo>
                <a:cubicBezTo>
                  <a:pt x="1820" y="9612"/>
                  <a:pt x="1811" y="9708"/>
                  <a:pt x="1811" y="9823"/>
                </a:cubicBezTo>
                <a:cubicBezTo>
                  <a:pt x="1811" y="9881"/>
                  <a:pt x="1811" y="9938"/>
                  <a:pt x="1811" y="9996"/>
                </a:cubicBezTo>
              </a:path>
              <a:path w="7492" h="2605">
                <a:moveTo>
                  <a:pt x="2133" y="9674"/>
                </a:moveTo>
                <a:cubicBezTo>
                  <a:pt x="2133" y="9707"/>
                  <a:pt x="2133" y="9723"/>
                  <a:pt x="2133" y="9748"/>
                </a:cubicBezTo>
              </a:path>
              <a:path w="7492" h="2605">
                <a:moveTo>
                  <a:pt x="2729" y="9451"/>
                </a:moveTo>
                <a:cubicBezTo>
                  <a:pt x="2650" y="9451"/>
                  <a:pt x="2550" y="9432"/>
                  <a:pt x="2480" y="9475"/>
                </a:cubicBezTo>
                <a:cubicBezTo>
                  <a:pt x="2410" y="9518"/>
                  <a:pt x="2439" y="9562"/>
                  <a:pt x="2480" y="9599"/>
                </a:cubicBezTo>
                <a:cubicBezTo>
                  <a:pt x="2542" y="9654"/>
                  <a:pt x="2588" y="9692"/>
                  <a:pt x="2654" y="9748"/>
                </a:cubicBezTo>
                <a:cubicBezTo>
                  <a:pt x="2677" y="9768"/>
                  <a:pt x="2754" y="9864"/>
                  <a:pt x="2753" y="9897"/>
                </a:cubicBezTo>
                <a:cubicBezTo>
                  <a:pt x="2748" y="10013"/>
                  <a:pt x="2636" y="9971"/>
                  <a:pt x="2555" y="9971"/>
                </a:cubicBezTo>
                <a:cubicBezTo>
                  <a:pt x="2480" y="9971"/>
                  <a:pt x="2460" y="9970"/>
                  <a:pt x="2431" y="9897"/>
                </a:cubicBezTo>
              </a:path>
              <a:path w="7492" h="2605">
                <a:moveTo>
                  <a:pt x="2927" y="9599"/>
                </a:moveTo>
                <a:cubicBezTo>
                  <a:pt x="2997" y="9749"/>
                  <a:pt x="3001" y="9751"/>
                  <a:pt x="3001" y="9897"/>
                </a:cubicBezTo>
                <a:cubicBezTo>
                  <a:pt x="3001" y="9988"/>
                  <a:pt x="2989" y="9997"/>
                  <a:pt x="2977" y="9922"/>
                </a:cubicBezTo>
              </a:path>
              <a:path w="7492" h="2605">
                <a:moveTo>
                  <a:pt x="3051" y="9302"/>
                </a:moveTo>
                <a:cubicBezTo>
                  <a:pt x="3051" y="9285"/>
                  <a:pt x="3051" y="9269"/>
                  <a:pt x="3051" y="9252"/>
                </a:cubicBezTo>
              </a:path>
              <a:path w="7492" h="2605">
                <a:moveTo>
                  <a:pt x="3175" y="9624"/>
                </a:moveTo>
                <a:cubicBezTo>
                  <a:pt x="3192" y="9814"/>
                  <a:pt x="3201" y="9822"/>
                  <a:pt x="3200" y="9922"/>
                </a:cubicBezTo>
                <a:cubicBezTo>
                  <a:pt x="3200" y="9855"/>
                  <a:pt x="3243" y="9776"/>
                  <a:pt x="3249" y="9748"/>
                </a:cubicBezTo>
                <a:cubicBezTo>
                  <a:pt x="3268" y="9659"/>
                  <a:pt x="3271" y="9608"/>
                  <a:pt x="3373" y="9599"/>
                </a:cubicBezTo>
                <a:cubicBezTo>
                  <a:pt x="3452" y="9592"/>
                  <a:pt x="3510" y="9600"/>
                  <a:pt x="3547" y="9674"/>
                </a:cubicBezTo>
                <a:cubicBezTo>
                  <a:pt x="3583" y="9746"/>
                  <a:pt x="3572" y="9820"/>
                  <a:pt x="3572" y="9897"/>
                </a:cubicBezTo>
                <a:cubicBezTo>
                  <a:pt x="3572" y="9958"/>
                  <a:pt x="3524" y="10014"/>
                  <a:pt x="3547" y="10071"/>
                </a:cubicBezTo>
                <a:cubicBezTo>
                  <a:pt x="3555" y="10071"/>
                  <a:pt x="3564" y="10071"/>
                  <a:pt x="3572" y="10071"/>
                </a:cubicBezTo>
              </a:path>
              <a:path w="7492" h="2605">
                <a:moveTo>
                  <a:pt x="3820" y="9376"/>
                </a:moveTo>
                <a:cubicBezTo>
                  <a:pt x="3943" y="9310"/>
                  <a:pt x="3927" y="9322"/>
                  <a:pt x="4018" y="9376"/>
                </a:cubicBezTo>
                <a:cubicBezTo>
                  <a:pt x="4055" y="9398"/>
                  <a:pt x="4139" y="9396"/>
                  <a:pt x="4118" y="9475"/>
                </a:cubicBezTo>
                <a:cubicBezTo>
                  <a:pt x="4101" y="9537"/>
                  <a:pt x="4020" y="9593"/>
                  <a:pt x="3969" y="9599"/>
                </a:cubicBezTo>
                <a:cubicBezTo>
                  <a:pt x="3885" y="9609"/>
                  <a:pt x="3852" y="9593"/>
                  <a:pt x="3894" y="9624"/>
                </a:cubicBezTo>
                <a:cubicBezTo>
                  <a:pt x="3967" y="9677"/>
                  <a:pt x="4045" y="9697"/>
                  <a:pt x="4093" y="9748"/>
                </a:cubicBezTo>
                <a:cubicBezTo>
                  <a:pt x="4157" y="9816"/>
                  <a:pt x="4204" y="9912"/>
                  <a:pt x="4093" y="9971"/>
                </a:cubicBezTo>
                <a:cubicBezTo>
                  <a:pt x="4016" y="10012"/>
                  <a:pt x="3861" y="9967"/>
                  <a:pt x="3820" y="9922"/>
                </a:cubicBezTo>
                <a:cubicBezTo>
                  <a:pt x="3786" y="9888"/>
                  <a:pt x="3778" y="9867"/>
                  <a:pt x="3795" y="9823"/>
                </a:cubicBezTo>
              </a:path>
              <a:path w="7492" h="2605">
                <a:moveTo>
                  <a:pt x="4341" y="9376"/>
                </a:moveTo>
                <a:cubicBezTo>
                  <a:pt x="4319" y="9508"/>
                  <a:pt x="4272" y="9641"/>
                  <a:pt x="4266" y="9773"/>
                </a:cubicBezTo>
                <a:cubicBezTo>
                  <a:pt x="4263" y="9838"/>
                  <a:pt x="4257" y="9926"/>
                  <a:pt x="4316" y="9971"/>
                </a:cubicBezTo>
                <a:cubicBezTo>
                  <a:pt x="4354" y="10000"/>
                  <a:pt x="4414" y="9996"/>
                  <a:pt x="4465" y="9996"/>
                </a:cubicBezTo>
                <a:cubicBezTo>
                  <a:pt x="4590" y="9996"/>
                  <a:pt x="4636" y="9995"/>
                  <a:pt x="4688" y="9897"/>
                </a:cubicBezTo>
                <a:cubicBezTo>
                  <a:pt x="4715" y="9846"/>
                  <a:pt x="4732" y="9733"/>
                  <a:pt x="4663" y="9699"/>
                </a:cubicBezTo>
                <a:cubicBezTo>
                  <a:pt x="4599" y="9667"/>
                  <a:pt x="4545" y="9714"/>
                  <a:pt x="4514" y="9748"/>
                </a:cubicBezTo>
                <a:cubicBezTo>
                  <a:pt x="4472" y="9795"/>
                  <a:pt x="4435" y="9861"/>
                  <a:pt x="4490" y="9922"/>
                </a:cubicBezTo>
                <a:cubicBezTo>
                  <a:pt x="4515" y="9938"/>
                  <a:pt x="4539" y="9955"/>
                  <a:pt x="4564" y="9971"/>
                </a:cubicBezTo>
              </a:path>
              <a:path w="7492" h="2605">
                <a:moveTo>
                  <a:pt x="4738" y="9302"/>
                </a:moveTo>
                <a:cubicBezTo>
                  <a:pt x="4748" y="9406"/>
                  <a:pt x="4791" y="9437"/>
                  <a:pt x="4911" y="9401"/>
                </a:cubicBezTo>
                <a:cubicBezTo>
                  <a:pt x="4961" y="9386"/>
                  <a:pt x="4981" y="9290"/>
                  <a:pt x="4986" y="9252"/>
                </a:cubicBezTo>
                <a:cubicBezTo>
                  <a:pt x="4935" y="9214"/>
                  <a:pt x="4880" y="9185"/>
                  <a:pt x="4812" y="9178"/>
                </a:cubicBezTo>
                <a:cubicBezTo>
                  <a:pt x="4795" y="9178"/>
                  <a:pt x="4779" y="9178"/>
                  <a:pt x="4762" y="9178"/>
                </a:cubicBezTo>
              </a:path>
              <a:path w="7492" h="2605">
                <a:moveTo>
                  <a:pt x="5159" y="9599"/>
                </a:moveTo>
                <a:cubicBezTo>
                  <a:pt x="5314" y="9580"/>
                  <a:pt x="5252" y="9580"/>
                  <a:pt x="5358" y="9550"/>
                </a:cubicBezTo>
              </a:path>
              <a:path w="7492" h="2605">
                <a:moveTo>
                  <a:pt x="5259" y="9699"/>
                </a:moveTo>
                <a:cubicBezTo>
                  <a:pt x="5339" y="9758"/>
                  <a:pt x="5378" y="9748"/>
                  <a:pt x="5482" y="9748"/>
                </a:cubicBezTo>
              </a:path>
              <a:path w="7492" h="2605">
                <a:moveTo>
                  <a:pt x="6052" y="9227"/>
                </a:moveTo>
                <a:cubicBezTo>
                  <a:pt x="6076" y="9308"/>
                  <a:pt x="6077" y="9365"/>
                  <a:pt x="6077" y="9451"/>
                </a:cubicBezTo>
                <a:cubicBezTo>
                  <a:pt x="6077" y="9601"/>
                  <a:pt x="6057" y="9748"/>
                  <a:pt x="6052" y="9897"/>
                </a:cubicBezTo>
                <a:cubicBezTo>
                  <a:pt x="6052" y="9922"/>
                  <a:pt x="6052" y="9946"/>
                  <a:pt x="6052" y="9971"/>
                </a:cubicBezTo>
              </a:path>
              <a:path w="7492" h="2605">
                <a:moveTo>
                  <a:pt x="6350" y="9252"/>
                </a:moveTo>
                <a:cubicBezTo>
                  <a:pt x="6306" y="9327"/>
                  <a:pt x="6260" y="9414"/>
                  <a:pt x="6251" y="9500"/>
                </a:cubicBezTo>
                <a:cubicBezTo>
                  <a:pt x="6244" y="9568"/>
                  <a:pt x="6239" y="9766"/>
                  <a:pt x="6276" y="9823"/>
                </a:cubicBezTo>
                <a:cubicBezTo>
                  <a:pt x="6291" y="9847"/>
                  <a:pt x="6478" y="9988"/>
                  <a:pt x="6499" y="9996"/>
                </a:cubicBezTo>
                <a:cubicBezTo>
                  <a:pt x="6597" y="10034"/>
                  <a:pt x="6653" y="9967"/>
                  <a:pt x="6722" y="9922"/>
                </a:cubicBezTo>
                <a:cubicBezTo>
                  <a:pt x="6807" y="9866"/>
                  <a:pt x="6817" y="9776"/>
                  <a:pt x="6821" y="9674"/>
                </a:cubicBezTo>
                <a:cubicBezTo>
                  <a:pt x="6825" y="9568"/>
                  <a:pt x="6823" y="9471"/>
                  <a:pt x="6772" y="9376"/>
                </a:cubicBezTo>
                <a:cubicBezTo>
                  <a:pt x="6733" y="9304"/>
                  <a:pt x="6627" y="9181"/>
                  <a:pt x="6548" y="9153"/>
                </a:cubicBezTo>
                <a:cubicBezTo>
                  <a:pt x="6450" y="9118"/>
                  <a:pt x="6388" y="9165"/>
                  <a:pt x="6325" y="9227"/>
                </a:cubicBezTo>
              </a:path>
              <a:path w="7492" h="2605">
                <a:moveTo>
                  <a:pt x="7293" y="9500"/>
                </a:moveTo>
                <a:cubicBezTo>
                  <a:pt x="7245" y="9490"/>
                  <a:pt x="7080" y="9442"/>
                  <a:pt x="7045" y="9525"/>
                </a:cubicBezTo>
                <a:cubicBezTo>
                  <a:pt x="7015" y="9596"/>
                  <a:pt x="7137" y="9636"/>
                  <a:pt x="7193" y="9674"/>
                </a:cubicBezTo>
                <a:cubicBezTo>
                  <a:pt x="7235" y="9702"/>
                  <a:pt x="7346" y="9791"/>
                  <a:pt x="7342" y="9823"/>
                </a:cubicBezTo>
                <a:cubicBezTo>
                  <a:pt x="7332" y="9901"/>
                  <a:pt x="7223" y="9897"/>
                  <a:pt x="7169" y="9897"/>
                </a:cubicBezTo>
                <a:cubicBezTo>
                  <a:pt x="7096" y="9897"/>
                  <a:pt x="7005" y="9896"/>
                  <a:pt x="6970" y="9823"/>
                </a:cubicBezTo>
                <a:cubicBezTo>
                  <a:pt x="6970" y="9806"/>
                  <a:pt x="6970" y="9790"/>
                  <a:pt x="6970" y="9773"/>
                </a:cubicBezTo>
              </a:path>
              <a:path w="7492" h="2605">
                <a:moveTo>
                  <a:pt x="7565" y="9550"/>
                </a:moveTo>
                <a:cubicBezTo>
                  <a:pt x="7565" y="9665"/>
                  <a:pt x="7544" y="9791"/>
                  <a:pt x="7590" y="9897"/>
                </a:cubicBezTo>
              </a:path>
              <a:path w="7492" h="2605">
                <a:moveTo>
                  <a:pt x="7565" y="9302"/>
                </a:moveTo>
                <a:cubicBezTo>
                  <a:pt x="7585" y="9261"/>
                  <a:pt x="7583" y="9245"/>
                  <a:pt x="7615" y="9252"/>
                </a:cubicBezTo>
              </a:path>
              <a:path w="7492" h="2605">
                <a:moveTo>
                  <a:pt x="7764" y="9823"/>
                </a:moveTo>
                <a:cubicBezTo>
                  <a:pt x="7772" y="9831"/>
                  <a:pt x="7781" y="9839"/>
                  <a:pt x="7789" y="9847"/>
                </a:cubicBezTo>
                <a:cubicBezTo>
                  <a:pt x="7789" y="9780"/>
                  <a:pt x="7779" y="9727"/>
                  <a:pt x="7813" y="9674"/>
                </a:cubicBezTo>
                <a:cubicBezTo>
                  <a:pt x="7905" y="9532"/>
                  <a:pt x="7893" y="9560"/>
                  <a:pt x="8012" y="9599"/>
                </a:cubicBezTo>
                <a:cubicBezTo>
                  <a:pt x="8093" y="9625"/>
                  <a:pt x="8098" y="9689"/>
                  <a:pt x="8136" y="9773"/>
                </a:cubicBezTo>
                <a:cubicBezTo>
                  <a:pt x="8173" y="9855"/>
                  <a:pt x="8118" y="9916"/>
                  <a:pt x="8186" y="9847"/>
                </a:cubicBezTo>
              </a:path>
              <a:path w="7492" h="2605">
                <a:moveTo>
                  <a:pt x="8359" y="9153"/>
                </a:moveTo>
                <a:cubicBezTo>
                  <a:pt x="8359" y="9330"/>
                  <a:pt x="8355" y="9502"/>
                  <a:pt x="8384" y="9674"/>
                </a:cubicBezTo>
                <a:cubicBezTo>
                  <a:pt x="8394" y="9731"/>
                  <a:pt x="8399" y="9790"/>
                  <a:pt x="8409" y="9847"/>
                </a:cubicBezTo>
                <a:cubicBezTo>
                  <a:pt x="8446" y="9775"/>
                  <a:pt x="8434" y="9686"/>
                  <a:pt x="8434" y="9599"/>
                </a:cubicBezTo>
                <a:cubicBezTo>
                  <a:pt x="8434" y="9495"/>
                  <a:pt x="8470" y="9389"/>
                  <a:pt x="8483" y="9302"/>
                </a:cubicBezTo>
                <a:cubicBezTo>
                  <a:pt x="8495" y="9221"/>
                  <a:pt x="8497" y="9147"/>
                  <a:pt x="8533" y="9079"/>
                </a:cubicBezTo>
                <a:cubicBezTo>
                  <a:pt x="8559" y="9031"/>
                  <a:pt x="8612" y="8958"/>
                  <a:pt x="8682" y="9004"/>
                </a:cubicBezTo>
                <a:cubicBezTo>
                  <a:pt x="8800" y="9081"/>
                  <a:pt x="8749" y="9156"/>
                  <a:pt x="8731" y="9252"/>
                </a:cubicBezTo>
                <a:cubicBezTo>
                  <a:pt x="8720" y="9313"/>
                  <a:pt x="8712" y="9349"/>
                  <a:pt x="8657" y="9376"/>
                </a:cubicBezTo>
                <a:cubicBezTo>
                  <a:pt x="8609" y="9400"/>
                  <a:pt x="8595" y="9408"/>
                  <a:pt x="8558" y="9401"/>
                </a:cubicBezTo>
                <a:cubicBezTo>
                  <a:pt x="8637" y="9381"/>
                  <a:pt x="8760" y="9399"/>
                  <a:pt x="8830" y="9475"/>
                </a:cubicBezTo>
                <a:cubicBezTo>
                  <a:pt x="8874" y="9522"/>
                  <a:pt x="8899" y="9638"/>
                  <a:pt x="8880" y="9699"/>
                </a:cubicBezTo>
                <a:cubicBezTo>
                  <a:pt x="8850" y="9793"/>
                  <a:pt x="8792" y="9711"/>
                  <a:pt x="8731" y="9773"/>
                </a:cubicBezTo>
                <a:cubicBezTo>
                  <a:pt x="8664" y="9840"/>
                  <a:pt x="8617" y="9823"/>
                  <a:pt x="8508" y="9823"/>
                </a:cubicBezTo>
                <a:cubicBezTo>
                  <a:pt x="8450" y="9823"/>
                  <a:pt x="8392" y="9823"/>
                  <a:pt x="8334" y="9823"/>
                </a:cubicBezTo>
              </a:path>
              <a:path w="7492" h="2605">
                <a:moveTo>
                  <a:pt x="6028" y="10046"/>
                </a:moveTo>
                <a:cubicBezTo>
                  <a:pt x="6163" y="10073"/>
                  <a:pt x="6265" y="10113"/>
                  <a:pt x="6400" y="10120"/>
                </a:cubicBezTo>
                <a:cubicBezTo>
                  <a:pt x="6959" y="10149"/>
                  <a:pt x="7539" y="10136"/>
                  <a:pt x="8086" y="10071"/>
                </a:cubicBezTo>
                <a:cubicBezTo>
                  <a:pt x="8258" y="10051"/>
                  <a:pt x="8396" y="10111"/>
                  <a:pt x="8558" y="10120"/>
                </a:cubicBezTo>
                <a:cubicBezTo>
                  <a:pt x="8723" y="10130"/>
                  <a:pt x="8616" y="10121"/>
                  <a:pt x="8731" y="10195"/>
                </a:cubicBezTo>
              </a:path>
              <a:path w="7492" h="2605">
                <a:moveTo>
                  <a:pt x="7144" y="10815"/>
                </a:moveTo>
                <a:cubicBezTo>
                  <a:pt x="7148" y="10934"/>
                  <a:pt x="7193" y="11113"/>
                  <a:pt x="7169" y="11237"/>
                </a:cubicBezTo>
                <a:cubicBezTo>
                  <a:pt x="7162" y="11275"/>
                  <a:pt x="7106" y="11460"/>
                  <a:pt x="7119" y="11485"/>
                </a:cubicBezTo>
                <a:cubicBezTo>
                  <a:pt x="7127" y="11477"/>
                  <a:pt x="7136" y="11468"/>
                  <a:pt x="7144" y="11460"/>
                </a:cubicBezTo>
              </a:path>
              <a:path w="7492" h="2605">
                <a:moveTo>
                  <a:pt x="7541" y="10790"/>
                </a:moveTo>
                <a:cubicBezTo>
                  <a:pt x="7534" y="10912"/>
                  <a:pt x="7504" y="11018"/>
                  <a:pt x="7491" y="11137"/>
                </a:cubicBezTo>
                <a:cubicBezTo>
                  <a:pt x="7479" y="11243"/>
                  <a:pt x="7525" y="11358"/>
                  <a:pt x="7590" y="11435"/>
                </a:cubicBezTo>
                <a:cubicBezTo>
                  <a:pt x="7651" y="11507"/>
                  <a:pt x="7770" y="11550"/>
                  <a:pt x="7863" y="11534"/>
                </a:cubicBezTo>
                <a:cubicBezTo>
                  <a:pt x="7921" y="11524"/>
                  <a:pt x="8012" y="11383"/>
                  <a:pt x="8037" y="11336"/>
                </a:cubicBezTo>
                <a:cubicBezTo>
                  <a:pt x="8080" y="11257"/>
                  <a:pt x="8079" y="11169"/>
                  <a:pt x="8012" y="11112"/>
                </a:cubicBezTo>
                <a:cubicBezTo>
                  <a:pt x="7905" y="11021"/>
                  <a:pt x="7790" y="10979"/>
                  <a:pt x="7665" y="10914"/>
                </a:cubicBezTo>
              </a:path>
              <a:path w="7492" h="2605">
                <a:moveTo>
                  <a:pt x="1687" y="10071"/>
                </a:moveTo>
                <a:cubicBezTo>
                  <a:pt x="1756" y="10140"/>
                  <a:pt x="1827" y="10120"/>
                  <a:pt x="1935" y="10120"/>
                </a:cubicBezTo>
                <a:cubicBezTo>
                  <a:pt x="2180" y="10120"/>
                  <a:pt x="2439" y="10154"/>
                  <a:pt x="2679" y="10145"/>
                </a:cubicBezTo>
                <a:cubicBezTo>
                  <a:pt x="2919" y="10136"/>
                  <a:pt x="3156" y="10120"/>
                  <a:pt x="3398" y="10120"/>
                </a:cubicBezTo>
                <a:cubicBezTo>
                  <a:pt x="3649" y="10120"/>
                  <a:pt x="3893" y="10132"/>
                  <a:pt x="4142" y="10145"/>
                </a:cubicBezTo>
                <a:cubicBezTo>
                  <a:pt x="4341" y="10155"/>
                  <a:pt x="4502" y="10150"/>
                  <a:pt x="4688" y="10195"/>
                </a:cubicBezTo>
                <a:cubicBezTo>
                  <a:pt x="4705" y="10195"/>
                  <a:pt x="4721" y="10195"/>
                  <a:pt x="4738" y="10195"/>
                </a:cubicBezTo>
              </a:path>
              <a:path w="7492" h="2605">
                <a:moveTo>
                  <a:pt x="3175" y="10567"/>
                </a:moveTo>
                <a:cubicBezTo>
                  <a:pt x="3192" y="10705"/>
                  <a:pt x="3200" y="10826"/>
                  <a:pt x="3200" y="10964"/>
                </a:cubicBezTo>
                <a:cubicBezTo>
                  <a:pt x="3200" y="11071"/>
                  <a:pt x="3200" y="11179"/>
                  <a:pt x="3200" y="11286"/>
                </a:cubicBezTo>
              </a:path>
              <a:path w="7492" h="2605">
                <a:moveTo>
                  <a:pt x="3547" y="10716"/>
                </a:moveTo>
                <a:cubicBezTo>
                  <a:pt x="3515" y="10837"/>
                  <a:pt x="3479" y="10943"/>
                  <a:pt x="3473" y="11063"/>
                </a:cubicBezTo>
                <a:cubicBezTo>
                  <a:pt x="3470" y="11136"/>
                  <a:pt x="3513" y="11217"/>
                  <a:pt x="3572" y="11261"/>
                </a:cubicBezTo>
                <a:cubicBezTo>
                  <a:pt x="3615" y="11292"/>
                  <a:pt x="3731" y="11293"/>
                  <a:pt x="3770" y="11261"/>
                </a:cubicBezTo>
                <a:cubicBezTo>
                  <a:pt x="3808" y="11229"/>
                  <a:pt x="3866" y="11125"/>
                  <a:pt x="3870" y="11088"/>
                </a:cubicBezTo>
                <a:cubicBezTo>
                  <a:pt x="3880" y="11003"/>
                  <a:pt x="3864" y="10957"/>
                  <a:pt x="3820" y="10889"/>
                </a:cubicBezTo>
                <a:cubicBezTo>
                  <a:pt x="3766" y="10805"/>
                  <a:pt x="3717" y="10781"/>
                  <a:pt x="3646" y="10716"/>
                </a:cubicBezTo>
                <a:cubicBezTo>
                  <a:pt x="3616" y="10686"/>
                  <a:pt x="3611" y="10672"/>
                  <a:pt x="3646" y="10641"/>
                </a:cubicBezTo>
              </a:path>
              <a:path w="7492" h="2605">
                <a:moveTo>
                  <a:pt x="6772" y="11038"/>
                </a:moveTo>
                <a:cubicBezTo>
                  <a:pt x="6870" y="11038"/>
                  <a:pt x="6951" y="11016"/>
                  <a:pt x="7045" y="11013"/>
                </a:cubicBezTo>
                <a:cubicBezTo>
                  <a:pt x="7369" y="11002"/>
                  <a:pt x="7694" y="11024"/>
                  <a:pt x="8012" y="10988"/>
                </a:cubicBezTo>
                <a:cubicBezTo>
                  <a:pt x="8137" y="10974"/>
                  <a:pt x="8160" y="11020"/>
                  <a:pt x="8186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4268880" y="3251160"/>
            <a:ext cx="2259000" cy="981000"/>
          </a:xfrm>
          <a:custGeom>
            <a:avLst/>
            <a:gdLst/>
            <a:ahLst/>
            <a:rect l="l" t="t" r="r" b="b"/>
            <a:pathLst>
              <a:path w="6276" h="2729">
                <a:moveTo>
                  <a:pt x="12229" y="9699"/>
                </a:moveTo>
                <a:cubicBezTo>
                  <a:pt x="12229" y="9614"/>
                  <a:pt x="12227" y="9569"/>
                  <a:pt x="12129" y="9525"/>
                </a:cubicBezTo>
                <a:cubicBezTo>
                  <a:pt x="12118" y="9520"/>
                  <a:pt x="11940" y="9543"/>
                  <a:pt x="11931" y="9550"/>
                </a:cubicBezTo>
                <a:cubicBezTo>
                  <a:pt x="11878" y="9590"/>
                  <a:pt x="11872" y="9640"/>
                  <a:pt x="11906" y="9674"/>
                </a:cubicBezTo>
                <a:cubicBezTo>
                  <a:pt x="11965" y="9733"/>
                  <a:pt x="12006" y="9777"/>
                  <a:pt x="12080" y="9823"/>
                </a:cubicBezTo>
                <a:cubicBezTo>
                  <a:pt x="12173" y="9881"/>
                  <a:pt x="12241" y="9939"/>
                  <a:pt x="12278" y="10046"/>
                </a:cubicBezTo>
                <a:cubicBezTo>
                  <a:pt x="12309" y="10135"/>
                  <a:pt x="12201" y="10120"/>
                  <a:pt x="12154" y="10120"/>
                </a:cubicBezTo>
                <a:cubicBezTo>
                  <a:pt x="12072" y="10120"/>
                  <a:pt x="12025" y="10051"/>
                  <a:pt x="11931" y="10046"/>
                </a:cubicBezTo>
                <a:cubicBezTo>
                  <a:pt x="11841" y="10041"/>
                  <a:pt x="11864" y="10002"/>
                  <a:pt x="11857" y="9922"/>
                </a:cubicBezTo>
              </a:path>
              <a:path w="6276" h="2729">
                <a:moveTo>
                  <a:pt x="12402" y="9674"/>
                </a:moveTo>
                <a:cubicBezTo>
                  <a:pt x="12402" y="9777"/>
                  <a:pt x="12382" y="9870"/>
                  <a:pt x="12378" y="9971"/>
                </a:cubicBezTo>
                <a:cubicBezTo>
                  <a:pt x="12374" y="10062"/>
                  <a:pt x="12365" y="10046"/>
                  <a:pt x="12427" y="10046"/>
                </a:cubicBezTo>
              </a:path>
              <a:path w="6276" h="2729">
                <a:moveTo>
                  <a:pt x="12799" y="9823"/>
                </a:moveTo>
                <a:cubicBezTo>
                  <a:pt x="12799" y="9906"/>
                  <a:pt x="12797" y="9940"/>
                  <a:pt x="12774" y="9996"/>
                </a:cubicBezTo>
                <a:cubicBezTo>
                  <a:pt x="12752" y="9939"/>
                  <a:pt x="12775" y="9911"/>
                  <a:pt x="12799" y="9847"/>
                </a:cubicBezTo>
                <a:cubicBezTo>
                  <a:pt x="12823" y="9782"/>
                  <a:pt x="12870" y="9715"/>
                  <a:pt x="12898" y="9674"/>
                </a:cubicBezTo>
                <a:cubicBezTo>
                  <a:pt x="12922" y="9626"/>
                  <a:pt x="12928" y="9609"/>
                  <a:pt x="12973" y="9624"/>
                </a:cubicBezTo>
                <a:cubicBezTo>
                  <a:pt x="13002" y="9689"/>
                  <a:pt x="13041" y="9775"/>
                  <a:pt x="13047" y="9847"/>
                </a:cubicBezTo>
                <a:cubicBezTo>
                  <a:pt x="13048" y="9856"/>
                  <a:pt x="13047" y="10260"/>
                  <a:pt x="13047" y="10046"/>
                </a:cubicBezTo>
              </a:path>
              <a:path w="6276" h="2729">
                <a:moveTo>
                  <a:pt x="13246" y="9302"/>
                </a:moveTo>
                <a:cubicBezTo>
                  <a:pt x="13331" y="9272"/>
                  <a:pt x="13447" y="9211"/>
                  <a:pt x="13494" y="9327"/>
                </a:cubicBezTo>
                <a:cubicBezTo>
                  <a:pt x="13552" y="9472"/>
                  <a:pt x="13504" y="9459"/>
                  <a:pt x="13444" y="9550"/>
                </a:cubicBezTo>
                <a:cubicBezTo>
                  <a:pt x="13405" y="9609"/>
                  <a:pt x="13316" y="9599"/>
                  <a:pt x="13395" y="9599"/>
                </a:cubicBezTo>
                <a:cubicBezTo>
                  <a:pt x="13492" y="9599"/>
                  <a:pt x="13584" y="9768"/>
                  <a:pt x="13618" y="9847"/>
                </a:cubicBezTo>
                <a:cubicBezTo>
                  <a:pt x="13646" y="9911"/>
                  <a:pt x="13612" y="10017"/>
                  <a:pt x="13543" y="10046"/>
                </a:cubicBezTo>
                <a:cubicBezTo>
                  <a:pt x="13467" y="10078"/>
                  <a:pt x="13353" y="10039"/>
                  <a:pt x="13295" y="9996"/>
                </a:cubicBezTo>
                <a:cubicBezTo>
                  <a:pt x="13261" y="9961"/>
                  <a:pt x="13248" y="9938"/>
                  <a:pt x="13246" y="9897"/>
                </a:cubicBezTo>
              </a:path>
              <a:path w="6276" h="2729">
                <a:moveTo>
                  <a:pt x="13767" y="9252"/>
                </a:moveTo>
                <a:cubicBezTo>
                  <a:pt x="13746" y="9378"/>
                  <a:pt x="13721" y="9497"/>
                  <a:pt x="13717" y="9624"/>
                </a:cubicBezTo>
                <a:cubicBezTo>
                  <a:pt x="13712" y="9768"/>
                  <a:pt x="13711" y="9867"/>
                  <a:pt x="13767" y="9996"/>
                </a:cubicBezTo>
                <a:cubicBezTo>
                  <a:pt x="13785" y="10036"/>
                  <a:pt x="13872" y="10103"/>
                  <a:pt x="13915" y="10120"/>
                </a:cubicBezTo>
                <a:cubicBezTo>
                  <a:pt x="13976" y="10144"/>
                  <a:pt x="14032" y="10034"/>
                  <a:pt x="14064" y="9996"/>
                </a:cubicBezTo>
                <a:cubicBezTo>
                  <a:pt x="14108" y="9943"/>
                  <a:pt x="14137" y="9845"/>
                  <a:pt x="14114" y="9773"/>
                </a:cubicBezTo>
                <a:cubicBezTo>
                  <a:pt x="14091" y="9750"/>
                  <a:pt x="14087" y="9742"/>
                  <a:pt x="14064" y="9748"/>
                </a:cubicBezTo>
                <a:cubicBezTo>
                  <a:pt x="14003" y="9758"/>
                  <a:pt x="14003" y="9785"/>
                  <a:pt x="13965" y="9847"/>
                </a:cubicBezTo>
                <a:cubicBezTo>
                  <a:pt x="13904" y="9947"/>
                  <a:pt x="13971" y="9923"/>
                  <a:pt x="14039" y="9897"/>
                </a:cubicBezTo>
              </a:path>
              <a:path w="6276" h="2729">
                <a:moveTo>
                  <a:pt x="14213" y="9153"/>
                </a:moveTo>
                <a:cubicBezTo>
                  <a:pt x="14198" y="9222"/>
                  <a:pt x="14140" y="9346"/>
                  <a:pt x="14188" y="9376"/>
                </a:cubicBezTo>
                <a:cubicBezTo>
                  <a:pt x="14238" y="9407"/>
                  <a:pt x="14368" y="9420"/>
                  <a:pt x="14412" y="9376"/>
                </a:cubicBezTo>
                <a:cubicBezTo>
                  <a:pt x="14457" y="9331"/>
                  <a:pt x="14509" y="9235"/>
                  <a:pt x="14461" y="9178"/>
                </a:cubicBezTo>
                <a:cubicBezTo>
                  <a:pt x="14400" y="9106"/>
                  <a:pt x="14272" y="9063"/>
                  <a:pt x="14188" y="9029"/>
                </a:cubicBezTo>
              </a:path>
              <a:path w="6276" h="2729">
                <a:moveTo>
                  <a:pt x="11881" y="10269"/>
                </a:moveTo>
                <a:cubicBezTo>
                  <a:pt x="12023" y="10279"/>
                  <a:pt x="12159" y="10294"/>
                  <a:pt x="12303" y="10294"/>
                </a:cubicBezTo>
                <a:cubicBezTo>
                  <a:pt x="12577" y="10294"/>
                  <a:pt x="12848" y="10269"/>
                  <a:pt x="13122" y="10269"/>
                </a:cubicBezTo>
                <a:cubicBezTo>
                  <a:pt x="13333" y="10269"/>
                  <a:pt x="13585" y="10248"/>
                  <a:pt x="13791" y="10294"/>
                </a:cubicBezTo>
                <a:cubicBezTo>
                  <a:pt x="13875" y="10313"/>
                  <a:pt x="14044" y="10395"/>
                  <a:pt x="14139" y="10344"/>
                </a:cubicBezTo>
                <a:cubicBezTo>
                  <a:pt x="14177" y="10305"/>
                  <a:pt x="14194" y="10303"/>
                  <a:pt x="14188" y="10269"/>
                </a:cubicBezTo>
              </a:path>
              <a:path w="6276" h="2729">
                <a:moveTo>
                  <a:pt x="12973" y="10740"/>
                </a:moveTo>
                <a:cubicBezTo>
                  <a:pt x="12944" y="10904"/>
                  <a:pt x="12903" y="11072"/>
                  <a:pt x="12898" y="11237"/>
                </a:cubicBezTo>
                <a:cubicBezTo>
                  <a:pt x="12896" y="11312"/>
                  <a:pt x="12833" y="11491"/>
                  <a:pt x="12874" y="11559"/>
                </a:cubicBezTo>
                <a:cubicBezTo>
                  <a:pt x="12882" y="11559"/>
                  <a:pt x="12890" y="11559"/>
                  <a:pt x="12898" y="11559"/>
                </a:cubicBezTo>
              </a:path>
              <a:path w="6276" h="2729">
                <a:moveTo>
                  <a:pt x="13221" y="10939"/>
                </a:moveTo>
                <a:cubicBezTo>
                  <a:pt x="13174" y="11058"/>
                  <a:pt x="13117" y="11183"/>
                  <a:pt x="13097" y="11311"/>
                </a:cubicBezTo>
                <a:cubicBezTo>
                  <a:pt x="13084" y="11391"/>
                  <a:pt x="13134" y="11487"/>
                  <a:pt x="13196" y="11534"/>
                </a:cubicBezTo>
                <a:cubicBezTo>
                  <a:pt x="13258" y="11581"/>
                  <a:pt x="13359" y="11608"/>
                  <a:pt x="13419" y="11559"/>
                </a:cubicBezTo>
                <a:cubicBezTo>
                  <a:pt x="13471" y="11517"/>
                  <a:pt x="13528" y="11453"/>
                  <a:pt x="13543" y="11385"/>
                </a:cubicBezTo>
                <a:cubicBezTo>
                  <a:pt x="13560" y="11305"/>
                  <a:pt x="13535" y="11229"/>
                  <a:pt x="13494" y="11162"/>
                </a:cubicBezTo>
                <a:cubicBezTo>
                  <a:pt x="13419" y="11040"/>
                  <a:pt x="13381" y="10997"/>
                  <a:pt x="13271" y="10914"/>
                </a:cubicBezTo>
                <a:cubicBezTo>
                  <a:pt x="13243" y="10886"/>
                  <a:pt x="13234" y="10873"/>
                  <a:pt x="13246" y="10840"/>
                </a:cubicBezTo>
              </a:path>
              <a:path w="6276" h="2729">
                <a:moveTo>
                  <a:pt x="14436" y="10418"/>
                </a:moveTo>
                <a:cubicBezTo>
                  <a:pt x="14557" y="10418"/>
                  <a:pt x="14583" y="10394"/>
                  <a:pt x="14684" y="10368"/>
                </a:cubicBezTo>
              </a:path>
              <a:path w="6276" h="2729">
                <a:moveTo>
                  <a:pt x="14486" y="10567"/>
                </a:moveTo>
                <a:cubicBezTo>
                  <a:pt x="14647" y="10567"/>
                  <a:pt x="14692" y="10572"/>
                  <a:pt x="14784" y="10517"/>
                </a:cubicBezTo>
              </a:path>
              <a:path w="6276" h="2729">
                <a:moveTo>
                  <a:pt x="15701" y="9847"/>
                </a:moveTo>
                <a:cubicBezTo>
                  <a:pt x="15701" y="9737"/>
                  <a:pt x="15727" y="9715"/>
                  <a:pt x="15677" y="9674"/>
                </a:cubicBezTo>
                <a:cubicBezTo>
                  <a:pt x="15561" y="9674"/>
                  <a:pt x="15402" y="9650"/>
                  <a:pt x="15304" y="9699"/>
                </a:cubicBezTo>
                <a:cubicBezTo>
                  <a:pt x="15316" y="9832"/>
                  <a:pt x="15333" y="9813"/>
                  <a:pt x="15429" y="9897"/>
                </a:cubicBezTo>
                <a:cubicBezTo>
                  <a:pt x="15554" y="10006"/>
                  <a:pt x="15662" y="10024"/>
                  <a:pt x="15701" y="10195"/>
                </a:cubicBezTo>
                <a:cubicBezTo>
                  <a:pt x="15701" y="10230"/>
                  <a:pt x="15697" y="10247"/>
                  <a:pt x="15677" y="10269"/>
                </a:cubicBezTo>
                <a:cubicBezTo>
                  <a:pt x="15591" y="10286"/>
                  <a:pt x="15539" y="10282"/>
                  <a:pt x="15453" y="10269"/>
                </a:cubicBezTo>
                <a:cubicBezTo>
                  <a:pt x="15384" y="10259"/>
                  <a:pt x="15320" y="10208"/>
                  <a:pt x="15329" y="10120"/>
                </a:cubicBezTo>
                <a:cubicBezTo>
                  <a:pt x="15337" y="10104"/>
                  <a:pt x="15346" y="10087"/>
                  <a:pt x="15354" y="10071"/>
                </a:cubicBezTo>
              </a:path>
              <a:path w="6276" h="2729">
                <a:moveTo>
                  <a:pt x="15949" y="9823"/>
                </a:moveTo>
                <a:cubicBezTo>
                  <a:pt x="15930" y="9960"/>
                  <a:pt x="15925" y="10082"/>
                  <a:pt x="15925" y="10220"/>
                </a:cubicBezTo>
                <a:cubicBezTo>
                  <a:pt x="15925" y="10269"/>
                  <a:pt x="15925" y="10285"/>
                  <a:pt x="15925" y="10220"/>
                </a:cubicBezTo>
              </a:path>
              <a:path w="6276" h="2729">
                <a:moveTo>
                  <a:pt x="15974" y="9376"/>
                </a:moveTo>
                <a:cubicBezTo>
                  <a:pt x="15999" y="9376"/>
                  <a:pt x="16007" y="9376"/>
                  <a:pt x="16024" y="9376"/>
                </a:cubicBezTo>
              </a:path>
              <a:path w="6276" h="2729">
                <a:moveTo>
                  <a:pt x="16123" y="10046"/>
                </a:moveTo>
                <a:cubicBezTo>
                  <a:pt x="16123" y="10120"/>
                  <a:pt x="16123" y="10145"/>
                  <a:pt x="16123" y="10195"/>
                </a:cubicBezTo>
                <a:cubicBezTo>
                  <a:pt x="16123" y="10265"/>
                  <a:pt x="16097" y="10079"/>
                  <a:pt x="16098" y="10071"/>
                </a:cubicBezTo>
                <a:cubicBezTo>
                  <a:pt x="16103" y="10008"/>
                  <a:pt x="16142" y="9927"/>
                  <a:pt x="16173" y="9897"/>
                </a:cubicBezTo>
                <a:cubicBezTo>
                  <a:pt x="16205" y="9867"/>
                  <a:pt x="16281" y="9784"/>
                  <a:pt x="16321" y="9773"/>
                </a:cubicBezTo>
                <a:cubicBezTo>
                  <a:pt x="16411" y="9748"/>
                  <a:pt x="16489" y="9821"/>
                  <a:pt x="16520" y="9897"/>
                </a:cubicBezTo>
                <a:cubicBezTo>
                  <a:pt x="16555" y="9982"/>
                  <a:pt x="16570" y="10054"/>
                  <a:pt x="16570" y="10145"/>
                </a:cubicBezTo>
                <a:cubicBezTo>
                  <a:pt x="16570" y="10249"/>
                  <a:pt x="16532" y="10278"/>
                  <a:pt x="16619" y="10220"/>
                </a:cubicBezTo>
              </a:path>
              <a:path w="6276" h="2729">
                <a:moveTo>
                  <a:pt x="16867" y="9500"/>
                </a:moveTo>
                <a:cubicBezTo>
                  <a:pt x="16867" y="9695"/>
                  <a:pt x="16858" y="9881"/>
                  <a:pt x="16892" y="10071"/>
                </a:cubicBezTo>
                <a:cubicBezTo>
                  <a:pt x="16903" y="10132"/>
                  <a:pt x="16910" y="10312"/>
                  <a:pt x="16942" y="10344"/>
                </a:cubicBezTo>
              </a:path>
              <a:path w="6276" h="2729">
                <a:moveTo>
                  <a:pt x="17090" y="9525"/>
                </a:moveTo>
                <a:cubicBezTo>
                  <a:pt x="17301" y="9481"/>
                  <a:pt x="17315" y="9444"/>
                  <a:pt x="17388" y="9599"/>
                </a:cubicBezTo>
                <a:cubicBezTo>
                  <a:pt x="17428" y="9685"/>
                  <a:pt x="17302" y="9723"/>
                  <a:pt x="17239" y="9748"/>
                </a:cubicBezTo>
                <a:cubicBezTo>
                  <a:pt x="17184" y="9770"/>
                  <a:pt x="17044" y="9823"/>
                  <a:pt x="17140" y="9823"/>
                </a:cubicBezTo>
                <a:cubicBezTo>
                  <a:pt x="17214" y="9823"/>
                  <a:pt x="17342" y="9857"/>
                  <a:pt x="17388" y="9922"/>
                </a:cubicBezTo>
                <a:cubicBezTo>
                  <a:pt x="17439" y="9995"/>
                  <a:pt x="17479" y="10103"/>
                  <a:pt x="17462" y="10195"/>
                </a:cubicBezTo>
                <a:cubicBezTo>
                  <a:pt x="17452" y="10249"/>
                  <a:pt x="17411" y="10330"/>
                  <a:pt x="17363" y="10344"/>
                </a:cubicBezTo>
                <a:cubicBezTo>
                  <a:pt x="17253" y="10375"/>
                  <a:pt x="17168" y="10360"/>
                  <a:pt x="17190" y="10220"/>
                </a:cubicBezTo>
                <a:cubicBezTo>
                  <a:pt x="17198" y="10195"/>
                  <a:pt x="17206" y="10170"/>
                  <a:pt x="17214" y="10145"/>
                </a:cubicBezTo>
              </a:path>
              <a:path w="6276" h="2729">
                <a:moveTo>
                  <a:pt x="17686" y="9500"/>
                </a:moveTo>
                <a:cubicBezTo>
                  <a:pt x="17615" y="9660"/>
                  <a:pt x="17548" y="9790"/>
                  <a:pt x="17537" y="9971"/>
                </a:cubicBezTo>
                <a:cubicBezTo>
                  <a:pt x="17532" y="10052"/>
                  <a:pt x="17563" y="10218"/>
                  <a:pt x="17636" y="10269"/>
                </a:cubicBezTo>
                <a:cubicBezTo>
                  <a:pt x="17673" y="10295"/>
                  <a:pt x="17771" y="10333"/>
                  <a:pt x="17810" y="10344"/>
                </a:cubicBezTo>
                <a:cubicBezTo>
                  <a:pt x="17860" y="10256"/>
                  <a:pt x="17901" y="10177"/>
                  <a:pt x="17909" y="10071"/>
                </a:cubicBezTo>
                <a:cubicBezTo>
                  <a:pt x="17916" y="9972"/>
                  <a:pt x="17858" y="9857"/>
                  <a:pt x="17810" y="9773"/>
                </a:cubicBezTo>
                <a:cubicBezTo>
                  <a:pt x="17773" y="9708"/>
                  <a:pt x="17707" y="9577"/>
                  <a:pt x="17661" y="9525"/>
                </a:cubicBezTo>
                <a:cubicBezTo>
                  <a:pt x="17588" y="9443"/>
                  <a:pt x="17584" y="9541"/>
                  <a:pt x="17611" y="9401"/>
                </a:cubicBezTo>
              </a:path>
              <a:path w="6276" h="2729">
                <a:moveTo>
                  <a:pt x="17835" y="9376"/>
                </a:moveTo>
                <a:cubicBezTo>
                  <a:pt x="17843" y="9459"/>
                  <a:pt x="17871" y="9528"/>
                  <a:pt x="17983" y="9525"/>
                </a:cubicBezTo>
                <a:cubicBezTo>
                  <a:pt x="18077" y="9506"/>
                  <a:pt x="18097" y="9519"/>
                  <a:pt x="18132" y="9475"/>
                </a:cubicBezTo>
                <a:cubicBezTo>
                  <a:pt x="18115" y="9374"/>
                  <a:pt x="18109" y="9358"/>
                  <a:pt x="18033" y="9327"/>
                </a:cubicBezTo>
                <a:cubicBezTo>
                  <a:pt x="17975" y="9303"/>
                  <a:pt x="17947" y="9302"/>
                  <a:pt x="17884" y="9302"/>
                </a:cubicBezTo>
              </a:path>
              <a:path w="6276" h="2729">
                <a:moveTo>
                  <a:pt x="15627" y="10344"/>
                </a:moveTo>
                <a:cubicBezTo>
                  <a:pt x="15505" y="10364"/>
                  <a:pt x="15474" y="10352"/>
                  <a:pt x="15429" y="10418"/>
                </a:cubicBezTo>
                <a:cubicBezTo>
                  <a:pt x="15272" y="10418"/>
                  <a:pt x="15441" y="10418"/>
                  <a:pt x="15503" y="10418"/>
                </a:cubicBezTo>
                <a:cubicBezTo>
                  <a:pt x="15776" y="10418"/>
                  <a:pt x="16033" y="10395"/>
                  <a:pt x="16297" y="10368"/>
                </a:cubicBezTo>
                <a:cubicBezTo>
                  <a:pt x="16554" y="10342"/>
                  <a:pt x="16792" y="10395"/>
                  <a:pt x="17041" y="10418"/>
                </a:cubicBezTo>
                <a:cubicBezTo>
                  <a:pt x="17207" y="10433"/>
                  <a:pt x="17899" y="10476"/>
                  <a:pt x="17884" y="10344"/>
                </a:cubicBezTo>
              </a:path>
              <a:path w="6276" h="2729">
                <a:moveTo>
                  <a:pt x="16867" y="11237"/>
                </a:moveTo>
                <a:cubicBezTo>
                  <a:pt x="16875" y="11270"/>
                  <a:pt x="16884" y="11303"/>
                  <a:pt x="16892" y="11336"/>
                </a:cubicBezTo>
                <a:cubicBezTo>
                  <a:pt x="16928" y="11264"/>
                  <a:pt x="16917" y="11209"/>
                  <a:pt x="16867" y="11137"/>
                </a:cubicBezTo>
                <a:cubicBezTo>
                  <a:pt x="16833" y="11088"/>
                  <a:pt x="16799" y="11066"/>
                  <a:pt x="16743" y="11063"/>
                </a:cubicBezTo>
                <a:cubicBezTo>
                  <a:pt x="16642" y="11057"/>
                  <a:pt x="16651" y="11067"/>
                  <a:pt x="16594" y="11137"/>
                </a:cubicBezTo>
                <a:cubicBezTo>
                  <a:pt x="16545" y="11196"/>
                  <a:pt x="16464" y="11221"/>
                  <a:pt x="16470" y="11311"/>
                </a:cubicBezTo>
                <a:cubicBezTo>
                  <a:pt x="16478" y="11427"/>
                  <a:pt x="16543" y="11483"/>
                  <a:pt x="16619" y="11559"/>
                </a:cubicBezTo>
                <a:cubicBezTo>
                  <a:pt x="16689" y="11629"/>
                  <a:pt x="16820" y="11678"/>
                  <a:pt x="16917" y="11708"/>
                </a:cubicBezTo>
                <a:cubicBezTo>
                  <a:pt x="17004" y="11735"/>
                  <a:pt x="17101" y="11753"/>
                  <a:pt x="17190" y="11757"/>
                </a:cubicBezTo>
                <a:cubicBezTo>
                  <a:pt x="17231" y="11757"/>
                  <a:pt x="17247" y="11765"/>
                  <a:pt x="17239" y="11733"/>
                </a:cubicBezTo>
              </a:path>
              <a:path w="6276" h="2729">
                <a:moveTo>
                  <a:pt x="14163" y="10120"/>
                </a:moveTo>
                <a:cubicBezTo>
                  <a:pt x="14262" y="10244"/>
                  <a:pt x="14360" y="10346"/>
                  <a:pt x="14486" y="10443"/>
                </a:cubicBezTo>
                <a:cubicBezTo>
                  <a:pt x="14655" y="10574"/>
                  <a:pt x="14796" y="10724"/>
                  <a:pt x="14957" y="10864"/>
                </a:cubicBezTo>
                <a:cubicBezTo>
                  <a:pt x="15061" y="10955"/>
                  <a:pt x="15154" y="11049"/>
                  <a:pt x="15255" y="11137"/>
                </a:cubicBezTo>
                <a:cubicBezTo>
                  <a:pt x="15279" y="11158"/>
                  <a:pt x="15273" y="11154"/>
                  <a:pt x="15304" y="11162"/>
                </a:cubicBezTo>
              </a:path>
              <a:path w="6276" h="2729">
                <a:moveTo>
                  <a:pt x="14982" y="10071"/>
                </a:moveTo>
                <a:cubicBezTo>
                  <a:pt x="14982" y="10063"/>
                  <a:pt x="14982" y="10054"/>
                  <a:pt x="14982" y="10046"/>
                </a:cubicBezTo>
                <a:cubicBezTo>
                  <a:pt x="14921" y="10084"/>
                  <a:pt x="14866" y="10137"/>
                  <a:pt x="14808" y="10195"/>
                </a:cubicBezTo>
                <a:cubicBezTo>
                  <a:pt x="14707" y="10296"/>
                  <a:pt x="14633" y="10412"/>
                  <a:pt x="14536" y="10517"/>
                </a:cubicBezTo>
                <a:cubicBezTo>
                  <a:pt x="14423" y="10639"/>
                  <a:pt x="14331" y="10771"/>
                  <a:pt x="14213" y="10889"/>
                </a:cubicBezTo>
                <a:cubicBezTo>
                  <a:pt x="14167" y="10935"/>
                  <a:pt x="14153" y="10947"/>
                  <a:pt x="14139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017720" y="4286160"/>
            <a:ext cx="750600" cy="285840"/>
          </a:xfrm>
          <a:custGeom>
            <a:avLst/>
            <a:gdLst/>
            <a:ahLst/>
            <a:rect l="l" t="t" r="r" b="b"/>
            <a:pathLst>
              <a:path w="2084" h="795">
                <a:moveTo>
                  <a:pt x="2828" y="12526"/>
                </a:moveTo>
                <a:cubicBezTo>
                  <a:pt x="2828" y="12518"/>
                  <a:pt x="2828" y="12510"/>
                  <a:pt x="2828" y="12502"/>
                </a:cubicBezTo>
              </a:path>
              <a:path w="2084" h="795">
                <a:moveTo>
                  <a:pt x="3051" y="11931"/>
                </a:moveTo>
                <a:cubicBezTo>
                  <a:pt x="3121" y="11905"/>
                  <a:pt x="3179" y="11888"/>
                  <a:pt x="3249" y="11931"/>
                </a:cubicBezTo>
                <a:cubicBezTo>
                  <a:pt x="3309" y="11968"/>
                  <a:pt x="3380" y="11990"/>
                  <a:pt x="3423" y="12055"/>
                </a:cubicBezTo>
                <a:cubicBezTo>
                  <a:pt x="3463" y="12115"/>
                  <a:pt x="3494" y="12184"/>
                  <a:pt x="3497" y="12254"/>
                </a:cubicBezTo>
                <a:cubicBezTo>
                  <a:pt x="3501" y="12353"/>
                  <a:pt x="3444" y="12374"/>
                  <a:pt x="3423" y="12452"/>
                </a:cubicBezTo>
                <a:cubicBezTo>
                  <a:pt x="3404" y="12522"/>
                  <a:pt x="3368" y="12587"/>
                  <a:pt x="3274" y="12551"/>
                </a:cubicBezTo>
                <a:cubicBezTo>
                  <a:pt x="3214" y="12528"/>
                  <a:pt x="3220" y="12466"/>
                  <a:pt x="3200" y="12427"/>
                </a:cubicBezTo>
                <a:cubicBezTo>
                  <a:pt x="3171" y="12369"/>
                  <a:pt x="3211" y="12361"/>
                  <a:pt x="3225" y="12303"/>
                </a:cubicBezTo>
                <a:cubicBezTo>
                  <a:pt x="3274" y="12333"/>
                  <a:pt x="3321" y="12339"/>
                  <a:pt x="3373" y="12378"/>
                </a:cubicBezTo>
                <a:cubicBezTo>
                  <a:pt x="3426" y="12417"/>
                  <a:pt x="3451" y="12501"/>
                  <a:pt x="3497" y="12551"/>
                </a:cubicBezTo>
                <a:cubicBezTo>
                  <a:pt x="3505" y="12559"/>
                  <a:pt x="3514" y="12568"/>
                  <a:pt x="3522" y="12576"/>
                </a:cubicBezTo>
              </a:path>
              <a:path w="2084" h="795">
                <a:moveTo>
                  <a:pt x="3646" y="12005"/>
                </a:moveTo>
                <a:cubicBezTo>
                  <a:pt x="3781" y="11977"/>
                  <a:pt x="3776" y="11976"/>
                  <a:pt x="3870" y="12055"/>
                </a:cubicBezTo>
                <a:cubicBezTo>
                  <a:pt x="3878" y="12063"/>
                  <a:pt x="3886" y="12072"/>
                  <a:pt x="3894" y="12080"/>
                </a:cubicBezTo>
                <a:cubicBezTo>
                  <a:pt x="3865" y="12131"/>
                  <a:pt x="3837" y="12162"/>
                  <a:pt x="3795" y="12204"/>
                </a:cubicBezTo>
                <a:cubicBezTo>
                  <a:pt x="3861" y="12270"/>
                  <a:pt x="3867" y="12298"/>
                  <a:pt x="3894" y="12378"/>
                </a:cubicBezTo>
                <a:cubicBezTo>
                  <a:pt x="3909" y="12422"/>
                  <a:pt x="3956" y="12517"/>
                  <a:pt x="3894" y="12551"/>
                </a:cubicBezTo>
                <a:cubicBezTo>
                  <a:pt x="3812" y="12597"/>
                  <a:pt x="3777" y="12581"/>
                  <a:pt x="3721" y="12526"/>
                </a:cubicBezTo>
                <a:cubicBezTo>
                  <a:pt x="3677" y="12483"/>
                  <a:pt x="3680" y="12489"/>
                  <a:pt x="3671" y="12427"/>
                </a:cubicBezTo>
              </a:path>
              <a:path w="2084" h="795">
                <a:moveTo>
                  <a:pt x="4142" y="12005"/>
                </a:moveTo>
                <a:cubicBezTo>
                  <a:pt x="4252" y="11989"/>
                  <a:pt x="4350" y="11991"/>
                  <a:pt x="4440" y="11931"/>
                </a:cubicBezTo>
              </a:path>
              <a:path w="2084" h="795">
                <a:moveTo>
                  <a:pt x="4118" y="12055"/>
                </a:moveTo>
                <a:cubicBezTo>
                  <a:pt x="4072" y="12101"/>
                  <a:pt x="4047" y="12122"/>
                  <a:pt x="4093" y="12179"/>
                </a:cubicBezTo>
                <a:cubicBezTo>
                  <a:pt x="4131" y="12226"/>
                  <a:pt x="4236" y="12204"/>
                  <a:pt x="4291" y="12204"/>
                </a:cubicBezTo>
                <a:cubicBezTo>
                  <a:pt x="4389" y="12204"/>
                  <a:pt x="4398" y="12328"/>
                  <a:pt x="4440" y="12402"/>
                </a:cubicBezTo>
                <a:cubicBezTo>
                  <a:pt x="4463" y="12442"/>
                  <a:pt x="4549" y="12538"/>
                  <a:pt x="4465" y="12576"/>
                </a:cubicBezTo>
                <a:cubicBezTo>
                  <a:pt x="4401" y="12605"/>
                  <a:pt x="4337" y="12603"/>
                  <a:pt x="4266" y="12576"/>
                </a:cubicBezTo>
                <a:cubicBezTo>
                  <a:pt x="4229" y="12562"/>
                  <a:pt x="4131" y="12523"/>
                  <a:pt x="4118" y="12477"/>
                </a:cubicBezTo>
                <a:cubicBezTo>
                  <a:pt x="4118" y="12460"/>
                  <a:pt x="4118" y="12444"/>
                  <a:pt x="4118" y="12427"/>
                </a:cubicBezTo>
              </a:path>
              <a:path w="2084" h="795">
                <a:moveTo>
                  <a:pt x="4787" y="11956"/>
                </a:moveTo>
                <a:cubicBezTo>
                  <a:pt x="4840" y="12000"/>
                  <a:pt x="4859" y="12030"/>
                  <a:pt x="4862" y="12105"/>
                </a:cubicBezTo>
                <a:cubicBezTo>
                  <a:pt x="4867" y="12217"/>
                  <a:pt x="4872" y="12318"/>
                  <a:pt x="4887" y="12427"/>
                </a:cubicBezTo>
                <a:cubicBezTo>
                  <a:pt x="4900" y="12522"/>
                  <a:pt x="4891" y="12604"/>
                  <a:pt x="4911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044800" y="4303800"/>
            <a:ext cx="938160" cy="331560"/>
          </a:xfrm>
          <a:custGeom>
            <a:avLst/>
            <a:gdLst/>
            <a:ahLst/>
            <a:rect l="l" t="t" r="r" b="b"/>
            <a:pathLst>
              <a:path w="2606" h="919">
                <a:moveTo>
                  <a:pt x="5705" y="12278"/>
                </a:moveTo>
                <a:cubicBezTo>
                  <a:pt x="5823" y="12283"/>
                  <a:pt x="5935" y="12293"/>
                  <a:pt x="6052" y="12303"/>
                </a:cubicBezTo>
              </a:path>
              <a:path w="2606" h="919">
                <a:moveTo>
                  <a:pt x="5680" y="12452"/>
                </a:moveTo>
                <a:cubicBezTo>
                  <a:pt x="5817" y="12472"/>
                  <a:pt x="5855" y="12483"/>
                  <a:pt x="5978" y="12452"/>
                </a:cubicBezTo>
              </a:path>
              <a:path w="2606" h="919">
                <a:moveTo>
                  <a:pt x="6672" y="12204"/>
                </a:moveTo>
                <a:cubicBezTo>
                  <a:pt x="6608" y="12113"/>
                  <a:pt x="6561" y="12129"/>
                  <a:pt x="6449" y="12129"/>
                </a:cubicBezTo>
                <a:cubicBezTo>
                  <a:pt x="6373" y="12129"/>
                  <a:pt x="6344" y="12148"/>
                  <a:pt x="6325" y="12204"/>
                </a:cubicBezTo>
                <a:cubicBezTo>
                  <a:pt x="6366" y="12245"/>
                  <a:pt x="6408" y="12287"/>
                  <a:pt x="6449" y="12328"/>
                </a:cubicBezTo>
                <a:cubicBezTo>
                  <a:pt x="6528" y="12408"/>
                  <a:pt x="6657" y="12518"/>
                  <a:pt x="6697" y="12626"/>
                </a:cubicBezTo>
                <a:cubicBezTo>
                  <a:pt x="6740" y="12744"/>
                  <a:pt x="6637" y="12758"/>
                  <a:pt x="6573" y="12750"/>
                </a:cubicBezTo>
                <a:cubicBezTo>
                  <a:pt x="6510" y="12742"/>
                  <a:pt x="6416" y="12707"/>
                  <a:pt x="6375" y="12650"/>
                </a:cubicBezTo>
                <a:cubicBezTo>
                  <a:pt x="6343" y="12588"/>
                  <a:pt x="6335" y="12557"/>
                  <a:pt x="6350" y="12502"/>
                </a:cubicBezTo>
              </a:path>
              <a:path w="2606" h="919">
                <a:moveTo>
                  <a:pt x="6896" y="12402"/>
                </a:moveTo>
                <a:cubicBezTo>
                  <a:pt x="6914" y="12501"/>
                  <a:pt x="6921" y="12577"/>
                  <a:pt x="6921" y="12675"/>
                </a:cubicBezTo>
                <a:cubicBezTo>
                  <a:pt x="6921" y="12733"/>
                  <a:pt x="6921" y="12742"/>
                  <a:pt x="6921" y="12650"/>
                </a:cubicBezTo>
              </a:path>
              <a:path w="2606" h="919">
                <a:moveTo>
                  <a:pt x="6846" y="11981"/>
                </a:moveTo>
                <a:cubicBezTo>
                  <a:pt x="6854" y="11973"/>
                  <a:pt x="6863" y="11964"/>
                  <a:pt x="6871" y="11956"/>
                </a:cubicBezTo>
              </a:path>
              <a:path w="2606" h="919">
                <a:moveTo>
                  <a:pt x="7094" y="12502"/>
                </a:moveTo>
                <a:cubicBezTo>
                  <a:pt x="7102" y="12560"/>
                  <a:pt x="7111" y="12617"/>
                  <a:pt x="7119" y="12675"/>
                </a:cubicBezTo>
                <a:cubicBezTo>
                  <a:pt x="7119" y="12593"/>
                  <a:pt x="7111" y="12526"/>
                  <a:pt x="7144" y="12452"/>
                </a:cubicBezTo>
                <a:cubicBezTo>
                  <a:pt x="7177" y="12378"/>
                  <a:pt x="7234" y="12349"/>
                  <a:pt x="7317" y="12378"/>
                </a:cubicBezTo>
                <a:cubicBezTo>
                  <a:pt x="7389" y="12403"/>
                  <a:pt x="7496" y="12570"/>
                  <a:pt x="7516" y="12650"/>
                </a:cubicBezTo>
                <a:cubicBezTo>
                  <a:pt x="7529" y="12701"/>
                  <a:pt x="7512" y="12881"/>
                  <a:pt x="7541" y="12774"/>
                </a:cubicBezTo>
                <a:cubicBezTo>
                  <a:pt x="7549" y="12749"/>
                  <a:pt x="7557" y="12725"/>
                  <a:pt x="7565" y="12700"/>
                </a:cubicBezTo>
              </a:path>
              <a:path w="2606" h="919">
                <a:moveTo>
                  <a:pt x="7764" y="12154"/>
                </a:moveTo>
                <a:cubicBezTo>
                  <a:pt x="7770" y="12324"/>
                  <a:pt x="7799" y="12458"/>
                  <a:pt x="7813" y="12626"/>
                </a:cubicBezTo>
                <a:cubicBezTo>
                  <a:pt x="7819" y="12699"/>
                  <a:pt x="7837" y="12742"/>
                  <a:pt x="7789" y="12725"/>
                </a:cubicBezTo>
                <a:cubicBezTo>
                  <a:pt x="7780" y="12660"/>
                  <a:pt x="7778" y="12596"/>
                  <a:pt x="7764" y="12526"/>
                </a:cubicBezTo>
                <a:cubicBezTo>
                  <a:pt x="7742" y="12414"/>
                  <a:pt x="7749" y="12367"/>
                  <a:pt x="7764" y="12254"/>
                </a:cubicBezTo>
                <a:cubicBezTo>
                  <a:pt x="7782" y="12123"/>
                  <a:pt x="7840" y="12113"/>
                  <a:pt x="7913" y="12030"/>
                </a:cubicBezTo>
                <a:cubicBezTo>
                  <a:pt x="7962" y="11974"/>
                  <a:pt x="7996" y="11931"/>
                  <a:pt x="8086" y="11956"/>
                </a:cubicBezTo>
                <a:cubicBezTo>
                  <a:pt x="8193" y="11986"/>
                  <a:pt x="8166" y="12071"/>
                  <a:pt x="8136" y="12154"/>
                </a:cubicBezTo>
                <a:cubicBezTo>
                  <a:pt x="8108" y="12230"/>
                  <a:pt x="8054" y="12244"/>
                  <a:pt x="7987" y="12278"/>
                </a:cubicBezTo>
                <a:cubicBezTo>
                  <a:pt x="7930" y="12306"/>
                  <a:pt x="7899" y="12320"/>
                  <a:pt x="7838" y="12328"/>
                </a:cubicBezTo>
                <a:cubicBezTo>
                  <a:pt x="7908" y="12337"/>
                  <a:pt x="7972" y="12350"/>
                  <a:pt x="8037" y="12378"/>
                </a:cubicBezTo>
                <a:cubicBezTo>
                  <a:pt x="8104" y="12407"/>
                  <a:pt x="8166" y="12440"/>
                  <a:pt x="8210" y="12502"/>
                </a:cubicBezTo>
                <a:cubicBezTo>
                  <a:pt x="8259" y="12572"/>
                  <a:pt x="8281" y="12643"/>
                  <a:pt x="8285" y="12725"/>
                </a:cubicBezTo>
                <a:cubicBezTo>
                  <a:pt x="8289" y="12818"/>
                  <a:pt x="8290" y="12853"/>
                  <a:pt x="8186" y="12874"/>
                </a:cubicBezTo>
                <a:cubicBezTo>
                  <a:pt x="8113" y="12889"/>
                  <a:pt x="8006" y="12871"/>
                  <a:pt x="7938" y="12849"/>
                </a:cubicBezTo>
                <a:cubicBezTo>
                  <a:pt x="7873" y="12828"/>
                  <a:pt x="7817" y="12821"/>
                  <a:pt x="7764" y="12774"/>
                </a:cubicBezTo>
                <a:cubicBezTo>
                  <a:pt x="7739" y="12750"/>
                  <a:pt x="7730" y="12742"/>
                  <a:pt x="7714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4249800" y="4268880"/>
            <a:ext cx="1484280" cy="419040"/>
          </a:xfrm>
          <a:custGeom>
            <a:avLst/>
            <a:gdLst/>
            <a:ahLst/>
            <a:rect l="l" t="t" r="r" b="b"/>
            <a:pathLst>
              <a:path w="4119" h="1166">
                <a:moveTo>
                  <a:pt x="11807" y="11931"/>
                </a:moveTo>
                <a:cubicBezTo>
                  <a:pt x="11807" y="12012"/>
                  <a:pt x="11830" y="12078"/>
                  <a:pt x="11832" y="12154"/>
                </a:cubicBezTo>
                <a:cubicBezTo>
                  <a:pt x="11835" y="12293"/>
                  <a:pt x="11857" y="12413"/>
                  <a:pt x="11857" y="12551"/>
                </a:cubicBezTo>
                <a:cubicBezTo>
                  <a:pt x="11857" y="12642"/>
                  <a:pt x="11857" y="12733"/>
                  <a:pt x="11857" y="12824"/>
                </a:cubicBezTo>
              </a:path>
              <a:path w="4119" h="1166">
                <a:moveTo>
                  <a:pt x="12154" y="12204"/>
                </a:moveTo>
                <a:cubicBezTo>
                  <a:pt x="12145" y="12304"/>
                  <a:pt x="12086" y="12561"/>
                  <a:pt x="12154" y="12675"/>
                </a:cubicBezTo>
                <a:cubicBezTo>
                  <a:pt x="12182" y="12722"/>
                  <a:pt x="12255" y="12873"/>
                  <a:pt x="12303" y="12898"/>
                </a:cubicBezTo>
                <a:cubicBezTo>
                  <a:pt x="12476" y="12989"/>
                  <a:pt x="12533" y="12868"/>
                  <a:pt x="12601" y="12700"/>
                </a:cubicBezTo>
                <a:cubicBezTo>
                  <a:pt x="12641" y="12601"/>
                  <a:pt x="12576" y="12448"/>
                  <a:pt x="12551" y="12353"/>
                </a:cubicBezTo>
                <a:cubicBezTo>
                  <a:pt x="12526" y="12258"/>
                  <a:pt x="12501" y="12126"/>
                  <a:pt x="12427" y="12055"/>
                </a:cubicBezTo>
                <a:cubicBezTo>
                  <a:pt x="12396" y="12025"/>
                  <a:pt x="12279" y="11940"/>
                  <a:pt x="12229" y="11956"/>
                </a:cubicBezTo>
                <a:cubicBezTo>
                  <a:pt x="12086" y="12003"/>
                  <a:pt x="12097" y="12059"/>
                  <a:pt x="12129" y="12179"/>
                </a:cubicBezTo>
              </a:path>
              <a:path w="4119" h="1166">
                <a:moveTo>
                  <a:pt x="13072" y="12303"/>
                </a:moveTo>
                <a:cubicBezTo>
                  <a:pt x="13017" y="12291"/>
                  <a:pt x="12911" y="12279"/>
                  <a:pt x="12849" y="12303"/>
                </a:cubicBezTo>
                <a:cubicBezTo>
                  <a:pt x="12841" y="12311"/>
                  <a:pt x="12832" y="12320"/>
                  <a:pt x="12824" y="12328"/>
                </a:cubicBezTo>
                <a:cubicBezTo>
                  <a:pt x="12832" y="12389"/>
                  <a:pt x="12844" y="12460"/>
                  <a:pt x="12898" y="12502"/>
                </a:cubicBezTo>
                <a:cubicBezTo>
                  <a:pt x="12987" y="12572"/>
                  <a:pt x="13060" y="12656"/>
                  <a:pt x="13122" y="12750"/>
                </a:cubicBezTo>
                <a:cubicBezTo>
                  <a:pt x="13146" y="12799"/>
                  <a:pt x="13154" y="12816"/>
                  <a:pt x="13122" y="12849"/>
                </a:cubicBezTo>
                <a:cubicBezTo>
                  <a:pt x="13065" y="12868"/>
                  <a:pt x="12934" y="12854"/>
                  <a:pt x="12874" y="12799"/>
                </a:cubicBezTo>
                <a:cubicBezTo>
                  <a:pt x="12792" y="12723"/>
                  <a:pt x="12812" y="12653"/>
                  <a:pt x="12824" y="12551"/>
                </a:cubicBezTo>
              </a:path>
              <a:path w="4119" h="1166">
                <a:moveTo>
                  <a:pt x="13395" y="12452"/>
                </a:moveTo>
                <a:cubicBezTo>
                  <a:pt x="13395" y="12586"/>
                  <a:pt x="13368" y="12973"/>
                  <a:pt x="13419" y="12849"/>
                </a:cubicBezTo>
                <a:cubicBezTo>
                  <a:pt x="13419" y="12824"/>
                  <a:pt x="13419" y="12799"/>
                  <a:pt x="13419" y="12774"/>
                </a:cubicBezTo>
              </a:path>
              <a:path w="4119" h="1166">
                <a:moveTo>
                  <a:pt x="13345" y="12105"/>
                </a:moveTo>
                <a:cubicBezTo>
                  <a:pt x="13353" y="12088"/>
                  <a:pt x="13362" y="12072"/>
                  <a:pt x="13370" y="12055"/>
                </a:cubicBezTo>
              </a:path>
              <a:path w="4119" h="1166">
                <a:moveTo>
                  <a:pt x="13643" y="12626"/>
                </a:moveTo>
                <a:cubicBezTo>
                  <a:pt x="13624" y="12758"/>
                  <a:pt x="13616" y="12774"/>
                  <a:pt x="13618" y="12849"/>
                </a:cubicBezTo>
                <a:cubicBezTo>
                  <a:pt x="13618" y="12765"/>
                  <a:pt x="13639" y="12705"/>
                  <a:pt x="13643" y="12626"/>
                </a:cubicBezTo>
                <a:cubicBezTo>
                  <a:pt x="13647" y="12557"/>
                  <a:pt x="13669" y="12504"/>
                  <a:pt x="13717" y="12452"/>
                </a:cubicBezTo>
                <a:cubicBezTo>
                  <a:pt x="13771" y="12394"/>
                  <a:pt x="13815" y="12340"/>
                  <a:pt x="13891" y="12402"/>
                </a:cubicBezTo>
                <a:cubicBezTo>
                  <a:pt x="13968" y="12465"/>
                  <a:pt x="14004" y="12554"/>
                  <a:pt x="14015" y="12650"/>
                </a:cubicBezTo>
                <a:cubicBezTo>
                  <a:pt x="14021" y="12706"/>
                  <a:pt x="14015" y="12768"/>
                  <a:pt x="14015" y="12824"/>
                </a:cubicBezTo>
              </a:path>
              <a:path w="4119" h="1166">
                <a:moveTo>
                  <a:pt x="14238" y="12105"/>
                </a:moveTo>
                <a:cubicBezTo>
                  <a:pt x="14238" y="12228"/>
                  <a:pt x="14250" y="12334"/>
                  <a:pt x="14263" y="12452"/>
                </a:cubicBezTo>
                <a:cubicBezTo>
                  <a:pt x="14274" y="12553"/>
                  <a:pt x="14299" y="12650"/>
                  <a:pt x="14312" y="12750"/>
                </a:cubicBezTo>
                <a:cubicBezTo>
                  <a:pt x="14316" y="12782"/>
                  <a:pt x="14311" y="12850"/>
                  <a:pt x="14337" y="12799"/>
                </a:cubicBezTo>
              </a:path>
              <a:path w="4119" h="1166">
                <a:moveTo>
                  <a:pt x="14486" y="12154"/>
                </a:moveTo>
                <a:cubicBezTo>
                  <a:pt x="14550" y="12130"/>
                  <a:pt x="14648" y="12097"/>
                  <a:pt x="14709" y="12154"/>
                </a:cubicBezTo>
                <a:cubicBezTo>
                  <a:pt x="14788" y="12228"/>
                  <a:pt x="14731" y="12337"/>
                  <a:pt x="14660" y="12378"/>
                </a:cubicBezTo>
                <a:cubicBezTo>
                  <a:pt x="14600" y="12413"/>
                  <a:pt x="14576" y="12443"/>
                  <a:pt x="14511" y="12452"/>
                </a:cubicBezTo>
                <a:cubicBezTo>
                  <a:pt x="14593" y="12403"/>
                  <a:pt x="14676" y="12451"/>
                  <a:pt x="14759" y="12502"/>
                </a:cubicBezTo>
                <a:cubicBezTo>
                  <a:pt x="14799" y="12526"/>
                  <a:pt x="14860" y="12659"/>
                  <a:pt x="14858" y="12700"/>
                </a:cubicBezTo>
                <a:cubicBezTo>
                  <a:pt x="14853" y="12811"/>
                  <a:pt x="14800" y="12816"/>
                  <a:pt x="14734" y="12849"/>
                </a:cubicBezTo>
                <a:cubicBezTo>
                  <a:pt x="14676" y="12878"/>
                  <a:pt x="14620" y="12894"/>
                  <a:pt x="14560" y="12849"/>
                </a:cubicBezTo>
                <a:cubicBezTo>
                  <a:pt x="14501" y="12805"/>
                  <a:pt x="14485" y="12741"/>
                  <a:pt x="14461" y="12675"/>
                </a:cubicBezTo>
              </a:path>
              <a:path w="4119" h="1166">
                <a:moveTo>
                  <a:pt x="15007" y="12179"/>
                </a:moveTo>
                <a:cubicBezTo>
                  <a:pt x="14964" y="12284"/>
                  <a:pt x="14915" y="12389"/>
                  <a:pt x="14908" y="12502"/>
                </a:cubicBezTo>
                <a:cubicBezTo>
                  <a:pt x="14902" y="12592"/>
                  <a:pt x="14902" y="12795"/>
                  <a:pt x="14982" y="12874"/>
                </a:cubicBezTo>
                <a:cubicBezTo>
                  <a:pt x="15031" y="12923"/>
                  <a:pt x="15122" y="13015"/>
                  <a:pt x="15180" y="13022"/>
                </a:cubicBezTo>
                <a:cubicBezTo>
                  <a:pt x="15253" y="13030"/>
                  <a:pt x="15274" y="12980"/>
                  <a:pt x="15304" y="12923"/>
                </a:cubicBezTo>
                <a:cubicBezTo>
                  <a:pt x="15343" y="12848"/>
                  <a:pt x="15339" y="12734"/>
                  <a:pt x="15329" y="12650"/>
                </a:cubicBezTo>
                <a:cubicBezTo>
                  <a:pt x="15311" y="12499"/>
                  <a:pt x="15279" y="12436"/>
                  <a:pt x="15180" y="12328"/>
                </a:cubicBezTo>
                <a:cubicBezTo>
                  <a:pt x="15141" y="12286"/>
                  <a:pt x="15118" y="12261"/>
                  <a:pt x="15106" y="12204"/>
                </a:cubicBezTo>
              </a:path>
              <a:path w="4119" h="1166">
                <a:moveTo>
                  <a:pt x="15205" y="11931"/>
                </a:moveTo>
                <a:cubicBezTo>
                  <a:pt x="15179" y="12017"/>
                  <a:pt x="15157" y="12145"/>
                  <a:pt x="15304" y="12129"/>
                </a:cubicBezTo>
                <a:cubicBezTo>
                  <a:pt x="15387" y="12120"/>
                  <a:pt x="15402" y="12019"/>
                  <a:pt x="15379" y="11956"/>
                </a:cubicBezTo>
                <a:cubicBezTo>
                  <a:pt x="15367" y="11923"/>
                  <a:pt x="15299" y="11867"/>
                  <a:pt x="15280" y="11857"/>
                </a:cubicBezTo>
              </a:path>
              <a:path w="4119" h="1166">
                <a:moveTo>
                  <a:pt x="15503" y="12353"/>
                </a:moveTo>
                <a:cubicBezTo>
                  <a:pt x="15595" y="12379"/>
                  <a:pt x="15658" y="12402"/>
                  <a:pt x="15751" y="12402"/>
                </a:cubicBezTo>
              </a:path>
              <a:path w="4119" h="1166">
                <a:moveTo>
                  <a:pt x="15577" y="12675"/>
                </a:moveTo>
                <a:cubicBezTo>
                  <a:pt x="15736" y="12695"/>
                  <a:pt x="15780" y="12704"/>
                  <a:pt x="15925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5875200" y="4232160"/>
            <a:ext cx="1081080" cy="447840"/>
          </a:xfrm>
          <a:custGeom>
            <a:avLst/>
            <a:gdLst/>
            <a:ahLst/>
            <a:rect l="l" t="t" r="r" b="b"/>
            <a:pathLst>
              <a:path w="3003" h="1242">
                <a:moveTo>
                  <a:pt x="16644" y="12502"/>
                </a:moveTo>
                <a:cubicBezTo>
                  <a:pt x="16644" y="12614"/>
                  <a:pt x="16638" y="12439"/>
                  <a:pt x="16619" y="12402"/>
                </a:cubicBezTo>
                <a:cubicBezTo>
                  <a:pt x="16589" y="12343"/>
                  <a:pt x="16492" y="12319"/>
                  <a:pt x="16446" y="12378"/>
                </a:cubicBezTo>
                <a:cubicBezTo>
                  <a:pt x="16399" y="12439"/>
                  <a:pt x="16340" y="12527"/>
                  <a:pt x="16321" y="12601"/>
                </a:cubicBezTo>
                <a:cubicBezTo>
                  <a:pt x="16299" y="12689"/>
                  <a:pt x="16388" y="12737"/>
                  <a:pt x="16421" y="12799"/>
                </a:cubicBezTo>
                <a:cubicBezTo>
                  <a:pt x="16472" y="12896"/>
                  <a:pt x="16468" y="12911"/>
                  <a:pt x="16570" y="12973"/>
                </a:cubicBezTo>
                <a:cubicBezTo>
                  <a:pt x="16646" y="13012"/>
                  <a:pt x="16688" y="13004"/>
                  <a:pt x="16743" y="12923"/>
                </a:cubicBezTo>
              </a:path>
              <a:path w="3003" h="1242">
                <a:moveTo>
                  <a:pt x="17289" y="12353"/>
                </a:moveTo>
                <a:cubicBezTo>
                  <a:pt x="17248" y="12298"/>
                  <a:pt x="17232" y="12260"/>
                  <a:pt x="17140" y="12278"/>
                </a:cubicBezTo>
                <a:cubicBezTo>
                  <a:pt x="17033" y="12299"/>
                  <a:pt x="17031" y="12311"/>
                  <a:pt x="17041" y="12402"/>
                </a:cubicBezTo>
                <a:cubicBezTo>
                  <a:pt x="17054" y="12517"/>
                  <a:pt x="17132" y="12478"/>
                  <a:pt x="17190" y="12551"/>
                </a:cubicBezTo>
                <a:cubicBezTo>
                  <a:pt x="17236" y="12610"/>
                  <a:pt x="17299" y="12704"/>
                  <a:pt x="17338" y="12774"/>
                </a:cubicBezTo>
                <a:cubicBezTo>
                  <a:pt x="17375" y="12841"/>
                  <a:pt x="17337" y="12891"/>
                  <a:pt x="17264" y="12898"/>
                </a:cubicBezTo>
                <a:cubicBezTo>
                  <a:pt x="17155" y="12908"/>
                  <a:pt x="17092" y="12834"/>
                  <a:pt x="17041" y="12750"/>
                </a:cubicBezTo>
                <a:cubicBezTo>
                  <a:pt x="17019" y="12706"/>
                  <a:pt x="17006" y="12694"/>
                  <a:pt x="17041" y="12675"/>
                </a:cubicBezTo>
              </a:path>
              <a:path w="3003" h="1242">
                <a:moveTo>
                  <a:pt x="17438" y="12254"/>
                </a:moveTo>
                <a:cubicBezTo>
                  <a:pt x="17464" y="12353"/>
                  <a:pt x="17476" y="12453"/>
                  <a:pt x="17512" y="12551"/>
                </a:cubicBezTo>
                <a:cubicBezTo>
                  <a:pt x="17547" y="12648"/>
                  <a:pt x="17587" y="12854"/>
                  <a:pt x="17587" y="12750"/>
                </a:cubicBezTo>
              </a:path>
              <a:path w="3003" h="1242">
                <a:moveTo>
                  <a:pt x="17487" y="12005"/>
                </a:moveTo>
                <a:cubicBezTo>
                  <a:pt x="17545" y="11986"/>
                  <a:pt x="17552" y="11978"/>
                  <a:pt x="17587" y="11981"/>
                </a:cubicBezTo>
              </a:path>
              <a:path w="3003" h="1242">
                <a:moveTo>
                  <a:pt x="17735" y="12675"/>
                </a:moveTo>
                <a:cubicBezTo>
                  <a:pt x="17743" y="12725"/>
                  <a:pt x="17752" y="12774"/>
                  <a:pt x="17760" y="12824"/>
                </a:cubicBezTo>
                <a:cubicBezTo>
                  <a:pt x="17760" y="12705"/>
                  <a:pt x="17719" y="12485"/>
                  <a:pt x="17785" y="12378"/>
                </a:cubicBezTo>
                <a:cubicBezTo>
                  <a:pt x="17836" y="12295"/>
                  <a:pt x="17923" y="12330"/>
                  <a:pt x="17959" y="12402"/>
                </a:cubicBezTo>
                <a:cubicBezTo>
                  <a:pt x="18001" y="12488"/>
                  <a:pt x="18047" y="12587"/>
                  <a:pt x="18083" y="12675"/>
                </a:cubicBezTo>
                <a:cubicBezTo>
                  <a:pt x="18102" y="12733"/>
                  <a:pt x="18110" y="12776"/>
                  <a:pt x="18107" y="12725"/>
                </a:cubicBezTo>
              </a:path>
              <a:path w="3003" h="1242">
                <a:moveTo>
                  <a:pt x="18182" y="12055"/>
                </a:moveTo>
                <a:cubicBezTo>
                  <a:pt x="18281" y="12055"/>
                  <a:pt x="18383" y="12067"/>
                  <a:pt x="18430" y="12179"/>
                </a:cubicBezTo>
                <a:cubicBezTo>
                  <a:pt x="18459" y="12249"/>
                  <a:pt x="18430" y="12335"/>
                  <a:pt x="18355" y="12353"/>
                </a:cubicBezTo>
                <a:cubicBezTo>
                  <a:pt x="18297" y="12353"/>
                  <a:pt x="18272" y="12353"/>
                  <a:pt x="18231" y="12353"/>
                </a:cubicBezTo>
                <a:cubicBezTo>
                  <a:pt x="18329" y="12375"/>
                  <a:pt x="18379" y="12411"/>
                  <a:pt x="18430" y="12502"/>
                </a:cubicBezTo>
                <a:cubicBezTo>
                  <a:pt x="18478" y="12588"/>
                  <a:pt x="18470" y="12617"/>
                  <a:pt x="18455" y="12700"/>
                </a:cubicBezTo>
                <a:cubicBezTo>
                  <a:pt x="18445" y="12753"/>
                  <a:pt x="18434" y="12818"/>
                  <a:pt x="18355" y="12799"/>
                </a:cubicBezTo>
                <a:cubicBezTo>
                  <a:pt x="18275" y="12780"/>
                  <a:pt x="18237" y="12697"/>
                  <a:pt x="18231" y="12626"/>
                </a:cubicBezTo>
                <a:cubicBezTo>
                  <a:pt x="18231" y="12560"/>
                  <a:pt x="18231" y="12543"/>
                  <a:pt x="18231" y="12502"/>
                </a:cubicBezTo>
              </a:path>
              <a:path w="3003" h="1242">
                <a:moveTo>
                  <a:pt x="18628" y="12005"/>
                </a:moveTo>
                <a:cubicBezTo>
                  <a:pt x="18593" y="12132"/>
                  <a:pt x="18564" y="12243"/>
                  <a:pt x="18554" y="12378"/>
                </a:cubicBezTo>
                <a:cubicBezTo>
                  <a:pt x="18547" y="12479"/>
                  <a:pt x="18547" y="12610"/>
                  <a:pt x="18604" y="12700"/>
                </a:cubicBezTo>
                <a:cubicBezTo>
                  <a:pt x="18639" y="12756"/>
                  <a:pt x="18737" y="12856"/>
                  <a:pt x="18802" y="12874"/>
                </a:cubicBezTo>
                <a:cubicBezTo>
                  <a:pt x="18892" y="12899"/>
                  <a:pt x="18901" y="12853"/>
                  <a:pt x="18951" y="12799"/>
                </a:cubicBezTo>
                <a:cubicBezTo>
                  <a:pt x="18994" y="12753"/>
                  <a:pt x="19082" y="12610"/>
                  <a:pt x="19000" y="12551"/>
                </a:cubicBezTo>
                <a:cubicBezTo>
                  <a:pt x="18931" y="12501"/>
                  <a:pt x="18842" y="12546"/>
                  <a:pt x="18827" y="12626"/>
                </a:cubicBezTo>
                <a:cubicBezTo>
                  <a:pt x="18809" y="12727"/>
                  <a:pt x="18829" y="12802"/>
                  <a:pt x="18926" y="12824"/>
                </a:cubicBezTo>
                <a:cubicBezTo>
                  <a:pt x="18934" y="12824"/>
                  <a:pt x="18943" y="12824"/>
                  <a:pt x="18951" y="12824"/>
                </a:cubicBezTo>
              </a:path>
              <a:path w="3003" h="1242">
                <a:moveTo>
                  <a:pt x="19124" y="11881"/>
                </a:moveTo>
                <a:cubicBezTo>
                  <a:pt x="19093" y="11989"/>
                  <a:pt x="18994" y="12146"/>
                  <a:pt x="19174" y="12154"/>
                </a:cubicBezTo>
                <a:cubicBezTo>
                  <a:pt x="19301" y="12160"/>
                  <a:pt x="19270" y="12123"/>
                  <a:pt x="19298" y="12030"/>
                </a:cubicBezTo>
                <a:cubicBezTo>
                  <a:pt x="19327" y="11936"/>
                  <a:pt x="19325" y="11828"/>
                  <a:pt x="19224" y="11782"/>
                </a:cubicBezTo>
                <a:cubicBezTo>
                  <a:pt x="19142" y="11745"/>
                  <a:pt x="19102" y="11756"/>
                  <a:pt x="19025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6010200" y="4340160"/>
            <a:ext cx="955800" cy="1258920"/>
          </a:xfrm>
          <a:custGeom>
            <a:avLst/>
            <a:gdLst/>
            <a:ahLst/>
            <a:rect l="l" t="t" r="r" b="b"/>
            <a:pathLst>
              <a:path w="2655" h="3499">
                <a:moveTo>
                  <a:pt x="17140" y="13667"/>
                </a:moveTo>
                <a:cubicBezTo>
                  <a:pt x="17305" y="13635"/>
                  <a:pt x="17472" y="13617"/>
                  <a:pt x="17636" y="13593"/>
                </a:cubicBezTo>
                <a:cubicBezTo>
                  <a:pt x="17803" y="13568"/>
                  <a:pt x="17963" y="13547"/>
                  <a:pt x="18132" y="13543"/>
                </a:cubicBezTo>
                <a:cubicBezTo>
                  <a:pt x="18264" y="13540"/>
                  <a:pt x="18400" y="13545"/>
                  <a:pt x="18529" y="13519"/>
                </a:cubicBezTo>
                <a:cubicBezTo>
                  <a:pt x="18618" y="13501"/>
                  <a:pt x="18746" y="13502"/>
                  <a:pt x="18827" y="13469"/>
                </a:cubicBezTo>
                <a:cubicBezTo>
                  <a:pt x="18852" y="13444"/>
                  <a:pt x="18860" y="13436"/>
                  <a:pt x="18876" y="13419"/>
                </a:cubicBezTo>
              </a:path>
              <a:path w="2655" h="3499">
                <a:moveTo>
                  <a:pt x="17487" y="12700"/>
                </a:moveTo>
                <a:cubicBezTo>
                  <a:pt x="17674" y="12570"/>
                  <a:pt x="17770" y="12563"/>
                  <a:pt x="17983" y="12502"/>
                </a:cubicBezTo>
                <a:cubicBezTo>
                  <a:pt x="18178" y="12446"/>
                  <a:pt x="18355" y="12366"/>
                  <a:pt x="18554" y="12328"/>
                </a:cubicBezTo>
                <a:cubicBezTo>
                  <a:pt x="18723" y="12296"/>
                  <a:pt x="18862" y="12225"/>
                  <a:pt x="19025" y="12179"/>
                </a:cubicBezTo>
                <a:cubicBezTo>
                  <a:pt x="19145" y="12145"/>
                  <a:pt x="19241" y="12117"/>
                  <a:pt x="19348" y="12055"/>
                </a:cubicBezTo>
              </a:path>
              <a:path w="2655" h="3499">
                <a:moveTo>
                  <a:pt x="16694" y="14908"/>
                </a:moveTo>
                <a:cubicBezTo>
                  <a:pt x="16796" y="14908"/>
                  <a:pt x="16895" y="14920"/>
                  <a:pt x="16991" y="14883"/>
                </a:cubicBezTo>
                <a:cubicBezTo>
                  <a:pt x="17008" y="14875"/>
                  <a:pt x="17024" y="14866"/>
                  <a:pt x="17041" y="14858"/>
                </a:cubicBezTo>
              </a:path>
              <a:path w="2655" h="3499">
                <a:moveTo>
                  <a:pt x="16743" y="15106"/>
                </a:moveTo>
                <a:cubicBezTo>
                  <a:pt x="16863" y="15150"/>
                  <a:pt x="16893" y="15145"/>
                  <a:pt x="17016" y="15131"/>
                </a:cubicBezTo>
                <a:cubicBezTo>
                  <a:pt x="17041" y="15131"/>
                  <a:pt x="17065" y="15131"/>
                  <a:pt x="17090" y="15131"/>
                </a:cubicBezTo>
              </a:path>
              <a:path w="2655" h="3499">
                <a:moveTo>
                  <a:pt x="17587" y="14784"/>
                </a:moveTo>
                <a:cubicBezTo>
                  <a:pt x="17595" y="14825"/>
                  <a:pt x="17603" y="14867"/>
                  <a:pt x="17611" y="14908"/>
                </a:cubicBezTo>
                <a:cubicBezTo>
                  <a:pt x="17611" y="14855"/>
                  <a:pt x="17633" y="14734"/>
                  <a:pt x="17562" y="14709"/>
                </a:cubicBezTo>
                <a:cubicBezTo>
                  <a:pt x="17496" y="14685"/>
                  <a:pt x="17417" y="14726"/>
                  <a:pt x="17363" y="14759"/>
                </a:cubicBezTo>
                <a:cubicBezTo>
                  <a:pt x="17255" y="14825"/>
                  <a:pt x="17214" y="14886"/>
                  <a:pt x="17214" y="15007"/>
                </a:cubicBezTo>
                <a:cubicBezTo>
                  <a:pt x="17214" y="15148"/>
                  <a:pt x="17214" y="15176"/>
                  <a:pt x="17314" y="15280"/>
                </a:cubicBezTo>
                <a:cubicBezTo>
                  <a:pt x="17409" y="15379"/>
                  <a:pt x="17481" y="15431"/>
                  <a:pt x="17611" y="15478"/>
                </a:cubicBezTo>
                <a:cubicBezTo>
                  <a:pt x="17724" y="15518"/>
                  <a:pt x="17840" y="15545"/>
                  <a:pt x="17959" y="15553"/>
                </a:cubicBezTo>
                <a:cubicBezTo>
                  <a:pt x="17967" y="15553"/>
                  <a:pt x="17975" y="15553"/>
                  <a:pt x="17983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87680" y="4741920"/>
            <a:ext cx="965160" cy="428400"/>
          </a:xfrm>
          <a:custGeom>
            <a:avLst/>
            <a:gdLst/>
            <a:ahLst/>
            <a:rect l="l" t="t" r="r" b="b"/>
            <a:pathLst>
              <a:path w="2680" h="1192">
                <a:moveTo>
                  <a:pt x="4713" y="13519"/>
                </a:moveTo>
                <a:cubicBezTo>
                  <a:pt x="4689" y="13614"/>
                  <a:pt x="4688" y="13693"/>
                  <a:pt x="4688" y="13791"/>
                </a:cubicBezTo>
                <a:cubicBezTo>
                  <a:pt x="4688" y="13932"/>
                  <a:pt x="4688" y="14072"/>
                  <a:pt x="4688" y="14213"/>
                </a:cubicBezTo>
                <a:cubicBezTo>
                  <a:pt x="4688" y="14347"/>
                  <a:pt x="4688" y="14137"/>
                  <a:pt x="4688" y="14114"/>
                </a:cubicBezTo>
                <a:cubicBezTo>
                  <a:pt x="4688" y="14035"/>
                  <a:pt x="4706" y="13963"/>
                  <a:pt x="4713" y="13891"/>
                </a:cubicBezTo>
                <a:cubicBezTo>
                  <a:pt x="4726" y="13770"/>
                  <a:pt x="4733" y="13639"/>
                  <a:pt x="4738" y="13519"/>
                </a:cubicBezTo>
                <a:cubicBezTo>
                  <a:pt x="4741" y="13438"/>
                  <a:pt x="4751" y="13361"/>
                  <a:pt x="4787" y="13295"/>
                </a:cubicBezTo>
                <a:cubicBezTo>
                  <a:pt x="4803" y="13265"/>
                  <a:pt x="4848" y="13182"/>
                  <a:pt x="4887" y="13171"/>
                </a:cubicBezTo>
                <a:cubicBezTo>
                  <a:pt x="4981" y="13144"/>
                  <a:pt x="5060" y="13249"/>
                  <a:pt x="5085" y="13320"/>
                </a:cubicBezTo>
                <a:cubicBezTo>
                  <a:pt x="5118" y="13415"/>
                  <a:pt x="5070" y="13489"/>
                  <a:pt x="5011" y="13543"/>
                </a:cubicBezTo>
                <a:cubicBezTo>
                  <a:pt x="4964" y="13586"/>
                  <a:pt x="4895" y="13574"/>
                  <a:pt x="4837" y="13593"/>
                </a:cubicBezTo>
                <a:cubicBezTo>
                  <a:pt x="4820" y="13601"/>
                  <a:pt x="4804" y="13610"/>
                  <a:pt x="4787" y="13618"/>
                </a:cubicBezTo>
                <a:cubicBezTo>
                  <a:pt x="4856" y="13652"/>
                  <a:pt x="4919" y="13662"/>
                  <a:pt x="4986" y="13692"/>
                </a:cubicBezTo>
                <a:cubicBezTo>
                  <a:pt x="5058" y="13724"/>
                  <a:pt x="5076" y="13798"/>
                  <a:pt x="5110" y="13866"/>
                </a:cubicBezTo>
                <a:cubicBezTo>
                  <a:pt x="5183" y="14013"/>
                  <a:pt x="5192" y="14016"/>
                  <a:pt x="5110" y="14139"/>
                </a:cubicBezTo>
                <a:cubicBezTo>
                  <a:pt x="5066" y="14205"/>
                  <a:pt x="5044" y="14224"/>
                  <a:pt x="4961" y="14238"/>
                </a:cubicBezTo>
                <a:cubicBezTo>
                  <a:pt x="4897" y="14249"/>
                  <a:pt x="4808" y="14201"/>
                  <a:pt x="4762" y="14163"/>
                </a:cubicBezTo>
                <a:cubicBezTo>
                  <a:pt x="4725" y="14126"/>
                  <a:pt x="4727" y="14102"/>
                  <a:pt x="4787" y="14064"/>
                </a:cubicBezTo>
              </a:path>
              <a:path w="2680" h="1192">
                <a:moveTo>
                  <a:pt x="5432" y="13692"/>
                </a:moveTo>
                <a:cubicBezTo>
                  <a:pt x="5495" y="13713"/>
                  <a:pt x="5574" y="13730"/>
                  <a:pt x="5631" y="13742"/>
                </a:cubicBezTo>
                <a:cubicBezTo>
                  <a:pt x="5647" y="13742"/>
                  <a:pt x="5664" y="13742"/>
                  <a:pt x="5680" y="13742"/>
                </a:cubicBezTo>
              </a:path>
              <a:path w="2680" h="1192">
                <a:moveTo>
                  <a:pt x="5432" y="13891"/>
                </a:moveTo>
                <a:cubicBezTo>
                  <a:pt x="5502" y="13926"/>
                  <a:pt x="5626" y="13997"/>
                  <a:pt x="5705" y="13990"/>
                </a:cubicBezTo>
                <a:cubicBezTo>
                  <a:pt x="5730" y="13982"/>
                  <a:pt x="5754" y="13973"/>
                  <a:pt x="5779" y="13965"/>
                </a:cubicBezTo>
              </a:path>
              <a:path w="2680" h="1192">
                <a:moveTo>
                  <a:pt x="6300" y="13320"/>
                </a:moveTo>
                <a:cubicBezTo>
                  <a:pt x="6353" y="13373"/>
                  <a:pt x="6350" y="13393"/>
                  <a:pt x="6350" y="13469"/>
                </a:cubicBezTo>
                <a:cubicBezTo>
                  <a:pt x="6350" y="13548"/>
                  <a:pt x="6329" y="13615"/>
                  <a:pt x="6325" y="13692"/>
                </a:cubicBezTo>
                <a:cubicBezTo>
                  <a:pt x="6315" y="13885"/>
                  <a:pt x="6372" y="14130"/>
                  <a:pt x="6300" y="14312"/>
                </a:cubicBezTo>
                <a:cubicBezTo>
                  <a:pt x="6278" y="14335"/>
                  <a:pt x="6270" y="14346"/>
                  <a:pt x="6276" y="14312"/>
                </a:cubicBezTo>
              </a:path>
              <a:path w="2680" h="1192">
                <a:moveTo>
                  <a:pt x="6548" y="13593"/>
                </a:moveTo>
                <a:cubicBezTo>
                  <a:pt x="6524" y="13668"/>
                  <a:pt x="6503" y="13743"/>
                  <a:pt x="6548" y="13816"/>
                </a:cubicBezTo>
                <a:cubicBezTo>
                  <a:pt x="6595" y="13893"/>
                  <a:pt x="6562" y="13885"/>
                  <a:pt x="6648" y="13915"/>
                </a:cubicBezTo>
                <a:cubicBezTo>
                  <a:pt x="6712" y="13938"/>
                  <a:pt x="6709" y="13928"/>
                  <a:pt x="6772" y="13915"/>
                </a:cubicBezTo>
              </a:path>
              <a:path w="2680" h="1192">
                <a:moveTo>
                  <a:pt x="6896" y="13370"/>
                </a:moveTo>
                <a:cubicBezTo>
                  <a:pt x="6826" y="13475"/>
                  <a:pt x="6830" y="13616"/>
                  <a:pt x="6821" y="13742"/>
                </a:cubicBezTo>
                <a:cubicBezTo>
                  <a:pt x="6814" y="13848"/>
                  <a:pt x="6846" y="13955"/>
                  <a:pt x="6846" y="14064"/>
                </a:cubicBezTo>
                <a:cubicBezTo>
                  <a:pt x="6846" y="14127"/>
                  <a:pt x="6850" y="14254"/>
                  <a:pt x="6871" y="14312"/>
                </a:cubicBezTo>
                <a:cubicBezTo>
                  <a:pt x="6886" y="14354"/>
                  <a:pt x="6909" y="14362"/>
                  <a:pt x="6921" y="14337"/>
                </a:cubicBezTo>
              </a:path>
              <a:path w="2680" h="1192">
                <a:moveTo>
                  <a:pt x="7218" y="13370"/>
                </a:moveTo>
                <a:cubicBezTo>
                  <a:pt x="7171" y="13463"/>
                  <a:pt x="7196" y="13484"/>
                  <a:pt x="7268" y="13543"/>
                </a:cubicBezTo>
                <a:cubicBezTo>
                  <a:pt x="7296" y="13571"/>
                  <a:pt x="7309" y="13580"/>
                  <a:pt x="7342" y="13568"/>
                </a:cubicBezTo>
                <a:cubicBezTo>
                  <a:pt x="7365" y="13522"/>
                  <a:pt x="7393" y="13427"/>
                  <a:pt x="7317" y="13395"/>
                </a:cubicBezTo>
                <a:cubicBezTo>
                  <a:pt x="7235" y="13374"/>
                  <a:pt x="7220" y="13366"/>
                  <a:pt x="7169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4232160" y="4633920"/>
            <a:ext cx="2867040" cy="482760"/>
          </a:xfrm>
          <a:custGeom>
            <a:avLst/>
            <a:gdLst/>
            <a:ahLst/>
            <a:rect l="l" t="t" r="r" b="b"/>
            <a:pathLst>
              <a:path w="7964" h="1340">
                <a:moveTo>
                  <a:pt x="19720" y="13122"/>
                </a:moveTo>
                <a:cubicBezTo>
                  <a:pt x="19512" y="13098"/>
                  <a:pt x="19307" y="13069"/>
                  <a:pt x="19100" y="13047"/>
                </a:cubicBezTo>
                <a:cubicBezTo>
                  <a:pt x="18850" y="13020"/>
                  <a:pt x="18606" y="13022"/>
                  <a:pt x="18355" y="13022"/>
                </a:cubicBezTo>
                <a:cubicBezTo>
                  <a:pt x="18144" y="13022"/>
                  <a:pt x="17946" y="13045"/>
                  <a:pt x="17735" y="13022"/>
                </a:cubicBezTo>
                <a:cubicBezTo>
                  <a:pt x="17469" y="12993"/>
                  <a:pt x="17211" y="12959"/>
                  <a:pt x="16942" y="12948"/>
                </a:cubicBezTo>
                <a:cubicBezTo>
                  <a:pt x="16772" y="12941"/>
                  <a:pt x="16612" y="12957"/>
                  <a:pt x="16446" y="12973"/>
                </a:cubicBezTo>
                <a:cubicBezTo>
                  <a:pt x="16336" y="12984"/>
                  <a:pt x="16296" y="13004"/>
                  <a:pt x="16222" y="13047"/>
                </a:cubicBezTo>
              </a:path>
              <a:path w="7964" h="1340">
                <a:moveTo>
                  <a:pt x="17711" y="13320"/>
                </a:moveTo>
                <a:cubicBezTo>
                  <a:pt x="17669" y="13289"/>
                  <a:pt x="17634" y="13254"/>
                  <a:pt x="17587" y="13221"/>
                </a:cubicBezTo>
                <a:cubicBezTo>
                  <a:pt x="17535" y="13184"/>
                  <a:pt x="17401" y="13181"/>
                  <a:pt x="17338" y="13196"/>
                </a:cubicBezTo>
                <a:cubicBezTo>
                  <a:pt x="17322" y="13204"/>
                  <a:pt x="17305" y="13213"/>
                  <a:pt x="17289" y="13221"/>
                </a:cubicBezTo>
                <a:cubicBezTo>
                  <a:pt x="17266" y="13289"/>
                  <a:pt x="17315" y="13377"/>
                  <a:pt x="17363" y="13444"/>
                </a:cubicBezTo>
                <a:cubicBezTo>
                  <a:pt x="17429" y="13536"/>
                  <a:pt x="17586" y="13626"/>
                  <a:pt x="17611" y="13742"/>
                </a:cubicBezTo>
                <a:cubicBezTo>
                  <a:pt x="17627" y="13816"/>
                  <a:pt x="17621" y="13896"/>
                  <a:pt x="17537" y="13915"/>
                </a:cubicBezTo>
                <a:cubicBezTo>
                  <a:pt x="17493" y="13925"/>
                  <a:pt x="17373" y="13894"/>
                  <a:pt x="17338" y="13866"/>
                </a:cubicBezTo>
                <a:cubicBezTo>
                  <a:pt x="17271" y="13813"/>
                  <a:pt x="17230" y="13747"/>
                  <a:pt x="17214" y="13667"/>
                </a:cubicBezTo>
              </a:path>
              <a:path w="7964" h="1340">
                <a:moveTo>
                  <a:pt x="17711" y="13543"/>
                </a:moveTo>
                <a:cubicBezTo>
                  <a:pt x="17727" y="13695"/>
                  <a:pt x="17747" y="14039"/>
                  <a:pt x="17785" y="13891"/>
                </a:cubicBezTo>
              </a:path>
              <a:path w="7964" h="1340">
                <a:moveTo>
                  <a:pt x="17785" y="13097"/>
                </a:moveTo>
                <a:lnTo>
                  <a:pt x="17785" y="13097"/>
                </a:lnTo>
              </a:path>
              <a:path w="7964" h="1340">
                <a:moveTo>
                  <a:pt x="17959" y="13643"/>
                </a:moveTo>
                <a:cubicBezTo>
                  <a:pt x="17959" y="13692"/>
                  <a:pt x="17959" y="13742"/>
                  <a:pt x="17959" y="13791"/>
                </a:cubicBezTo>
                <a:cubicBezTo>
                  <a:pt x="17959" y="13934"/>
                  <a:pt x="17959" y="13691"/>
                  <a:pt x="17959" y="13667"/>
                </a:cubicBezTo>
                <a:cubicBezTo>
                  <a:pt x="17959" y="13578"/>
                  <a:pt x="17962" y="13499"/>
                  <a:pt x="18008" y="13419"/>
                </a:cubicBezTo>
                <a:cubicBezTo>
                  <a:pt x="18040" y="13363"/>
                  <a:pt x="18137" y="13390"/>
                  <a:pt x="18157" y="13444"/>
                </a:cubicBezTo>
                <a:cubicBezTo>
                  <a:pt x="18200" y="13564"/>
                  <a:pt x="18225" y="13656"/>
                  <a:pt x="18281" y="13767"/>
                </a:cubicBezTo>
                <a:cubicBezTo>
                  <a:pt x="18301" y="13807"/>
                  <a:pt x="18310" y="13833"/>
                  <a:pt x="18306" y="13791"/>
                </a:cubicBezTo>
              </a:path>
              <a:path w="7964" h="1340">
                <a:moveTo>
                  <a:pt x="18405" y="13122"/>
                </a:moveTo>
                <a:cubicBezTo>
                  <a:pt x="18532" y="13133"/>
                  <a:pt x="18659" y="13115"/>
                  <a:pt x="18703" y="13271"/>
                </a:cubicBezTo>
                <a:cubicBezTo>
                  <a:pt x="18726" y="13352"/>
                  <a:pt x="18609" y="13367"/>
                  <a:pt x="18554" y="13370"/>
                </a:cubicBezTo>
                <a:cubicBezTo>
                  <a:pt x="18496" y="13370"/>
                  <a:pt x="18471" y="13370"/>
                  <a:pt x="18430" y="13370"/>
                </a:cubicBezTo>
                <a:cubicBezTo>
                  <a:pt x="18486" y="13398"/>
                  <a:pt x="18558" y="13428"/>
                  <a:pt x="18604" y="13469"/>
                </a:cubicBezTo>
                <a:cubicBezTo>
                  <a:pt x="18688" y="13544"/>
                  <a:pt x="18788" y="13659"/>
                  <a:pt x="18678" y="13767"/>
                </a:cubicBezTo>
                <a:cubicBezTo>
                  <a:pt x="18633" y="13811"/>
                  <a:pt x="18560" y="13853"/>
                  <a:pt x="18504" y="13816"/>
                </a:cubicBezTo>
                <a:cubicBezTo>
                  <a:pt x="18433" y="13769"/>
                  <a:pt x="18422" y="13700"/>
                  <a:pt x="18430" y="13643"/>
                </a:cubicBezTo>
              </a:path>
              <a:path w="7964" h="1340">
                <a:moveTo>
                  <a:pt x="18827" y="13271"/>
                </a:moveTo>
                <a:cubicBezTo>
                  <a:pt x="18783" y="13424"/>
                  <a:pt x="18758" y="13513"/>
                  <a:pt x="18802" y="13667"/>
                </a:cubicBezTo>
                <a:cubicBezTo>
                  <a:pt x="18835" y="13780"/>
                  <a:pt x="18915" y="13937"/>
                  <a:pt x="19025" y="13990"/>
                </a:cubicBezTo>
                <a:cubicBezTo>
                  <a:pt x="19090" y="14021"/>
                  <a:pt x="19153" y="14003"/>
                  <a:pt x="19199" y="13940"/>
                </a:cubicBezTo>
                <a:cubicBezTo>
                  <a:pt x="19242" y="13881"/>
                  <a:pt x="19196" y="13783"/>
                  <a:pt x="19124" y="13767"/>
                </a:cubicBezTo>
                <a:cubicBezTo>
                  <a:pt x="19028" y="13745"/>
                  <a:pt x="18930" y="13764"/>
                  <a:pt x="18852" y="13816"/>
                </a:cubicBezTo>
                <a:cubicBezTo>
                  <a:pt x="18742" y="13890"/>
                  <a:pt x="18715" y="13979"/>
                  <a:pt x="18604" y="14039"/>
                </a:cubicBezTo>
              </a:path>
              <a:path w="7964" h="1340">
                <a:moveTo>
                  <a:pt x="15453" y="13122"/>
                </a:moveTo>
                <a:cubicBezTo>
                  <a:pt x="15392" y="13236"/>
                  <a:pt x="15406" y="13264"/>
                  <a:pt x="15255" y="13246"/>
                </a:cubicBezTo>
                <a:cubicBezTo>
                  <a:pt x="14993" y="13214"/>
                  <a:pt x="14744" y="13139"/>
                  <a:pt x="14486" y="13097"/>
                </a:cubicBezTo>
                <a:cubicBezTo>
                  <a:pt x="14229" y="13055"/>
                  <a:pt x="13971" y="13025"/>
                  <a:pt x="13717" y="12973"/>
                </a:cubicBezTo>
                <a:cubicBezTo>
                  <a:pt x="13246" y="12877"/>
                  <a:pt x="12800" y="12874"/>
                  <a:pt x="12328" y="12898"/>
                </a:cubicBezTo>
                <a:cubicBezTo>
                  <a:pt x="12148" y="12907"/>
                  <a:pt x="11999" y="12940"/>
                  <a:pt x="11832" y="12998"/>
                </a:cubicBezTo>
                <a:cubicBezTo>
                  <a:pt x="11727" y="13035"/>
                  <a:pt x="11809" y="13000"/>
                  <a:pt x="11782" y="13047"/>
                </a:cubicBezTo>
              </a:path>
              <a:path w="7964" h="1340">
                <a:moveTo>
                  <a:pt x="13097" y="13395"/>
                </a:moveTo>
                <a:cubicBezTo>
                  <a:pt x="12996" y="13364"/>
                  <a:pt x="12923" y="13326"/>
                  <a:pt x="12824" y="13370"/>
                </a:cubicBezTo>
                <a:cubicBezTo>
                  <a:pt x="12807" y="13378"/>
                  <a:pt x="12791" y="13387"/>
                  <a:pt x="12774" y="13395"/>
                </a:cubicBezTo>
                <a:cubicBezTo>
                  <a:pt x="12818" y="13515"/>
                  <a:pt x="12868" y="13551"/>
                  <a:pt x="12948" y="13643"/>
                </a:cubicBezTo>
                <a:cubicBezTo>
                  <a:pt x="13027" y="13733"/>
                  <a:pt x="13076" y="13847"/>
                  <a:pt x="13146" y="13940"/>
                </a:cubicBezTo>
                <a:cubicBezTo>
                  <a:pt x="13191" y="13985"/>
                  <a:pt x="13208" y="13994"/>
                  <a:pt x="13196" y="14039"/>
                </a:cubicBezTo>
                <a:cubicBezTo>
                  <a:pt x="13103" y="14091"/>
                  <a:pt x="13016" y="14065"/>
                  <a:pt x="12898" y="14015"/>
                </a:cubicBezTo>
                <a:cubicBezTo>
                  <a:pt x="12831" y="13986"/>
                  <a:pt x="12763" y="13916"/>
                  <a:pt x="12750" y="13841"/>
                </a:cubicBezTo>
                <a:cubicBezTo>
                  <a:pt x="12750" y="13816"/>
                  <a:pt x="12750" y="13792"/>
                  <a:pt x="12750" y="13767"/>
                </a:cubicBezTo>
              </a:path>
              <a:path w="7964" h="1340">
                <a:moveTo>
                  <a:pt x="13295" y="13717"/>
                </a:moveTo>
                <a:cubicBezTo>
                  <a:pt x="13317" y="13778"/>
                  <a:pt x="13387" y="13939"/>
                  <a:pt x="13345" y="14015"/>
                </a:cubicBezTo>
                <a:cubicBezTo>
                  <a:pt x="13337" y="14015"/>
                  <a:pt x="13328" y="14015"/>
                  <a:pt x="13320" y="14015"/>
                </a:cubicBezTo>
              </a:path>
              <a:path w="7964" h="1340">
                <a:moveTo>
                  <a:pt x="13395" y="13345"/>
                </a:moveTo>
                <a:cubicBezTo>
                  <a:pt x="13403" y="13312"/>
                  <a:pt x="13411" y="13279"/>
                  <a:pt x="13419" y="13246"/>
                </a:cubicBezTo>
              </a:path>
              <a:path w="7964" h="1340">
                <a:moveTo>
                  <a:pt x="13568" y="13667"/>
                </a:moveTo>
                <a:cubicBezTo>
                  <a:pt x="13582" y="13771"/>
                  <a:pt x="13593" y="13842"/>
                  <a:pt x="13593" y="13940"/>
                </a:cubicBezTo>
                <a:cubicBezTo>
                  <a:pt x="13582" y="13854"/>
                  <a:pt x="13579" y="13825"/>
                  <a:pt x="13593" y="13742"/>
                </a:cubicBezTo>
                <a:cubicBezTo>
                  <a:pt x="13605" y="13671"/>
                  <a:pt x="13575" y="13597"/>
                  <a:pt x="13643" y="13543"/>
                </a:cubicBezTo>
                <a:cubicBezTo>
                  <a:pt x="13734" y="13472"/>
                  <a:pt x="13771" y="13564"/>
                  <a:pt x="13816" y="13618"/>
                </a:cubicBezTo>
                <a:cubicBezTo>
                  <a:pt x="13865" y="13678"/>
                  <a:pt x="13926" y="13784"/>
                  <a:pt x="13940" y="13866"/>
                </a:cubicBezTo>
                <a:cubicBezTo>
                  <a:pt x="13951" y="13931"/>
                  <a:pt x="13976" y="14021"/>
                  <a:pt x="13915" y="13940"/>
                </a:cubicBezTo>
              </a:path>
              <a:path w="7964" h="1340">
                <a:moveTo>
                  <a:pt x="14039" y="13271"/>
                </a:moveTo>
                <a:cubicBezTo>
                  <a:pt x="14174" y="13302"/>
                  <a:pt x="14265" y="13337"/>
                  <a:pt x="14362" y="13444"/>
                </a:cubicBezTo>
                <a:cubicBezTo>
                  <a:pt x="14425" y="13513"/>
                  <a:pt x="14340" y="13540"/>
                  <a:pt x="14288" y="13543"/>
                </a:cubicBezTo>
                <a:cubicBezTo>
                  <a:pt x="14238" y="13543"/>
                  <a:pt x="14221" y="13543"/>
                  <a:pt x="14188" y="13543"/>
                </a:cubicBezTo>
                <a:cubicBezTo>
                  <a:pt x="14224" y="13607"/>
                  <a:pt x="14272" y="13656"/>
                  <a:pt x="14312" y="13717"/>
                </a:cubicBezTo>
                <a:cubicBezTo>
                  <a:pt x="14361" y="13793"/>
                  <a:pt x="14394" y="13858"/>
                  <a:pt x="14362" y="13940"/>
                </a:cubicBezTo>
                <a:cubicBezTo>
                  <a:pt x="14326" y="14032"/>
                  <a:pt x="14225" y="13999"/>
                  <a:pt x="14163" y="13965"/>
                </a:cubicBezTo>
                <a:cubicBezTo>
                  <a:pt x="14092" y="13927"/>
                  <a:pt x="14029" y="13853"/>
                  <a:pt x="14039" y="13767"/>
                </a:cubicBezTo>
                <a:cubicBezTo>
                  <a:pt x="14047" y="13742"/>
                  <a:pt x="14056" y="13717"/>
                  <a:pt x="14064" y="13692"/>
                </a:cubicBezTo>
              </a:path>
              <a:path w="7964" h="1340">
                <a:moveTo>
                  <a:pt x="14560" y="13271"/>
                </a:moveTo>
                <a:cubicBezTo>
                  <a:pt x="14568" y="13385"/>
                  <a:pt x="14573" y="13433"/>
                  <a:pt x="14560" y="13543"/>
                </a:cubicBezTo>
                <a:cubicBezTo>
                  <a:pt x="14544" y="13682"/>
                  <a:pt x="14525" y="13797"/>
                  <a:pt x="14560" y="13940"/>
                </a:cubicBezTo>
                <a:cubicBezTo>
                  <a:pt x="14585" y="14041"/>
                  <a:pt x="14650" y="14106"/>
                  <a:pt x="14734" y="14163"/>
                </a:cubicBezTo>
                <a:cubicBezTo>
                  <a:pt x="14787" y="14199"/>
                  <a:pt x="14903" y="14233"/>
                  <a:pt x="14957" y="14188"/>
                </a:cubicBezTo>
                <a:cubicBezTo>
                  <a:pt x="15032" y="14125"/>
                  <a:pt x="15028" y="14063"/>
                  <a:pt x="14982" y="13990"/>
                </a:cubicBezTo>
                <a:cubicBezTo>
                  <a:pt x="14942" y="13927"/>
                  <a:pt x="14791" y="13955"/>
                  <a:pt x="14734" y="13990"/>
                </a:cubicBezTo>
                <a:cubicBezTo>
                  <a:pt x="14694" y="14015"/>
                  <a:pt x="14729" y="14072"/>
                  <a:pt x="14734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6562800" y="1160640"/>
            <a:ext cx="839880" cy="312480"/>
          </a:xfrm>
          <a:custGeom>
            <a:avLst/>
            <a:gdLst/>
            <a:ahLst/>
            <a:rect l="l" t="t" r="r" b="b"/>
            <a:pathLst>
              <a:path w="2333" h="869">
                <a:moveTo>
                  <a:pt x="18703" y="3646"/>
                </a:moveTo>
                <a:cubicBezTo>
                  <a:pt x="18703" y="3721"/>
                  <a:pt x="18703" y="3795"/>
                  <a:pt x="18703" y="3870"/>
                </a:cubicBezTo>
                <a:cubicBezTo>
                  <a:pt x="18703" y="3789"/>
                  <a:pt x="18714" y="3712"/>
                  <a:pt x="18678" y="3646"/>
                </a:cubicBezTo>
                <a:cubicBezTo>
                  <a:pt x="18638" y="3572"/>
                  <a:pt x="18576" y="3480"/>
                  <a:pt x="18479" y="3497"/>
                </a:cubicBezTo>
                <a:cubicBezTo>
                  <a:pt x="18421" y="3507"/>
                  <a:pt x="18302" y="3558"/>
                  <a:pt x="18281" y="3621"/>
                </a:cubicBezTo>
                <a:cubicBezTo>
                  <a:pt x="18262" y="3677"/>
                  <a:pt x="18222" y="3756"/>
                  <a:pt x="18231" y="3820"/>
                </a:cubicBezTo>
                <a:cubicBezTo>
                  <a:pt x="18243" y="3907"/>
                  <a:pt x="18248" y="3961"/>
                  <a:pt x="18306" y="4018"/>
                </a:cubicBezTo>
                <a:cubicBezTo>
                  <a:pt x="18351" y="4063"/>
                  <a:pt x="18435" y="4056"/>
                  <a:pt x="18479" y="4018"/>
                </a:cubicBezTo>
                <a:cubicBezTo>
                  <a:pt x="18533" y="3971"/>
                  <a:pt x="18634" y="3891"/>
                  <a:pt x="18653" y="3820"/>
                </a:cubicBezTo>
                <a:cubicBezTo>
                  <a:pt x="18678" y="3726"/>
                  <a:pt x="18667" y="3845"/>
                  <a:pt x="18678" y="3894"/>
                </a:cubicBezTo>
                <a:cubicBezTo>
                  <a:pt x="18702" y="4003"/>
                  <a:pt x="18716" y="4037"/>
                  <a:pt x="18827" y="4043"/>
                </a:cubicBezTo>
                <a:cubicBezTo>
                  <a:pt x="18879" y="4046"/>
                  <a:pt x="18884" y="4029"/>
                  <a:pt x="18926" y="4018"/>
                </a:cubicBezTo>
              </a:path>
              <a:path w="2333" h="869">
                <a:moveTo>
                  <a:pt x="19075" y="3597"/>
                </a:moveTo>
                <a:cubicBezTo>
                  <a:pt x="19166" y="3597"/>
                  <a:pt x="19257" y="3597"/>
                  <a:pt x="19348" y="3597"/>
                </a:cubicBezTo>
              </a:path>
              <a:path w="2333" h="869">
                <a:moveTo>
                  <a:pt x="19050" y="3845"/>
                </a:moveTo>
                <a:cubicBezTo>
                  <a:pt x="19136" y="3874"/>
                  <a:pt x="19210" y="3870"/>
                  <a:pt x="19298" y="3845"/>
                </a:cubicBezTo>
                <a:cubicBezTo>
                  <a:pt x="19348" y="3828"/>
                  <a:pt x="19397" y="3812"/>
                  <a:pt x="19447" y="3795"/>
                </a:cubicBezTo>
              </a:path>
              <a:path w="2333" h="869">
                <a:moveTo>
                  <a:pt x="19769" y="3225"/>
                </a:moveTo>
                <a:cubicBezTo>
                  <a:pt x="19776" y="3336"/>
                  <a:pt x="19794" y="3435"/>
                  <a:pt x="19794" y="3547"/>
                </a:cubicBezTo>
                <a:cubicBezTo>
                  <a:pt x="19794" y="3668"/>
                  <a:pt x="19780" y="3775"/>
                  <a:pt x="19769" y="3894"/>
                </a:cubicBezTo>
                <a:cubicBezTo>
                  <a:pt x="19764" y="3950"/>
                  <a:pt x="19769" y="4011"/>
                  <a:pt x="19769" y="4068"/>
                </a:cubicBezTo>
                <a:cubicBezTo>
                  <a:pt x="19804" y="4033"/>
                  <a:pt x="19819" y="4012"/>
                  <a:pt x="19844" y="3969"/>
                </a:cubicBezTo>
              </a:path>
              <a:path w="2333" h="869">
                <a:moveTo>
                  <a:pt x="20166" y="3299"/>
                </a:moveTo>
                <a:cubicBezTo>
                  <a:pt x="20156" y="3388"/>
                  <a:pt x="20103" y="3460"/>
                  <a:pt x="20092" y="3547"/>
                </a:cubicBezTo>
                <a:cubicBezTo>
                  <a:pt x="20080" y="3637"/>
                  <a:pt x="20042" y="3779"/>
                  <a:pt x="20067" y="3870"/>
                </a:cubicBezTo>
                <a:cubicBezTo>
                  <a:pt x="20106" y="4015"/>
                  <a:pt x="20128" y="3989"/>
                  <a:pt x="20216" y="4068"/>
                </a:cubicBezTo>
                <a:cubicBezTo>
                  <a:pt x="20263" y="4111"/>
                  <a:pt x="20335" y="4102"/>
                  <a:pt x="20389" y="4068"/>
                </a:cubicBezTo>
                <a:cubicBezTo>
                  <a:pt x="20460" y="4024"/>
                  <a:pt x="20506" y="3917"/>
                  <a:pt x="20538" y="3845"/>
                </a:cubicBezTo>
                <a:cubicBezTo>
                  <a:pt x="20577" y="3757"/>
                  <a:pt x="20595" y="3580"/>
                  <a:pt x="20538" y="3497"/>
                </a:cubicBezTo>
                <a:cubicBezTo>
                  <a:pt x="20508" y="3453"/>
                  <a:pt x="20387" y="3425"/>
                  <a:pt x="20340" y="3423"/>
                </a:cubicBezTo>
                <a:cubicBezTo>
                  <a:pt x="20266" y="3420"/>
                  <a:pt x="20191" y="3423"/>
                  <a:pt x="20117" y="34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Ink 19"/>
          <p:cNvSpPr/>
          <p:nvPr/>
        </p:nvSpPr>
        <p:spPr>
          <a:xfrm>
            <a:off x="6572160" y="1670040"/>
            <a:ext cx="714600" cy="465120"/>
          </a:xfrm>
          <a:custGeom>
            <a:avLst/>
            <a:gdLst/>
            <a:ahLst/>
            <a:rect l="l" t="t" r="r" b="b"/>
            <a:pathLst>
              <a:path w="1986" h="1291">
                <a:moveTo>
                  <a:pt x="18405" y="4638"/>
                </a:moveTo>
                <a:cubicBezTo>
                  <a:pt x="18394" y="4725"/>
                  <a:pt x="18361" y="4797"/>
                  <a:pt x="18355" y="4887"/>
                </a:cubicBezTo>
                <a:cubicBezTo>
                  <a:pt x="18341" y="5092"/>
                  <a:pt x="18331" y="5280"/>
                  <a:pt x="18331" y="5482"/>
                </a:cubicBezTo>
                <a:cubicBezTo>
                  <a:pt x="18331" y="5532"/>
                  <a:pt x="18331" y="5581"/>
                  <a:pt x="18331" y="5631"/>
                </a:cubicBezTo>
                <a:cubicBezTo>
                  <a:pt x="18331" y="5535"/>
                  <a:pt x="18328" y="5425"/>
                  <a:pt x="18355" y="5333"/>
                </a:cubicBezTo>
                <a:cubicBezTo>
                  <a:pt x="18376" y="5263"/>
                  <a:pt x="18455" y="5208"/>
                  <a:pt x="18504" y="5159"/>
                </a:cubicBezTo>
                <a:cubicBezTo>
                  <a:pt x="18536" y="5127"/>
                  <a:pt x="18683" y="5112"/>
                  <a:pt x="18728" y="5135"/>
                </a:cubicBezTo>
                <a:cubicBezTo>
                  <a:pt x="18847" y="5197"/>
                  <a:pt x="18867" y="5339"/>
                  <a:pt x="18852" y="5457"/>
                </a:cubicBezTo>
                <a:cubicBezTo>
                  <a:pt x="18844" y="5521"/>
                  <a:pt x="18732" y="5634"/>
                  <a:pt x="18678" y="5655"/>
                </a:cubicBezTo>
                <a:cubicBezTo>
                  <a:pt x="18576" y="5695"/>
                  <a:pt x="18466" y="5759"/>
                  <a:pt x="18355" y="5779"/>
                </a:cubicBezTo>
                <a:cubicBezTo>
                  <a:pt x="18274" y="5793"/>
                  <a:pt x="18272" y="5762"/>
                  <a:pt x="18256" y="5705"/>
                </a:cubicBezTo>
              </a:path>
              <a:path w="1986" h="1291">
                <a:moveTo>
                  <a:pt x="19025" y="5259"/>
                </a:moveTo>
                <a:cubicBezTo>
                  <a:pt x="19109" y="5238"/>
                  <a:pt x="19188" y="5218"/>
                  <a:pt x="19273" y="5209"/>
                </a:cubicBezTo>
              </a:path>
              <a:path w="1986" h="1291">
                <a:moveTo>
                  <a:pt x="19050" y="5507"/>
                </a:moveTo>
                <a:cubicBezTo>
                  <a:pt x="19163" y="5507"/>
                  <a:pt x="19263" y="5512"/>
                  <a:pt x="19372" y="5482"/>
                </a:cubicBezTo>
                <a:cubicBezTo>
                  <a:pt x="19397" y="5474"/>
                  <a:pt x="19422" y="5465"/>
                  <a:pt x="19447" y="5457"/>
                </a:cubicBezTo>
              </a:path>
              <a:path w="1986" h="1291">
                <a:moveTo>
                  <a:pt x="19844" y="4936"/>
                </a:moveTo>
                <a:cubicBezTo>
                  <a:pt x="19836" y="5020"/>
                  <a:pt x="19827" y="5070"/>
                  <a:pt x="19769" y="5135"/>
                </a:cubicBezTo>
                <a:cubicBezTo>
                  <a:pt x="19721" y="5189"/>
                  <a:pt x="19704" y="5239"/>
                  <a:pt x="19695" y="5308"/>
                </a:cubicBezTo>
                <a:cubicBezTo>
                  <a:pt x="19794" y="5318"/>
                  <a:pt x="19871" y="5331"/>
                  <a:pt x="19968" y="5308"/>
                </a:cubicBezTo>
                <a:cubicBezTo>
                  <a:pt x="20051" y="5289"/>
                  <a:pt x="20084" y="5242"/>
                  <a:pt x="20141" y="5184"/>
                </a:cubicBezTo>
              </a:path>
              <a:path w="1986" h="1291">
                <a:moveTo>
                  <a:pt x="20241" y="4738"/>
                </a:moveTo>
                <a:cubicBezTo>
                  <a:pt x="20183" y="4809"/>
                  <a:pt x="20165" y="4897"/>
                  <a:pt x="20141" y="4986"/>
                </a:cubicBezTo>
                <a:cubicBezTo>
                  <a:pt x="20096" y="5153"/>
                  <a:pt x="20096" y="5335"/>
                  <a:pt x="20092" y="5507"/>
                </a:cubicBezTo>
                <a:cubicBezTo>
                  <a:pt x="20089" y="5645"/>
                  <a:pt x="20116" y="5800"/>
                  <a:pt x="20067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Ink 20"/>
          <p:cNvSpPr/>
          <p:nvPr/>
        </p:nvSpPr>
        <p:spPr>
          <a:xfrm>
            <a:off x="6626160" y="254484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18876" y="7218"/>
                </a:moveTo>
                <a:cubicBezTo>
                  <a:pt x="18863" y="7112"/>
                  <a:pt x="18794" y="7022"/>
                  <a:pt x="18678" y="7094"/>
                </a:cubicBezTo>
                <a:cubicBezTo>
                  <a:pt x="18579" y="7155"/>
                  <a:pt x="18569" y="7177"/>
                  <a:pt x="18504" y="7268"/>
                </a:cubicBezTo>
                <a:cubicBezTo>
                  <a:pt x="18423" y="7381"/>
                  <a:pt x="18393" y="7444"/>
                  <a:pt x="18430" y="7590"/>
                </a:cubicBezTo>
                <a:cubicBezTo>
                  <a:pt x="18442" y="7639"/>
                  <a:pt x="18515" y="7745"/>
                  <a:pt x="18554" y="7764"/>
                </a:cubicBezTo>
                <a:cubicBezTo>
                  <a:pt x="18620" y="7796"/>
                  <a:pt x="18780" y="7804"/>
                  <a:pt x="18852" y="7789"/>
                </a:cubicBezTo>
                <a:cubicBezTo>
                  <a:pt x="18868" y="7781"/>
                  <a:pt x="18885" y="7772"/>
                  <a:pt x="18901" y="7764"/>
                </a:cubicBezTo>
              </a:path>
              <a:path w="1241" h="721">
                <a:moveTo>
                  <a:pt x="19298" y="7293"/>
                </a:moveTo>
                <a:cubicBezTo>
                  <a:pt x="19381" y="7293"/>
                  <a:pt x="19463" y="7293"/>
                  <a:pt x="19546" y="7293"/>
                </a:cubicBezTo>
              </a:path>
              <a:path w="1241" h="721">
                <a:moveTo>
                  <a:pt x="19397" y="7466"/>
                </a:moveTo>
                <a:cubicBezTo>
                  <a:pt x="19483" y="7531"/>
                  <a:pt x="19531" y="7533"/>
                  <a:pt x="19645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Ink 21"/>
          <p:cNvSpPr/>
          <p:nvPr/>
        </p:nvSpPr>
        <p:spPr>
          <a:xfrm>
            <a:off x="7242120" y="2544840"/>
            <a:ext cx="312840" cy="322200"/>
          </a:xfrm>
          <a:custGeom>
            <a:avLst/>
            <a:gdLst/>
            <a:ahLst/>
            <a:rect l="l" t="t" r="r" b="b"/>
            <a:pathLst>
              <a:path w="869" h="894">
                <a:moveTo>
                  <a:pt x="20117" y="7094"/>
                </a:moveTo>
                <a:cubicBezTo>
                  <a:pt x="20152" y="7154"/>
                  <a:pt x="20141" y="7219"/>
                  <a:pt x="20141" y="7293"/>
                </a:cubicBezTo>
                <a:cubicBezTo>
                  <a:pt x="20141" y="7397"/>
                  <a:pt x="20162" y="7488"/>
                  <a:pt x="20166" y="7590"/>
                </a:cubicBezTo>
                <a:cubicBezTo>
                  <a:pt x="20169" y="7661"/>
                  <a:pt x="20207" y="7774"/>
                  <a:pt x="20191" y="7838"/>
                </a:cubicBezTo>
                <a:cubicBezTo>
                  <a:pt x="20185" y="7863"/>
                  <a:pt x="20170" y="7996"/>
                  <a:pt x="20141" y="7938"/>
                </a:cubicBezTo>
                <a:cubicBezTo>
                  <a:pt x="20141" y="7930"/>
                  <a:pt x="20141" y="7921"/>
                  <a:pt x="20141" y="7913"/>
                </a:cubicBezTo>
              </a:path>
              <a:path w="869" h="894">
                <a:moveTo>
                  <a:pt x="20439" y="7119"/>
                </a:moveTo>
                <a:cubicBezTo>
                  <a:pt x="20541" y="7085"/>
                  <a:pt x="20593" y="7053"/>
                  <a:pt x="20687" y="7119"/>
                </a:cubicBezTo>
                <a:cubicBezTo>
                  <a:pt x="20747" y="7161"/>
                  <a:pt x="20809" y="7177"/>
                  <a:pt x="20786" y="7268"/>
                </a:cubicBezTo>
                <a:cubicBezTo>
                  <a:pt x="20768" y="7340"/>
                  <a:pt x="20690" y="7355"/>
                  <a:pt x="20638" y="7392"/>
                </a:cubicBezTo>
                <a:cubicBezTo>
                  <a:pt x="20611" y="7411"/>
                  <a:pt x="20550" y="7490"/>
                  <a:pt x="20588" y="7417"/>
                </a:cubicBezTo>
                <a:cubicBezTo>
                  <a:pt x="20656" y="7417"/>
                  <a:pt x="20726" y="7404"/>
                  <a:pt x="20786" y="7441"/>
                </a:cubicBezTo>
                <a:cubicBezTo>
                  <a:pt x="20870" y="7492"/>
                  <a:pt x="20930" y="7588"/>
                  <a:pt x="20960" y="7665"/>
                </a:cubicBezTo>
                <a:cubicBezTo>
                  <a:pt x="20991" y="7745"/>
                  <a:pt x="20994" y="7791"/>
                  <a:pt x="20935" y="7863"/>
                </a:cubicBezTo>
                <a:cubicBezTo>
                  <a:pt x="20878" y="7933"/>
                  <a:pt x="20792" y="7913"/>
                  <a:pt x="20712" y="7913"/>
                </a:cubicBezTo>
                <a:cubicBezTo>
                  <a:pt x="20637" y="7913"/>
                  <a:pt x="20630" y="7898"/>
                  <a:pt x="20563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Ink 22"/>
          <p:cNvSpPr/>
          <p:nvPr/>
        </p:nvSpPr>
        <p:spPr>
          <a:xfrm>
            <a:off x="384120" y="830160"/>
            <a:ext cx="465120" cy="322200"/>
          </a:xfrm>
          <a:custGeom>
            <a:avLst/>
            <a:gdLst/>
            <a:ahLst/>
            <a:rect l="l" t="t" r="r" b="b"/>
            <a:pathLst>
              <a:path w="1290" h="894">
                <a:moveTo>
                  <a:pt x="1389" y="2431"/>
                </a:moveTo>
                <a:cubicBezTo>
                  <a:pt x="1464" y="2431"/>
                  <a:pt x="1519" y="2418"/>
                  <a:pt x="1588" y="2406"/>
                </a:cubicBezTo>
                <a:cubicBezTo>
                  <a:pt x="1658" y="2394"/>
                  <a:pt x="1744" y="2389"/>
                  <a:pt x="1811" y="2356"/>
                </a:cubicBezTo>
                <a:cubicBezTo>
                  <a:pt x="1834" y="2334"/>
                  <a:pt x="1842" y="2329"/>
                  <a:pt x="1836" y="2307"/>
                </a:cubicBezTo>
              </a:path>
              <a:path w="1290" h="894">
                <a:moveTo>
                  <a:pt x="1414" y="2406"/>
                </a:moveTo>
                <a:cubicBezTo>
                  <a:pt x="1382" y="2477"/>
                  <a:pt x="1335" y="2573"/>
                  <a:pt x="1364" y="2654"/>
                </a:cubicBezTo>
                <a:cubicBezTo>
                  <a:pt x="1381" y="2702"/>
                  <a:pt x="1387" y="2758"/>
                  <a:pt x="1414" y="2803"/>
                </a:cubicBezTo>
                <a:cubicBezTo>
                  <a:pt x="1446" y="2754"/>
                  <a:pt x="1472" y="2651"/>
                  <a:pt x="1538" y="2629"/>
                </a:cubicBezTo>
                <a:cubicBezTo>
                  <a:pt x="1597" y="2609"/>
                  <a:pt x="1709" y="2622"/>
                  <a:pt x="1761" y="2654"/>
                </a:cubicBezTo>
                <a:cubicBezTo>
                  <a:pt x="1811" y="2685"/>
                  <a:pt x="1887" y="2848"/>
                  <a:pt x="1885" y="2902"/>
                </a:cubicBezTo>
                <a:cubicBezTo>
                  <a:pt x="1882" y="2966"/>
                  <a:pt x="1842" y="3002"/>
                  <a:pt x="1811" y="3051"/>
                </a:cubicBezTo>
                <a:cubicBezTo>
                  <a:pt x="1761" y="3129"/>
                  <a:pt x="1736" y="3145"/>
                  <a:pt x="1637" y="3150"/>
                </a:cubicBezTo>
                <a:cubicBezTo>
                  <a:pt x="1559" y="3154"/>
                  <a:pt x="1588" y="3113"/>
                  <a:pt x="1588" y="3051"/>
                </a:cubicBezTo>
              </a:path>
              <a:path w="1290" h="894">
                <a:moveTo>
                  <a:pt x="1339" y="2406"/>
                </a:moveTo>
                <a:cubicBezTo>
                  <a:pt x="1228" y="2540"/>
                  <a:pt x="1093" y="2670"/>
                  <a:pt x="1067" y="2853"/>
                </a:cubicBezTo>
                <a:cubicBezTo>
                  <a:pt x="1051" y="2963"/>
                  <a:pt x="1128" y="3083"/>
                  <a:pt x="1215" y="3150"/>
                </a:cubicBezTo>
                <a:cubicBezTo>
                  <a:pt x="1328" y="3238"/>
                  <a:pt x="1587" y="3210"/>
                  <a:pt x="1712" y="3175"/>
                </a:cubicBezTo>
                <a:cubicBezTo>
                  <a:pt x="1831" y="3142"/>
                  <a:pt x="1959" y="3049"/>
                  <a:pt x="2059" y="2977"/>
                </a:cubicBezTo>
                <a:cubicBezTo>
                  <a:pt x="2165" y="2901"/>
                  <a:pt x="2249" y="2774"/>
                  <a:pt x="2307" y="2654"/>
                </a:cubicBezTo>
                <a:cubicBezTo>
                  <a:pt x="2332" y="2580"/>
                  <a:pt x="2340" y="2555"/>
                  <a:pt x="2356" y="25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Ink 23"/>
          <p:cNvSpPr/>
          <p:nvPr/>
        </p:nvSpPr>
        <p:spPr>
          <a:xfrm>
            <a:off x="4687920" y="704880"/>
            <a:ext cx="2928960" cy="1635120"/>
          </a:xfrm>
          <a:custGeom>
            <a:avLst/>
            <a:gdLst/>
            <a:ahLst/>
            <a:rect l="l" t="t" r="r" b="b"/>
            <a:pathLst>
              <a:path w="8137" h="4540">
                <a:moveTo>
                  <a:pt x="13395" y="4390"/>
                </a:moveTo>
                <a:cubicBezTo>
                  <a:pt x="13502" y="4378"/>
                  <a:pt x="13610" y="4378"/>
                  <a:pt x="13717" y="4366"/>
                </a:cubicBezTo>
                <a:cubicBezTo>
                  <a:pt x="13851" y="4351"/>
                  <a:pt x="13977" y="4341"/>
                  <a:pt x="14114" y="4341"/>
                </a:cubicBezTo>
                <a:cubicBezTo>
                  <a:pt x="14341" y="4341"/>
                  <a:pt x="14561" y="4330"/>
                  <a:pt x="14784" y="4316"/>
                </a:cubicBezTo>
                <a:cubicBezTo>
                  <a:pt x="15089" y="4296"/>
                  <a:pt x="15398" y="4311"/>
                  <a:pt x="15701" y="4291"/>
                </a:cubicBezTo>
                <a:cubicBezTo>
                  <a:pt x="16012" y="4270"/>
                  <a:pt x="16331" y="4291"/>
                  <a:pt x="16644" y="4291"/>
                </a:cubicBezTo>
                <a:cubicBezTo>
                  <a:pt x="16644" y="4181"/>
                  <a:pt x="16662" y="4071"/>
                  <a:pt x="16669" y="3969"/>
                </a:cubicBezTo>
                <a:cubicBezTo>
                  <a:pt x="16675" y="3876"/>
                  <a:pt x="16677" y="3787"/>
                  <a:pt x="16694" y="3696"/>
                </a:cubicBezTo>
                <a:cubicBezTo>
                  <a:pt x="16719" y="3562"/>
                  <a:pt x="16761" y="3437"/>
                  <a:pt x="16768" y="3299"/>
                </a:cubicBezTo>
                <a:cubicBezTo>
                  <a:pt x="16775" y="3156"/>
                  <a:pt x="16778" y="3018"/>
                  <a:pt x="16793" y="2877"/>
                </a:cubicBezTo>
                <a:cubicBezTo>
                  <a:pt x="16824" y="2580"/>
                  <a:pt x="16818" y="2283"/>
                  <a:pt x="16818" y="1984"/>
                </a:cubicBezTo>
                <a:cubicBezTo>
                  <a:pt x="16766" y="1976"/>
                  <a:pt x="16711" y="1953"/>
                  <a:pt x="16644" y="1960"/>
                </a:cubicBezTo>
                <a:cubicBezTo>
                  <a:pt x="16567" y="1969"/>
                  <a:pt x="16502" y="1983"/>
                  <a:pt x="16421" y="1984"/>
                </a:cubicBezTo>
                <a:cubicBezTo>
                  <a:pt x="16130" y="1989"/>
                  <a:pt x="15843" y="1965"/>
                  <a:pt x="15553" y="1960"/>
                </a:cubicBezTo>
                <a:cubicBezTo>
                  <a:pt x="15229" y="1955"/>
                  <a:pt x="14907" y="1965"/>
                  <a:pt x="14585" y="1984"/>
                </a:cubicBezTo>
                <a:cubicBezTo>
                  <a:pt x="14399" y="1995"/>
                  <a:pt x="14222" y="2023"/>
                  <a:pt x="14039" y="2059"/>
                </a:cubicBezTo>
                <a:cubicBezTo>
                  <a:pt x="13868" y="2093"/>
                  <a:pt x="13653" y="2101"/>
                  <a:pt x="13494" y="2158"/>
                </a:cubicBezTo>
                <a:cubicBezTo>
                  <a:pt x="13397" y="2193"/>
                  <a:pt x="13313" y="2216"/>
                  <a:pt x="13221" y="2257"/>
                </a:cubicBezTo>
                <a:cubicBezTo>
                  <a:pt x="13172" y="2278"/>
                  <a:pt x="13077" y="2331"/>
                  <a:pt x="13047" y="2381"/>
                </a:cubicBezTo>
                <a:cubicBezTo>
                  <a:pt x="12977" y="2498"/>
                  <a:pt x="13041" y="2706"/>
                  <a:pt x="13047" y="2828"/>
                </a:cubicBezTo>
                <a:cubicBezTo>
                  <a:pt x="13067" y="3198"/>
                  <a:pt x="13045" y="3584"/>
                  <a:pt x="13022" y="3944"/>
                </a:cubicBezTo>
                <a:cubicBezTo>
                  <a:pt x="13018" y="4002"/>
                  <a:pt x="13025" y="4060"/>
                  <a:pt x="13022" y="4118"/>
                </a:cubicBezTo>
              </a:path>
              <a:path w="8137" h="4540">
                <a:moveTo>
                  <a:pt x="17562" y="2952"/>
                </a:moveTo>
                <a:cubicBezTo>
                  <a:pt x="17604" y="2847"/>
                  <a:pt x="17602" y="2856"/>
                  <a:pt x="17661" y="2778"/>
                </a:cubicBezTo>
                <a:cubicBezTo>
                  <a:pt x="17664" y="2788"/>
                  <a:pt x="17678" y="2969"/>
                  <a:pt x="17661" y="3076"/>
                </a:cubicBezTo>
                <a:cubicBezTo>
                  <a:pt x="17644" y="3189"/>
                  <a:pt x="17621" y="3309"/>
                  <a:pt x="17611" y="3423"/>
                </a:cubicBezTo>
                <a:cubicBezTo>
                  <a:pt x="17600" y="3553"/>
                  <a:pt x="17605" y="3691"/>
                  <a:pt x="17587" y="3820"/>
                </a:cubicBezTo>
                <a:cubicBezTo>
                  <a:pt x="17571" y="3931"/>
                  <a:pt x="17564" y="4028"/>
                  <a:pt x="17562" y="4142"/>
                </a:cubicBezTo>
                <a:cubicBezTo>
                  <a:pt x="17560" y="4226"/>
                  <a:pt x="17557" y="4297"/>
                  <a:pt x="17587" y="4366"/>
                </a:cubicBezTo>
                <a:cubicBezTo>
                  <a:pt x="17595" y="4374"/>
                  <a:pt x="17603" y="4382"/>
                  <a:pt x="17611" y="4390"/>
                </a:cubicBezTo>
                <a:cubicBezTo>
                  <a:pt x="17690" y="4383"/>
                  <a:pt x="17739" y="4379"/>
                  <a:pt x="17810" y="4366"/>
                </a:cubicBezTo>
                <a:cubicBezTo>
                  <a:pt x="17910" y="4348"/>
                  <a:pt x="18037" y="4322"/>
                  <a:pt x="18132" y="4316"/>
                </a:cubicBezTo>
                <a:cubicBezTo>
                  <a:pt x="18253" y="4308"/>
                  <a:pt x="18360" y="4303"/>
                  <a:pt x="18479" y="4291"/>
                </a:cubicBezTo>
                <a:cubicBezTo>
                  <a:pt x="18621" y="4277"/>
                  <a:pt x="18757" y="4266"/>
                  <a:pt x="18901" y="4266"/>
                </a:cubicBezTo>
                <a:cubicBezTo>
                  <a:pt x="19103" y="4266"/>
                  <a:pt x="19298" y="4278"/>
                  <a:pt x="19496" y="4291"/>
                </a:cubicBezTo>
                <a:cubicBezTo>
                  <a:pt x="19677" y="4303"/>
                  <a:pt x="19861" y="4312"/>
                  <a:pt x="20042" y="4316"/>
                </a:cubicBezTo>
                <a:cubicBezTo>
                  <a:pt x="20205" y="4319"/>
                  <a:pt x="20374" y="4327"/>
                  <a:pt x="20538" y="4341"/>
                </a:cubicBezTo>
                <a:cubicBezTo>
                  <a:pt x="20671" y="4352"/>
                  <a:pt x="20800" y="4380"/>
                  <a:pt x="20935" y="4366"/>
                </a:cubicBezTo>
                <a:cubicBezTo>
                  <a:pt x="20997" y="4360"/>
                  <a:pt x="21017" y="4351"/>
                  <a:pt x="21084" y="4341"/>
                </a:cubicBezTo>
                <a:cubicBezTo>
                  <a:pt x="21076" y="4278"/>
                  <a:pt x="21051" y="4212"/>
                  <a:pt x="21034" y="4142"/>
                </a:cubicBezTo>
                <a:cubicBezTo>
                  <a:pt x="21011" y="4045"/>
                  <a:pt x="20990" y="3945"/>
                  <a:pt x="20985" y="3845"/>
                </a:cubicBezTo>
                <a:cubicBezTo>
                  <a:pt x="20977" y="3679"/>
                  <a:pt x="20977" y="3511"/>
                  <a:pt x="21010" y="3349"/>
                </a:cubicBezTo>
                <a:cubicBezTo>
                  <a:pt x="21037" y="3215"/>
                  <a:pt x="21047" y="3086"/>
                  <a:pt x="21084" y="2952"/>
                </a:cubicBezTo>
                <a:cubicBezTo>
                  <a:pt x="21122" y="2813"/>
                  <a:pt x="21118" y="2696"/>
                  <a:pt x="21134" y="2555"/>
                </a:cubicBezTo>
                <a:cubicBezTo>
                  <a:pt x="21142" y="2489"/>
                  <a:pt x="21134" y="2431"/>
                  <a:pt x="21134" y="2381"/>
                </a:cubicBezTo>
                <a:cubicBezTo>
                  <a:pt x="21134" y="2365"/>
                  <a:pt x="21134" y="2348"/>
                  <a:pt x="21134" y="2332"/>
                </a:cubicBezTo>
                <a:cubicBezTo>
                  <a:pt x="21089" y="2339"/>
                  <a:pt x="20963" y="2353"/>
                  <a:pt x="20886" y="2356"/>
                </a:cubicBezTo>
                <a:cubicBezTo>
                  <a:pt x="20693" y="2364"/>
                  <a:pt x="20506" y="2336"/>
                  <a:pt x="20315" y="2332"/>
                </a:cubicBezTo>
                <a:cubicBezTo>
                  <a:pt x="19787" y="2321"/>
                  <a:pt x="19250" y="2311"/>
                  <a:pt x="18728" y="2381"/>
                </a:cubicBezTo>
                <a:cubicBezTo>
                  <a:pt x="18523" y="2408"/>
                  <a:pt x="18334" y="2482"/>
                  <a:pt x="18132" y="2505"/>
                </a:cubicBezTo>
                <a:cubicBezTo>
                  <a:pt x="18053" y="2514"/>
                  <a:pt x="17850" y="2509"/>
                  <a:pt x="17785" y="2555"/>
                </a:cubicBezTo>
                <a:cubicBezTo>
                  <a:pt x="17735" y="2580"/>
                  <a:pt x="17718" y="2588"/>
                  <a:pt x="17760" y="2629"/>
                </a:cubicBezTo>
              </a:path>
              <a:path w="8137" h="4540">
                <a:moveTo>
                  <a:pt x="17562" y="4415"/>
                </a:moveTo>
                <a:cubicBezTo>
                  <a:pt x="17550" y="4488"/>
                  <a:pt x="17539" y="4575"/>
                  <a:pt x="17537" y="4663"/>
                </a:cubicBezTo>
                <a:cubicBezTo>
                  <a:pt x="17529" y="5099"/>
                  <a:pt x="17571" y="5548"/>
                  <a:pt x="17512" y="5978"/>
                </a:cubicBezTo>
                <a:cubicBezTo>
                  <a:pt x="17501" y="6055"/>
                  <a:pt x="17479" y="6148"/>
                  <a:pt x="17462" y="6226"/>
                </a:cubicBezTo>
                <a:cubicBezTo>
                  <a:pt x="17446" y="6300"/>
                  <a:pt x="17400" y="6352"/>
                  <a:pt x="17438" y="6424"/>
                </a:cubicBezTo>
                <a:cubicBezTo>
                  <a:pt x="17475" y="6493"/>
                  <a:pt x="17533" y="6481"/>
                  <a:pt x="17611" y="6474"/>
                </a:cubicBezTo>
                <a:cubicBezTo>
                  <a:pt x="17678" y="6468"/>
                  <a:pt x="17763" y="6456"/>
                  <a:pt x="17835" y="6449"/>
                </a:cubicBezTo>
                <a:cubicBezTo>
                  <a:pt x="17958" y="6436"/>
                  <a:pt x="18079" y="6424"/>
                  <a:pt x="18207" y="6424"/>
                </a:cubicBezTo>
                <a:cubicBezTo>
                  <a:pt x="18391" y="6424"/>
                  <a:pt x="18569" y="6404"/>
                  <a:pt x="18752" y="6400"/>
                </a:cubicBezTo>
                <a:cubicBezTo>
                  <a:pt x="18970" y="6395"/>
                  <a:pt x="19182" y="6409"/>
                  <a:pt x="19397" y="6424"/>
                </a:cubicBezTo>
                <a:cubicBezTo>
                  <a:pt x="19612" y="6439"/>
                  <a:pt x="19828" y="6434"/>
                  <a:pt x="20042" y="6449"/>
                </a:cubicBezTo>
                <a:cubicBezTo>
                  <a:pt x="20175" y="6459"/>
                  <a:pt x="20308" y="6463"/>
                  <a:pt x="20439" y="6474"/>
                </a:cubicBezTo>
                <a:cubicBezTo>
                  <a:pt x="20532" y="6482"/>
                  <a:pt x="20649" y="6505"/>
                  <a:pt x="20737" y="6499"/>
                </a:cubicBezTo>
                <a:cubicBezTo>
                  <a:pt x="20765" y="6471"/>
                  <a:pt x="20778" y="6462"/>
                  <a:pt x="20811" y="6474"/>
                </a:cubicBezTo>
                <a:cubicBezTo>
                  <a:pt x="20806" y="6397"/>
                  <a:pt x="20791" y="6327"/>
                  <a:pt x="20786" y="6251"/>
                </a:cubicBezTo>
                <a:cubicBezTo>
                  <a:pt x="20780" y="6154"/>
                  <a:pt x="20804" y="6065"/>
                  <a:pt x="20811" y="5978"/>
                </a:cubicBezTo>
                <a:cubicBezTo>
                  <a:pt x="20825" y="5799"/>
                  <a:pt x="20826" y="5607"/>
                  <a:pt x="20836" y="5432"/>
                </a:cubicBezTo>
                <a:cubicBezTo>
                  <a:pt x="20846" y="5247"/>
                  <a:pt x="20822" y="5066"/>
                  <a:pt x="20811" y="4887"/>
                </a:cubicBezTo>
                <a:cubicBezTo>
                  <a:pt x="20802" y="4746"/>
                  <a:pt x="20798" y="4599"/>
                  <a:pt x="20786" y="4465"/>
                </a:cubicBezTo>
                <a:cubicBezTo>
                  <a:pt x="20786" y="4423"/>
                  <a:pt x="20786" y="4415"/>
                  <a:pt x="20786" y="43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Ink 4"/>
          <p:cNvSpPr/>
          <p:nvPr/>
        </p:nvSpPr>
        <p:spPr>
          <a:xfrm>
            <a:off x="392040" y="1089000"/>
            <a:ext cx="41112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1563" y="3497"/>
                </a:moveTo>
                <a:cubicBezTo>
                  <a:pt x="1574" y="3424"/>
                  <a:pt x="1594" y="3388"/>
                  <a:pt x="1662" y="3349"/>
                </a:cubicBezTo>
                <a:cubicBezTo>
                  <a:pt x="1699" y="3327"/>
                  <a:pt x="1794" y="3289"/>
                  <a:pt x="1836" y="3299"/>
                </a:cubicBezTo>
                <a:cubicBezTo>
                  <a:pt x="1879" y="3321"/>
                  <a:pt x="1891" y="3325"/>
                  <a:pt x="1910" y="3349"/>
                </a:cubicBezTo>
                <a:cubicBezTo>
                  <a:pt x="1857" y="3432"/>
                  <a:pt x="1832" y="3483"/>
                  <a:pt x="1761" y="3547"/>
                </a:cubicBezTo>
                <a:cubicBezTo>
                  <a:pt x="1704" y="3598"/>
                  <a:pt x="1642" y="3641"/>
                  <a:pt x="1588" y="3696"/>
                </a:cubicBezTo>
                <a:cubicBezTo>
                  <a:pt x="1638" y="3625"/>
                  <a:pt x="1658" y="3604"/>
                  <a:pt x="1736" y="3646"/>
                </a:cubicBezTo>
                <a:cubicBezTo>
                  <a:pt x="1771" y="3665"/>
                  <a:pt x="1875" y="3697"/>
                  <a:pt x="1885" y="3746"/>
                </a:cubicBezTo>
                <a:cubicBezTo>
                  <a:pt x="1904" y="3834"/>
                  <a:pt x="1852" y="3859"/>
                  <a:pt x="1786" y="3894"/>
                </a:cubicBezTo>
                <a:cubicBezTo>
                  <a:pt x="1734" y="3921"/>
                  <a:pt x="1647" y="3936"/>
                  <a:pt x="1588" y="3919"/>
                </a:cubicBezTo>
                <a:cubicBezTo>
                  <a:pt x="1548" y="3899"/>
                  <a:pt x="1531" y="3901"/>
                  <a:pt x="1538" y="3870"/>
                </a:cubicBezTo>
              </a:path>
              <a:path w="1142" h="1093">
                <a:moveTo>
                  <a:pt x="1960" y="3200"/>
                </a:moveTo>
                <a:cubicBezTo>
                  <a:pt x="1943" y="3188"/>
                  <a:pt x="1799" y="3059"/>
                  <a:pt x="1761" y="3051"/>
                </a:cubicBezTo>
                <a:cubicBezTo>
                  <a:pt x="1685" y="3035"/>
                  <a:pt x="1610" y="3027"/>
                  <a:pt x="1538" y="3051"/>
                </a:cubicBezTo>
                <a:cubicBezTo>
                  <a:pt x="1460" y="3077"/>
                  <a:pt x="1324" y="3137"/>
                  <a:pt x="1265" y="3200"/>
                </a:cubicBezTo>
                <a:cubicBezTo>
                  <a:pt x="1204" y="3264"/>
                  <a:pt x="1175" y="3343"/>
                  <a:pt x="1141" y="3423"/>
                </a:cubicBezTo>
                <a:cubicBezTo>
                  <a:pt x="1093" y="3534"/>
                  <a:pt x="1099" y="3588"/>
                  <a:pt x="1116" y="3696"/>
                </a:cubicBezTo>
                <a:cubicBezTo>
                  <a:pt x="1132" y="3794"/>
                  <a:pt x="1158" y="3862"/>
                  <a:pt x="1215" y="3944"/>
                </a:cubicBezTo>
                <a:cubicBezTo>
                  <a:pt x="1270" y="4022"/>
                  <a:pt x="1324" y="4058"/>
                  <a:pt x="1414" y="4093"/>
                </a:cubicBezTo>
                <a:cubicBezTo>
                  <a:pt x="1497" y="4126"/>
                  <a:pt x="1574" y="4118"/>
                  <a:pt x="1662" y="4118"/>
                </a:cubicBezTo>
                <a:cubicBezTo>
                  <a:pt x="1743" y="4118"/>
                  <a:pt x="1861" y="4103"/>
                  <a:pt x="1935" y="4068"/>
                </a:cubicBezTo>
                <a:cubicBezTo>
                  <a:pt x="1994" y="4040"/>
                  <a:pt x="2124" y="3922"/>
                  <a:pt x="2158" y="3870"/>
                </a:cubicBezTo>
                <a:cubicBezTo>
                  <a:pt x="2188" y="3824"/>
                  <a:pt x="2222" y="3676"/>
                  <a:pt x="2232" y="3621"/>
                </a:cubicBezTo>
                <a:cubicBezTo>
                  <a:pt x="2243" y="3562"/>
                  <a:pt x="2226" y="3476"/>
                  <a:pt x="2208" y="3423"/>
                </a:cubicBezTo>
                <a:cubicBezTo>
                  <a:pt x="2185" y="3354"/>
                  <a:pt x="2167" y="3313"/>
                  <a:pt x="2133" y="3249"/>
                </a:cubicBezTo>
                <a:cubicBezTo>
                  <a:pt x="2107" y="3200"/>
                  <a:pt x="2059" y="3183"/>
                  <a:pt x="2009" y="3150"/>
                </a:cubicBezTo>
                <a:cubicBezTo>
                  <a:pt x="1961" y="3119"/>
                  <a:pt x="1941" y="3112"/>
                  <a:pt x="1885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Ink 5"/>
          <p:cNvSpPr/>
          <p:nvPr/>
        </p:nvSpPr>
        <p:spPr>
          <a:xfrm>
            <a:off x="1000080" y="928800"/>
            <a:ext cx="1054080" cy="527040"/>
          </a:xfrm>
          <a:custGeom>
            <a:avLst/>
            <a:gdLst/>
            <a:ahLst/>
            <a:rect l="l" t="t" r="r" b="b"/>
            <a:pathLst>
              <a:path w="2928" h="1464">
                <a:moveTo>
                  <a:pt x="2952" y="2853"/>
                </a:moveTo>
                <a:cubicBezTo>
                  <a:pt x="2971" y="2929"/>
                  <a:pt x="2995" y="3020"/>
                  <a:pt x="2977" y="3101"/>
                </a:cubicBezTo>
                <a:cubicBezTo>
                  <a:pt x="2955" y="3200"/>
                  <a:pt x="2946" y="3299"/>
                  <a:pt x="2927" y="3398"/>
                </a:cubicBezTo>
                <a:cubicBezTo>
                  <a:pt x="2905" y="3513"/>
                  <a:pt x="2869" y="3631"/>
                  <a:pt x="2853" y="3746"/>
                </a:cubicBezTo>
                <a:cubicBezTo>
                  <a:pt x="2853" y="3832"/>
                  <a:pt x="2847" y="3868"/>
                  <a:pt x="2803" y="3919"/>
                </a:cubicBezTo>
                <a:cubicBezTo>
                  <a:pt x="2744" y="4038"/>
                  <a:pt x="2816" y="3793"/>
                  <a:pt x="2828" y="3746"/>
                </a:cubicBezTo>
                <a:cubicBezTo>
                  <a:pt x="2863" y="3608"/>
                  <a:pt x="2898" y="3485"/>
                  <a:pt x="2927" y="3349"/>
                </a:cubicBezTo>
                <a:cubicBezTo>
                  <a:pt x="2961" y="3191"/>
                  <a:pt x="3022" y="3054"/>
                  <a:pt x="3076" y="2902"/>
                </a:cubicBezTo>
                <a:cubicBezTo>
                  <a:pt x="3112" y="2802"/>
                  <a:pt x="3128" y="2732"/>
                  <a:pt x="3200" y="2654"/>
                </a:cubicBezTo>
                <a:cubicBezTo>
                  <a:pt x="3224" y="2628"/>
                  <a:pt x="3249" y="2604"/>
                  <a:pt x="3274" y="2580"/>
                </a:cubicBezTo>
                <a:cubicBezTo>
                  <a:pt x="3283" y="2642"/>
                  <a:pt x="3283" y="2713"/>
                  <a:pt x="3299" y="2778"/>
                </a:cubicBezTo>
                <a:cubicBezTo>
                  <a:pt x="3323" y="2877"/>
                  <a:pt x="3332" y="2974"/>
                  <a:pt x="3349" y="3076"/>
                </a:cubicBezTo>
                <a:cubicBezTo>
                  <a:pt x="3374" y="3225"/>
                  <a:pt x="3430" y="3371"/>
                  <a:pt x="3448" y="3522"/>
                </a:cubicBezTo>
                <a:cubicBezTo>
                  <a:pt x="3461" y="3631"/>
                  <a:pt x="3473" y="3734"/>
                  <a:pt x="3473" y="3845"/>
                </a:cubicBezTo>
                <a:cubicBezTo>
                  <a:pt x="3473" y="3869"/>
                  <a:pt x="3471" y="4136"/>
                  <a:pt x="3448" y="3994"/>
                </a:cubicBezTo>
                <a:cubicBezTo>
                  <a:pt x="3448" y="3969"/>
                  <a:pt x="3448" y="3944"/>
                  <a:pt x="3448" y="3919"/>
                </a:cubicBezTo>
              </a:path>
              <a:path w="2928" h="1464">
                <a:moveTo>
                  <a:pt x="2927" y="3373"/>
                </a:moveTo>
                <a:cubicBezTo>
                  <a:pt x="3026" y="3347"/>
                  <a:pt x="3099" y="3362"/>
                  <a:pt x="3200" y="3349"/>
                </a:cubicBezTo>
                <a:cubicBezTo>
                  <a:pt x="3309" y="3335"/>
                  <a:pt x="3416" y="3314"/>
                  <a:pt x="3522" y="3299"/>
                </a:cubicBezTo>
                <a:cubicBezTo>
                  <a:pt x="3572" y="3299"/>
                  <a:pt x="3588" y="3299"/>
                  <a:pt x="3621" y="3299"/>
                </a:cubicBezTo>
              </a:path>
              <a:path w="2928" h="1464">
                <a:moveTo>
                  <a:pt x="3770" y="3349"/>
                </a:moveTo>
                <a:cubicBezTo>
                  <a:pt x="3848" y="3349"/>
                  <a:pt x="3900" y="3328"/>
                  <a:pt x="3969" y="3324"/>
                </a:cubicBezTo>
                <a:cubicBezTo>
                  <a:pt x="4018" y="3324"/>
                  <a:pt x="4035" y="3324"/>
                  <a:pt x="4068" y="3324"/>
                </a:cubicBezTo>
              </a:path>
              <a:path w="2928" h="1464">
                <a:moveTo>
                  <a:pt x="3820" y="3497"/>
                </a:moveTo>
                <a:cubicBezTo>
                  <a:pt x="3933" y="3497"/>
                  <a:pt x="4033" y="3500"/>
                  <a:pt x="4142" y="3473"/>
                </a:cubicBezTo>
              </a:path>
              <a:path w="2928" h="1464">
                <a:moveTo>
                  <a:pt x="4614" y="2927"/>
                </a:moveTo>
                <a:cubicBezTo>
                  <a:pt x="4614" y="3073"/>
                  <a:pt x="4604" y="3207"/>
                  <a:pt x="4589" y="3349"/>
                </a:cubicBezTo>
                <a:cubicBezTo>
                  <a:pt x="4569" y="3541"/>
                  <a:pt x="4620" y="4104"/>
                  <a:pt x="4564" y="3919"/>
                </a:cubicBezTo>
                <a:cubicBezTo>
                  <a:pt x="4564" y="3894"/>
                  <a:pt x="4564" y="3870"/>
                  <a:pt x="4564" y="3845"/>
                </a:cubicBezTo>
              </a:path>
              <a:path w="2928" h="1464">
                <a:moveTo>
                  <a:pt x="5011" y="3001"/>
                </a:moveTo>
                <a:cubicBezTo>
                  <a:pt x="4990" y="3085"/>
                  <a:pt x="4982" y="3168"/>
                  <a:pt x="4961" y="3249"/>
                </a:cubicBezTo>
                <a:cubicBezTo>
                  <a:pt x="4939" y="3334"/>
                  <a:pt x="4897" y="3459"/>
                  <a:pt x="4911" y="3547"/>
                </a:cubicBezTo>
                <a:cubicBezTo>
                  <a:pt x="4924" y="3628"/>
                  <a:pt x="4928" y="3721"/>
                  <a:pt x="4961" y="3795"/>
                </a:cubicBezTo>
                <a:cubicBezTo>
                  <a:pt x="4996" y="3872"/>
                  <a:pt x="5075" y="3948"/>
                  <a:pt x="5159" y="3870"/>
                </a:cubicBezTo>
                <a:cubicBezTo>
                  <a:pt x="5246" y="3789"/>
                  <a:pt x="5283" y="3704"/>
                  <a:pt x="5308" y="3597"/>
                </a:cubicBezTo>
                <a:cubicBezTo>
                  <a:pt x="5336" y="3477"/>
                  <a:pt x="5349" y="3371"/>
                  <a:pt x="5308" y="3249"/>
                </a:cubicBezTo>
                <a:cubicBezTo>
                  <a:pt x="5289" y="3194"/>
                  <a:pt x="5246" y="3121"/>
                  <a:pt x="5209" y="3076"/>
                </a:cubicBezTo>
                <a:cubicBezTo>
                  <a:pt x="5164" y="3021"/>
                  <a:pt x="5120" y="2994"/>
                  <a:pt x="5060" y="2977"/>
                </a:cubicBezTo>
                <a:cubicBezTo>
                  <a:pt x="5052" y="2977"/>
                  <a:pt x="5043" y="2977"/>
                  <a:pt x="5035" y="2977"/>
                </a:cubicBezTo>
              </a:path>
              <a:path w="2928" h="1464">
                <a:moveTo>
                  <a:pt x="5507" y="2704"/>
                </a:moveTo>
                <a:cubicBezTo>
                  <a:pt x="5500" y="2755"/>
                  <a:pt x="5460" y="2820"/>
                  <a:pt x="5482" y="2877"/>
                </a:cubicBezTo>
                <a:cubicBezTo>
                  <a:pt x="5510" y="2949"/>
                  <a:pt x="5537" y="2957"/>
                  <a:pt x="5581" y="2952"/>
                </a:cubicBezTo>
                <a:cubicBezTo>
                  <a:pt x="5679" y="2942"/>
                  <a:pt x="5734" y="2901"/>
                  <a:pt x="5705" y="2778"/>
                </a:cubicBezTo>
                <a:cubicBezTo>
                  <a:pt x="5694" y="2733"/>
                  <a:pt x="5614" y="2711"/>
                  <a:pt x="5581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Ink 6"/>
          <p:cNvSpPr/>
          <p:nvPr/>
        </p:nvSpPr>
        <p:spPr>
          <a:xfrm>
            <a:off x="2963880" y="946080"/>
            <a:ext cx="9572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8830" y="3349"/>
                </a:moveTo>
                <a:cubicBezTo>
                  <a:pt x="8830" y="3266"/>
                  <a:pt x="8819" y="3225"/>
                  <a:pt x="8781" y="3150"/>
                </a:cubicBezTo>
                <a:cubicBezTo>
                  <a:pt x="8739" y="3067"/>
                  <a:pt x="8724" y="3033"/>
                  <a:pt x="8632" y="3026"/>
                </a:cubicBezTo>
                <a:cubicBezTo>
                  <a:pt x="8534" y="3018"/>
                  <a:pt x="8452" y="3027"/>
                  <a:pt x="8384" y="3101"/>
                </a:cubicBezTo>
                <a:cubicBezTo>
                  <a:pt x="8286" y="3207"/>
                  <a:pt x="8306" y="3230"/>
                  <a:pt x="8260" y="3349"/>
                </a:cubicBezTo>
                <a:cubicBezTo>
                  <a:pt x="8240" y="3402"/>
                  <a:pt x="8233" y="3507"/>
                  <a:pt x="8285" y="3547"/>
                </a:cubicBezTo>
                <a:cubicBezTo>
                  <a:pt x="8324" y="3577"/>
                  <a:pt x="8436" y="3590"/>
                  <a:pt x="8483" y="3572"/>
                </a:cubicBezTo>
                <a:cubicBezTo>
                  <a:pt x="8575" y="3536"/>
                  <a:pt x="8626" y="3472"/>
                  <a:pt x="8682" y="3398"/>
                </a:cubicBezTo>
                <a:cubicBezTo>
                  <a:pt x="8724" y="3343"/>
                  <a:pt x="8729" y="3306"/>
                  <a:pt x="8756" y="3249"/>
                </a:cubicBezTo>
                <a:cubicBezTo>
                  <a:pt x="8786" y="3220"/>
                  <a:pt x="8791" y="3206"/>
                  <a:pt x="8756" y="3175"/>
                </a:cubicBezTo>
                <a:cubicBezTo>
                  <a:pt x="8744" y="3258"/>
                  <a:pt x="8743" y="3310"/>
                  <a:pt x="8756" y="3398"/>
                </a:cubicBezTo>
                <a:cubicBezTo>
                  <a:pt x="8766" y="3467"/>
                  <a:pt x="8781" y="3517"/>
                  <a:pt x="8830" y="3572"/>
                </a:cubicBezTo>
                <a:cubicBezTo>
                  <a:pt x="8868" y="3615"/>
                  <a:pt x="8918" y="3644"/>
                  <a:pt x="8979" y="3621"/>
                </a:cubicBezTo>
                <a:cubicBezTo>
                  <a:pt x="8987" y="3613"/>
                  <a:pt x="8996" y="3605"/>
                  <a:pt x="9004" y="3597"/>
                </a:cubicBezTo>
              </a:path>
              <a:path w="2655" h="1018">
                <a:moveTo>
                  <a:pt x="9103" y="3101"/>
                </a:moveTo>
                <a:cubicBezTo>
                  <a:pt x="9180" y="3110"/>
                  <a:pt x="9246" y="3125"/>
                  <a:pt x="9327" y="3125"/>
                </a:cubicBezTo>
                <a:cubicBezTo>
                  <a:pt x="9335" y="3125"/>
                  <a:pt x="9343" y="3125"/>
                  <a:pt x="9351" y="3125"/>
                </a:cubicBezTo>
              </a:path>
              <a:path w="2655" h="1018">
                <a:moveTo>
                  <a:pt x="9153" y="3349"/>
                </a:moveTo>
                <a:cubicBezTo>
                  <a:pt x="9252" y="3363"/>
                  <a:pt x="9303" y="3349"/>
                  <a:pt x="9401" y="3349"/>
                </a:cubicBezTo>
              </a:path>
              <a:path w="2655" h="1018">
                <a:moveTo>
                  <a:pt x="9773" y="2828"/>
                </a:moveTo>
                <a:cubicBezTo>
                  <a:pt x="9738" y="2896"/>
                  <a:pt x="9689" y="2977"/>
                  <a:pt x="9674" y="3051"/>
                </a:cubicBezTo>
                <a:cubicBezTo>
                  <a:pt x="9665" y="3094"/>
                  <a:pt x="9667" y="3184"/>
                  <a:pt x="9723" y="3200"/>
                </a:cubicBezTo>
                <a:cubicBezTo>
                  <a:pt x="9768" y="3213"/>
                  <a:pt x="9860" y="3193"/>
                  <a:pt x="9897" y="3175"/>
                </a:cubicBezTo>
                <a:cubicBezTo>
                  <a:pt x="9964" y="3141"/>
                  <a:pt x="9988" y="3091"/>
                  <a:pt x="10021" y="3026"/>
                </a:cubicBezTo>
              </a:path>
              <a:path w="2655" h="1018">
                <a:moveTo>
                  <a:pt x="9996" y="2629"/>
                </a:moveTo>
                <a:cubicBezTo>
                  <a:pt x="9996" y="2766"/>
                  <a:pt x="9989" y="2893"/>
                  <a:pt x="9971" y="3026"/>
                </a:cubicBezTo>
                <a:cubicBezTo>
                  <a:pt x="9956" y="3137"/>
                  <a:pt x="9958" y="3262"/>
                  <a:pt x="9947" y="3373"/>
                </a:cubicBezTo>
                <a:cubicBezTo>
                  <a:pt x="9940" y="3444"/>
                  <a:pt x="9922" y="3505"/>
                  <a:pt x="9897" y="3572"/>
                </a:cubicBezTo>
              </a:path>
              <a:path w="2655" h="1018">
                <a:moveTo>
                  <a:pt x="10046" y="3497"/>
                </a:moveTo>
                <a:cubicBezTo>
                  <a:pt x="10054" y="3481"/>
                  <a:pt x="10063" y="3464"/>
                  <a:pt x="10071" y="3448"/>
                </a:cubicBezTo>
              </a:path>
              <a:path w="2655" h="1018">
                <a:moveTo>
                  <a:pt x="10492" y="2803"/>
                </a:moveTo>
                <a:cubicBezTo>
                  <a:pt x="10568" y="2780"/>
                  <a:pt x="10690" y="2740"/>
                  <a:pt x="10765" y="2729"/>
                </a:cubicBezTo>
                <a:cubicBezTo>
                  <a:pt x="10823" y="2729"/>
                  <a:pt x="10831" y="2729"/>
                  <a:pt x="10864" y="2729"/>
                </a:cubicBezTo>
              </a:path>
              <a:path w="2655" h="1018">
                <a:moveTo>
                  <a:pt x="10542" y="2778"/>
                </a:moveTo>
                <a:cubicBezTo>
                  <a:pt x="10491" y="2844"/>
                  <a:pt x="10378" y="2946"/>
                  <a:pt x="10418" y="3051"/>
                </a:cubicBezTo>
                <a:cubicBezTo>
                  <a:pt x="10426" y="3059"/>
                  <a:pt x="10435" y="3068"/>
                  <a:pt x="10443" y="3076"/>
                </a:cubicBezTo>
                <a:cubicBezTo>
                  <a:pt x="10534" y="3067"/>
                  <a:pt x="10572" y="3045"/>
                  <a:pt x="10641" y="3001"/>
                </a:cubicBezTo>
                <a:cubicBezTo>
                  <a:pt x="10710" y="2958"/>
                  <a:pt x="10759" y="2976"/>
                  <a:pt x="10815" y="3026"/>
                </a:cubicBezTo>
                <a:cubicBezTo>
                  <a:pt x="10871" y="3077"/>
                  <a:pt x="10885" y="3153"/>
                  <a:pt x="10889" y="3225"/>
                </a:cubicBezTo>
                <a:cubicBezTo>
                  <a:pt x="10893" y="3297"/>
                  <a:pt x="10886" y="3364"/>
                  <a:pt x="10840" y="3423"/>
                </a:cubicBezTo>
                <a:cubicBezTo>
                  <a:pt x="10766" y="3519"/>
                  <a:pt x="10769" y="3516"/>
                  <a:pt x="10666" y="3547"/>
                </a:cubicBezTo>
                <a:cubicBezTo>
                  <a:pt x="10576" y="3574"/>
                  <a:pt x="10530" y="3537"/>
                  <a:pt x="10443" y="3522"/>
                </a:cubicBezTo>
                <a:cubicBezTo>
                  <a:pt x="10375" y="3511"/>
                  <a:pt x="10321" y="3489"/>
                  <a:pt x="10244" y="3497"/>
                </a:cubicBezTo>
                <a:cubicBezTo>
                  <a:pt x="10178" y="3505"/>
                  <a:pt x="10112" y="3514"/>
                  <a:pt x="10046" y="3522"/>
                </a:cubicBezTo>
              </a:path>
              <a:path w="2655" h="1018">
                <a:moveTo>
                  <a:pt x="10120" y="3473"/>
                </a:moveTo>
                <a:cubicBezTo>
                  <a:pt x="10101" y="3542"/>
                  <a:pt x="10131" y="3582"/>
                  <a:pt x="10220" y="3547"/>
                </a:cubicBezTo>
                <a:cubicBezTo>
                  <a:pt x="10263" y="3530"/>
                  <a:pt x="10302" y="3421"/>
                  <a:pt x="10244" y="3398"/>
                </a:cubicBezTo>
                <a:cubicBezTo>
                  <a:pt x="10228" y="3398"/>
                  <a:pt x="10211" y="3398"/>
                  <a:pt x="10195" y="3398"/>
                </a:cubicBezTo>
                <a:cubicBezTo>
                  <a:pt x="10162" y="3463"/>
                  <a:pt x="10120" y="3509"/>
                  <a:pt x="10170" y="3572"/>
                </a:cubicBezTo>
                <a:cubicBezTo>
                  <a:pt x="10198" y="3600"/>
                  <a:pt x="10211" y="3609"/>
                  <a:pt x="10244" y="3597"/>
                </a:cubicBezTo>
                <a:cubicBezTo>
                  <a:pt x="10308" y="3517"/>
                  <a:pt x="10284" y="3488"/>
                  <a:pt x="10244" y="3398"/>
                </a:cubicBezTo>
                <a:cubicBezTo>
                  <a:pt x="10204" y="3427"/>
                  <a:pt x="10115" y="3509"/>
                  <a:pt x="10120" y="3572"/>
                </a:cubicBezTo>
                <a:cubicBezTo>
                  <a:pt x="10145" y="3597"/>
                  <a:pt x="10153" y="3605"/>
                  <a:pt x="10170" y="3621"/>
                </a:cubicBezTo>
                <a:cubicBezTo>
                  <a:pt x="10214" y="3643"/>
                  <a:pt x="10274" y="3616"/>
                  <a:pt x="10294" y="3547"/>
                </a:cubicBezTo>
                <a:cubicBezTo>
                  <a:pt x="10310" y="3493"/>
                  <a:pt x="10272" y="3404"/>
                  <a:pt x="10220" y="3448"/>
                </a:cubicBezTo>
                <a:cubicBezTo>
                  <a:pt x="10156" y="3503"/>
                  <a:pt x="10145" y="3517"/>
                  <a:pt x="10145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Ink 7"/>
          <p:cNvSpPr/>
          <p:nvPr/>
        </p:nvSpPr>
        <p:spPr>
          <a:xfrm>
            <a:off x="919080" y="1687680"/>
            <a:ext cx="1224000" cy="1233360"/>
          </a:xfrm>
          <a:custGeom>
            <a:avLst/>
            <a:gdLst/>
            <a:ahLst/>
            <a:rect l="l" t="t" r="r" b="b"/>
            <a:pathLst>
              <a:path w="3399" h="3424">
                <a:moveTo>
                  <a:pt x="2902" y="5308"/>
                </a:moveTo>
                <a:cubicBezTo>
                  <a:pt x="2871" y="5495"/>
                  <a:pt x="2853" y="5624"/>
                  <a:pt x="2853" y="5804"/>
                </a:cubicBezTo>
                <a:cubicBezTo>
                  <a:pt x="2853" y="5889"/>
                  <a:pt x="2841" y="5950"/>
                  <a:pt x="2828" y="6028"/>
                </a:cubicBezTo>
                <a:cubicBezTo>
                  <a:pt x="2828" y="6072"/>
                  <a:pt x="2831" y="6086"/>
                  <a:pt x="2803" y="6102"/>
                </a:cubicBezTo>
                <a:cubicBezTo>
                  <a:pt x="2771" y="6018"/>
                  <a:pt x="2756" y="5918"/>
                  <a:pt x="2753" y="5829"/>
                </a:cubicBezTo>
                <a:cubicBezTo>
                  <a:pt x="2748" y="5692"/>
                  <a:pt x="2754" y="5540"/>
                  <a:pt x="2778" y="5407"/>
                </a:cubicBezTo>
                <a:cubicBezTo>
                  <a:pt x="2795" y="5311"/>
                  <a:pt x="2825" y="5228"/>
                  <a:pt x="2853" y="5135"/>
                </a:cubicBezTo>
                <a:cubicBezTo>
                  <a:pt x="2887" y="5022"/>
                  <a:pt x="2884" y="5000"/>
                  <a:pt x="2977" y="4961"/>
                </a:cubicBezTo>
                <a:cubicBezTo>
                  <a:pt x="3058" y="4927"/>
                  <a:pt x="3114" y="4941"/>
                  <a:pt x="3175" y="5011"/>
                </a:cubicBezTo>
                <a:cubicBezTo>
                  <a:pt x="3208" y="5048"/>
                  <a:pt x="3221" y="5186"/>
                  <a:pt x="3200" y="5234"/>
                </a:cubicBezTo>
                <a:cubicBezTo>
                  <a:pt x="3153" y="5340"/>
                  <a:pt x="3041" y="5467"/>
                  <a:pt x="2952" y="5531"/>
                </a:cubicBezTo>
                <a:cubicBezTo>
                  <a:pt x="2891" y="5575"/>
                  <a:pt x="2840" y="5631"/>
                  <a:pt x="2778" y="5606"/>
                </a:cubicBezTo>
                <a:cubicBezTo>
                  <a:pt x="2848" y="5559"/>
                  <a:pt x="2961" y="5509"/>
                  <a:pt x="3051" y="5531"/>
                </a:cubicBezTo>
                <a:cubicBezTo>
                  <a:pt x="3089" y="5540"/>
                  <a:pt x="3193" y="5572"/>
                  <a:pt x="3225" y="5606"/>
                </a:cubicBezTo>
                <a:cubicBezTo>
                  <a:pt x="3278" y="5663"/>
                  <a:pt x="3301" y="5790"/>
                  <a:pt x="3249" y="5854"/>
                </a:cubicBezTo>
                <a:cubicBezTo>
                  <a:pt x="3199" y="5916"/>
                  <a:pt x="3073" y="5953"/>
                  <a:pt x="3001" y="5978"/>
                </a:cubicBezTo>
                <a:cubicBezTo>
                  <a:pt x="2909" y="6010"/>
                  <a:pt x="2788" y="6092"/>
                  <a:pt x="2753" y="5978"/>
                </a:cubicBezTo>
                <a:cubicBezTo>
                  <a:pt x="2753" y="5961"/>
                  <a:pt x="2753" y="5945"/>
                  <a:pt x="2753" y="5928"/>
                </a:cubicBezTo>
              </a:path>
              <a:path w="3399" h="3424">
                <a:moveTo>
                  <a:pt x="3423" y="5531"/>
                </a:moveTo>
                <a:cubicBezTo>
                  <a:pt x="3500" y="5522"/>
                  <a:pt x="3595" y="5524"/>
                  <a:pt x="3671" y="5507"/>
                </a:cubicBezTo>
                <a:cubicBezTo>
                  <a:pt x="3688" y="5499"/>
                  <a:pt x="3704" y="5490"/>
                  <a:pt x="3721" y="5482"/>
                </a:cubicBezTo>
              </a:path>
              <a:path w="3399" h="3424">
                <a:moveTo>
                  <a:pt x="3448" y="5705"/>
                </a:moveTo>
                <a:cubicBezTo>
                  <a:pt x="3512" y="5737"/>
                  <a:pt x="3577" y="5744"/>
                  <a:pt x="3646" y="5705"/>
                </a:cubicBezTo>
                <a:cubicBezTo>
                  <a:pt x="3671" y="5688"/>
                  <a:pt x="3696" y="5672"/>
                  <a:pt x="3721" y="5655"/>
                </a:cubicBezTo>
              </a:path>
              <a:path w="3399" h="3424">
                <a:moveTo>
                  <a:pt x="4266" y="5035"/>
                </a:moveTo>
                <a:cubicBezTo>
                  <a:pt x="4231" y="5134"/>
                  <a:pt x="4238" y="5231"/>
                  <a:pt x="4217" y="5333"/>
                </a:cubicBezTo>
                <a:cubicBezTo>
                  <a:pt x="4194" y="5442"/>
                  <a:pt x="4192" y="5542"/>
                  <a:pt x="4192" y="5655"/>
                </a:cubicBezTo>
                <a:cubicBezTo>
                  <a:pt x="4192" y="5720"/>
                  <a:pt x="4177" y="5876"/>
                  <a:pt x="4217" y="5928"/>
                </a:cubicBezTo>
                <a:cubicBezTo>
                  <a:pt x="4244" y="5962"/>
                  <a:pt x="4346" y="6017"/>
                  <a:pt x="4390" y="6003"/>
                </a:cubicBezTo>
                <a:cubicBezTo>
                  <a:pt x="4517" y="5962"/>
                  <a:pt x="4530" y="5925"/>
                  <a:pt x="4564" y="5829"/>
                </a:cubicBezTo>
                <a:cubicBezTo>
                  <a:pt x="4588" y="5760"/>
                  <a:pt x="4604" y="5682"/>
                  <a:pt x="4589" y="5606"/>
                </a:cubicBezTo>
                <a:cubicBezTo>
                  <a:pt x="4569" y="5545"/>
                  <a:pt x="4571" y="5530"/>
                  <a:pt x="4539" y="5507"/>
                </a:cubicBezTo>
                <a:cubicBezTo>
                  <a:pt x="4484" y="5515"/>
                  <a:pt x="4426" y="5535"/>
                  <a:pt x="4415" y="5606"/>
                </a:cubicBezTo>
                <a:cubicBezTo>
                  <a:pt x="4408" y="5655"/>
                  <a:pt x="4389" y="5900"/>
                  <a:pt x="4440" y="5928"/>
                </a:cubicBezTo>
                <a:cubicBezTo>
                  <a:pt x="4497" y="5947"/>
                  <a:pt x="4504" y="5956"/>
                  <a:pt x="4539" y="5953"/>
                </a:cubicBezTo>
              </a:path>
              <a:path w="3399" h="3424">
                <a:moveTo>
                  <a:pt x="4911" y="5060"/>
                </a:moveTo>
                <a:cubicBezTo>
                  <a:pt x="4871" y="5203"/>
                  <a:pt x="4826" y="5330"/>
                  <a:pt x="4812" y="5482"/>
                </a:cubicBezTo>
                <a:cubicBezTo>
                  <a:pt x="4802" y="5593"/>
                  <a:pt x="4800" y="5724"/>
                  <a:pt x="4837" y="5829"/>
                </a:cubicBezTo>
                <a:cubicBezTo>
                  <a:pt x="4854" y="5878"/>
                  <a:pt x="4919" y="5983"/>
                  <a:pt x="4961" y="6003"/>
                </a:cubicBezTo>
                <a:cubicBezTo>
                  <a:pt x="5001" y="6022"/>
                  <a:pt x="5088" y="5959"/>
                  <a:pt x="5110" y="5928"/>
                </a:cubicBezTo>
                <a:cubicBezTo>
                  <a:pt x="5170" y="5845"/>
                  <a:pt x="5142" y="5699"/>
                  <a:pt x="5159" y="5606"/>
                </a:cubicBezTo>
                <a:cubicBezTo>
                  <a:pt x="5180" y="5488"/>
                  <a:pt x="5174" y="5353"/>
                  <a:pt x="5135" y="5234"/>
                </a:cubicBezTo>
                <a:cubicBezTo>
                  <a:pt x="5109" y="5157"/>
                  <a:pt x="5052" y="5168"/>
                  <a:pt x="5011" y="5110"/>
                </a:cubicBezTo>
                <a:cubicBezTo>
                  <a:pt x="4989" y="5079"/>
                  <a:pt x="4970" y="5044"/>
                  <a:pt x="4961" y="5011"/>
                </a:cubicBezTo>
              </a:path>
              <a:path w="3399" h="3424">
                <a:moveTo>
                  <a:pt x="5308" y="4837"/>
                </a:moveTo>
                <a:cubicBezTo>
                  <a:pt x="5308" y="4913"/>
                  <a:pt x="5307" y="4943"/>
                  <a:pt x="5333" y="5011"/>
                </a:cubicBezTo>
                <a:cubicBezTo>
                  <a:pt x="5401" y="5001"/>
                  <a:pt x="5460" y="4965"/>
                  <a:pt x="5482" y="4887"/>
                </a:cubicBezTo>
                <a:cubicBezTo>
                  <a:pt x="5495" y="4841"/>
                  <a:pt x="5460" y="4707"/>
                  <a:pt x="5407" y="4688"/>
                </a:cubicBezTo>
                <a:cubicBezTo>
                  <a:pt x="5370" y="4675"/>
                  <a:pt x="5298" y="4688"/>
                  <a:pt x="5259" y="4688"/>
                </a:cubicBezTo>
              </a:path>
              <a:path w="3399" h="3424">
                <a:moveTo>
                  <a:pt x="3225" y="7069"/>
                </a:moveTo>
                <a:cubicBezTo>
                  <a:pt x="3225" y="7102"/>
                  <a:pt x="3225" y="7136"/>
                  <a:pt x="3225" y="7169"/>
                </a:cubicBezTo>
                <a:cubicBezTo>
                  <a:pt x="3186" y="7059"/>
                  <a:pt x="3172" y="6965"/>
                  <a:pt x="3101" y="6871"/>
                </a:cubicBezTo>
                <a:cubicBezTo>
                  <a:pt x="3062" y="6819"/>
                  <a:pt x="3035" y="6702"/>
                  <a:pt x="2952" y="6722"/>
                </a:cubicBezTo>
                <a:cubicBezTo>
                  <a:pt x="2880" y="6739"/>
                  <a:pt x="2850" y="6822"/>
                  <a:pt x="2803" y="6871"/>
                </a:cubicBezTo>
                <a:cubicBezTo>
                  <a:pt x="2716" y="6961"/>
                  <a:pt x="2666" y="7071"/>
                  <a:pt x="2629" y="7193"/>
                </a:cubicBezTo>
                <a:cubicBezTo>
                  <a:pt x="2582" y="7348"/>
                  <a:pt x="2571" y="7486"/>
                  <a:pt x="2580" y="7640"/>
                </a:cubicBezTo>
                <a:cubicBezTo>
                  <a:pt x="2585" y="7733"/>
                  <a:pt x="2621" y="7856"/>
                  <a:pt x="2679" y="7938"/>
                </a:cubicBezTo>
                <a:cubicBezTo>
                  <a:pt x="2716" y="7990"/>
                  <a:pt x="2812" y="8097"/>
                  <a:pt x="2877" y="8111"/>
                </a:cubicBezTo>
                <a:cubicBezTo>
                  <a:pt x="2957" y="8128"/>
                  <a:pt x="3052" y="8114"/>
                  <a:pt x="3125" y="8086"/>
                </a:cubicBezTo>
              </a:path>
              <a:path w="3399" h="3424">
                <a:moveTo>
                  <a:pt x="3547" y="7466"/>
                </a:moveTo>
                <a:cubicBezTo>
                  <a:pt x="3612" y="7444"/>
                  <a:pt x="3627" y="7436"/>
                  <a:pt x="3671" y="7441"/>
                </a:cubicBezTo>
              </a:path>
              <a:path w="3399" h="3424">
                <a:moveTo>
                  <a:pt x="3448" y="7714"/>
                </a:moveTo>
                <a:cubicBezTo>
                  <a:pt x="3519" y="7757"/>
                  <a:pt x="3545" y="7727"/>
                  <a:pt x="3621" y="7714"/>
                </a:cubicBezTo>
                <a:cubicBezTo>
                  <a:pt x="3678" y="7714"/>
                  <a:pt x="3699" y="7709"/>
                  <a:pt x="3721" y="7665"/>
                </a:cubicBezTo>
              </a:path>
              <a:path w="3399" h="3424">
                <a:moveTo>
                  <a:pt x="4440" y="6896"/>
                </a:moveTo>
                <a:cubicBezTo>
                  <a:pt x="4440" y="7064"/>
                  <a:pt x="4429" y="7227"/>
                  <a:pt x="4415" y="7392"/>
                </a:cubicBezTo>
                <a:cubicBezTo>
                  <a:pt x="4405" y="7510"/>
                  <a:pt x="4390" y="7620"/>
                  <a:pt x="4390" y="7739"/>
                </a:cubicBezTo>
                <a:cubicBezTo>
                  <a:pt x="4390" y="7825"/>
                  <a:pt x="4354" y="7907"/>
                  <a:pt x="4341" y="7987"/>
                </a:cubicBezTo>
                <a:cubicBezTo>
                  <a:pt x="4341" y="8004"/>
                  <a:pt x="4341" y="8020"/>
                  <a:pt x="4341" y="8037"/>
                </a:cubicBezTo>
              </a:path>
              <a:path w="3399" h="3424">
                <a:moveTo>
                  <a:pt x="4688" y="6896"/>
                </a:moveTo>
                <a:cubicBezTo>
                  <a:pt x="4688" y="6985"/>
                  <a:pt x="4704" y="7056"/>
                  <a:pt x="4713" y="7144"/>
                </a:cubicBezTo>
                <a:cubicBezTo>
                  <a:pt x="4739" y="7390"/>
                  <a:pt x="4724" y="7677"/>
                  <a:pt x="4688" y="7913"/>
                </a:cubicBezTo>
                <a:cubicBezTo>
                  <a:pt x="4688" y="7929"/>
                  <a:pt x="4688" y="7946"/>
                  <a:pt x="4688" y="7962"/>
                </a:cubicBezTo>
              </a:path>
              <a:path w="3399" h="3424">
                <a:moveTo>
                  <a:pt x="5209" y="7094"/>
                </a:moveTo>
                <a:cubicBezTo>
                  <a:pt x="5250" y="7202"/>
                  <a:pt x="5213" y="7301"/>
                  <a:pt x="5209" y="7417"/>
                </a:cubicBezTo>
                <a:cubicBezTo>
                  <a:pt x="5205" y="7542"/>
                  <a:pt x="5184" y="7663"/>
                  <a:pt x="5184" y="7789"/>
                </a:cubicBezTo>
                <a:cubicBezTo>
                  <a:pt x="5184" y="7880"/>
                  <a:pt x="5205" y="7947"/>
                  <a:pt x="5259" y="8012"/>
                </a:cubicBezTo>
                <a:cubicBezTo>
                  <a:pt x="5314" y="8078"/>
                  <a:pt x="5356" y="8069"/>
                  <a:pt x="5432" y="8037"/>
                </a:cubicBezTo>
                <a:cubicBezTo>
                  <a:pt x="5547" y="7988"/>
                  <a:pt x="5597" y="7929"/>
                  <a:pt x="5655" y="7813"/>
                </a:cubicBezTo>
                <a:cubicBezTo>
                  <a:pt x="5699" y="7724"/>
                  <a:pt x="5680" y="7612"/>
                  <a:pt x="5680" y="7516"/>
                </a:cubicBezTo>
                <a:cubicBezTo>
                  <a:pt x="5680" y="7428"/>
                  <a:pt x="5655" y="7294"/>
                  <a:pt x="5606" y="7218"/>
                </a:cubicBezTo>
                <a:cubicBezTo>
                  <a:pt x="5581" y="7179"/>
                  <a:pt x="5474" y="7082"/>
                  <a:pt x="5432" y="7069"/>
                </a:cubicBezTo>
                <a:cubicBezTo>
                  <a:pt x="5387" y="7056"/>
                  <a:pt x="5355" y="7051"/>
                  <a:pt x="5308" y="7045"/>
                </a:cubicBezTo>
              </a:path>
              <a:path w="3399" h="3424">
                <a:moveTo>
                  <a:pt x="5730" y="6747"/>
                </a:moveTo>
                <a:cubicBezTo>
                  <a:pt x="5721" y="6811"/>
                  <a:pt x="5683" y="6943"/>
                  <a:pt x="5804" y="6921"/>
                </a:cubicBezTo>
                <a:cubicBezTo>
                  <a:pt x="5868" y="6909"/>
                  <a:pt x="5937" y="6865"/>
                  <a:pt x="5953" y="6796"/>
                </a:cubicBezTo>
                <a:cubicBezTo>
                  <a:pt x="5971" y="6718"/>
                  <a:pt x="5920" y="6674"/>
                  <a:pt x="5854" y="6672"/>
                </a:cubicBezTo>
                <a:cubicBezTo>
                  <a:pt x="5738" y="6672"/>
                  <a:pt x="5721" y="6672"/>
                  <a:pt x="5655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Ink 8"/>
          <p:cNvSpPr/>
          <p:nvPr/>
        </p:nvSpPr>
        <p:spPr>
          <a:xfrm>
            <a:off x="3071880" y="1616040"/>
            <a:ext cx="401400" cy="428760"/>
          </a:xfrm>
          <a:custGeom>
            <a:avLst/>
            <a:gdLst/>
            <a:ahLst/>
            <a:rect l="l" t="t" r="r" b="b"/>
            <a:pathLst>
              <a:path w="1117" h="1191">
                <a:moveTo>
                  <a:pt x="8756" y="4490"/>
                </a:moveTo>
                <a:cubicBezTo>
                  <a:pt x="8749" y="4642"/>
                  <a:pt x="8731" y="4782"/>
                  <a:pt x="8731" y="4936"/>
                </a:cubicBezTo>
                <a:cubicBezTo>
                  <a:pt x="8731" y="5080"/>
                  <a:pt x="8711" y="5215"/>
                  <a:pt x="8706" y="5358"/>
                </a:cubicBezTo>
                <a:cubicBezTo>
                  <a:pt x="8703" y="5442"/>
                  <a:pt x="8710" y="5553"/>
                  <a:pt x="8682" y="5631"/>
                </a:cubicBezTo>
                <a:cubicBezTo>
                  <a:pt x="8674" y="5639"/>
                  <a:pt x="8665" y="5647"/>
                  <a:pt x="8657" y="5655"/>
                </a:cubicBezTo>
                <a:cubicBezTo>
                  <a:pt x="8657" y="5567"/>
                  <a:pt x="8673" y="5491"/>
                  <a:pt x="8682" y="5407"/>
                </a:cubicBezTo>
                <a:cubicBezTo>
                  <a:pt x="8691" y="5323"/>
                  <a:pt x="8673" y="5213"/>
                  <a:pt x="8706" y="5135"/>
                </a:cubicBezTo>
                <a:cubicBezTo>
                  <a:pt x="8760" y="5007"/>
                  <a:pt x="8870" y="5015"/>
                  <a:pt x="8954" y="5110"/>
                </a:cubicBezTo>
                <a:cubicBezTo>
                  <a:pt x="8999" y="5161"/>
                  <a:pt x="9061" y="5259"/>
                  <a:pt x="9054" y="5333"/>
                </a:cubicBezTo>
                <a:cubicBezTo>
                  <a:pt x="9046" y="5419"/>
                  <a:pt x="8949" y="5469"/>
                  <a:pt x="8905" y="5531"/>
                </a:cubicBezTo>
                <a:cubicBezTo>
                  <a:pt x="8850" y="5608"/>
                  <a:pt x="8793" y="5614"/>
                  <a:pt x="8706" y="5655"/>
                </a:cubicBezTo>
                <a:cubicBezTo>
                  <a:pt x="8615" y="5698"/>
                  <a:pt x="8568" y="5687"/>
                  <a:pt x="8533" y="5606"/>
                </a:cubicBezTo>
              </a:path>
              <a:path w="1117" h="1191">
                <a:moveTo>
                  <a:pt x="9376" y="5184"/>
                </a:moveTo>
                <a:cubicBezTo>
                  <a:pt x="9465" y="5178"/>
                  <a:pt x="9535" y="5159"/>
                  <a:pt x="9624" y="5159"/>
                </a:cubicBezTo>
                <a:cubicBezTo>
                  <a:pt x="9632" y="5159"/>
                  <a:pt x="9641" y="5159"/>
                  <a:pt x="9649" y="5159"/>
                </a:cubicBezTo>
              </a:path>
              <a:path w="1117" h="1191">
                <a:moveTo>
                  <a:pt x="9376" y="5383"/>
                </a:moveTo>
                <a:cubicBezTo>
                  <a:pt x="9450" y="5426"/>
                  <a:pt x="9515" y="5403"/>
                  <a:pt x="9599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Ink 9"/>
          <p:cNvSpPr/>
          <p:nvPr/>
        </p:nvSpPr>
        <p:spPr>
          <a:xfrm>
            <a:off x="3679920" y="1544760"/>
            <a:ext cx="812880" cy="465120"/>
          </a:xfrm>
          <a:custGeom>
            <a:avLst/>
            <a:gdLst/>
            <a:ahLst/>
            <a:rect l="l" t="t" r="r" b="b"/>
            <a:pathLst>
              <a:path w="2258" h="1291">
                <a:moveTo>
                  <a:pt x="10294" y="4688"/>
                </a:moveTo>
                <a:cubicBezTo>
                  <a:pt x="10294" y="4738"/>
                  <a:pt x="10294" y="4754"/>
                  <a:pt x="10294" y="4787"/>
                </a:cubicBezTo>
                <a:cubicBezTo>
                  <a:pt x="10334" y="4747"/>
                  <a:pt x="10356" y="4704"/>
                  <a:pt x="10393" y="4663"/>
                </a:cubicBezTo>
                <a:cubicBezTo>
                  <a:pt x="10436" y="4615"/>
                  <a:pt x="10463" y="4571"/>
                  <a:pt x="10517" y="4539"/>
                </a:cubicBezTo>
                <a:cubicBezTo>
                  <a:pt x="10597" y="4492"/>
                  <a:pt x="10648" y="4558"/>
                  <a:pt x="10666" y="4638"/>
                </a:cubicBezTo>
                <a:cubicBezTo>
                  <a:pt x="10688" y="4735"/>
                  <a:pt x="10677" y="4789"/>
                  <a:pt x="10666" y="4887"/>
                </a:cubicBezTo>
                <a:cubicBezTo>
                  <a:pt x="10655" y="4985"/>
                  <a:pt x="10647" y="5088"/>
                  <a:pt x="10616" y="5184"/>
                </a:cubicBezTo>
                <a:cubicBezTo>
                  <a:pt x="10588" y="5268"/>
                  <a:pt x="10581" y="5315"/>
                  <a:pt x="10517" y="5383"/>
                </a:cubicBezTo>
                <a:cubicBezTo>
                  <a:pt x="10484" y="5418"/>
                  <a:pt x="10393" y="5466"/>
                  <a:pt x="10344" y="5457"/>
                </a:cubicBezTo>
                <a:cubicBezTo>
                  <a:pt x="10283" y="5446"/>
                  <a:pt x="10203" y="5408"/>
                  <a:pt x="10220" y="5333"/>
                </a:cubicBezTo>
                <a:cubicBezTo>
                  <a:pt x="10245" y="5225"/>
                  <a:pt x="10351" y="5215"/>
                  <a:pt x="10443" y="5234"/>
                </a:cubicBezTo>
                <a:cubicBezTo>
                  <a:pt x="10548" y="5255"/>
                  <a:pt x="10540" y="5307"/>
                  <a:pt x="10567" y="5383"/>
                </a:cubicBezTo>
                <a:cubicBezTo>
                  <a:pt x="10590" y="5447"/>
                  <a:pt x="10592" y="5649"/>
                  <a:pt x="10592" y="5581"/>
                </a:cubicBezTo>
                <a:cubicBezTo>
                  <a:pt x="10592" y="5556"/>
                  <a:pt x="10592" y="5532"/>
                  <a:pt x="10592" y="5507"/>
                </a:cubicBezTo>
              </a:path>
              <a:path w="2258" h="1291">
                <a:moveTo>
                  <a:pt x="10914" y="4738"/>
                </a:moveTo>
                <a:cubicBezTo>
                  <a:pt x="10958" y="4752"/>
                  <a:pt x="10957" y="4661"/>
                  <a:pt x="10988" y="4589"/>
                </a:cubicBezTo>
                <a:cubicBezTo>
                  <a:pt x="11016" y="4522"/>
                  <a:pt x="11043" y="4494"/>
                  <a:pt x="11112" y="4490"/>
                </a:cubicBezTo>
                <a:cubicBezTo>
                  <a:pt x="11218" y="4484"/>
                  <a:pt x="11185" y="4581"/>
                  <a:pt x="11212" y="4663"/>
                </a:cubicBezTo>
                <a:cubicBezTo>
                  <a:pt x="11245" y="4762"/>
                  <a:pt x="11224" y="4816"/>
                  <a:pt x="11212" y="4911"/>
                </a:cubicBezTo>
                <a:cubicBezTo>
                  <a:pt x="11201" y="4996"/>
                  <a:pt x="11194" y="5076"/>
                  <a:pt x="11162" y="5159"/>
                </a:cubicBezTo>
                <a:cubicBezTo>
                  <a:pt x="11138" y="5223"/>
                  <a:pt x="11094" y="5275"/>
                  <a:pt x="11038" y="5308"/>
                </a:cubicBezTo>
                <a:cubicBezTo>
                  <a:pt x="10991" y="5336"/>
                  <a:pt x="10882" y="5315"/>
                  <a:pt x="10889" y="5234"/>
                </a:cubicBezTo>
                <a:cubicBezTo>
                  <a:pt x="10891" y="5213"/>
                  <a:pt x="10927" y="5118"/>
                  <a:pt x="10964" y="5110"/>
                </a:cubicBezTo>
                <a:cubicBezTo>
                  <a:pt x="11021" y="5098"/>
                  <a:pt x="11102" y="5135"/>
                  <a:pt x="11137" y="5184"/>
                </a:cubicBezTo>
                <a:cubicBezTo>
                  <a:pt x="11172" y="5234"/>
                  <a:pt x="11220" y="5348"/>
                  <a:pt x="11187" y="5407"/>
                </a:cubicBezTo>
                <a:cubicBezTo>
                  <a:pt x="11179" y="5407"/>
                  <a:pt x="11170" y="5407"/>
                  <a:pt x="11162" y="5407"/>
                </a:cubicBezTo>
              </a:path>
              <a:path w="2258" h="1291">
                <a:moveTo>
                  <a:pt x="11534" y="5283"/>
                </a:moveTo>
                <a:cubicBezTo>
                  <a:pt x="11526" y="5316"/>
                  <a:pt x="11517" y="5350"/>
                  <a:pt x="11509" y="5383"/>
                </a:cubicBezTo>
                <a:cubicBezTo>
                  <a:pt x="11557" y="5376"/>
                  <a:pt x="11635" y="5359"/>
                  <a:pt x="11609" y="5283"/>
                </a:cubicBezTo>
                <a:cubicBezTo>
                  <a:pt x="11601" y="5275"/>
                  <a:pt x="11592" y="5267"/>
                  <a:pt x="11584" y="5259"/>
                </a:cubicBezTo>
                <a:cubicBezTo>
                  <a:pt x="11550" y="5292"/>
                  <a:pt x="11498" y="5315"/>
                  <a:pt x="11534" y="5333"/>
                </a:cubicBezTo>
              </a:path>
              <a:path w="2258" h="1291">
                <a:moveTo>
                  <a:pt x="11956" y="4564"/>
                </a:moveTo>
                <a:cubicBezTo>
                  <a:pt x="11956" y="4625"/>
                  <a:pt x="11956" y="4709"/>
                  <a:pt x="11931" y="4762"/>
                </a:cubicBezTo>
                <a:cubicBezTo>
                  <a:pt x="11901" y="4827"/>
                  <a:pt x="11931" y="4858"/>
                  <a:pt x="12005" y="4862"/>
                </a:cubicBezTo>
                <a:cubicBezTo>
                  <a:pt x="12107" y="4868"/>
                  <a:pt x="12239" y="4882"/>
                  <a:pt x="12328" y="4837"/>
                </a:cubicBezTo>
                <a:cubicBezTo>
                  <a:pt x="12361" y="4804"/>
                  <a:pt x="12378" y="4787"/>
                  <a:pt x="12402" y="4762"/>
                </a:cubicBezTo>
              </a:path>
              <a:path w="2258" h="1291">
                <a:moveTo>
                  <a:pt x="12427" y="4291"/>
                </a:moveTo>
                <a:cubicBezTo>
                  <a:pt x="12400" y="4399"/>
                  <a:pt x="12381" y="4502"/>
                  <a:pt x="12378" y="4614"/>
                </a:cubicBezTo>
                <a:cubicBezTo>
                  <a:pt x="12374" y="4775"/>
                  <a:pt x="12392" y="4925"/>
                  <a:pt x="12402" y="5085"/>
                </a:cubicBezTo>
                <a:cubicBezTo>
                  <a:pt x="12409" y="5198"/>
                  <a:pt x="12437" y="5297"/>
                  <a:pt x="12452" y="5407"/>
                </a:cubicBezTo>
                <a:cubicBezTo>
                  <a:pt x="12461" y="5474"/>
                  <a:pt x="12468" y="5519"/>
                  <a:pt x="12477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Ink 10"/>
          <p:cNvSpPr/>
          <p:nvPr/>
        </p:nvSpPr>
        <p:spPr>
          <a:xfrm>
            <a:off x="3062160" y="2473200"/>
            <a:ext cx="430200" cy="28584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9079" y="7119"/>
                </a:moveTo>
                <a:cubicBezTo>
                  <a:pt x="9079" y="7158"/>
                  <a:pt x="9052" y="7058"/>
                  <a:pt x="9029" y="7020"/>
                </a:cubicBezTo>
                <a:cubicBezTo>
                  <a:pt x="8989" y="6953"/>
                  <a:pt x="8970" y="6887"/>
                  <a:pt x="8880" y="6871"/>
                </a:cubicBezTo>
                <a:cubicBezTo>
                  <a:pt x="8768" y="6851"/>
                  <a:pt x="8738" y="6884"/>
                  <a:pt x="8682" y="6970"/>
                </a:cubicBezTo>
                <a:cubicBezTo>
                  <a:pt x="8621" y="7064"/>
                  <a:pt x="8566" y="7159"/>
                  <a:pt x="8533" y="7268"/>
                </a:cubicBezTo>
                <a:cubicBezTo>
                  <a:pt x="8517" y="7321"/>
                  <a:pt x="8475" y="7507"/>
                  <a:pt x="8508" y="7565"/>
                </a:cubicBezTo>
                <a:cubicBezTo>
                  <a:pt x="8559" y="7655"/>
                  <a:pt x="8660" y="7685"/>
                  <a:pt x="8756" y="7665"/>
                </a:cubicBezTo>
                <a:cubicBezTo>
                  <a:pt x="8830" y="7649"/>
                  <a:pt x="8907" y="7614"/>
                  <a:pt x="8979" y="7590"/>
                </a:cubicBezTo>
              </a:path>
              <a:path w="1192" h="795">
                <a:moveTo>
                  <a:pt x="9351" y="7069"/>
                </a:moveTo>
                <a:cubicBezTo>
                  <a:pt x="9426" y="7062"/>
                  <a:pt x="9471" y="7045"/>
                  <a:pt x="9550" y="7045"/>
                </a:cubicBezTo>
              </a:path>
              <a:path w="1192" h="795">
                <a:moveTo>
                  <a:pt x="9500" y="7193"/>
                </a:moveTo>
                <a:cubicBezTo>
                  <a:pt x="9577" y="7193"/>
                  <a:pt x="9628" y="7192"/>
                  <a:pt x="9699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Ink 11"/>
          <p:cNvSpPr/>
          <p:nvPr/>
        </p:nvSpPr>
        <p:spPr>
          <a:xfrm>
            <a:off x="544680" y="3375000"/>
            <a:ext cx="2081160" cy="1492200"/>
          </a:xfrm>
          <a:custGeom>
            <a:avLst/>
            <a:gdLst/>
            <a:ahLst/>
            <a:rect l="l" t="t" r="r" b="b"/>
            <a:pathLst>
              <a:path w="5781" h="4144">
                <a:moveTo>
                  <a:pt x="1513" y="10517"/>
                </a:moveTo>
                <a:cubicBezTo>
                  <a:pt x="2133" y="10517"/>
                  <a:pt x="2757" y="10534"/>
                  <a:pt x="3373" y="10492"/>
                </a:cubicBezTo>
                <a:cubicBezTo>
                  <a:pt x="3451" y="10487"/>
                  <a:pt x="3820" y="10551"/>
                  <a:pt x="3820" y="10443"/>
                </a:cubicBezTo>
                <a:cubicBezTo>
                  <a:pt x="3812" y="10435"/>
                  <a:pt x="3803" y="10426"/>
                  <a:pt x="3795" y="10418"/>
                </a:cubicBezTo>
              </a:path>
              <a:path w="5781" h="4144">
                <a:moveTo>
                  <a:pt x="2307" y="10765"/>
                </a:moveTo>
                <a:cubicBezTo>
                  <a:pt x="2300" y="10831"/>
                  <a:pt x="2298" y="10888"/>
                  <a:pt x="2257" y="10939"/>
                </a:cubicBezTo>
                <a:cubicBezTo>
                  <a:pt x="2221" y="10984"/>
                  <a:pt x="2228" y="11018"/>
                  <a:pt x="2183" y="11063"/>
                </a:cubicBezTo>
                <a:cubicBezTo>
                  <a:pt x="2175" y="11071"/>
                  <a:pt x="2166" y="11080"/>
                  <a:pt x="2158" y="11088"/>
                </a:cubicBezTo>
                <a:cubicBezTo>
                  <a:pt x="2230" y="11144"/>
                  <a:pt x="2290" y="11159"/>
                  <a:pt x="2381" y="11162"/>
                </a:cubicBezTo>
                <a:cubicBezTo>
                  <a:pt x="2449" y="11162"/>
                  <a:pt x="2468" y="11165"/>
                  <a:pt x="2505" y="11137"/>
                </a:cubicBezTo>
              </a:path>
              <a:path w="5781" h="4144">
                <a:moveTo>
                  <a:pt x="2604" y="10691"/>
                </a:moveTo>
                <a:cubicBezTo>
                  <a:pt x="2567" y="10786"/>
                  <a:pt x="2555" y="10862"/>
                  <a:pt x="2555" y="10964"/>
                </a:cubicBezTo>
                <a:cubicBezTo>
                  <a:pt x="2555" y="11091"/>
                  <a:pt x="2495" y="11553"/>
                  <a:pt x="2580" y="11609"/>
                </a:cubicBezTo>
              </a:path>
              <a:path w="5781" h="4144">
                <a:moveTo>
                  <a:pt x="2853" y="11509"/>
                </a:moveTo>
                <a:cubicBezTo>
                  <a:pt x="2853" y="11517"/>
                  <a:pt x="2853" y="11526"/>
                  <a:pt x="2853" y="11534"/>
                </a:cubicBezTo>
              </a:path>
              <a:path w="5781" h="4144">
                <a:moveTo>
                  <a:pt x="3200" y="10840"/>
                </a:moveTo>
                <a:cubicBezTo>
                  <a:pt x="3294" y="10819"/>
                  <a:pt x="3408" y="10815"/>
                  <a:pt x="3497" y="10790"/>
                </a:cubicBezTo>
                <a:cubicBezTo>
                  <a:pt x="3514" y="10782"/>
                  <a:pt x="3530" y="10773"/>
                  <a:pt x="3547" y="10765"/>
                </a:cubicBezTo>
              </a:path>
              <a:path w="5781" h="4144">
                <a:moveTo>
                  <a:pt x="3225" y="10765"/>
                </a:moveTo>
                <a:cubicBezTo>
                  <a:pt x="3173" y="10848"/>
                  <a:pt x="3106" y="10916"/>
                  <a:pt x="3101" y="11013"/>
                </a:cubicBezTo>
                <a:cubicBezTo>
                  <a:pt x="3101" y="11030"/>
                  <a:pt x="3101" y="11046"/>
                  <a:pt x="3101" y="11063"/>
                </a:cubicBezTo>
                <a:cubicBezTo>
                  <a:pt x="3184" y="11063"/>
                  <a:pt x="3188" y="11031"/>
                  <a:pt x="3249" y="11013"/>
                </a:cubicBezTo>
                <a:cubicBezTo>
                  <a:pt x="3317" y="10993"/>
                  <a:pt x="3354" y="11020"/>
                  <a:pt x="3398" y="11063"/>
                </a:cubicBezTo>
                <a:cubicBezTo>
                  <a:pt x="3469" y="11133"/>
                  <a:pt x="3483" y="11169"/>
                  <a:pt x="3522" y="11261"/>
                </a:cubicBezTo>
                <a:cubicBezTo>
                  <a:pt x="3575" y="11383"/>
                  <a:pt x="3537" y="11443"/>
                  <a:pt x="3448" y="11509"/>
                </a:cubicBezTo>
                <a:cubicBezTo>
                  <a:pt x="3397" y="11547"/>
                  <a:pt x="3339" y="11534"/>
                  <a:pt x="3274" y="11534"/>
                </a:cubicBezTo>
                <a:cubicBezTo>
                  <a:pt x="3194" y="11534"/>
                  <a:pt x="3208" y="11502"/>
                  <a:pt x="3200" y="11435"/>
                </a:cubicBezTo>
              </a:path>
              <a:path w="5781" h="4144">
                <a:moveTo>
                  <a:pt x="4167" y="10418"/>
                </a:moveTo>
                <a:cubicBezTo>
                  <a:pt x="4275" y="10418"/>
                  <a:pt x="4283" y="10418"/>
                  <a:pt x="4341" y="10418"/>
                </a:cubicBezTo>
              </a:path>
              <a:path w="5781" h="4144">
                <a:moveTo>
                  <a:pt x="4217" y="10567"/>
                </a:moveTo>
                <a:cubicBezTo>
                  <a:pt x="4308" y="10567"/>
                  <a:pt x="4399" y="10567"/>
                  <a:pt x="4490" y="10567"/>
                </a:cubicBezTo>
              </a:path>
              <a:path w="5781" h="4144">
                <a:moveTo>
                  <a:pt x="5209" y="9847"/>
                </a:moveTo>
                <a:cubicBezTo>
                  <a:pt x="5144" y="9847"/>
                  <a:pt x="4979" y="9825"/>
                  <a:pt x="4936" y="9897"/>
                </a:cubicBezTo>
                <a:cubicBezTo>
                  <a:pt x="4880" y="9991"/>
                  <a:pt x="4961" y="10003"/>
                  <a:pt x="5011" y="10046"/>
                </a:cubicBezTo>
                <a:cubicBezTo>
                  <a:pt x="5085" y="10109"/>
                  <a:pt x="5176" y="10223"/>
                  <a:pt x="5234" y="10294"/>
                </a:cubicBezTo>
                <a:cubicBezTo>
                  <a:pt x="5242" y="10311"/>
                  <a:pt x="5251" y="10327"/>
                  <a:pt x="5259" y="10344"/>
                </a:cubicBezTo>
                <a:cubicBezTo>
                  <a:pt x="5219" y="10392"/>
                  <a:pt x="5189" y="10453"/>
                  <a:pt x="5110" y="10418"/>
                </a:cubicBezTo>
                <a:cubicBezTo>
                  <a:pt x="5022" y="10380"/>
                  <a:pt x="4936" y="10369"/>
                  <a:pt x="4911" y="10269"/>
                </a:cubicBezTo>
                <a:cubicBezTo>
                  <a:pt x="4911" y="10253"/>
                  <a:pt x="4911" y="10236"/>
                  <a:pt x="4911" y="10220"/>
                </a:cubicBezTo>
              </a:path>
              <a:path w="5781" h="4144">
                <a:moveTo>
                  <a:pt x="5432" y="9971"/>
                </a:moveTo>
                <a:cubicBezTo>
                  <a:pt x="5447" y="10076"/>
                  <a:pt x="5457" y="10165"/>
                  <a:pt x="5457" y="10269"/>
                </a:cubicBezTo>
                <a:cubicBezTo>
                  <a:pt x="5457" y="10468"/>
                  <a:pt x="5457" y="10221"/>
                  <a:pt x="5457" y="10195"/>
                </a:cubicBezTo>
              </a:path>
              <a:path w="5781" h="4144">
                <a:moveTo>
                  <a:pt x="5482" y="9624"/>
                </a:moveTo>
                <a:lnTo>
                  <a:pt x="5482" y="9624"/>
                </a:lnTo>
              </a:path>
              <a:path w="5781" h="4144">
                <a:moveTo>
                  <a:pt x="5680" y="9996"/>
                </a:moveTo>
                <a:cubicBezTo>
                  <a:pt x="5667" y="10067"/>
                  <a:pt x="5674" y="10173"/>
                  <a:pt x="5655" y="10220"/>
                </a:cubicBezTo>
                <a:cubicBezTo>
                  <a:pt x="5666" y="10167"/>
                  <a:pt x="5667" y="10098"/>
                  <a:pt x="5680" y="10046"/>
                </a:cubicBezTo>
                <a:cubicBezTo>
                  <a:pt x="5693" y="9996"/>
                  <a:pt x="5764" y="9905"/>
                  <a:pt x="5804" y="9897"/>
                </a:cubicBezTo>
                <a:cubicBezTo>
                  <a:pt x="5898" y="9878"/>
                  <a:pt x="5905" y="9907"/>
                  <a:pt x="5953" y="9971"/>
                </a:cubicBezTo>
                <a:cubicBezTo>
                  <a:pt x="5998" y="10030"/>
                  <a:pt x="6014" y="10151"/>
                  <a:pt x="6028" y="10220"/>
                </a:cubicBezTo>
                <a:cubicBezTo>
                  <a:pt x="6042" y="10288"/>
                  <a:pt x="5980" y="10418"/>
                  <a:pt x="6052" y="10269"/>
                </a:cubicBezTo>
              </a:path>
              <a:path w="5781" h="4144">
                <a:moveTo>
                  <a:pt x="6276" y="9525"/>
                </a:moveTo>
                <a:cubicBezTo>
                  <a:pt x="6253" y="9606"/>
                  <a:pt x="6186" y="9767"/>
                  <a:pt x="6176" y="9847"/>
                </a:cubicBezTo>
                <a:cubicBezTo>
                  <a:pt x="6166" y="9924"/>
                  <a:pt x="6156" y="10127"/>
                  <a:pt x="6201" y="10195"/>
                </a:cubicBezTo>
                <a:cubicBezTo>
                  <a:pt x="6235" y="10246"/>
                  <a:pt x="6301" y="10290"/>
                  <a:pt x="6375" y="10294"/>
                </a:cubicBezTo>
                <a:cubicBezTo>
                  <a:pt x="6454" y="10298"/>
                  <a:pt x="6536" y="10252"/>
                  <a:pt x="6548" y="10195"/>
                </a:cubicBezTo>
                <a:cubicBezTo>
                  <a:pt x="6567" y="10105"/>
                  <a:pt x="6546" y="10054"/>
                  <a:pt x="6499" y="9996"/>
                </a:cubicBezTo>
                <a:cubicBezTo>
                  <a:pt x="6447" y="9932"/>
                  <a:pt x="6394" y="9987"/>
                  <a:pt x="6375" y="10046"/>
                </a:cubicBezTo>
                <a:cubicBezTo>
                  <a:pt x="6349" y="10124"/>
                  <a:pt x="6341" y="10210"/>
                  <a:pt x="6400" y="10269"/>
                </a:cubicBezTo>
                <a:cubicBezTo>
                  <a:pt x="6410" y="10279"/>
                  <a:pt x="6457" y="10290"/>
                  <a:pt x="6474" y="10294"/>
                </a:cubicBezTo>
              </a:path>
              <a:path w="5781" h="4144">
                <a:moveTo>
                  <a:pt x="6772" y="9599"/>
                </a:moveTo>
                <a:cubicBezTo>
                  <a:pt x="6714" y="9683"/>
                  <a:pt x="6614" y="9786"/>
                  <a:pt x="6623" y="9897"/>
                </a:cubicBezTo>
                <a:cubicBezTo>
                  <a:pt x="6630" y="9982"/>
                  <a:pt x="6657" y="10073"/>
                  <a:pt x="6697" y="10145"/>
                </a:cubicBezTo>
                <a:cubicBezTo>
                  <a:pt x="6725" y="10195"/>
                  <a:pt x="6788" y="10261"/>
                  <a:pt x="6846" y="10269"/>
                </a:cubicBezTo>
                <a:cubicBezTo>
                  <a:pt x="6950" y="10283"/>
                  <a:pt x="6954" y="10280"/>
                  <a:pt x="6995" y="10195"/>
                </a:cubicBezTo>
                <a:cubicBezTo>
                  <a:pt x="7039" y="10103"/>
                  <a:pt x="7066" y="10035"/>
                  <a:pt x="7045" y="9922"/>
                </a:cubicBezTo>
                <a:cubicBezTo>
                  <a:pt x="7029" y="9837"/>
                  <a:pt x="6961" y="9800"/>
                  <a:pt x="6921" y="9748"/>
                </a:cubicBezTo>
                <a:cubicBezTo>
                  <a:pt x="6913" y="9732"/>
                  <a:pt x="6904" y="9715"/>
                  <a:pt x="6896" y="9699"/>
                </a:cubicBezTo>
              </a:path>
              <a:path w="5781" h="4144">
                <a:moveTo>
                  <a:pt x="7094" y="9376"/>
                </a:moveTo>
                <a:cubicBezTo>
                  <a:pt x="7069" y="9409"/>
                  <a:pt x="7045" y="9442"/>
                  <a:pt x="7020" y="9475"/>
                </a:cubicBezTo>
                <a:cubicBezTo>
                  <a:pt x="7050" y="9505"/>
                  <a:pt x="7118" y="9587"/>
                  <a:pt x="7144" y="9599"/>
                </a:cubicBezTo>
                <a:cubicBezTo>
                  <a:pt x="7160" y="9599"/>
                  <a:pt x="7177" y="9599"/>
                  <a:pt x="7193" y="9599"/>
                </a:cubicBezTo>
                <a:cubicBezTo>
                  <a:pt x="7226" y="9543"/>
                  <a:pt x="7329" y="9467"/>
                  <a:pt x="7268" y="9401"/>
                </a:cubicBezTo>
                <a:cubicBezTo>
                  <a:pt x="7224" y="9353"/>
                  <a:pt x="7101" y="9376"/>
                  <a:pt x="7045" y="9376"/>
                </a:cubicBezTo>
              </a:path>
              <a:path w="5781" h="4144">
                <a:moveTo>
                  <a:pt x="5110" y="10418"/>
                </a:moveTo>
                <a:cubicBezTo>
                  <a:pt x="5270" y="10497"/>
                  <a:pt x="5350" y="10492"/>
                  <a:pt x="5531" y="10492"/>
                </a:cubicBezTo>
                <a:cubicBezTo>
                  <a:pt x="5774" y="10492"/>
                  <a:pt x="6009" y="10506"/>
                  <a:pt x="6251" y="10517"/>
                </a:cubicBezTo>
                <a:cubicBezTo>
                  <a:pt x="6426" y="10525"/>
                  <a:pt x="6865" y="10641"/>
                  <a:pt x="6772" y="10492"/>
                </a:cubicBezTo>
                <a:cubicBezTo>
                  <a:pt x="6836" y="10492"/>
                  <a:pt x="6810" y="10471"/>
                  <a:pt x="6672" y="10418"/>
                </a:cubicBezTo>
              </a:path>
              <a:path w="5781" h="4144">
                <a:moveTo>
                  <a:pt x="6052" y="10964"/>
                </a:moveTo>
                <a:cubicBezTo>
                  <a:pt x="6052" y="11156"/>
                  <a:pt x="6069" y="11306"/>
                  <a:pt x="6077" y="11485"/>
                </a:cubicBezTo>
                <a:cubicBezTo>
                  <a:pt x="6080" y="11543"/>
                  <a:pt x="6092" y="11615"/>
                  <a:pt x="6127" y="11658"/>
                </a:cubicBezTo>
                <a:cubicBezTo>
                  <a:pt x="6135" y="11666"/>
                  <a:pt x="6144" y="11675"/>
                  <a:pt x="6152" y="11683"/>
                </a:cubicBezTo>
                <a:cubicBezTo>
                  <a:pt x="6205" y="11606"/>
                  <a:pt x="6218" y="11511"/>
                  <a:pt x="6276" y="11435"/>
                </a:cubicBezTo>
                <a:cubicBezTo>
                  <a:pt x="6335" y="11358"/>
                  <a:pt x="6406" y="11376"/>
                  <a:pt x="6474" y="11435"/>
                </a:cubicBezTo>
                <a:cubicBezTo>
                  <a:pt x="6545" y="11497"/>
                  <a:pt x="6605" y="11562"/>
                  <a:pt x="6623" y="11658"/>
                </a:cubicBezTo>
                <a:cubicBezTo>
                  <a:pt x="6634" y="11717"/>
                  <a:pt x="6619" y="11814"/>
                  <a:pt x="6573" y="11857"/>
                </a:cubicBezTo>
                <a:cubicBezTo>
                  <a:pt x="6506" y="11919"/>
                  <a:pt x="6322" y="11874"/>
                  <a:pt x="6251" y="11832"/>
                </a:cubicBezTo>
                <a:cubicBezTo>
                  <a:pt x="6187" y="11794"/>
                  <a:pt x="6136" y="11707"/>
                  <a:pt x="6077" y="11658"/>
                </a:cubicBezTo>
              </a:path>
              <a:path w="5781" h="4144">
                <a:moveTo>
                  <a:pt x="3994" y="10269"/>
                </a:moveTo>
                <a:cubicBezTo>
                  <a:pt x="4029" y="10357"/>
                  <a:pt x="4048" y="10365"/>
                  <a:pt x="4142" y="10443"/>
                </a:cubicBezTo>
                <a:cubicBezTo>
                  <a:pt x="4299" y="10573"/>
                  <a:pt x="4470" y="10662"/>
                  <a:pt x="4638" y="10765"/>
                </a:cubicBezTo>
                <a:cubicBezTo>
                  <a:pt x="4790" y="10858"/>
                  <a:pt x="4934" y="10970"/>
                  <a:pt x="5085" y="11063"/>
                </a:cubicBezTo>
                <a:cubicBezTo>
                  <a:pt x="5174" y="11117"/>
                  <a:pt x="5316" y="11198"/>
                  <a:pt x="5407" y="11237"/>
                </a:cubicBezTo>
                <a:cubicBezTo>
                  <a:pt x="5452" y="11237"/>
                  <a:pt x="5465" y="11233"/>
                  <a:pt x="5482" y="11261"/>
                </a:cubicBezTo>
                <a:cubicBezTo>
                  <a:pt x="5482" y="11179"/>
                  <a:pt x="5477" y="11173"/>
                  <a:pt x="5432" y="11112"/>
                </a:cubicBezTo>
              </a:path>
              <a:path w="5781" h="4144">
                <a:moveTo>
                  <a:pt x="4887" y="10046"/>
                </a:moveTo>
                <a:cubicBezTo>
                  <a:pt x="4783" y="10139"/>
                  <a:pt x="4746" y="10265"/>
                  <a:pt x="4638" y="10344"/>
                </a:cubicBezTo>
                <a:cubicBezTo>
                  <a:pt x="4563" y="10399"/>
                  <a:pt x="4421" y="10482"/>
                  <a:pt x="4366" y="10567"/>
                </a:cubicBezTo>
                <a:cubicBezTo>
                  <a:pt x="4293" y="10680"/>
                  <a:pt x="4232" y="10759"/>
                  <a:pt x="4142" y="10864"/>
                </a:cubicBezTo>
                <a:cubicBezTo>
                  <a:pt x="4102" y="10911"/>
                  <a:pt x="3998" y="11066"/>
                  <a:pt x="3969" y="11088"/>
                </a:cubicBezTo>
                <a:cubicBezTo>
                  <a:pt x="3944" y="11096"/>
                  <a:pt x="3919" y="11104"/>
                  <a:pt x="3894" y="11112"/>
                </a:cubicBezTo>
              </a:path>
              <a:path w="5781" h="4144">
                <a:moveTo>
                  <a:pt x="2332" y="12675"/>
                </a:moveTo>
                <a:cubicBezTo>
                  <a:pt x="2388" y="12642"/>
                  <a:pt x="2424" y="12622"/>
                  <a:pt x="2480" y="12601"/>
                </a:cubicBezTo>
                <a:cubicBezTo>
                  <a:pt x="2620" y="12550"/>
                  <a:pt x="2731" y="12455"/>
                  <a:pt x="2877" y="12402"/>
                </a:cubicBezTo>
                <a:cubicBezTo>
                  <a:pt x="3062" y="12334"/>
                  <a:pt x="3254" y="12267"/>
                  <a:pt x="3448" y="12229"/>
                </a:cubicBezTo>
                <a:cubicBezTo>
                  <a:pt x="3624" y="12194"/>
                  <a:pt x="3794" y="12145"/>
                  <a:pt x="3969" y="12105"/>
                </a:cubicBezTo>
                <a:cubicBezTo>
                  <a:pt x="4043" y="12088"/>
                  <a:pt x="4202" y="12063"/>
                  <a:pt x="4266" y="12030"/>
                </a:cubicBezTo>
                <a:cubicBezTo>
                  <a:pt x="4314" y="12005"/>
                  <a:pt x="4317" y="11930"/>
                  <a:pt x="4291" y="12030"/>
                </a:cubicBezTo>
              </a:path>
              <a:path w="5781" h="4144">
                <a:moveTo>
                  <a:pt x="2133" y="13519"/>
                </a:moveTo>
                <a:cubicBezTo>
                  <a:pt x="2251" y="13497"/>
                  <a:pt x="2363" y="13510"/>
                  <a:pt x="2480" y="13494"/>
                </a:cubicBezTo>
                <a:cubicBezTo>
                  <a:pt x="2646" y="13471"/>
                  <a:pt x="2811" y="13450"/>
                  <a:pt x="2977" y="13419"/>
                </a:cubicBezTo>
                <a:cubicBezTo>
                  <a:pt x="3158" y="13386"/>
                  <a:pt x="3341" y="13392"/>
                  <a:pt x="3522" y="13370"/>
                </a:cubicBezTo>
                <a:cubicBezTo>
                  <a:pt x="3704" y="13348"/>
                  <a:pt x="3893" y="13297"/>
                  <a:pt x="4068" y="13246"/>
                </a:cubicBezTo>
                <a:cubicBezTo>
                  <a:pt x="4135" y="13226"/>
                  <a:pt x="4185" y="13193"/>
                  <a:pt x="4242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Ink 12"/>
          <p:cNvSpPr/>
          <p:nvPr/>
        </p:nvSpPr>
        <p:spPr>
          <a:xfrm>
            <a:off x="554040" y="3456000"/>
            <a:ext cx="465120" cy="2761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910" y="9847"/>
                </a:moveTo>
                <a:cubicBezTo>
                  <a:pt x="1932" y="9891"/>
                  <a:pt x="1935" y="9903"/>
                  <a:pt x="1960" y="9922"/>
                </a:cubicBezTo>
                <a:cubicBezTo>
                  <a:pt x="1927" y="9868"/>
                  <a:pt x="1936" y="9853"/>
                  <a:pt x="1885" y="9823"/>
                </a:cubicBezTo>
                <a:cubicBezTo>
                  <a:pt x="1749" y="9744"/>
                  <a:pt x="1770" y="9784"/>
                  <a:pt x="1637" y="9823"/>
                </a:cubicBezTo>
                <a:cubicBezTo>
                  <a:pt x="1566" y="9844"/>
                  <a:pt x="1518" y="9820"/>
                  <a:pt x="1563" y="9922"/>
                </a:cubicBezTo>
                <a:cubicBezTo>
                  <a:pt x="1605" y="10016"/>
                  <a:pt x="1660" y="9927"/>
                  <a:pt x="1712" y="9996"/>
                </a:cubicBezTo>
                <a:cubicBezTo>
                  <a:pt x="1757" y="10056"/>
                  <a:pt x="1816" y="10089"/>
                  <a:pt x="1885" y="10120"/>
                </a:cubicBezTo>
                <a:cubicBezTo>
                  <a:pt x="1927" y="10139"/>
                  <a:pt x="2010" y="10225"/>
                  <a:pt x="2034" y="10269"/>
                </a:cubicBezTo>
                <a:cubicBezTo>
                  <a:pt x="2042" y="10294"/>
                  <a:pt x="2051" y="10319"/>
                  <a:pt x="2059" y="10344"/>
                </a:cubicBezTo>
                <a:cubicBezTo>
                  <a:pt x="1979" y="10365"/>
                  <a:pt x="1895" y="10382"/>
                  <a:pt x="1811" y="10368"/>
                </a:cubicBezTo>
                <a:cubicBezTo>
                  <a:pt x="1734" y="10355"/>
                  <a:pt x="1619" y="10365"/>
                  <a:pt x="1588" y="10294"/>
                </a:cubicBezTo>
                <a:cubicBezTo>
                  <a:pt x="1588" y="10286"/>
                  <a:pt x="1588" y="10277"/>
                  <a:pt x="1588" y="10269"/>
                </a:cubicBezTo>
              </a:path>
              <a:path w="1291" h="770">
                <a:moveTo>
                  <a:pt x="2257" y="10071"/>
                </a:moveTo>
                <a:cubicBezTo>
                  <a:pt x="2257" y="10162"/>
                  <a:pt x="2257" y="10286"/>
                  <a:pt x="2257" y="10195"/>
                </a:cubicBezTo>
              </a:path>
              <a:path w="1291" h="770">
                <a:moveTo>
                  <a:pt x="2282" y="9674"/>
                </a:moveTo>
                <a:cubicBezTo>
                  <a:pt x="2282" y="9632"/>
                  <a:pt x="2282" y="9624"/>
                  <a:pt x="2282" y="9599"/>
                </a:cubicBezTo>
              </a:path>
              <a:path w="1291" h="770">
                <a:moveTo>
                  <a:pt x="2480" y="9996"/>
                </a:moveTo>
                <a:cubicBezTo>
                  <a:pt x="2480" y="10059"/>
                  <a:pt x="2504" y="10237"/>
                  <a:pt x="2456" y="10269"/>
                </a:cubicBezTo>
                <a:cubicBezTo>
                  <a:pt x="2463" y="10186"/>
                  <a:pt x="2479" y="10126"/>
                  <a:pt x="2505" y="10046"/>
                </a:cubicBezTo>
                <a:cubicBezTo>
                  <a:pt x="2518" y="10005"/>
                  <a:pt x="2595" y="9895"/>
                  <a:pt x="2654" y="9922"/>
                </a:cubicBezTo>
                <a:cubicBezTo>
                  <a:pt x="2740" y="9962"/>
                  <a:pt x="2787" y="10018"/>
                  <a:pt x="2803" y="10120"/>
                </a:cubicBezTo>
                <a:cubicBezTo>
                  <a:pt x="2815" y="10196"/>
                  <a:pt x="2774" y="10398"/>
                  <a:pt x="2828" y="10344"/>
                </a:cubicBezTo>
                <a:cubicBezTo>
                  <a:pt x="2828" y="10327"/>
                  <a:pt x="2828" y="10311"/>
                  <a:pt x="2828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Ink 13"/>
          <p:cNvSpPr/>
          <p:nvPr/>
        </p:nvSpPr>
        <p:spPr>
          <a:xfrm>
            <a:off x="1143000" y="3402000"/>
            <a:ext cx="330120" cy="322200"/>
          </a:xfrm>
          <a:custGeom>
            <a:avLst/>
            <a:gdLst/>
            <a:ahLst/>
            <a:rect l="l" t="t" r="r" b="b"/>
            <a:pathLst>
              <a:path w="919" h="894">
                <a:moveTo>
                  <a:pt x="3175" y="9897"/>
                </a:moveTo>
                <a:cubicBezTo>
                  <a:pt x="3175" y="10046"/>
                  <a:pt x="3175" y="10195"/>
                  <a:pt x="3175" y="10344"/>
                </a:cubicBezTo>
              </a:path>
              <a:path w="919" h="894">
                <a:moveTo>
                  <a:pt x="3473" y="9748"/>
                </a:moveTo>
                <a:cubicBezTo>
                  <a:pt x="3466" y="9832"/>
                  <a:pt x="3433" y="9924"/>
                  <a:pt x="3423" y="9996"/>
                </a:cubicBezTo>
                <a:cubicBezTo>
                  <a:pt x="3413" y="10065"/>
                  <a:pt x="3424" y="10157"/>
                  <a:pt x="3448" y="10220"/>
                </a:cubicBezTo>
                <a:cubicBezTo>
                  <a:pt x="3476" y="10294"/>
                  <a:pt x="3525" y="10333"/>
                  <a:pt x="3597" y="10344"/>
                </a:cubicBezTo>
                <a:cubicBezTo>
                  <a:pt x="3668" y="10355"/>
                  <a:pt x="3693" y="10340"/>
                  <a:pt x="3746" y="10294"/>
                </a:cubicBezTo>
                <a:cubicBezTo>
                  <a:pt x="3776" y="10269"/>
                  <a:pt x="3822" y="10151"/>
                  <a:pt x="3820" y="10120"/>
                </a:cubicBezTo>
                <a:cubicBezTo>
                  <a:pt x="3816" y="10048"/>
                  <a:pt x="3795" y="9855"/>
                  <a:pt x="3696" y="9823"/>
                </a:cubicBezTo>
                <a:cubicBezTo>
                  <a:pt x="3646" y="9823"/>
                  <a:pt x="3630" y="9823"/>
                  <a:pt x="3597" y="9823"/>
                </a:cubicBezTo>
              </a:path>
              <a:path w="919" h="894">
                <a:moveTo>
                  <a:pt x="3944" y="9599"/>
                </a:moveTo>
                <a:cubicBezTo>
                  <a:pt x="3916" y="9599"/>
                  <a:pt x="3905" y="9601"/>
                  <a:pt x="3894" y="9624"/>
                </a:cubicBezTo>
                <a:cubicBezTo>
                  <a:pt x="3980" y="9727"/>
                  <a:pt x="3983" y="9658"/>
                  <a:pt x="4068" y="9599"/>
                </a:cubicBezTo>
                <a:cubicBezTo>
                  <a:pt x="4100" y="9577"/>
                  <a:pt x="4082" y="9464"/>
                  <a:pt x="4018" y="9451"/>
                </a:cubicBezTo>
                <a:cubicBezTo>
                  <a:pt x="3993" y="9451"/>
                  <a:pt x="3969" y="9451"/>
                  <a:pt x="3944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Ink 14"/>
          <p:cNvSpPr/>
          <p:nvPr/>
        </p:nvSpPr>
        <p:spPr>
          <a:xfrm>
            <a:off x="473040" y="4197240"/>
            <a:ext cx="214200" cy="411120"/>
          </a:xfrm>
          <a:custGeom>
            <a:avLst/>
            <a:gdLst/>
            <a:ahLst/>
            <a:rect l="l" t="t" r="r" b="b"/>
            <a:pathLst>
              <a:path w="596" h="1142">
                <a:moveTo>
                  <a:pt x="1315" y="11658"/>
                </a:moveTo>
                <a:cubicBezTo>
                  <a:pt x="1330" y="11829"/>
                  <a:pt x="1339" y="11984"/>
                  <a:pt x="1339" y="12154"/>
                </a:cubicBezTo>
                <a:cubicBezTo>
                  <a:pt x="1339" y="12305"/>
                  <a:pt x="1340" y="12464"/>
                  <a:pt x="1315" y="12601"/>
                </a:cubicBezTo>
                <a:cubicBezTo>
                  <a:pt x="1311" y="12622"/>
                  <a:pt x="1315" y="12835"/>
                  <a:pt x="1315" y="12700"/>
                </a:cubicBezTo>
                <a:cubicBezTo>
                  <a:pt x="1315" y="12630"/>
                  <a:pt x="1323" y="12521"/>
                  <a:pt x="1339" y="12452"/>
                </a:cubicBezTo>
                <a:cubicBezTo>
                  <a:pt x="1352" y="12395"/>
                  <a:pt x="1381" y="12295"/>
                  <a:pt x="1414" y="12254"/>
                </a:cubicBezTo>
                <a:cubicBezTo>
                  <a:pt x="1455" y="12203"/>
                  <a:pt x="1484" y="12186"/>
                  <a:pt x="1538" y="12229"/>
                </a:cubicBezTo>
                <a:cubicBezTo>
                  <a:pt x="1608" y="12285"/>
                  <a:pt x="1625" y="12349"/>
                  <a:pt x="1662" y="12427"/>
                </a:cubicBezTo>
                <a:cubicBezTo>
                  <a:pt x="1690" y="12485"/>
                  <a:pt x="1705" y="12584"/>
                  <a:pt x="1687" y="12650"/>
                </a:cubicBezTo>
                <a:cubicBezTo>
                  <a:pt x="1662" y="12738"/>
                  <a:pt x="1604" y="12785"/>
                  <a:pt x="1513" y="12799"/>
                </a:cubicBezTo>
                <a:cubicBezTo>
                  <a:pt x="1489" y="12803"/>
                  <a:pt x="1336" y="12814"/>
                  <a:pt x="1339" y="12750"/>
                </a:cubicBezTo>
                <a:cubicBezTo>
                  <a:pt x="1347" y="12725"/>
                  <a:pt x="1356" y="12700"/>
                  <a:pt x="1364" y="12675"/>
                </a:cubicBezTo>
              </a:path>
              <a:path w="596" h="1142">
                <a:moveTo>
                  <a:pt x="1910" y="12427"/>
                </a:moveTo>
                <a:cubicBezTo>
                  <a:pt x="1910" y="12444"/>
                  <a:pt x="1910" y="12460"/>
                  <a:pt x="1910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Ink 15"/>
          <p:cNvSpPr/>
          <p:nvPr/>
        </p:nvSpPr>
        <p:spPr>
          <a:xfrm>
            <a:off x="803160" y="4276800"/>
            <a:ext cx="982800" cy="366480"/>
          </a:xfrm>
          <a:custGeom>
            <a:avLst/>
            <a:gdLst/>
            <a:ahLst/>
            <a:rect l="l" t="t" r="r" b="b"/>
            <a:pathLst>
              <a:path w="2730" h="1018">
                <a:moveTo>
                  <a:pt x="2480" y="12353"/>
                </a:moveTo>
                <a:cubicBezTo>
                  <a:pt x="2501" y="12300"/>
                  <a:pt x="2483" y="12226"/>
                  <a:pt x="2406" y="12204"/>
                </a:cubicBezTo>
                <a:cubicBezTo>
                  <a:pt x="2345" y="12186"/>
                  <a:pt x="2286" y="12211"/>
                  <a:pt x="2232" y="12229"/>
                </a:cubicBezTo>
                <a:cubicBezTo>
                  <a:pt x="2232" y="12305"/>
                  <a:pt x="2236" y="12341"/>
                  <a:pt x="2282" y="12402"/>
                </a:cubicBezTo>
                <a:cubicBezTo>
                  <a:pt x="2323" y="12456"/>
                  <a:pt x="2387" y="12494"/>
                  <a:pt x="2431" y="12551"/>
                </a:cubicBezTo>
                <a:cubicBezTo>
                  <a:pt x="2470" y="12601"/>
                  <a:pt x="2537" y="12663"/>
                  <a:pt x="2555" y="12725"/>
                </a:cubicBezTo>
                <a:cubicBezTo>
                  <a:pt x="2572" y="12784"/>
                  <a:pt x="2513" y="12837"/>
                  <a:pt x="2456" y="12824"/>
                </a:cubicBezTo>
                <a:cubicBezTo>
                  <a:pt x="2406" y="12812"/>
                  <a:pt x="2307" y="12779"/>
                  <a:pt x="2282" y="12725"/>
                </a:cubicBezTo>
                <a:cubicBezTo>
                  <a:pt x="2257" y="12650"/>
                  <a:pt x="2249" y="12626"/>
                  <a:pt x="2282" y="12576"/>
                </a:cubicBezTo>
              </a:path>
              <a:path w="2730" h="1018">
                <a:moveTo>
                  <a:pt x="2778" y="12402"/>
                </a:moveTo>
                <a:cubicBezTo>
                  <a:pt x="2778" y="12531"/>
                  <a:pt x="2759" y="12611"/>
                  <a:pt x="2753" y="12725"/>
                </a:cubicBezTo>
                <a:cubicBezTo>
                  <a:pt x="2753" y="12800"/>
                  <a:pt x="2758" y="12791"/>
                  <a:pt x="2778" y="12650"/>
                </a:cubicBezTo>
              </a:path>
              <a:path w="2730" h="1018">
                <a:moveTo>
                  <a:pt x="2753" y="12105"/>
                </a:moveTo>
                <a:cubicBezTo>
                  <a:pt x="2770" y="12105"/>
                  <a:pt x="2786" y="12105"/>
                  <a:pt x="2803" y="12105"/>
                </a:cubicBezTo>
              </a:path>
              <a:path w="2730" h="1018">
                <a:moveTo>
                  <a:pt x="3001" y="12650"/>
                </a:moveTo>
                <a:cubicBezTo>
                  <a:pt x="3001" y="12749"/>
                  <a:pt x="2992" y="12977"/>
                  <a:pt x="3026" y="12774"/>
                </a:cubicBezTo>
                <a:cubicBezTo>
                  <a:pt x="3037" y="12708"/>
                  <a:pt x="3008" y="12655"/>
                  <a:pt x="3051" y="12601"/>
                </a:cubicBezTo>
                <a:cubicBezTo>
                  <a:pt x="3079" y="12566"/>
                  <a:pt x="3115" y="12475"/>
                  <a:pt x="3175" y="12477"/>
                </a:cubicBezTo>
                <a:cubicBezTo>
                  <a:pt x="3320" y="12482"/>
                  <a:pt x="3344" y="12525"/>
                  <a:pt x="3349" y="12650"/>
                </a:cubicBezTo>
                <a:cubicBezTo>
                  <a:pt x="3352" y="12731"/>
                  <a:pt x="3364" y="12833"/>
                  <a:pt x="3324" y="12898"/>
                </a:cubicBezTo>
              </a:path>
              <a:path w="2730" h="1018">
                <a:moveTo>
                  <a:pt x="3597" y="12204"/>
                </a:moveTo>
                <a:cubicBezTo>
                  <a:pt x="3597" y="12402"/>
                  <a:pt x="3597" y="12601"/>
                  <a:pt x="3597" y="12799"/>
                </a:cubicBezTo>
              </a:path>
              <a:path w="2730" h="1018">
                <a:moveTo>
                  <a:pt x="3919" y="12179"/>
                </a:moveTo>
                <a:cubicBezTo>
                  <a:pt x="3896" y="12261"/>
                  <a:pt x="3884" y="12325"/>
                  <a:pt x="3845" y="12402"/>
                </a:cubicBezTo>
                <a:cubicBezTo>
                  <a:pt x="3810" y="12472"/>
                  <a:pt x="3808" y="12571"/>
                  <a:pt x="3820" y="12650"/>
                </a:cubicBezTo>
                <a:cubicBezTo>
                  <a:pt x="3829" y="12709"/>
                  <a:pt x="3901" y="12908"/>
                  <a:pt x="3994" y="12874"/>
                </a:cubicBezTo>
                <a:cubicBezTo>
                  <a:pt x="4079" y="12843"/>
                  <a:pt x="4126" y="12759"/>
                  <a:pt x="4142" y="12675"/>
                </a:cubicBezTo>
                <a:cubicBezTo>
                  <a:pt x="4157" y="12593"/>
                  <a:pt x="4151" y="12468"/>
                  <a:pt x="4118" y="12402"/>
                </a:cubicBezTo>
                <a:cubicBezTo>
                  <a:pt x="4083" y="12332"/>
                  <a:pt x="4050" y="12285"/>
                  <a:pt x="3994" y="12229"/>
                </a:cubicBezTo>
                <a:cubicBezTo>
                  <a:pt x="3971" y="12206"/>
                  <a:pt x="3963" y="12202"/>
                  <a:pt x="3969" y="12179"/>
                </a:cubicBezTo>
              </a:path>
              <a:path w="2730" h="1018">
                <a:moveTo>
                  <a:pt x="4118" y="11981"/>
                </a:moveTo>
                <a:cubicBezTo>
                  <a:pt x="4118" y="12059"/>
                  <a:pt x="4103" y="12076"/>
                  <a:pt x="4142" y="12105"/>
                </a:cubicBezTo>
                <a:cubicBezTo>
                  <a:pt x="4224" y="12105"/>
                  <a:pt x="4258" y="12113"/>
                  <a:pt x="4316" y="12055"/>
                </a:cubicBezTo>
                <a:cubicBezTo>
                  <a:pt x="4385" y="11986"/>
                  <a:pt x="4266" y="11911"/>
                  <a:pt x="4217" y="11881"/>
                </a:cubicBezTo>
              </a:path>
              <a:path w="2730" h="1018">
                <a:moveTo>
                  <a:pt x="4589" y="12427"/>
                </a:moveTo>
                <a:cubicBezTo>
                  <a:pt x="4675" y="12446"/>
                  <a:pt x="4757" y="12447"/>
                  <a:pt x="4837" y="12477"/>
                </a:cubicBezTo>
              </a:path>
              <a:path w="2730" h="1018">
                <a:moveTo>
                  <a:pt x="4688" y="12650"/>
                </a:moveTo>
                <a:cubicBezTo>
                  <a:pt x="4787" y="12716"/>
                  <a:pt x="4842" y="12705"/>
                  <a:pt x="4961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Ink 16"/>
          <p:cNvSpPr/>
          <p:nvPr/>
        </p:nvSpPr>
        <p:spPr>
          <a:xfrm>
            <a:off x="1911240" y="4330800"/>
            <a:ext cx="419040" cy="322200"/>
          </a:xfrm>
          <a:custGeom>
            <a:avLst/>
            <a:gdLst/>
            <a:ahLst/>
            <a:rect l="l" t="t" r="r" b="b"/>
            <a:pathLst>
              <a:path w="1167" h="894">
                <a:moveTo>
                  <a:pt x="5407" y="12105"/>
                </a:moveTo>
                <a:cubicBezTo>
                  <a:pt x="5365" y="12171"/>
                  <a:pt x="5312" y="12228"/>
                  <a:pt x="5308" y="12303"/>
                </a:cubicBezTo>
                <a:cubicBezTo>
                  <a:pt x="5302" y="12412"/>
                  <a:pt x="5314" y="12403"/>
                  <a:pt x="5407" y="12427"/>
                </a:cubicBezTo>
                <a:cubicBezTo>
                  <a:pt x="5507" y="12453"/>
                  <a:pt x="5531" y="12444"/>
                  <a:pt x="5631" y="12427"/>
                </a:cubicBezTo>
              </a:path>
              <a:path w="1167" h="894">
                <a:moveTo>
                  <a:pt x="5680" y="12030"/>
                </a:moveTo>
                <a:cubicBezTo>
                  <a:pt x="5613" y="12098"/>
                  <a:pt x="5630" y="12144"/>
                  <a:pt x="5606" y="12229"/>
                </a:cubicBezTo>
                <a:cubicBezTo>
                  <a:pt x="5579" y="12327"/>
                  <a:pt x="5581" y="12421"/>
                  <a:pt x="5581" y="12526"/>
                </a:cubicBezTo>
                <a:cubicBezTo>
                  <a:pt x="5581" y="12636"/>
                  <a:pt x="5606" y="12739"/>
                  <a:pt x="5606" y="12849"/>
                </a:cubicBezTo>
                <a:cubicBezTo>
                  <a:pt x="5606" y="12893"/>
                  <a:pt x="5603" y="12907"/>
                  <a:pt x="5631" y="12923"/>
                </a:cubicBezTo>
              </a:path>
              <a:path w="1167" h="894">
                <a:moveTo>
                  <a:pt x="5804" y="12824"/>
                </a:moveTo>
                <a:cubicBezTo>
                  <a:pt x="5846" y="12866"/>
                  <a:pt x="5854" y="12891"/>
                  <a:pt x="5879" y="12849"/>
                </a:cubicBezTo>
              </a:path>
              <a:path w="1167" h="894">
                <a:moveTo>
                  <a:pt x="6152" y="12278"/>
                </a:moveTo>
                <a:cubicBezTo>
                  <a:pt x="6124" y="12278"/>
                  <a:pt x="6118" y="12280"/>
                  <a:pt x="6152" y="12303"/>
                </a:cubicBezTo>
                <a:cubicBezTo>
                  <a:pt x="6176" y="12278"/>
                  <a:pt x="6201" y="12254"/>
                  <a:pt x="6226" y="12229"/>
                </a:cubicBezTo>
                <a:cubicBezTo>
                  <a:pt x="6294" y="12263"/>
                  <a:pt x="6368" y="12254"/>
                  <a:pt x="6449" y="12254"/>
                </a:cubicBezTo>
              </a:path>
              <a:path w="1167" h="894">
                <a:moveTo>
                  <a:pt x="6226" y="12254"/>
                </a:moveTo>
                <a:cubicBezTo>
                  <a:pt x="6193" y="12277"/>
                  <a:pt x="6115" y="12333"/>
                  <a:pt x="6102" y="12378"/>
                </a:cubicBezTo>
                <a:cubicBezTo>
                  <a:pt x="6102" y="12394"/>
                  <a:pt x="6102" y="12411"/>
                  <a:pt x="6102" y="12427"/>
                </a:cubicBezTo>
                <a:cubicBezTo>
                  <a:pt x="6191" y="12461"/>
                  <a:pt x="6197" y="12415"/>
                  <a:pt x="6276" y="12427"/>
                </a:cubicBezTo>
                <a:cubicBezTo>
                  <a:pt x="6416" y="12448"/>
                  <a:pt x="6413" y="12495"/>
                  <a:pt x="6449" y="12601"/>
                </a:cubicBezTo>
                <a:cubicBezTo>
                  <a:pt x="6479" y="12691"/>
                  <a:pt x="6484" y="12755"/>
                  <a:pt x="6449" y="12849"/>
                </a:cubicBezTo>
                <a:cubicBezTo>
                  <a:pt x="6427" y="12892"/>
                  <a:pt x="6423" y="12903"/>
                  <a:pt x="6400" y="12923"/>
                </a:cubicBezTo>
                <a:cubicBezTo>
                  <a:pt x="6339" y="12896"/>
                  <a:pt x="6229" y="12859"/>
                  <a:pt x="6201" y="12799"/>
                </a:cubicBezTo>
                <a:cubicBezTo>
                  <a:pt x="6201" y="12750"/>
                  <a:pt x="6201" y="12733"/>
                  <a:pt x="6201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Ink 17"/>
          <p:cNvSpPr/>
          <p:nvPr/>
        </p:nvSpPr>
        <p:spPr>
          <a:xfrm>
            <a:off x="2438280" y="4224240"/>
            <a:ext cx="812880" cy="446040"/>
          </a:xfrm>
          <a:custGeom>
            <a:avLst/>
            <a:gdLst/>
            <a:ahLst/>
            <a:rect l="l" t="t" r="r" b="b"/>
            <a:pathLst>
              <a:path w="2258" h="1241">
                <a:moveTo>
                  <a:pt x="6970" y="12402"/>
                </a:moveTo>
                <a:cubicBezTo>
                  <a:pt x="6956" y="12306"/>
                  <a:pt x="6942" y="12339"/>
                  <a:pt x="6871" y="12303"/>
                </a:cubicBezTo>
                <a:cubicBezTo>
                  <a:pt x="6823" y="12279"/>
                  <a:pt x="6780" y="12287"/>
                  <a:pt x="6772" y="12353"/>
                </a:cubicBezTo>
                <a:cubicBezTo>
                  <a:pt x="6760" y="12452"/>
                  <a:pt x="6890" y="12565"/>
                  <a:pt x="6945" y="12626"/>
                </a:cubicBezTo>
                <a:cubicBezTo>
                  <a:pt x="6990" y="12677"/>
                  <a:pt x="7072" y="12775"/>
                  <a:pt x="7069" y="12849"/>
                </a:cubicBezTo>
                <a:cubicBezTo>
                  <a:pt x="7047" y="12916"/>
                  <a:pt x="7043" y="12934"/>
                  <a:pt x="7020" y="12973"/>
                </a:cubicBezTo>
                <a:cubicBezTo>
                  <a:pt x="6942" y="12964"/>
                  <a:pt x="6882" y="12951"/>
                  <a:pt x="6821" y="12898"/>
                </a:cubicBezTo>
                <a:cubicBezTo>
                  <a:pt x="6782" y="12863"/>
                  <a:pt x="6796" y="12823"/>
                  <a:pt x="6796" y="12774"/>
                </a:cubicBezTo>
              </a:path>
              <a:path w="2258" h="1241">
                <a:moveTo>
                  <a:pt x="7268" y="12526"/>
                </a:moveTo>
                <a:cubicBezTo>
                  <a:pt x="7243" y="12642"/>
                  <a:pt x="7262" y="12668"/>
                  <a:pt x="7268" y="12774"/>
                </a:cubicBezTo>
                <a:cubicBezTo>
                  <a:pt x="7268" y="12819"/>
                  <a:pt x="7265" y="12832"/>
                  <a:pt x="7293" y="12849"/>
                </a:cubicBezTo>
              </a:path>
              <a:path w="2258" h="1241">
                <a:moveTo>
                  <a:pt x="7367" y="12154"/>
                </a:moveTo>
                <a:cubicBezTo>
                  <a:pt x="7390" y="12131"/>
                  <a:pt x="7394" y="12123"/>
                  <a:pt x="7417" y="12129"/>
                </a:cubicBezTo>
              </a:path>
              <a:path w="2258" h="1241">
                <a:moveTo>
                  <a:pt x="7541" y="12650"/>
                </a:moveTo>
                <a:cubicBezTo>
                  <a:pt x="7522" y="12744"/>
                  <a:pt x="7492" y="12764"/>
                  <a:pt x="7541" y="12799"/>
                </a:cubicBezTo>
                <a:cubicBezTo>
                  <a:pt x="7548" y="12725"/>
                  <a:pt x="7550" y="12652"/>
                  <a:pt x="7565" y="12576"/>
                </a:cubicBezTo>
                <a:cubicBezTo>
                  <a:pt x="7579" y="12506"/>
                  <a:pt x="7623" y="12434"/>
                  <a:pt x="7665" y="12378"/>
                </a:cubicBezTo>
                <a:cubicBezTo>
                  <a:pt x="7673" y="12370"/>
                  <a:pt x="7681" y="12361"/>
                  <a:pt x="7689" y="12353"/>
                </a:cubicBezTo>
                <a:cubicBezTo>
                  <a:pt x="7763" y="12384"/>
                  <a:pt x="7778" y="12455"/>
                  <a:pt x="7789" y="12551"/>
                </a:cubicBezTo>
                <a:cubicBezTo>
                  <a:pt x="7799" y="12633"/>
                  <a:pt x="7788" y="12720"/>
                  <a:pt x="7813" y="12799"/>
                </a:cubicBezTo>
                <a:cubicBezTo>
                  <a:pt x="7845" y="12901"/>
                  <a:pt x="7880" y="12797"/>
                  <a:pt x="7913" y="12750"/>
                </a:cubicBezTo>
              </a:path>
              <a:path w="2258" h="1241">
                <a:moveTo>
                  <a:pt x="8062" y="12080"/>
                </a:moveTo>
                <a:cubicBezTo>
                  <a:pt x="8039" y="12125"/>
                  <a:pt x="7997" y="12221"/>
                  <a:pt x="7987" y="12278"/>
                </a:cubicBezTo>
                <a:cubicBezTo>
                  <a:pt x="7972" y="12362"/>
                  <a:pt x="7985" y="12450"/>
                  <a:pt x="8012" y="12526"/>
                </a:cubicBezTo>
                <a:cubicBezTo>
                  <a:pt x="8027" y="12570"/>
                  <a:pt x="8066" y="12696"/>
                  <a:pt x="8111" y="12725"/>
                </a:cubicBezTo>
                <a:cubicBezTo>
                  <a:pt x="8194" y="12778"/>
                  <a:pt x="8254" y="12733"/>
                  <a:pt x="8310" y="12675"/>
                </a:cubicBezTo>
                <a:cubicBezTo>
                  <a:pt x="8343" y="12642"/>
                  <a:pt x="8373" y="12525"/>
                  <a:pt x="8359" y="12477"/>
                </a:cubicBezTo>
                <a:cubicBezTo>
                  <a:pt x="8351" y="12469"/>
                  <a:pt x="8342" y="12460"/>
                  <a:pt x="8334" y="12452"/>
                </a:cubicBezTo>
                <a:cubicBezTo>
                  <a:pt x="8285" y="12502"/>
                  <a:pt x="8226" y="12588"/>
                  <a:pt x="8260" y="12675"/>
                </a:cubicBezTo>
                <a:cubicBezTo>
                  <a:pt x="8283" y="12698"/>
                  <a:pt x="8291" y="12702"/>
                  <a:pt x="8285" y="12725"/>
                </a:cubicBezTo>
              </a:path>
              <a:path w="2258" h="1241">
                <a:moveTo>
                  <a:pt x="8533" y="12055"/>
                </a:moveTo>
                <a:cubicBezTo>
                  <a:pt x="8505" y="12128"/>
                  <a:pt x="8495" y="12200"/>
                  <a:pt x="8483" y="12278"/>
                </a:cubicBezTo>
                <a:cubicBezTo>
                  <a:pt x="8465" y="12396"/>
                  <a:pt x="8442" y="12535"/>
                  <a:pt x="8483" y="12650"/>
                </a:cubicBezTo>
                <a:cubicBezTo>
                  <a:pt x="8495" y="12684"/>
                  <a:pt x="8559" y="12776"/>
                  <a:pt x="8607" y="12774"/>
                </a:cubicBezTo>
                <a:cubicBezTo>
                  <a:pt x="8708" y="12770"/>
                  <a:pt x="8714" y="12695"/>
                  <a:pt x="8756" y="12626"/>
                </a:cubicBezTo>
                <a:cubicBezTo>
                  <a:pt x="8801" y="12553"/>
                  <a:pt x="8843" y="12444"/>
                  <a:pt x="8830" y="12353"/>
                </a:cubicBezTo>
                <a:cubicBezTo>
                  <a:pt x="8817" y="12264"/>
                  <a:pt x="8766" y="12214"/>
                  <a:pt x="8706" y="12154"/>
                </a:cubicBezTo>
                <a:cubicBezTo>
                  <a:pt x="8665" y="12113"/>
                  <a:pt x="8657" y="12089"/>
                  <a:pt x="8632" y="12129"/>
                </a:cubicBezTo>
              </a:path>
              <a:path w="2258" h="1241">
                <a:moveTo>
                  <a:pt x="8830" y="11857"/>
                </a:moveTo>
                <a:cubicBezTo>
                  <a:pt x="8811" y="11905"/>
                  <a:pt x="8824" y="11946"/>
                  <a:pt x="8880" y="11981"/>
                </a:cubicBezTo>
                <a:cubicBezTo>
                  <a:pt x="8945" y="12022"/>
                  <a:pt x="8974" y="11992"/>
                  <a:pt x="9029" y="11956"/>
                </a:cubicBezTo>
                <a:cubicBezTo>
                  <a:pt x="8981" y="11908"/>
                  <a:pt x="8929" y="11878"/>
                  <a:pt x="8880" y="11832"/>
                </a:cubicBezTo>
                <a:cubicBezTo>
                  <a:pt x="8819" y="11774"/>
                  <a:pt x="8759" y="11763"/>
                  <a:pt x="8682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Ink 18"/>
          <p:cNvSpPr/>
          <p:nvPr/>
        </p:nvSpPr>
        <p:spPr>
          <a:xfrm>
            <a:off x="473040" y="4705200"/>
            <a:ext cx="1036800" cy="385920"/>
          </a:xfrm>
          <a:custGeom>
            <a:avLst/>
            <a:gdLst/>
            <a:ahLst/>
            <a:rect l="l" t="t" r="r" b="b"/>
            <a:pathLst>
              <a:path w="2878" h="1068">
                <a:moveTo>
                  <a:pt x="4142" y="13196"/>
                </a:moveTo>
                <a:cubicBezTo>
                  <a:pt x="4228" y="13196"/>
                  <a:pt x="4160" y="13196"/>
                  <a:pt x="4093" y="13196"/>
                </a:cubicBezTo>
                <a:cubicBezTo>
                  <a:pt x="3876" y="13196"/>
                  <a:pt x="3663" y="13188"/>
                  <a:pt x="3448" y="13171"/>
                </a:cubicBezTo>
                <a:cubicBezTo>
                  <a:pt x="3267" y="13157"/>
                  <a:pt x="3084" y="13132"/>
                  <a:pt x="2902" y="13122"/>
                </a:cubicBezTo>
                <a:cubicBezTo>
                  <a:pt x="2687" y="13110"/>
                  <a:pt x="2472" y="13082"/>
                  <a:pt x="2257" y="13072"/>
                </a:cubicBezTo>
                <a:cubicBezTo>
                  <a:pt x="2023" y="13061"/>
                  <a:pt x="1793" y="13077"/>
                  <a:pt x="1563" y="13097"/>
                </a:cubicBezTo>
                <a:cubicBezTo>
                  <a:pt x="1472" y="13105"/>
                  <a:pt x="1430" y="13111"/>
                  <a:pt x="1339" y="13122"/>
                </a:cubicBezTo>
              </a:path>
              <a:path w="2878" h="1068">
                <a:moveTo>
                  <a:pt x="2356" y="13593"/>
                </a:moveTo>
                <a:cubicBezTo>
                  <a:pt x="2319" y="13527"/>
                  <a:pt x="2305" y="13537"/>
                  <a:pt x="2257" y="13494"/>
                </a:cubicBezTo>
                <a:cubicBezTo>
                  <a:pt x="2211" y="13453"/>
                  <a:pt x="2199" y="13486"/>
                  <a:pt x="2158" y="13519"/>
                </a:cubicBezTo>
                <a:cubicBezTo>
                  <a:pt x="2189" y="13587"/>
                  <a:pt x="2205" y="13662"/>
                  <a:pt x="2257" y="13717"/>
                </a:cubicBezTo>
                <a:cubicBezTo>
                  <a:pt x="2311" y="13774"/>
                  <a:pt x="2349" y="13835"/>
                  <a:pt x="2406" y="13891"/>
                </a:cubicBezTo>
                <a:cubicBezTo>
                  <a:pt x="2463" y="13947"/>
                  <a:pt x="2474" y="13973"/>
                  <a:pt x="2456" y="14039"/>
                </a:cubicBezTo>
                <a:cubicBezTo>
                  <a:pt x="2376" y="14000"/>
                  <a:pt x="2319" y="13975"/>
                  <a:pt x="2257" y="13915"/>
                </a:cubicBezTo>
                <a:cubicBezTo>
                  <a:pt x="2213" y="13872"/>
                  <a:pt x="2224" y="13828"/>
                  <a:pt x="2232" y="13791"/>
                </a:cubicBezTo>
                <a:cubicBezTo>
                  <a:pt x="2232" y="13783"/>
                  <a:pt x="2232" y="13775"/>
                  <a:pt x="2232" y="13767"/>
                </a:cubicBezTo>
              </a:path>
              <a:path w="2878" h="1068">
                <a:moveTo>
                  <a:pt x="2704" y="13816"/>
                </a:moveTo>
                <a:cubicBezTo>
                  <a:pt x="2714" y="13879"/>
                  <a:pt x="2730" y="13972"/>
                  <a:pt x="2704" y="14039"/>
                </a:cubicBezTo>
                <a:cubicBezTo>
                  <a:pt x="2670" y="14073"/>
                  <a:pt x="2662" y="14069"/>
                  <a:pt x="2679" y="13990"/>
                </a:cubicBezTo>
              </a:path>
              <a:path w="2878" h="1068">
                <a:moveTo>
                  <a:pt x="2679" y="13370"/>
                </a:moveTo>
                <a:cubicBezTo>
                  <a:pt x="2687" y="13362"/>
                  <a:pt x="2696" y="13353"/>
                  <a:pt x="2704" y="13345"/>
                </a:cubicBezTo>
              </a:path>
              <a:path w="2878" h="1068">
                <a:moveTo>
                  <a:pt x="2902" y="13891"/>
                </a:moveTo>
                <a:cubicBezTo>
                  <a:pt x="2902" y="14033"/>
                  <a:pt x="2902" y="14075"/>
                  <a:pt x="2902" y="13915"/>
                </a:cubicBezTo>
                <a:cubicBezTo>
                  <a:pt x="2902" y="13812"/>
                  <a:pt x="2928" y="13770"/>
                  <a:pt x="2977" y="13692"/>
                </a:cubicBezTo>
                <a:cubicBezTo>
                  <a:pt x="2985" y="13676"/>
                  <a:pt x="2993" y="13659"/>
                  <a:pt x="3001" y="13643"/>
                </a:cubicBezTo>
                <a:cubicBezTo>
                  <a:pt x="3035" y="13662"/>
                  <a:pt x="3136" y="13704"/>
                  <a:pt x="3150" y="13742"/>
                </a:cubicBezTo>
                <a:cubicBezTo>
                  <a:pt x="3179" y="13823"/>
                  <a:pt x="3189" y="13952"/>
                  <a:pt x="3200" y="14039"/>
                </a:cubicBezTo>
                <a:cubicBezTo>
                  <a:pt x="3200" y="14081"/>
                  <a:pt x="3200" y="14106"/>
                  <a:pt x="3200" y="14064"/>
                </a:cubicBezTo>
              </a:path>
              <a:path w="2878" h="1068">
                <a:moveTo>
                  <a:pt x="3473" y="13469"/>
                </a:moveTo>
                <a:cubicBezTo>
                  <a:pt x="3495" y="13595"/>
                  <a:pt x="3497" y="13713"/>
                  <a:pt x="3497" y="13841"/>
                </a:cubicBezTo>
                <a:cubicBezTo>
                  <a:pt x="3497" y="13897"/>
                  <a:pt x="3503" y="14013"/>
                  <a:pt x="3522" y="14064"/>
                </a:cubicBezTo>
                <a:cubicBezTo>
                  <a:pt x="3530" y="14072"/>
                  <a:pt x="3539" y="14081"/>
                  <a:pt x="3547" y="14089"/>
                </a:cubicBezTo>
              </a:path>
              <a:path w="2878" h="1068">
                <a:moveTo>
                  <a:pt x="3721" y="13543"/>
                </a:moveTo>
                <a:cubicBezTo>
                  <a:pt x="3696" y="13630"/>
                  <a:pt x="3635" y="13727"/>
                  <a:pt x="3621" y="13816"/>
                </a:cubicBezTo>
                <a:cubicBezTo>
                  <a:pt x="3611" y="13881"/>
                  <a:pt x="3624" y="14006"/>
                  <a:pt x="3646" y="14064"/>
                </a:cubicBezTo>
                <a:cubicBezTo>
                  <a:pt x="3671" y="14130"/>
                  <a:pt x="3773" y="14142"/>
                  <a:pt x="3820" y="14114"/>
                </a:cubicBezTo>
                <a:cubicBezTo>
                  <a:pt x="3886" y="14074"/>
                  <a:pt x="3929" y="13964"/>
                  <a:pt x="3919" y="13891"/>
                </a:cubicBezTo>
                <a:cubicBezTo>
                  <a:pt x="3908" y="13808"/>
                  <a:pt x="3869" y="13732"/>
                  <a:pt x="3820" y="13667"/>
                </a:cubicBezTo>
                <a:cubicBezTo>
                  <a:pt x="3781" y="13616"/>
                  <a:pt x="3743" y="13625"/>
                  <a:pt x="3770" y="13568"/>
                </a:cubicBezTo>
              </a:path>
              <a:path w="2878" h="1068">
                <a:moveTo>
                  <a:pt x="3944" y="13593"/>
                </a:moveTo>
                <a:cubicBezTo>
                  <a:pt x="3944" y="13669"/>
                  <a:pt x="3923" y="13744"/>
                  <a:pt x="4018" y="13767"/>
                </a:cubicBezTo>
                <a:cubicBezTo>
                  <a:pt x="4096" y="13785"/>
                  <a:pt x="4108" y="13700"/>
                  <a:pt x="4118" y="13643"/>
                </a:cubicBezTo>
                <a:cubicBezTo>
                  <a:pt x="4118" y="13598"/>
                  <a:pt x="4114" y="13585"/>
                  <a:pt x="4142" y="135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Ink 19"/>
          <p:cNvSpPr/>
          <p:nvPr/>
        </p:nvSpPr>
        <p:spPr>
          <a:xfrm>
            <a:off x="1955880" y="4714920"/>
            <a:ext cx="1143000" cy="384120"/>
          </a:xfrm>
          <a:custGeom>
            <a:avLst/>
            <a:gdLst/>
            <a:ahLst/>
            <a:rect l="l" t="t" r="r" b="b"/>
            <a:pathLst>
              <a:path w="3176" h="1067">
                <a:moveTo>
                  <a:pt x="5432" y="13221"/>
                </a:moveTo>
                <a:cubicBezTo>
                  <a:pt x="5509" y="13192"/>
                  <a:pt x="5650" y="13167"/>
                  <a:pt x="5730" y="13171"/>
                </a:cubicBezTo>
                <a:cubicBezTo>
                  <a:pt x="5854" y="13178"/>
                  <a:pt x="5974" y="13196"/>
                  <a:pt x="6102" y="13196"/>
                </a:cubicBezTo>
                <a:cubicBezTo>
                  <a:pt x="6769" y="13196"/>
                  <a:pt x="7449" y="13230"/>
                  <a:pt x="8111" y="13171"/>
                </a:cubicBezTo>
                <a:cubicBezTo>
                  <a:pt x="8212" y="13162"/>
                  <a:pt x="8313" y="13173"/>
                  <a:pt x="8409" y="13146"/>
                </a:cubicBezTo>
                <a:cubicBezTo>
                  <a:pt x="8444" y="13136"/>
                  <a:pt x="8603" y="13106"/>
                  <a:pt x="8483" y="13097"/>
                </a:cubicBezTo>
                <a:cubicBezTo>
                  <a:pt x="8467" y="13097"/>
                  <a:pt x="8450" y="13097"/>
                  <a:pt x="8434" y="13097"/>
                </a:cubicBezTo>
              </a:path>
              <a:path w="3176" h="1067">
                <a:moveTo>
                  <a:pt x="6772" y="13519"/>
                </a:moveTo>
                <a:cubicBezTo>
                  <a:pt x="6702" y="13510"/>
                  <a:pt x="6647" y="13494"/>
                  <a:pt x="6573" y="13494"/>
                </a:cubicBezTo>
                <a:cubicBezTo>
                  <a:pt x="6529" y="13494"/>
                  <a:pt x="6515" y="13491"/>
                  <a:pt x="6499" y="13519"/>
                </a:cubicBezTo>
                <a:cubicBezTo>
                  <a:pt x="6514" y="13573"/>
                  <a:pt x="6555" y="13637"/>
                  <a:pt x="6598" y="13692"/>
                </a:cubicBezTo>
                <a:cubicBezTo>
                  <a:pt x="6668" y="13782"/>
                  <a:pt x="6722" y="13807"/>
                  <a:pt x="6772" y="13915"/>
                </a:cubicBezTo>
                <a:cubicBezTo>
                  <a:pt x="6807" y="13991"/>
                  <a:pt x="6821" y="14031"/>
                  <a:pt x="6821" y="14114"/>
                </a:cubicBezTo>
                <a:cubicBezTo>
                  <a:pt x="6750" y="14114"/>
                  <a:pt x="6671" y="14131"/>
                  <a:pt x="6623" y="14064"/>
                </a:cubicBezTo>
                <a:cubicBezTo>
                  <a:pt x="6575" y="13998"/>
                  <a:pt x="6583" y="13959"/>
                  <a:pt x="6598" y="13891"/>
                </a:cubicBezTo>
              </a:path>
              <a:path w="3176" h="1067">
                <a:moveTo>
                  <a:pt x="7020" y="13643"/>
                </a:moveTo>
                <a:cubicBezTo>
                  <a:pt x="7038" y="13725"/>
                  <a:pt x="7056" y="13812"/>
                  <a:pt x="7069" y="13891"/>
                </a:cubicBezTo>
                <a:cubicBezTo>
                  <a:pt x="7071" y="13906"/>
                  <a:pt x="7094" y="14055"/>
                  <a:pt x="7094" y="13990"/>
                </a:cubicBezTo>
              </a:path>
              <a:path w="3176" h="1067">
                <a:moveTo>
                  <a:pt x="7045" y="13395"/>
                </a:moveTo>
                <a:cubicBezTo>
                  <a:pt x="7061" y="13378"/>
                  <a:pt x="7078" y="13362"/>
                  <a:pt x="7094" y="13345"/>
                </a:cubicBezTo>
              </a:path>
              <a:path w="3176" h="1067">
                <a:moveTo>
                  <a:pt x="7293" y="13767"/>
                </a:moveTo>
                <a:cubicBezTo>
                  <a:pt x="7276" y="13846"/>
                  <a:pt x="7268" y="13888"/>
                  <a:pt x="7268" y="13965"/>
                </a:cubicBezTo>
                <a:cubicBezTo>
                  <a:pt x="7300" y="13913"/>
                  <a:pt x="7292" y="13845"/>
                  <a:pt x="7317" y="13791"/>
                </a:cubicBezTo>
                <a:cubicBezTo>
                  <a:pt x="7336" y="13751"/>
                  <a:pt x="7352" y="13677"/>
                  <a:pt x="7392" y="13643"/>
                </a:cubicBezTo>
                <a:cubicBezTo>
                  <a:pt x="7464" y="13581"/>
                  <a:pt x="7512" y="13661"/>
                  <a:pt x="7541" y="13717"/>
                </a:cubicBezTo>
                <a:cubicBezTo>
                  <a:pt x="7586" y="13804"/>
                  <a:pt x="7603" y="13909"/>
                  <a:pt x="7640" y="13990"/>
                </a:cubicBezTo>
                <a:cubicBezTo>
                  <a:pt x="7674" y="14063"/>
                  <a:pt x="7684" y="13965"/>
                  <a:pt x="7689" y="13940"/>
                </a:cubicBezTo>
              </a:path>
              <a:path w="3176" h="1067">
                <a:moveTo>
                  <a:pt x="7838" y="13370"/>
                </a:moveTo>
                <a:cubicBezTo>
                  <a:pt x="7856" y="13495"/>
                  <a:pt x="7872" y="13618"/>
                  <a:pt x="7888" y="13742"/>
                </a:cubicBezTo>
                <a:cubicBezTo>
                  <a:pt x="7898" y="13817"/>
                  <a:pt x="7909" y="13892"/>
                  <a:pt x="7913" y="13965"/>
                </a:cubicBezTo>
                <a:cubicBezTo>
                  <a:pt x="7918" y="14063"/>
                  <a:pt x="7939" y="13982"/>
                  <a:pt x="7962" y="13940"/>
                </a:cubicBezTo>
              </a:path>
              <a:path w="3176" h="1067">
                <a:moveTo>
                  <a:pt x="8111" y="13494"/>
                </a:moveTo>
                <a:cubicBezTo>
                  <a:pt x="8111" y="13567"/>
                  <a:pt x="8105" y="13649"/>
                  <a:pt x="8086" y="13717"/>
                </a:cubicBezTo>
                <a:cubicBezTo>
                  <a:pt x="8059" y="13815"/>
                  <a:pt x="8071" y="13869"/>
                  <a:pt x="8086" y="13965"/>
                </a:cubicBezTo>
                <a:cubicBezTo>
                  <a:pt x="8100" y="14054"/>
                  <a:pt x="8119" y="14147"/>
                  <a:pt x="8235" y="14163"/>
                </a:cubicBezTo>
                <a:cubicBezTo>
                  <a:pt x="8309" y="14173"/>
                  <a:pt x="8360" y="14038"/>
                  <a:pt x="8384" y="13990"/>
                </a:cubicBezTo>
                <a:cubicBezTo>
                  <a:pt x="8427" y="13905"/>
                  <a:pt x="8412" y="13827"/>
                  <a:pt x="8384" y="13742"/>
                </a:cubicBezTo>
                <a:cubicBezTo>
                  <a:pt x="8360" y="13669"/>
                  <a:pt x="8330" y="13583"/>
                  <a:pt x="8285" y="13519"/>
                </a:cubicBezTo>
                <a:cubicBezTo>
                  <a:pt x="8262" y="13496"/>
                  <a:pt x="8251" y="13488"/>
                  <a:pt x="8285" y="13494"/>
                </a:cubicBezTo>
              </a:path>
              <a:path w="3176" h="1067">
                <a:moveTo>
                  <a:pt x="8458" y="13395"/>
                </a:moveTo>
                <a:cubicBezTo>
                  <a:pt x="8445" y="13506"/>
                  <a:pt x="8411" y="13561"/>
                  <a:pt x="8533" y="13568"/>
                </a:cubicBezTo>
                <a:cubicBezTo>
                  <a:pt x="8614" y="13573"/>
                  <a:pt x="8638" y="13475"/>
                  <a:pt x="8582" y="13419"/>
                </a:cubicBezTo>
                <a:cubicBezTo>
                  <a:pt x="8537" y="13374"/>
                  <a:pt x="8487" y="13338"/>
                  <a:pt x="8434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Ink 20"/>
          <p:cNvSpPr/>
          <p:nvPr/>
        </p:nvSpPr>
        <p:spPr>
          <a:xfrm>
            <a:off x="1258920" y="5259240"/>
            <a:ext cx="349200" cy="401760"/>
          </a:xfrm>
          <a:custGeom>
            <a:avLst/>
            <a:gdLst/>
            <a:ahLst/>
            <a:rect l="l" t="t" r="r" b="b"/>
            <a:pathLst>
              <a:path w="969" h="1117">
                <a:moveTo>
                  <a:pt x="3497" y="14610"/>
                </a:moveTo>
                <a:cubicBezTo>
                  <a:pt x="3574" y="14674"/>
                  <a:pt x="3547" y="14749"/>
                  <a:pt x="3547" y="14858"/>
                </a:cubicBezTo>
                <a:cubicBezTo>
                  <a:pt x="3547" y="14971"/>
                  <a:pt x="3533" y="15070"/>
                  <a:pt x="3522" y="15180"/>
                </a:cubicBezTo>
                <a:cubicBezTo>
                  <a:pt x="3511" y="15287"/>
                  <a:pt x="3501" y="15397"/>
                  <a:pt x="3497" y="15503"/>
                </a:cubicBezTo>
                <a:cubicBezTo>
                  <a:pt x="3494" y="15583"/>
                  <a:pt x="3489" y="15660"/>
                  <a:pt x="3522" y="15726"/>
                </a:cubicBezTo>
                <a:cubicBezTo>
                  <a:pt x="3550" y="15643"/>
                  <a:pt x="3563" y="15556"/>
                  <a:pt x="3597" y="15478"/>
                </a:cubicBezTo>
                <a:cubicBezTo>
                  <a:pt x="3620" y="15426"/>
                  <a:pt x="3658" y="15358"/>
                  <a:pt x="3671" y="15304"/>
                </a:cubicBezTo>
                <a:cubicBezTo>
                  <a:pt x="3685" y="15244"/>
                  <a:pt x="3676" y="15250"/>
                  <a:pt x="3721" y="15205"/>
                </a:cubicBezTo>
                <a:cubicBezTo>
                  <a:pt x="3779" y="15222"/>
                  <a:pt x="3821" y="15258"/>
                  <a:pt x="3845" y="15329"/>
                </a:cubicBezTo>
                <a:cubicBezTo>
                  <a:pt x="3867" y="15396"/>
                  <a:pt x="3914" y="15503"/>
                  <a:pt x="3894" y="15577"/>
                </a:cubicBezTo>
                <a:cubicBezTo>
                  <a:pt x="3868" y="15674"/>
                  <a:pt x="3785" y="15696"/>
                  <a:pt x="3696" y="15677"/>
                </a:cubicBezTo>
                <a:cubicBezTo>
                  <a:pt x="3623" y="15662"/>
                  <a:pt x="3552" y="15624"/>
                  <a:pt x="3547" y="15553"/>
                </a:cubicBezTo>
                <a:cubicBezTo>
                  <a:pt x="3547" y="15520"/>
                  <a:pt x="3547" y="15486"/>
                  <a:pt x="3547" y="15453"/>
                </a:cubicBezTo>
              </a:path>
              <a:path w="969" h="1117">
                <a:moveTo>
                  <a:pt x="4118" y="15131"/>
                </a:moveTo>
                <a:cubicBezTo>
                  <a:pt x="4236" y="15162"/>
                  <a:pt x="4319" y="15180"/>
                  <a:pt x="4440" y="15180"/>
                </a:cubicBezTo>
              </a:path>
              <a:path w="969" h="1117">
                <a:moveTo>
                  <a:pt x="4242" y="15280"/>
                </a:moveTo>
                <a:cubicBezTo>
                  <a:pt x="4323" y="15361"/>
                  <a:pt x="4363" y="15383"/>
                  <a:pt x="4465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Ink 21"/>
          <p:cNvSpPr/>
          <p:nvPr/>
        </p:nvSpPr>
        <p:spPr>
          <a:xfrm>
            <a:off x="1768320" y="5330880"/>
            <a:ext cx="419400" cy="366480"/>
          </a:xfrm>
          <a:custGeom>
            <a:avLst/>
            <a:gdLst/>
            <a:ahLst/>
            <a:rect l="l" t="t" r="r" b="b"/>
            <a:pathLst>
              <a:path w="1167" h="1018">
                <a:moveTo>
                  <a:pt x="5060" y="14982"/>
                </a:moveTo>
                <a:cubicBezTo>
                  <a:pt x="4991" y="15005"/>
                  <a:pt x="5052" y="14885"/>
                  <a:pt x="5085" y="14833"/>
                </a:cubicBezTo>
                <a:cubicBezTo>
                  <a:pt x="5119" y="14780"/>
                  <a:pt x="5230" y="14812"/>
                  <a:pt x="5259" y="14858"/>
                </a:cubicBezTo>
                <a:cubicBezTo>
                  <a:pt x="5312" y="14942"/>
                  <a:pt x="5308" y="15036"/>
                  <a:pt x="5308" y="15131"/>
                </a:cubicBezTo>
                <a:cubicBezTo>
                  <a:pt x="5308" y="15232"/>
                  <a:pt x="5298" y="15309"/>
                  <a:pt x="5259" y="15404"/>
                </a:cubicBezTo>
                <a:cubicBezTo>
                  <a:pt x="5226" y="15485"/>
                  <a:pt x="5193" y="15548"/>
                  <a:pt x="5135" y="15602"/>
                </a:cubicBezTo>
                <a:cubicBezTo>
                  <a:pt x="5108" y="15627"/>
                  <a:pt x="5040" y="15741"/>
                  <a:pt x="5011" y="15751"/>
                </a:cubicBezTo>
                <a:cubicBezTo>
                  <a:pt x="4961" y="15751"/>
                  <a:pt x="4944" y="15751"/>
                  <a:pt x="4911" y="15751"/>
                </a:cubicBezTo>
                <a:cubicBezTo>
                  <a:pt x="4911" y="15676"/>
                  <a:pt x="4908" y="15634"/>
                  <a:pt x="4961" y="15577"/>
                </a:cubicBezTo>
                <a:cubicBezTo>
                  <a:pt x="4998" y="15537"/>
                  <a:pt x="5020" y="15492"/>
                  <a:pt x="5060" y="15453"/>
                </a:cubicBezTo>
                <a:cubicBezTo>
                  <a:pt x="5104" y="15410"/>
                  <a:pt x="5202" y="15417"/>
                  <a:pt x="5234" y="15478"/>
                </a:cubicBezTo>
                <a:cubicBezTo>
                  <a:pt x="5274" y="15554"/>
                  <a:pt x="5259" y="15644"/>
                  <a:pt x="5259" y="15726"/>
                </a:cubicBezTo>
                <a:cubicBezTo>
                  <a:pt x="5259" y="15832"/>
                  <a:pt x="5274" y="15828"/>
                  <a:pt x="5333" y="15751"/>
                </a:cubicBezTo>
              </a:path>
              <a:path w="1167" h="1018">
                <a:moveTo>
                  <a:pt x="5606" y="14982"/>
                </a:moveTo>
                <a:cubicBezTo>
                  <a:pt x="5606" y="15027"/>
                  <a:pt x="5610" y="15040"/>
                  <a:pt x="5581" y="15056"/>
                </a:cubicBezTo>
                <a:cubicBezTo>
                  <a:pt x="5626" y="15002"/>
                  <a:pt x="5637" y="14936"/>
                  <a:pt x="5680" y="14883"/>
                </a:cubicBezTo>
                <a:cubicBezTo>
                  <a:pt x="5729" y="14823"/>
                  <a:pt x="5789" y="14869"/>
                  <a:pt x="5804" y="14932"/>
                </a:cubicBezTo>
                <a:cubicBezTo>
                  <a:pt x="5820" y="14999"/>
                  <a:pt x="5829" y="15060"/>
                  <a:pt x="5829" y="15131"/>
                </a:cubicBezTo>
                <a:cubicBezTo>
                  <a:pt x="5829" y="15219"/>
                  <a:pt x="5823" y="15343"/>
                  <a:pt x="5804" y="15429"/>
                </a:cubicBezTo>
                <a:cubicBezTo>
                  <a:pt x="5788" y="15501"/>
                  <a:pt x="5745" y="15593"/>
                  <a:pt x="5705" y="15652"/>
                </a:cubicBezTo>
                <a:cubicBezTo>
                  <a:pt x="5661" y="15717"/>
                  <a:pt x="5650" y="15731"/>
                  <a:pt x="5631" y="15776"/>
                </a:cubicBezTo>
                <a:cubicBezTo>
                  <a:pt x="5581" y="15726"/>
                  <a:pt x="5560" y="15699"/>
                  <a:pt x="5556" y="15627"/>
                </a:cubicBezTo>
                <a:cubicBezTo>
                  <a:pt x="5553" y="15566"/>
                  <a:pt x="5543" y="15499"/>
                  <a:pt x="5581" y="15453"/>
                </a:cubicBezTo>
                <a:cubicBezTo>
                  <a:pt x="5629" y="15394"/>
                  <a:pt x="5650" y="15404"/>
                  <a:pt x="5705" y="15453"/>
                </a:cubicBezTo>
                <a:cubicBezTo>
                  <a:pt x="5743" y="15487"/>
                  <a:pt x="5771" y="15560"/>
                  <a:pt x="5779" y="15602"/>
                </a:cubicBezTo>
                <a:cubicBezTo>
                  <a:pt x="5791" y="15662"/>
                  <a:pt x="5766" y="15775"/>
                  <a:pt x="5804" y="15825"/>
                </a:cubicBezTo>
                <a:cubicBezTo>
                  <a:pt x="5812" y="15825"/>
                  <a:pt x="5821" y="15825"/>
                  <a:pt x="5829" y="15825"/>
                </a:cubicBezTo>
              </a:path>
              <a:path w="1167" h="1018">
                <a:moveTo>
                  <a:pt x="6052" y="15652"/>
                </a:moveTo>
                <a:cubicBezTo>
                  <a:pt x="5994" y="15699"/>
                  <a:pt x="6001" y="15673"/>
                  <a:pt x="6052" y="15726"/>
                </a:cubicBezTo>
                <a:cubicBezTo>
                  <a:pt x="6093" y="15645"/>
                  <a:pt x="6020" y="15688"/>
                  <a:pt x="5978" y="15652"/>
                </a:cubicBezTo>
                <a:cubicBezTo>
                  <a:pt x="5978" y="15644"/>
                  <a:pt x="5978" y="15635"/>
                  <a:pt x="5978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Ink 22"/>
          <p:cNvSpPr/>
          <p:nvPr/>
        </p:nvSpPr>
        <p:spPr>
          <a:xfrm>
            <a:off x="2303640" y="5340240"/>
            <a:ext cx="152280" cy="500040"/>
          </a:xfrm>
          <a:custGeom>
            <a:avLst/>
            <a:gdLst/>
            <a:ahLst/>
            <a:rect l="l" t="t" r="r" b="b"/>
            <a:pathLst>
              <a:path w="422" h="1390">
                <a:moveTo>
                  <a:pt x="6548" y="14833"/>
                </a:moveTo>
                <a:cubicBezTo>
                  <a:pt x="6518" y="14887"/>
                  <a:pt x="6473" y="14925"/>
                  <a:pt x="6449" y="14982"/>
                </a:cubicBezTo>
                <a:cubicBezTo>
                  <a:pt x="6429" y="15031"/>
                  <a:pt x="6389" y="15152"/>
                  <a:pt x="6400" y="15205"/>
                </a:cubicBezTo>
                <a:cubicBezTo>
                  <a:pt x="6415" y="15273"/>
                  <a:pt x="6479" y="15316"/>
                  <a:pt x="6524" y="15354"/>
                </a:cubicBezTo>
                <a:cubicBezTo>
                  <a:pt x="6587" y="15408"/>
                  <a:pt x="6565" y="15428"/>
                  <a:pt x="6648" y="15404"/>
                </a:cubicBezTo>
              </a:path>
              <a:path w="422" h="1390">
                <a:moveTo>
                  <a:pt x="6821" y="14982"/>
                </a:moveTo>
                <a:cubicBezTo>
                  <a:pt x="6812" y="15055"/>
                  <a:pt x="6799" y="15133"/>
                  <a:pt x="6772" y="15205"/>
                </a:cubicBezTo>
                <a:cubicBezTo>
                  <a:pt x="6739" y="15291"/>
                  <a:pt x="6724" y="15386"/>
                  <a:pt x="6697" y="15478"/>
                </a:cubicBezTo>
                <a:cubicBezTo>
                  <a:pt x="6658" y="15609"/>
                  <a:pt x="6633" y="15748"/>
                  <a:pt x="6598" y="15875"/>
                </a:cubicBezTo>
                <a:cubicBezTo>
                  <a:pt x="6579" y="15944"/>
                  <a:pt x="6570" y="16010"/>
                  <a:pt x="6548" y="16073"/>
                </a:cubicBezTo>
                <a:cubicBezTo>
                  <a:pt x="6529" y="16127"/>
                  <a:pt x="6511" y="16173"/>
                  <a:pt x="6499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Ink 23"/>
          <p:cNvSpPr/>
          <p:nvPr/>
        </p:nvSpPr>
        <p:spPr>
          <a:xfrm>
            <a:off x="6134040" y="2562120"/>
            <a:ext cx="1036800" cy="527040"/>
          </a:xfrm>
          <a:custGeom>
            <a:avLst/>
            <a:gdLst/>
            <a:ahLst/>
            <a:rect l="l" t="t" r="r" b="b"/>
            <a:pathLst>
              <a:path w="2878" h="1464">
                <a:moveTo>
                  <a:pt x="17785" y="7813"/>
                </a:moveTo>
                <a:cubicBezTo>
                  <a:pt x="17792" y="7873"/>
                  <a:pt x="17797" y="7891"/>
                  <a:pt x="17835" y="7938"/>
                </a:cubicBezTo>
                <a:cubicBezTo>
                  <a:pt x="17818" y="7878"/>
                  <a:pt x="17780" y="7820"/>
                  <a:pt x="17711" y="7789"/>
                </a:cubicBezTo>
                <a:cubicBezTo>
                  <a:pt x="17616" y="7746"/>
                  <a:pt x="17505" y="7772"/>
                  <a:pt x="17413" y="7813"/>
                </a:cubicBezTo>
                <a:cubicBezTo>
                  <a:pt x="17349" y="7842"/>
                  <a:pt x="17335" y="7899"/>
                  <a:pt x="17289" y="7938"/>
                </a:cubicBezTo>
                <a:cubicBezTo>
                  <a:pt x="17241" y="7979"/>
                  <a:pt x="17167" y="8018"/>
                  <a:pt x="17214" y="8086"/>
                </a:cubicBezTo>
                <a:cubicBezTo>
                  <a:pt x="17244" y="8128"/>
                  <a:pt x="17317" y="8181"/>
                  <a:pt x="17363" y="8210"/>
                </a:cubicBezTo>
                <a:cubicBezTo>
                  <a:pt x="17437" y="8257"/>
                  <a:pt x="17530" y="8288"/>
                  <a:pt x="17611" y="8334"/>
                </a:cubicBezTo>
                <a:cubicBezTo>
                  <a:pt x="17676" y="8371"/>
                  <a:pt x="17709" y="8411"/>
                  <a:pt x="17661" y="8483"/>
                </a:cubicBezTo>
                <a:cubicBezTo>
                  <a:pt x="17609" y="8561"/>
                  <a:pt x="17528" y="8573"/>
                  <a:pt x="17438" y="8582"/>
                </a:cubicBezTo>
                <a:cubicBezTo>
                  <a:pt x="17349" y="8591"/>
                  <a:pt x="17272" y="8571"/>
                  <a:pt x="17190" y="8558"/>
                </a:cubicBezTo>
                <a:cubicBezTo>
                  <a:pt x="17136" y="8550"/>
                  <a:pt x="17060" y="8559"/>
                  <a:pt x="17041" y="8483"/>
                </a:cubicBezTo>
                <a:cubicBezTo>
                  <a:pt x="17041" y="8458"/>
                  <a:pt x="17041" y="8434"/>
                  <a:pt x="17041" y="8409"/>
                </a:cubicBezTo>
              </a:path>
              <a:path w="2878" h="1464">
                <a:moveTo>
                  <a:pt x="17983" y="7863"/>
                </a:moveTo>
                <a:cubicBezTo>
                  <a:pt x="18000" y="7915"/>
                  <a:pt x="18038" y="8034"/>
                  <a:pt x="18033" y="8086"/>
                </a:cubicBezTo>
                <a:cubicBezTo>
                  <a:pt x="18028" y="8141"/>
                  <a:pt x="18029" y="8281"/>
                  <a:pt x="18008" y="8334"/>
                </a:cubicBezTo>
                <a:cubicBezTo>
                  <a:pt x="17972" y="8426"/>
                  <a:pt x="17977" y="8409"/>
                  <a:pt x="17934" y="8334"/>
                </a:cubicBezTo>
              </a:path>
              <a:path w="2878" h="1464">
                <a:moveTo>
                  <a:pt x="17934" y="7491"/>
                </a:moveTo>
                <a:cubicBezTo>
                  <a:pt x="17942" y="7474"/>
                  <a:pt x="17951" y="7458"/>
                  <a:pt x="17959" y="7441"/>
                </a:cubicBezTo>
              </a:path>
              <a:path w="2878" h="1464">
                <a:moveTo>
                  <a:pt x="18256" y="8037"/>
                </a:moveTo>
                <a:cubicBezTo>
                  <a:pt x="18271" y="8133"/>
                  <a:pt x="18281" y="8194"/>
                  <a:pt x="18281" y="8285"/>
                </a:cubicBezTo>
                <a:cubicBezTo>
                  <a:pt x="18281" y="8162"/>
                  <a:pt x="18263" y="8029"/>
                  <a:pt x="18306" y="7913"/>
                </a:cubicBezTo>
                <a:cubicBezTo>
                  <a:pt x="18330" y="7848"/>
                  <a:pt x="18384" y="7788"/>
                  <a:pt x="18430" y="7739"/>
                </a:cubicBezTo>
                <a:cubicBezTo>
                  <a:pt x="18496" y="7668"/>
                  <a:pt x="18532" y="7684"/>
                  <a:pt x="18604" y="7739"/>
                </a:cubicBezTo>
                <a:cubicBezTo>
                  <a:pt x="18661" y="7782"/>
                  <a:pt x="18694" y="7898"/>
                  <a:pt x="18703" y="7962"/>
                </a:cubicBezTo>
                <a:cubicBezTo>
                  <a:pt x="18719" y="8080"/>
                  <a:pt x="18667" y="8235"/>
                  <a:pt x="18728" y="8334"/>
                </a:cubicBezTo>
                <a:cubicBezTo>
                  <a:pt x="18772" y="8245"/>
                  <a:pt x="18798" y="8187"/>
                  <a:pt x="18827" y="8111"/>
                </a:cubicBezTo>
              </a:path>
              <a:path w="2878" h="1464">
                <a:moveTo>
                  <a:pt x="19149" y="7342"/>
                </a:moveTo>
                <a:cubicBezTo>
                  <a:pt x="19170" y="7491"/>
                  <a:pt x="19154" y="7573"/>
                  <a:pt x="19149" y="7714"/>
                </a:cubicBezTo>
                <a:cubicBezTo>
                  <a:pt x="19144" y="7841"/>
                  <a:pt x="19145" y="7975"/>
                  <a:pt x="19124" y="8086"/>
                </a:cubicBezTo>
                <a:cubicBezTo>
                  <a:pt x="19112" y="8151"/>
                  <a:pt x="19104" y="8176"/>
                  <a:pt x="19149" y="8161"/>
                </a:cubicBezTo>
              </a:path>
              <a:path w="2878" h="1464">
                <a:moveTo>
                  <a:pt x="19496" y="7392"/>
                </a:moveTo>
                <a:cubicBezTo>
                  <a:pt x="19576" y="7505"/>
                  <a:pt x="19569" y="7505"/>
                  <a:pt x="19546" y="7640"/>
                </a:cubicBezTo>
                <a:cubicBezTo>
                  <a:pt x="19523" y="7776"/>
                  <a:pt x="19472" y="7905"/>
                  <a:pt x="19521" y="8037"/>
                </a:cubicBezTo>
                <a:cubicBezTo>
                  <a:pt x="19540" y="8088"/>
                  <a:pt x="19585" y="8146"/>
                  <a:pt x="19621" y="8186"/>
                </a:cubicBezTo>
                <a:cubicBezTo>
                  <a:pt x="19629" y="8194"/>
                  <a:pt x="19637" y="8202"/>
                  <a:pt x="19645" y="8210"/>
                </a:cubicBezTo>
                <a:cubicBezTo>
                  <a:pt x="19714" y="8177"/>
                  <a:pt x="19786" y="8135"/>
                  <a:pt x="19819" y="8062"/>
                </a:cubicBezTo>
                <a:cubicBezTo>
                  <a:pt x="19861" y="7969"/>
                  <a:pt x="19905" y="7795"/>
                  <a:pt x="19918" y="7689"/>
                </a:cubicBezTo>
                <a:cubicBezTo>
                  <a:pt x="19934" y="7559"/>
                  <a:pt x="19869" y="7408"/>
                  <a:pt x="19819" y="7293"/>
                </a:cubicBezTo>
                <a:cubicBezTo>
                  <a:pt x="19791" y="7230"/>
                  <a:pt x="19709" y="7172"/>
                  <a:pt x="19645" y="7144"/>
                </a:cubicBezTo>
                <a:cubicBezTo>
                  <a:pt x="19585" y="7124"/>
                  <a:pt x="19570" y="7105"/>
                  <a:pt x="19546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Ink 24"/>
          <p:cNvSpPr/>
          <p:nvPr/>
        </p:nvSpPr>
        <p:spPr>
          <a:xfrm>
            <a:off x="6170760" y="2589120"/>
            <a:ext cx="2482560" cy="1081080"/>
          </a:xfrm>
          <a:custGeom>
            <a:avLst/>
            <a:gdLst/>
            <a:ahLst/>
            <a:rect l="l" t="t" r="r" b="b"/>
            <a:pathLst>
              <a:path w="6897" h="3003">
                <a:moveTo>
                  <a:pt x="17140" y="8632"/>
                </a:moveTo>
                <a:cubicBezTo>
                  <a:pt x="17365" y="8632"/>
                  <a:pt x="17578" y="8614"/>
                  <a:pt x="17785" y="8582"/>
                </a:cubicBezTo>
                <a:cubicBezTo>
                  <a:pt x="17952" y="8556"/>
                  <a:pt x="18141" y="8590"/>
                  <a:pt x="18306" y="8558"/>
                </a:cubicBezTo>
                <a:cubicBezTo>
                  <a:pt x="18547" y="8511"/>
                  <a:pt x="18780" y="8477"/>
                  <a:pt x="19025" y="8434"/>
                </a:cubicBezTo>
                <a:cubicBezTo>
                  <a:pt x="19159" y="8410"/>
                  <a:pt x="19285" y="8409"/>
                  <a:pt x="19422" y="8409"/>
                </a:cubicBezTo>
                <a:cubicBezTo>
                  <a:pt x="19472" y="8409"/>
                  <a:pt x="19521" y="8409"/>
                  <a:pt x="19571" y="8409"/>
                </a:cubicBezTo>
              </a:path>
              <a:path w="6897" h="3003">
                <a:moveTo>
                  <a:pt x="17909" y="9004"/>
                </a:moveTo>
                <a:cubicBezTo>
                  <a:pt x="17945" y="9076"/>
                  <a:pt x="17957" y="9215"/>
                  <a:pt x="17934" y="9302"/>
                </a:cubicBezTo>
                <a:cubicBezTo>
                  <a:pt x="17922" y="9347"/>
                  <a:pt x="17866" y="9443"/>
                  <a:pt x="17884" y="9500"/>
                </a:cubicBezTo>
                <a:cubicBezTo>
                  <a:pt x="17892" y="9508"/>
                  <a:pt x="17901" y="9517"/>
                  <a:pt x="17909" y="9525"/>
                </a:cubicBezTo>
                <a:cubicBezTo>
                  <a:pt x="18000" y="9491"/>
                  <a:pt x="18056" y="9472"/>
                  <a:pt x="18132" y="9401"/>
                </a:cubicBezTo>
                <a:cubicBezTo>
                  <a:pt x="18160" y="9373"/>
                  <a:pt x="18174" y="9364"/>
                  <a:pt x="18207" y="9376"/>
                </a:cubicBezTo>
              </a:path>
              <a:path w="6897" h="3003">
                <a:moveTo>
                  <a:pt x="18281" y="8930"/>
                </a:moveTo>
                <a:cubicBezTo>
                  <a:pt x="18281" y="9131"/>
                  <a:pt x="18287" y="9333"/>
                  <a:pt x="18306" y="9525"/>
                </a:cubicBezTo>
                <a:cubicBezTo>
                  <a:pt x="18324" y="9702"/>
                  <a:pt x="18298" y="9873"/>
                  <a:pt x="18281" y="10046"/>
                </a:cubicBezTo>
                <a:cubicBezTo>
                  <a:pt x="18274" y="10118"/>
                  <a:pt x="18263" y="10152"/>
                  <a:pt x="18207" y="10195"/>
                </a:cubicBezTo>
              </a:path>
              <a:path w="6897" h="3003">
                <a:moveTo>
                  <a:pt x="18529" y="9847"/>
                </a:moveTo>
                <a:cubicBezTo>
                  <a:pt x="18544" y="9914"/>
                  <a:pt x="18570" y="9971"/>
                  <a:pt x="18479" y="9971"/>
                </a:cubicBezTo>
              </a:path>
              <a:path w="6897" h="3003">
                <a:moveTo>
                  <a:pt x="18876" y="9004"/>
                </a:moveTo>
                <a:cubicBezTo>
                  <a:pt x="18981" y="9004"/>
                  <a:pt x="19228" y="9051"/>
                  <a:pt x="19273" y="8954"/>
                </a:cubicBezTo>
                <a:cubicBezTo>
                  <a:pt x="19273" y="8946"/>
                  <a:pt x="19273" y="8938"/>
                  <a:pt x="19273" y="8930"/>
                </a:cubicBezTo>
              </a:path>
              <a:path w="6897" h="3003">
                <a:moveTo>
                  <a:pt x="18703" y="9029"/>
                </a:moveTo>
                <a:cubicBezTo>
                  <a:pt x="18683" y="9100"/>
                  <a:pt x="18662" y="9176"/>
                  <a:pt x="18678" y="9252"/>
                </a:cubicBezTo>
                <a:cubicBezTo>
                  <a:pt x="18700" y="9296"/>
                  <a:pt x="18703" y="9308"/>
                  <a:pt x="18728" y="9327"/>
                </a:cubicBezTo>
                <a:cubicBezTo>
                  <a:pt x="18784" y="9291"/>
                  <a:pt x="18833" y="9281"/>
                  <a:pt x="18876" y="9227"/>
                </a:cubicBezTo>
                <a:cubicBezTo>
                  <a:pt x="18923" y="9169"/>
                  <a:pt x="18980" y="9118"/>
                  <a:pt x="19050" y="9178"/>
                </a:cubicBezTo>
                <a:cubicBezTo>
                  <a:pt x="19109" y="9228"/>
                  <a:pt x="19197" y="9269"/>
                  <a:pt x="19248" y="9327"/>
                </a:cubicBezTo>
                <a:cubicBezTo>
                  <a:pt x="19294" y="9380"/>
                  <a:pt x="19345" y="9460"/>
                  <a:pt x="19372" y="9525"/>
                </a:cubicBezTo>
                <a:cubicBezTo>
                  <a:pt x="19417" y="9633"/>
                  <a:pt x="19400" y="9715"/>
                  <a:pt x="19348" y="9823"/>
                </a:cubicBezTo>
                <a:cubicBezTo>
                  <a:pt x="19317" y="9887"/>
                  <a:pt x="19210" y="9964"/>
                  <a:pt x="19149" y="9971"/>
                </a:cubicBezTo>
                <a:cubicBezTo>
                  <a:pt x="19079" y="9979"/>
                  <a:pt x="19086" y="9988"/>
                  <a:pt x="19025" y="9971"/>
                </a:cubicBezTo>
              </a:path>
              <a:path w="6897" h="3003">
                <a:moveTo>
                  <a:pt x="20191" y="8310"/>
                </a:moveTo>
                <a:cubicBezTo>
                  <a:pt x="20274" y="8310"/>
                  <a:pt x="20335" y="8296"/>
                  <a:pt x="20414" y="8285"/>
                </a:cubicBezTo>
                <a:cubicBezTo>
                  <a:pt x="20469" y="8277"/>
                  <a:pt x="20532" y="8285"/>
                  <a:pt x="20588" y="8285"/>
                </a:cubicBezTo>
              </a:path>
              <a:path w="6897" h="3003">
                <a:moveTo>
                  <a:pt x="20365" y="8558"/>
                </a:moveTo>
                <a:cubicBezTo>
                  <a:pt x="20464" y="8558"/>
                  <a:pt x="20480" y="8558"/>
                  <a:pt x="20538" y="8558"/>
                </a:cubicBezTo>
              </a:path>
              <a:path w="6897" h="3003">
                <a:moveTo>
                  <a:pt x="21506" y="7466"/>
                </a:moveTo>
                <a:cubicBezTo>
                  <a:pt x="21414" y="7525"/>
                  <a:pt x="21322" y="7580"/>
                  <a:pt x="21233" y="7640"/>
                </a:cubicBezTo>
                <a:cubicBezTo>
                  <a:pt x="21191" y="7668"/>
                  <a:pt x="21092" y="7698"/>
                  <a:pt x="21158" y="7764"/>
                </a:cubicBezTo>
                <a:cubicBezTo>
                  <a:pt x="21209" y="7815"/>
                  <a:pt x="21318" y="7816"/>
                  <a:pt x="21382" y="7838"/>
                </a:cubicBezTo>
                <a:cubicBezTo>
                  <a:pt x="21487" y="7875"/>
                  <a:pt x="21535" y="7910"/>
                  <a:pt x="21605" y="7987"/>
                </a:cubicBezTo>
                <a:cubicBezTo>
                  <a:pt x="21613" y="7995"/>
                  <a:pt x="21622" y="8004"/>
                  <a:pt x="21630" y="8012"/>
                </a:cubicBezTo>
                <a:cubicBezTo>
                  <a:pt x="21586" y="8055"/>
                  <a:pt x="21553" y="8127"/>
                  <a:pt x="21506" y="8161"/>
                </a:cubicBezTo>
                <a:cubicBezTo>
                  <a:pt x="21456" y="8197"/>
                  <a:pt x="21314" y="8250"/>
                  <a:pt x="21282" y="8161"/>
                </a:cubicBezTo>
                <a:cubicBezTo>
                  <a:pt x="21282" y="8144"/>
                  <a:pt x="21282" y="8128"/>
                  <a:pt x="21282" y="8111"/>
                </a:cubicBezTo>
              </a:path>
              <a:path w="6897" h="3003">
                <a:moveTo>
                  <a:pt x="21803" y="7665"/>
                </a:moveTo>
                <a:cubicBezTo>
                  <a:pt x="21849" y="7802"/>
                  <a:pt x="21823" y="7807"/>
                  <a:pt x="21803" y="7938"/>
                </a:cubicBezTo>
                <a:cubicBezTo>
                  <a:pt x="21792" y="8008"/>
                  <a:pt x="21728" y="8202"/>
                  <a:pt x="21754" y="8136"/>
                </a:cubicBezTo>
                <a:cubicBezTo>
                  <a:pt x="21762" y="8119"/>
                  <a:pt x="21771" y="8103"/>
                  <a:pt x="21779" y="8086"/>
                </a:cubicBezTo>
              </a:path>
              <a:path w="6897" h="3003">
                <a:moveTo>
                  <a:pt x="21853" y="7243"/>
                </a:moveTo>
                <a:cubicBezTo>
                  <a:pt x="21853" y="7226"/>
                  <a:pt x="21853" y="7210"/>
                  <a:pt x="21853" y="7193"/>
                </a:cubicBezTo>
              </a:path>
              <a:path w="6897" h="3003">
                <a:moveTo>
                  <a:pt x="22002" y="7913"/>
                </a:moveTo>
                <a:cubicBezTo>
                  <a:pt x="22022" y="8012"/>
                  <a:pt x="22030" y="8027"/>
                  <a:pt x="22027" y="8086"/>
                </a:cubicBezTo>
                <a:cubicBezTo>
                  <a:pt x="21996" y="8003"/>
                  <a:pt x="22002" y="7929"/>
                  <a:pt x="22002" y="7838"/>
                </a:cubicBezTo>
                <a:cubicBezTo>
                  <a:pt x="22002" y="7748"/>
                  <a:pt x="22036" y="7694"/>
                  <a:pt x="22076" y="7615"/>
                </a:cubicBezTo>
                <a:cubicBezTo>
                  <a:pt x="22110" y="7546"/>
                  <a:pt x="22201" y="7487"/>
                  <a:pt x="22275" y="7565"/>
                </a:cubicBezTo>
                <a:cubicBezTo>
                  <a:pt x="22324" y="7617"/>
                  <a:pt x="22366" y="7745"/>
                  <a:pt x="22399" y="7813"/>
                </a:cubicBezTo>
                <a:cubicBezTo>
                  <a:pt x="22434" y="7884"/>
                  <a:pt x="22463" y="7961"/>
                  <a:pt x="22473" y="8037"/>
                </a:cubicBezTo>
                <a:cubicBezTo>
                  <a:pt x="22479" y="8082"/>
                  <a:pt x="22461" y="8173"/>
                  <a:pt x="22498" y="8136"/>
                </a:cubicBezTo>
              </a:path>
              <a:path w="6897" h="3003">
                <a:moveTo>
                  <a:pt x="22969" y="7218"/>
                </a:moveTo>
                <a:cubicBezTo>
                  <a:pt x="22993" y="7337"/>
                  <a:pt x="22994" y="7443"/>
                  <a:pt x="22994" y="7565"/>
                </a:cubicBezTo>
                <a:cubicBezTo>
                  <a:pt x="22994" y="7695"/>
                  <a:pt x="22989" y="7805"/>
                  <a:pt x="22994" y="7938"/>
                </a:cubicBezTo>
                <a:cubicBezTo>
                  <a:pt x="22997" y="8009"/>
                  <a:pt x="23016" y="8152"/>
                  <a:pt x="23044" y="8086"/>
                </a:cubicBezTo>
                <a:cubicBezTo>
                  <a:pt x="23052" y="8053"/>
                  <a:pt x="23060" y="8020"/>
                  <a:pt x="23068" y="7987"/>
                </a:cubicBezTo>
              </a:path>
              <a:path w="6897" h="3003">
                <a:moveTo>
                  <a:pt x="23292" y="7218"/>
                </a:moveTo>
                <a:cubicBezTo>
                  <a:pt x="23292" y="7483"/>
                  <a:pt x="23277" y="7756"/>
                  <a:pt x="23316" y="8012"/>
                </a:cubicBezTo>
                <a:cubicBezTo>
                  <a:pt x="23325" y="8072"/>
                  <a:pt x="23310" y="8072"/>
                  <a:pt x="23366" y="8086"/>
                </a:cubicBezTo>
              </a:path>
              <a:path w="6897" h="3003">
                <a:moveTo>
                  <a:pt x="23639" y="7293"/>
                </a:moveTo>
                <a:cubicBezTo>
                  <a:pt x="23639" y="7440"/>
                  <a:pt x="23617" y="7571"/>
                  <a:pt x="23614" y="7714"/>
                </a:cubicBezTo>
                <a:cubicBezTo>
                  <a:pt x="23612" y="7819"/>
                  <a:pt x="23595" y="7940"/>
                  <a:pt x="23639" y="8037"/>
                </a:cubicBezTo>
                <a:cubicBezTo>
                  <a:pt x="23676" y="8120"/>
                  <a:pt x="23768" y="8135"/>
                  <a:pt x="23837" y="8086"/>
                </a:cubicBezTo>
                <a:cubicBezTo>
                  <a:pt x="23920" y="8027"/>
                  <a:pt x="23943" y="7982"/>
                  <a:pt x="23986" y="7888"/>
                </a:cubicBezTo>
                <a:cubicBezTo>
                  <a:pt x="24026" y="7800"/>
                  <a:pt x="24050" y="7639"/>
                  <a:pt x="24036" y="7541"/>
                </a:cubicBezTo>
                <a:cubicBezTo>
                  <a:pt x="24027" y="7478"/>
                  <a:pt x="24008" y="7340"/>
                  <a:pt x="23961" y="7293"/>
                </a:cubicBezTo>
                <a:cubicBezTo>
                  <a:pt x="23874" y="7206"/>
                  <a:pt x="23753" y="7193"/>
                  <a:pt x="23639" y="7193"/>
                </a:cubicBezTo>
              </a:path>
              <a:path w="6897" h="3003">
                <a:moveTo>
                  <a:pt x="21332" y="8409"/>
                </a:moveTo>
                <a:cubicBezTo>
                  <a:pt x="21470" y="8409"/>
                  <a:pt x="21550" y="8391"/>
                  <a:pt x="21679" y="8359"/>
                </a:cubicBezTo>
                <a:cubicBezTo>
                  <a:pt x="21967" y="8287"/>
                  <a:pt x="22347" y="8357"/>
                  <a:pt x="22647" y="8334"/>
                </a:cubicBezTo>
                <a:cubicBezTo>
                  <a:pt x="22853" y="8318"/>
                  <a:pt x="23074" y="8345"/>
                  <a:pt x="23267" y="8310"/>
                </a:cubicBezTo>
                <a:cubicBezTo>
                  <a:pt x="23302" y="8304"/>
                  <a:pt x="23465" y="8310"/>
                  <a:pt x="23341" y="8285"/>
                </a:cubicBezTo>
              </a:path>
              <a:path w="6897" h="3003">
                <a:moveTo>
                  <a:pt x="22324" y="8855"/>
                </a:moveTo>
                <a:cubicBezTo>
                  <a:pt x="22345" y="8939"/>
                  <a:pt x="22347" y="8958"/>
                  <a:pt x="22374" y="9004"/>
                </a:cubicBezTo>
                <a:cubicBezTo>
                  <a:pt x="22334" y="8974"/>
                  <a:pt x="22324" y="8906"/>
                  <a:pt x="22275" y="8880"/>
                </a:cubicBezTo>
                <a:cubicBezTo>
                  <a:pt x="22194" y="8837"/>
                  <a:pt x="22135" y="8959"/>
                  <a:pt x="22101" y="9004"/>
                </a:cubicBezTo>
                <a:cubicBezTo>
                  <a:pt x="22047" y="9076"/>
                  <a:pt x="22000" y="9137"/>
                  <a:pt x="21977" y="9227"/>
                </a:cubicBezTo>
                <a:cubicBezTo>
                  <a:pt x="21952" y="9328"/>
                  <a:pt x="21930" y="9425"/>
                  <a:pt x="21977" y="9525"/>
                </a:cubicBezTo>
                <a:cubicBezTo>
                  <a:pt x="22002" y="9578"/>
                  <a:pt x="22059" y="9651"/>
                  <a:pt x="22101" y="9674"/>
                </a:cubicBezTo>
                <a:cubicBezTo>
                  <a:pt x="22196" y="9725"/>
                  <a:pt x="22240" y="9748"/>
                  <a:pt x="22349" y="9748"/>
                </a:cubicBezTo>
                <a:cubicBezTo>
                  <a:pt x="22465" y="9748"/>
                  <a:pt x="22704" y="9790"/>
                  <a:pt x="22696" y="9699"/>
                </a:cubicBezTo>
                <a:cubicBezTo>
                  <a:pt x="22696" y="9691"/>
                  <a:pt x="22696" y="9682"/>
                  <a:pt x="22696" y="9674"/>
                </a:cubicBezTo>
              </a:path>
              <a:path w="6897" h="3003">
                <a:moveTo>
                  <a:pt x="20092" y="8111"/>
                </a:moveTo>
                <a:cubicBezTo>
                  <a:pt x="20042" y="8013"/>
                  <a:pt x="20027" y="8052"/>
                  <a:pt x="20117" y="8086"/>
                </a:cubicBezTo>
                <a:cubicBezTo>
                  <a:pt x="20224" y="8126"/>
                  <a:pt x="20192" y="8147"/>
                  <a:pt x="20265" y="8210"/>
                </a:cubicBezTo>
                <a:cubicBezTo>
                  <a:pt x="20335" y="8271"/>
                  <a:pt x="20455" y="8299"/>
                  <a:pt x="20538" y="8334"/>
                </a:cubicBezTo>
                <a:cubicBezTo>
                  <a:pt x="20625" y="8371"/>
                  <a:pt x="20701" y="8437"/>
                  <a:pt x="20786" y="8483"/>
                </a:cubicBezTo>
                <a:cubicBezTo>
                  <a:pt x="20918" y="8555"/>
                  <a:pt x="21026" y="8634"/>
                  <a:pt x="21158" y="8706"/>
                </a:cubicBezTo>
                <a:cubicBezTo>
                  <a:pt x="21242" y="8752"/>
                  <a:pt x="21316" y="8805"/>
                  <a:pt x="21382" y="8855"/>
                </a:cubicBezTo>
                <a:cubicBezTo>
                  <a:pt x="21442" y="8900"/>
                  <a:pt x="21479" y="8959"/>
                  <a:pt x="21530" y="9004"/>
                </a:cubicBezTo>
                <a:cubicBezTo>
                  <a:pt x="21558" y="9004"/>
                  <a:pt x="21569" y="9006"/>
                  <a:pt x="21580" y="9029"/>
                </a:cubicBezTo>
              </a:path>
              <a:path w="6897" h="3003">
                <a:moveTo>
                  <a:pt x="21158" y="8012"/>
                </a:moveTo>
                <a:cubicBezTo>
                  <a:pt x="21079" y="8056"/>
                  <a:pt x="21029" y="8109"/>
                  <a:pt x="20960" y="8161"/>
                </a:cubicBezTo>
                <a:cubicBezTo>
                  <a:pt x="20867" y="8231"/>
                  <a:pt x="20753" y="8256"/>
                  <a:pt x="20662" y="8334"/>
                </a:cubicBezTo>
                <a:cubicBezTo>
                  <a:pt x="20530" y="8447"/>
                  <a:pt x="20377" y="8525"/>
                  <a:pt x="20241" y="8632"/>
                </a:cubicBezTo>
                <a:cubicBezTo>
                  <a:pt x="20114" y="8732"/>
                  <a:pt x="19958" y="8816"/>
                  <a:pt x="19844" y="8930"/>
                </a:cubicBezTo>
                <a:cubicBezTo>
                  <a:pt x="19778" y="8996"/>
                  <a:pt x="19702" y="9096"/>
                  <a:pt x="1964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Ink 25"/>
          <p:cNvSpPr/>
          <p:nvPr/>
        </p:nvSpPr>
        <p:spPr>
          <a:xfrm>
            <a:off x="6205680" y="3679920"/>
            <a:ext cx="2884320" cy="1027080"/>
          </a:xfrm>
          <a:custGeom>
            <a:avLst/>
            <a:gdLst/>
            <a:ahLst/>
            <a:rect l="l" t="t" r="r" b="b"/>
            <a:pathLst>
              <a:path w="8013" h="2853">
                <a:moveTo>
                  <a:pt x="17785" y="11162"/>
                </a:moveTo>
                <a:cubicBezTo>
                  <a:pt x="17785" y="11230"/>
                  <a:pt x="17793" y="11281"/>
                  <a:pt x="17760" y="11336"/>
                </a:cubicBezTo>
                <a:cubicBezTo>
                  <a:pt x="17718" y="11251"/>
                  <a:pt x="17666" y="11227"/>
                  <a:pt x="17611" y="11162"/>
                </a:cubicBezTo>
                <a:cubicBezTo>
                  <a:pt x="17548" y="11088"/>
                  <a:pt x="17527" y="11077"/>
                  <a:pt x="17438" y="11088"/>
                </a:cubicBezTo>
                <a:cubicBezTo>
                  <a:pt x="17362" y="11098"/>
                  <a:pt x="17326" y="11179"/>
                  <a:pt x="17314" y="11261"/>
                </a:cubicBezTo>
                <a:cubicBezTo>
                  <a:pt x="17299" y="11359"/>
                  <a:pt x="17268" y="11432"/>
                  <a:pt x="17264" y="11534"/>
                </a:cubicBezTo>
                <a:cubicBezTo>
                  <a:pt x="17261" y="11615"/>
                  <a:pt x="17217" y="11699"/>
                  <a:pt x="17239" y="11782"/>
                </a:cubicBezTo>
                <a:cubicBezTo>
                  <a:pt x="17261" y="11864"/>
                  <a:pt x="17255" y="11939"/>
                  <a:pt x="17314" y="12005"/>
                </a:cubicBezTo>
                <a:cubicBezTo>
                  <a:pt x="17366" y="12063"/>
                  <a:pt x="17366" y="12078"/>
                  <a:pt x="17438" y="12055"/>
                </a:cubicBezTo>
                <a:cubicBezTo>
                  <a:pt x="17507" y="12033"/>
                  <a:pt x="17603" y="11979"/>
                  <a:pt x="17661" y="11931"/>
                </a:cubicBezTo>
                <a:cubicBezTo>
                  <a:pt x="17748" y="11844"/>
                  <a:pt x="17787" y="11808"/>
                  <a:pt x="17859" y="11757"/>
                </a:cubicBezTo>
              </a:path>
              <a:path w="8013" h="2853">
                <a:moveTo>
                  <a:pt x="18380" y="11162"/>
                </a:moveTo>
                <a:cubicBezTo>
                  <a:pt x="18380" y="11212"/>
                  <a:pt x="18380" y="11228"/>
                  <a:pt x="18380" y="11261"/>
                </a:cubicBezTo>
                <a:cubicBezTo>
                  <a:pt x="18369" y="11188"/>
                  <a:pt x="18364" y="11196"/>
                  <a:pt x="18306" y="11137"/>
                </a:cubicBezTo>
              </a:path>
              <a:path w="8013" h="2853">
                <a:moveTo>
                  <a:pt x="18132" y="11261"/>
                </a:moveTo>
                <a:cubicBezTo>
                  <a:pt x="18139" y="11375"/>
                  <a:pt x="18130" y="11418"/>
                  <a:pt x="18231" y="11485"/>
                </a:cubicBezTo>
                <a:cubicBezTo>
                  <a:pt x="18262" y="11505"/>
                  <a:pt x="18348" y="11575"/>
                  <a:pt x="18380" y="11584"/>
                </a:cubicBezTo>
                <a:cubicBezTo>
                  <a:pt x="18449" y="11604"/>
                  <a:pt x="18529" y="11632"/>
                  <a:pt x="18529" y="11733"/>
                </a:cubicBezTo>
                <a:cubicBezTo>
                  <a:pt x="18529" y="11807"/>
                  <a:pt x="18453" y="11883"/>
                  <a:pt x="18405" y="11931"/>
                </a:cubicBezTo>
                <a:cubicBezTo>
                  <a:pt x="18343" y="11993"/>
                  <a:pt x="18286" y="12038"/>
                  <a:pt x="18207" y="12080"/>
                </a:cubicBezTo>
                <a:cubicBezTo>
                  <a:pt x="18152" y="12109"/>
                  <a:pt x="18118" y="12122"/>
                  <a:pt x="18058" y="12129"/>
                </a:cubicBezTo>
              </a:path>
              <a:path w="8013" h="2853">
                <a:moveTo>
                  <a:pt x="18703" y="11509"/>
                </a:moveTo>
                <a:cubicBezTo>
                  <a:pt x="18703" y="11636"/>
                  <a:pt x="18681" y="11680"/>
                  <a:pt x="18653" y="11807"/>
                </a:cubicBezTo>
                <a:cubicBezTo>
                  <a:pt x="18625" y="11931"/>
                  <a:pt x="18715" y="11800"/>
                  <a:pt x="18728" y="11782"/>
                </a:cubicBezTo>
              </a:path>
              <a:path w="8013" h="2853">
                <a:moveTo>
                  <a:pt x="18926" y="11063"/>
                </a:moveTo>
                <a:cubicBezTo>
                  <a:pt x="18920" y="11012"/>
                  <a:pt x="18854" y="10917"/>
                  <a:pt x="18901" y="10964"/>
                </a:cubicBezTo>
              </a:path>
              <a:path w="8013" h="2853">
                <a:moveTo>
                  <a:pt x="19050" y="11658"/>
                </a:moveTo>
                <a:cubicBezTo>
                  <a:pt x="19068" y="11571"/>
                  <a:pt x="19091" y="11471"/>
                  <a:pt x="19124" y="11385"/>
                </a:cubicBezTo>
                <a:cubicBezTo>
                  <a:pt x="19147" y="11325"/>
                  <a:pt x="19182" y="11260"/>
                  <a:pt x="19224" y="11212"/>
                </a:cubicBezTo>
                <a:cubicBezTo>
                  <a:pt x="19273" y="11157"/>
                  <a:pt x="19278" y="11133"/>
                  <a:pt x="19348" y="11162"/>
                </a:cubicBezTo>
                <a:cubicBezTo>
                  <a:pt x="19435" y="11198"/>
                  <a:pt x="19422" y="11263"/>
                  <a:pt x="19447" y="11336"/>
                </a:cubicBezTo>
                <a:cubicBezTo>
                  <a:pt x="19475" y="11420"/>
                  <a:pt x="19462" y="11470"/>
                  <a:pt x="19447" y="11559"/>
                </a:cubicBezTo>
                <a:cubicBezTo>
                  <a:pt x="19430" y="11663"/>
                  <a:pt x="19402" y="11684"/>
                  <a:pt x="19447" y="11757"/>
                </a:cubicBezTo>
              </a:path>
              <a:path w="8013" h="2853">
                <a:moveTo>
                  <a:pt x="19993" y="10790"/>
                </a:moveTo>
                <a:cubicBezTo>
                  <a:pt x="19967" y="10883"/>
                  <a:pt x="19971" y="10970"/>
                  <a:pt x="19943" y="11063"/>
                </a:cubicBezTo>
                <a:cubicBezTo>
                  <a:pt x="19905" y="11190"/>
                  <a:pt x="19861" y="11301"/>
                  <a:pt x="19844" y="11435"/>
                </a:cubicBezTo>
                <a:cubicBezTo>
                  <a:pt x="19837" y="11488"/>
                  <a:pt x="19805" y="11611"/>
                  <a:pt x="19819" y="11658"/>
                </a:cubicBezTo>
                <a:cubicBezTo>
                  <a:pt x="19840" y="11726"/>
                  <a:pt x="19877" y="11630"/>
                  <a:pt x="19893" y="11609"/>
                </a:cubicBezTo>
              </a:path>
              <a:path w="8013" h="2853">
                <a:moveTo>
                  <a:pt x="20141" y="11162"/>
                </a:moveTo>
                <a:cubicBezTo>
                  <a:pt x="20201" y="11063"/>
                  <a:pt x="20212" y="11049"/>
                  <a:pt x="20241" y="10988"/>
                </a:cubicBezTo>
                <a:cubicBezTo>
                  <a:pt x="20233" y="11069"/>
                  <a:pt x="20216" y="11125"/>
                  <a:pt x="20216" y="11212"/>
                </a:cubicBezTo>
                <a:cubicBezTo>
                  <a:pt x="20216" y="11332"/>
                  <a:pt x="20193" y="11473"/>
                  <a:pt x="20241" y="11584"/>
                </a:cubicBezTo>
                <a:cubicBezTo>
                  <a:pt x="20279" y="11672"/>
                  <a:pt x="20368" y="11569"/>
                  <a:pt x="20389" y="11534"/>
                </a:cubicBezTo>
                <a:cubicBezTo>
                  <a:pt x="20421" y="11480"/>
                  <a:pt x="20452" y="11373"/>
                  <a:pt x="20464" y="11311"/>
                </a:cubicBezTo>
                <a:cubicBezTo>
                  <a:pt x="20478" y="11237"/>
                  <a:pt x="20502" y="11161"/>
                  <a:pt x="20513" y="11088"/>
                </a:cubicBezTo>
                <a:cubicBezTo>
                  <a:pt x="20525" y="11009"/>
                  <a:pt x="20473" y="10928"/>
                  <a:pt x="20439" y="10864"/>
                </a:cubicBezTo>
                <a:cubicBezTo>
                  <a:pt x="20407" y="10803"/>
                  <a:pt x="20340" y="10761"/>
                  <a:pt x="20265" y="10790"/>
                </a:cubicBezTo>
                <a:cubicBezTo>
                  <a:pt x="20243" y="10813"/>
                  <a:pt x="20238" y="10821"/>
                  <a:pt x="20216" y="10815"/>
                </a:cubicBezTo>
              </a:path>
              <a:path w="8013" h="2853">
                <a:moveTo>
                  <a:pt x="21084" y="11063"/>
                </a:moveTo>
                <a:cubicBezTo>
                  <a:pt x="21143" y="11027"/>
                  <a:pt x="21208" y="11017"/>
                  <a:pt x="21282" y="11013"/>
                </a:cubicBezTo>
                <a:cubicBezTo>
                  <a:pt x="21343" y="11010"/>
                  <a:pt x="21380" y="11014"/>
                  <a:pt x="21431" y="10988"/>
                </a:cubicBezTo>
              </a:path>
              <a:path w="8013" h="2853">
                <a:moveTo>
                  <a:pt x="21059" y="11212"/>
                </a:moveTo>
                <a:cubicBezTo>
                  <a:pt x="21133" y="11212"/>
                  <a:pt x="21194" y="11210"/>
                  <a:pt x="21258" y="11187"/>
                </a:cubicBezTo>
                <a:cubicBezTo>
                  <a:pt x="21274" y="11179"/>
                  <a:pt x="21291" y="11170"/>
                  <a:pt x="21307" y="11162"/>
                </a:cubicBezTo>
              </a:path>
              <a:path w="8013" h="2853">
                <a:moveTo>
                  <a:pt x="21952" y="10567"/>
                </a:moveTo>
                <a:cubicBezTo>
                  <a:pt x="21923" y="10654"/>
                  <a:pt x="21894" y="10734"/>
                  <a:pt x="21853" y="10815"/>
                </a:cubicBezTo>
                <a:cubicBezTo>
                  <a:pt x="21820" y="10881"/>
                  <a:pt x="21807" y="10941"/>
                  <a:pt x="21803" y="11013"/>
                </a:cubicBezTo>
                <a:cubicBezTo>
                  <a:pt x="21798" y="11104"/>
                  <a:pt x="21874" y="11103"/>
                  <a:pt x="21952" y="11088"/>
                </a:cubicBezTo>
                <a:cubicBezTo>
                  <a:pt x="22040" y="11071"/>
                  <a:pt x="22092" y="11049"/>
                  <a:pt x="22175" y="11013"/>
                </a:cubicBezTo>
              </a:path>
              <a:path w="8013" h="2853">
                <a:moveTo>
                  <a:pt x="22299" y="10517"/>
                </a:moveTo>
                <a:cubicBezTo>
                  <a:pt x="22279" y="10634"/>
                  <a:pt x="22260" y="10727"/>
                  <a:pt x="22225" y="10840"/>
                </a:cubicBezTo>
                <a:cubicBezTo>
                  <a:pt x="22183" y="10975"/>
                  <a:pt x="22181" y="11099"/>
                  <a:pt x="22151" y="11237"/>
                </a:cubicBezTo>
                <a:cubicBezTo>
                  <a:pt x="22133" y="11321"/>
                  <a:pt x="22106" y="11401"/>
                  <a:pt x="22101" y="11485"/>
                </a:cubicBezTo>
                <a:cubicBezTo>
                  <a:pt x="22098" y="11542"/>
                  <a:pt x="22099" y="11565"/>
                  <a:pt x="22126" y="11609"/>
                </a:cubicBezTo>
              </a:path>
              <a:path w="8013" h="2853">
                <a:moveTo>
                  <a:pt x="22448" y="11311"/>
                </a:moveTo>
                <a:cubicBezTo>
                  <a:pt x="22423" y="11361"/>
                  <a:pt x="22415" y="11377"/>
                  <a:pt x="22399" y="11410"/>
                </a:cubicBezTo>
              </a:path>
              <a:path w="8013" h="2853">
                <a:moveTo>
                  <a:pt x="22920" y="10492"/>
                </a:moveTo>
                <a:cubicBezTo>
                  <a:pt x="22965" y="10412"/>
                  <a:pt x="22976" y="10418"/>
                  <a:pt x="23068" y="10418"/>
                </a:cubicBezTo>
                <a:cubicBezTo>
                  <a:pt x="23214" y="10418"/>
                  <a:pt x="23275" y="10407"/>
                  <a:pt x="23391" y="10368"/>
                </a:cubicBezTo>
                <a:cubicBezTo>
                  <a:pt x="23432" y="10368"/>
                  <a:pt x="23448" y="10376"/>
                  <a:pt x="23440" y="10344"/>
                </a:cubicBezTo>
              </a:path>
              <a:path w="8013" h="2853">
                <a:moveTo>
                  <a:pt x="22895" y="10492"/>
                </a:moveTo>
                <a:cubicBezTo>
                  <a:pt x="22854" y="10560"/>
                  <a:pt x="22849" y="10603"/>
                  <a:pt x="22845" y="10691"/>
                </a:cubicBezTo>
                <a:cubicBezTo>
                  <a:pt x="22845" y="10735"/>
                  <a:pt x="22842" y="10749"/>
                  <a:pt x="22870" y="10765"/>
                </a:cubicBezTo>
                <a:cubicBezTo>
                  <a:pt x="22904" y="10746"/>
                  <a:pt x="23003" y="10646"/>
                  <a:pt x="23019" y="10641"/>
                </a:cubicBezTo>
                <a:cubicBezTo>
                  <a:pt x="23071" y="10626"/>
                  <a:pt x="23184" y="10554"/>
                  <a:pt x="23242" y="10567"/>
                </a:cubicBezTo>
                <a:cubicBezTo>
                  <a:pt x="23310" y="10582"/>
                  <a:pt x="23380" y="10650"/>
                  <a:pt x="23416" y="10691"/>
                </a:cubicBezTo>
                <a:cubicBezTo>
                  <a:pt x="23489" y="10773"/>
                  <a:pt x="23490" y="10810"/>
                  <a:pt x="23490" y="10914"/>
                </a:cubicBezTo>
                <a:cubicBezTo>
                  <a:pt x="23490" y="10996"/>
                  <a:pt x="23480" y="11020"/>
                  <a:pt x="23440" y="11088"/>
                </a:cubicBezTo>
                <a:cubicBezTo>
                  <a:pt x="23415" y="11131"/>
                  <a:pt x="23360" y="11210"/>
                  <a:pt x="23316" y="11237"/>
                </a:cubicBezTo>
                <a:cubicBezTo>
                  <a:pt x="23234" y="11278"/>
                  <a:pt x="23217" y="11286"/>
                  <a:pt x="23168" y="11311"/>
                </a:cubicBezTo>
              </a:path>
              <a:path w="8013" h="2853">
                <a:moveTo>
                  <a:pt x="22523" y="11137"/>
                </a:moveTo>
                <a:cubicBezTo>
                  <a:pt x="22486" y="11202"/>
                  <a:pt x="22457" y="11236"/>
                  <a:pt x="22448" y="11311"/>
                </a:cubicBezTo>
                <a:cubicBezTo>
                  <a:pt x="22475" y="11284"/>
                  <a:pt x="22558" y="11181"/>
                  <a:pt x="22448" y="11212"/>
                </a:cubicBezTo>
                <a:cubicBezTo>
                  <a:pt x="22407" y="11223"/>
                  <a:pt x="22355" y="11280"/>
                  <a:pt x="22324" y="11311"/>
                </a:cubicBezTo>
                <a:cubicBezTo>
                  <a:pt x="22287" y="11348"/>
                  <a:pt x="22299" y="11384"/>
                  <a:pt x="22299" y="11435"/>
                </a:cubicBezTo>
                <a:cubicBezTo>
                  <a:pt x="22351" y="11428"/>
                  <a:pt x="22413" y="11410"/>
                  <a:pt x="22448" y="11361"/>
                </a:cubicBezTo>
                <a:cubicBezTo>
                  <a:pt x="22466" y="11336"/>
                  <a:pt x="22527" y="11234"/>
                  <a:pt x="22523" y="11212"/>
                </a:cubicBezTo>
                <a:cubicBezTo>
                  <a:pt x="22504" y="11115"/>
                  <a:pt x="22387" y="11248"/>
                  <a:pt x="22374" y="11261"/>
                </a:cubicBezTo>
              </a:path>
              <a:path w="8013" h="2853">
                <a:moveTo>
                  <a:pt x="24011" y="10344"/>
                </a:moveTo>
                <a:cubicBezTo>
                  <a:pt x="23923" y="10278"/>
                  <a:pt x="23902" y="10301"/>
                  <a:pt x="23812" y="10368"/>
                </a:cubicBezTo>
                <a:cubicBezTo>
                  <a:pt x="23695" y="10456"/>
                  <a:pt x="23723" y="10458"/>
                  <a:pt x="23664" y="10567"/>
                </a:cubicBezTo>
                <a:cubicBezTo>
                  <a:pt x="23638" y="10614"/>
                  <a:pt x="23638" y="10634"/>
                  <a:pt x="23688" y="10691"/>
                </a:cubicBezTo>
                <a:cubicBezTo>
                  <a:pt x="23739" y="10749"/>
                  <a:pt x="23806" y="10785"/>
                  <a:pt x="23862" y="10840"/>
                </a:cubicBezTo>
                <a:cubicBezTo>
                  <a:pt x="23929" y="10907"/>
                  <a:pt x="23900" y="10942"/>
                  <a:pt x="23887" y="11013"/>
                </a:cubicBezTo>
                <a:cubicBezTo>
                  <a:pt x="23873" y="11088"/>
                  <a:pt x="23833" y="11115"/>
                  <a:pt x="23763" y="11162"/>
                </a:cubicBezTo>
                <a:cubicBezTo>
                  <a:pt x="23710" y="11197"/>
                  <a:pt x="23646" y="11247"/>
                  <a:pt x="23589" y="11261"/>
                </a:cubicBezTo>
              </a:path>
              <a:path w="8013" h="2853">
                <a:moveTo>
                  <a:pt x="24036" y="10641"/>
                </a:moveTo>
                <a:cubicBezTo>
                  <a:pt x="24016" y="10771"/>
                  <a:pt x="24004" y="10827"/>
                  <a:pt x="23961" y="10939"/>
                </a:cubicBezTo>
                <a:cubicBezTo>
                  <a:pt x="23938" y="10998"/>
                  <a:pt x="23926" y="11058"/>
                  <a:pt x="23912" y="11112"/>
                </a:cubicBezTo>
              </a:path>
              <a:path w="8013" h="2853">
                <a:moveTo>
                  <a:pt x="24185" y="10269"/>
                </a:moveTo>
                <a:cubicBezTo>
                  <a:pt x="24160" y="10220"/>
                  <a:pt x="24152" y="10204"/>
                  <a:pt x="24135" y="10269"/>
                </a:cubicBezTo>
              </a:path>
              <a:path w="8013" h="2853">
                <a:moveTo>
                  <a:pt x="24160" y="10939"/>
                </a:moveTo>
                <a:cubicBezTo>
                  <a:pt x="24141" y="11050"/>
                  <a:pt x="24161" y="11073"/>
                  <a:pt x="24110" y="11112"/>
                </a:cubicBezTo>
                <a:cubicBezTo>
                  <a:pt x="24110" y="11036"/>
                  <a:pt x="24105" y="10933"/>
                  <a:pt x="24135" y="10864"/>
                </a:cubicBezTo>
                <a:cubicBezTo>
                  <a:pt x="24167" y="10791"/>
                  <a:pt x="24204" y="10720"/>
                  <a:pt x="24234" y="10641"/>
                </a:cubicBezTo>
                <a:cubicBezTo>
                  <a:pt x="24242" y="10625"/>
                  <a:pt x="24251" y="10608"/>
                  <a:pt x="24259" y="10592"/>
                </a:cubicBezTo>
                <a:cubicBezTo>
                  <a:pt x="24364" y="10670"/>
                  <a:pt x="24378" y="10687"/>
                  <a:pt x="24383" y="10840"/>
                </a:cubicBezTo>
                <a:cubicBezTo>
                  <a:pt x="24386" y="10929"/>
                  <a:pt x="24363" y="10993"/>
                  <a:pt x="24383" y="11063"/>
                </a:cubicBezTo>
              </a:path>
              <a:path w="8013" h="2853">
                <a:moveTo>
                  <a:pt x="24755" y="10294"/>
                </a:moveTo>
                <a:cubicBezTo>
                  <a:pt x="24738" y="10396"/>
                  <a:pt x="24732" y="10500"/>
                  <a:pt x="24705" y="10592"/>
                </a:cubicBezTo>
                <a:cubicBezTo>
                  <a:pt x="24680" y="10677"/>
                  <a:pt x="24681" y="10749"/>
                  <a:pt x="24681" y="10840"/>
                </a:cubicBezTo>
                <a:cubicBezTo>
                  <a:pt x="24681" y="10909"/>
                  <a:pt x="24656" y="10968"/>
                  <a:pt x="24656" y="11038"/>
                </a:cubicBezTo>
              </a:path>
              <a:path w="8013" h="2853">
                <a:moveTo>
                  <a:pt x="24929" y="10294"/>
                </a:moveTo>
                <a:cubicBezTo>
                  <a:pt x="24921" y="10421"/>
                  <a:pt x="24876" y="10513"/>
                  <a:pt x="24854" y="10641"/>
                </a:cubicBezTo>
                <a:cubicBezTo>
                  <a:pt x="24843" y="10707"/>
                  <a:pt x="24850" y="10802"/>
                  <a:pt x="24829" y="10864"/>
                </a:cubicBezTo>
                <a:cubicBezTo>
                  <a:pt x="24810" y="10920"/>
                  <a:pt x="24805" y="10941"/>
                  <a:pt x="24805" y="11013"/>
                </a:cubicBezTo>
              </a:path>
              <a:path w="8013" h="2853">
                <a:moveTo>
                  <a:pt x="25078" y="10418"/>
                </a:moveTo>
                <a:cubicBezTo>
                  <a:pt x="25098" y="10520"/>
                  <a:pt x="25068" y="10533"/>
                  <a:pt x="25053" y="10641"/>
                </a:cubicBezTo>
                <a:cubicBezTo>
                  <a:pt x="25042" y="10720"/>
                  <a:pt x="25028" y="10780"/>
                  <a:pt x="25028" y="10864"/>
                </a:cubicBezTo>
                <a:cubicBezTo>
                  <a:pt x="25028" y="10911"/>
                  <a:pt x="25015" y="11021"/>
                  <a:pt x="25102" y="11013"/>
                </a:cubicBezTo>
                <a:cubicBezTo>
                  <a:pt x="25184" y="11006"/>
                  <a:pt x="25180" y="10912"/>
                  <a:pt x="25202" y="10864"/>
                </a:cubicBezTo>
                <a:cubicBezTo>
                  <a:pt x="25225" y="10813"/>
                  <a:pt x="25246" y="10704"/>
                  <a:pt x="25251" y="10641"/>
                </a:cubicBezTo>
                <a:cubicBezTo>
                  <a:pt x="25255" y="10587"/>
                  <a:pt x="25250" y="10404"/>
                  <a:pt x="25202" y="10344"/>
                </a:cubicBezTo>
                <a:cubicBezTo>
                  <a:pt x="25153" y="10282"/>
                  <a:pt x="25158" y="10316"/>
                  <a:pt x="25102" y="10344"/>
                </a:cubicBezTo>
              </a:path>
              <a:path w="8013" h="2853">
                <a:moveTo>
                  <a:pt x="21754" y="11584"/>
                </a:moveTo>
                <a:cubicBezTo>
                  <a:pt x="21831" y="11613"/>
                  <a:pt x="21896" y="11617"/>
                  <a:pt x="21977" y="11633"/>
                </a:cubicBezTo>
                <a:cubicBezTo>
                  <a:pt x="22052" y="11648"/>
                  <a:pt x="22136" y="11658"/>
                  <a:pt x="22225" y="11658"/>
                </a:cubicBezTo>
                <a:cubicBezTo>
                  <a:pt x="22353" y="11658"/>
                  <a:pt x="22472" y="11642"/>
                  <a:pt x="22597" y="11633"/>
                </a:cubicBezTo>
                <a:cubicBezTo>
                  <a:pt x="22753" y="11621"/>
                  <a:pt x="22913" y="11619"/>
                  <a:pt x="23068" y="11609"/>
                </a:cubicBezTo>
                <a:cubicBezTo>
                  <a:pt x="23274" y="11596"/>
                  <a:pt x="23481" y="11584"/>
                  <a:pt x="23688" y="11584"/>
                </a:cubicBezTo>
                <a:cubicBezTo>
                  <a:pt x="23931" y="11584"/>
                  <a:pt x="24279" y="11645"/>
                  <a:pt x="24507" y="11559"/>
                </a:cubicBezTo>
              </a:path>
              <a:path w="8013" h="2853">
                <a:moveTo>
                  <a:pt x="17537" y="13072"/>
                </a:moveTo>
                <a:cubicBezTo>
                  <a:pt x="17627" y="13072"/>
                  <a:pt x="17701" y="13075"/>
                  <a:pt x="17785" y="13047"/>
                </a:cubicBezTo>
                <a:cubicBezTo>
                  <a:pt x="17896" y="13010"/>
                  <a:pt x="18033" y="12934"/>
                  <a:pt x="18132" y="12874"/>
                </a:cubicBezTo>
                <a:cubicBezTo>
                  <a:pt x="18269" y="12791"/>
                  <a:pt x="18410" y="12670"/>
                  <a:pt x="18554" y="12601"/>
                </a:cubicBezTo>
                <a:cubicBezTo>
                  <a:pt x="18727" y="12518"/>
                  <a:pt x="18922" y="12413"/>
                  <a:pt x="19100" y="12353"/>
                </a:cubicBezTo>
                <a:cubicBezTo>
                  <a:pt x="19213" y="12315"/>
                  <a:pt x="19329" y="12251"/>
                  <a:pt x="19447" y="12229"/>
                </a:cubicBezTo>
                <a:cubicBezTo>
                  <a:pt x="19498" y="12229"/>
                  <a:pt x="19517" y="12228"/>
                  <a:pt x="19546" y="12204"/>
                </a:cubicBezTo>
              </a:path>
              <a:path w="8013" h="2853">
                <a:moveTo>
                  <a:pt x="18083" y="11832"/>
                </a:moveTo>
                <a:cubicBezTo>
                  <a:pt x="18142" y="11809"/>
                  <a:pt x="18189" y="11782"/>
                  <a:pt x="18256" y="11757"/>
                </a:cubicBezTo>
                <a:cubicBezTo>
                  <a:pt x="18365" y="11716"/>
                  <a:pt x="18459" y="11631"/>
                  <a:pt x="18554" y="11559"/>
                </a:cubicBezTo>
                <a:cubicBezTo>
                  <a:pt x="18705" y="11444"/>
                  <a:pt x="18862" y="11337"/>
                  <a:pt x="19025" y="11237"/>
                </a:cubicBezTo>
                <a:cubicBezTo>
                  <a:pt x="19230" y="11111"/>
                  <a:pt x="19436" y="11006"/>
                  <a:pt x="19645" y="10889"/>
                </a:cubicBezTo>
                <a:cubicBezTo>
                  <a:pt x="19770" y="10819"/>
                  <a:pt x="19892" y="10790"/>
                  <a:pt x="20017" y="10716"/>
                </a:cubicBezTo>
                <a:cubicBezTo>
                  <a:pt x="20078" y="10680"/>
                  <a:pt x="20126" y="10656"/>
                  <a:pt x="20191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Ink 26"/>
          <p:cNvSpPr/>
          <p:nvPr/>
        </p:nvSpPr>
        <p:spPr>
          <a:xfrm>
            <a:off x="6286680" y="4357800"/>
            <a:ext cx="884160" cy="509400"/>
          </a:xfrm>
          <a:custGeom>
            <a:avLst/>
            <a:gdLst/>
            <a:ahLst/>
            <a:rect l="l" t="t" r="r" b="b"/>
            <a:pathLst>
              <a:path w="2457" h="1415">
                <a:moveTo>
                  <a:pt x="17462" y="12105"/>
                </a:moveTo>
                <a:cubicBezTo>
                  <a:pt x="17556" y="12105"/>
                  <a:pt x="17642" y="12125"/>
                  <a:pt x="17735" y="12129"/>
                </a:cubicBezTo>
                <a:cubicBezTo>
                  <a:pt x="17828" y="12133"/>
                  <a:pt x="17940" y="12141"/>
                  <a:pt x="18033" y="12154"/>
                </a:cubicBezTo>
                <a:cubicBezTo>
                  <a:pt x="18251" y="12185"/>
                  <a:pt x="18451" y="12179"/>
                  <a:pt x="18678" y="12179"/>
                </a:cubicBezTo>
                <a:cubicBezTo>
                  <a:pt x="18918" y="12179"/>
                  <a:pt x="19159" y="12192"/>
                  <a:pt x="19397" y="12154"/>
                </a:cubicBezTo>
                <a:cubicBezTo>
                  <a:pt x="19509" y="12136"/>
                  <a:pt x="19606" y="12129"/>
                  <a:pt x="19720" y="12129"/>
                </a:cubicBezTo>
                <a:cubicBezTo>
                  <a:pt x="19786" y="12129"/>
                  <a:pt x="19852" y="12129"/>
                  <a:pt x="19918" y="12129"/>
                </a:cubicBezTo>
              </a:path>
              <a:path w="2457" h="1415">
                <a:moveTo>
                  <a:pt x="18107" y="12576"/>
                </a:moveTo>
                <a:cubicBezTo>
                  <a:pt x="18044" y="12537"/>
                  <a:pt x="18004" y="12549"/>
                  <a:pt x="17934" y="12576"/>
                </a:cubicBezTo>
              </a:path>
              <a:path w="2457" h="1415">
                <a:moveTo>
                  <a:pt x="17735" y="12675"/>
                </a:moveTo>
                <a:cubicBezTo>
                  <a:pt x="17693" y="12699"/>
                  <a:pt x="17587" y="12724"/>
                  <a:pt x="17587" y="12774"/>
                </a:cubicBezTo>
                <a:cubicBezTo>
                  <a:pt x="17586" y="12842"/>
                  <a:pt x="17653" y="12869"/>
                  <a:pt x="17711" y="12898"/>
                </a:cubicBezTo>
                <a:cubicBezTo>
                  <a:pt x="17770" y="12928"/>
                  <a:pt x="17890" y="12983"/>
                  <a:pt x="17934" y="13022"/>
                </a:cubicBezTo>
                <a:cubicBezTo>
                  <a:pt x="17998" y="13080"/>
                  <a:pt x="17970" y="13141"/>
                  <a:pt x="17959" y="13196"/>
                </a:cubicBezTo>
                <a:cubicBezTo>
                  <a:pt x="17945" y="13268"/>
                  <a:pt x="17915" y="13311"/>
                  <a:pt x="17859" y="13370"/>
                </a:cubicBezTo>
                <a:cubicBezTo>
                  <a:pt x="17813" y="13419"/>
                  <a:pt x="17752" y="13497"/>
                  <a:pt x="17686" y="13519"/>
                </a:cubicBezTo>
                <a:cubicBezTo>
                  <a:pt x="17678" y="13519"/>
                  <a:pt x="17669" y="13519"/>
                  <a:pt x="17661" y="13519"/>
                </a:cubicBezTo>
              </a:path>
              <a:path w="2457" h="1415">
                <a:moveTo>
                  <a:pt x="18132" y="12998"/>
                </a:moveTo>
                <a:cubicBezTo>
                  <a:pt x="18124" y="13102"/>
                  <a:pt x="18102" y="13221"/>
                  <a:pt x="18058" y="13320"/>
                </a:cubicBezTo>
                <a:cubicBezTo>
                  <a:pt x="18041" y="13358"/>
                  <a:pt x="18033" y="13371"/>
                  <a:pt x="18033" y="13419"/>
                </a:cubicBezTo>
              </a:path>
              <a:path w="2457" h="1415">
                <a:moveTo>
                  <a:pt x="18231" y="12576"/>
                </a:moveTo>
                <a:cubicBezTo>
                  <a:pt x="18231" y="12584"/>
                  <a:pt x="18231" y="12593"/>
                  <a:pt x="18231" y="12601"/>
                </a:cubicBezTo>
              </a:path>
              <a:path w="2457" h="1415">
                <a:moveTo>
                  <a:pt x="18256" y="13196"/>
                </a:moveTo>
                <a:cubicBezTo>
                  <a:pt x="18248" y="13221"/>
                  <a:pt x="18239" y="13246"/>
                  <a:pt x="18231" y="13271"/>
                </a:cubicBezTo>
                <a:cubicBezTo>
                  <a:pt x="18248" y="13195"/>
                  <a:pt x="18290" y="13095"/>
                  <a:pt x="18331" y="13022"/>
                </a:cubicBezTo>
                <a:cubicBezTo>
                  <a:pt x="18358" y="12973"/>
                  <a:pt x="18360" y="12942"/>
                  <a:pt x="18405" y="12898"/>
                </a:cubicBezTo>
                <a:cubicBezTo>
                  <a:pt x="18442" y="12861"/>
                  <a:pt x="18469" y="12810"/>
                  <a:pt x="18529" y="12824"/>
                </a:cubicBezTo>
                <a:cubicBezTo>
                  <a:pt x="18626" y="12847"/>
                  <a:pt x="18604" y="12948"/>
                  <a:pt x="18604" y="13022"/>
                </a:cubicBezTo>
                <a:cubicBezTo>
                  <a:pt x="18604" y="13112"/>
                  <a:pt x="18558" y="13181"/>
                  <a:pt x="18554" y="13271"/>
                </a:cubicBezTo>
                <a:cubicBezTo>
                  <a:pt x="18551" y="13334"/>
                  <a:pt x="18529" y="13379"/>
                  <a:pt x="18529" y="13444"/>
                </a:cubicBezTo>
              </a:path>
              <a:path w="2457" h="1415">
                <a:moveTo>
                  <a:pt x="19025" y="12502"/>
                </a:moveTo>
                <a:cubicBezTo>
                  <a:pt x="18990" y="12562"/>
                  <a:pt x="18939" y="12675"/>
                  <a:pt x="18926" y="12750"/>
                </a:cubicBezTo>
                <a:cubicBezTo>
                  <a:pt x="18908" y="12855"/>
                  <a:pt x="18889" y="12965"/>
                  <a:pt x="18876" y="13072"/>
                </a:cubicBezTo>
                <a:cubicBezTo>
                  <a:pt x="18865" y="13162"/>
                  <a:pt x="18852" y="13253"/>
                  <a:pt x="18852" y="13345"/>
                </a:cubicBezTo>
              </a:path>
              <a:path w="2457" h="1415">
                <a:moveTo>
                  <a:pt x="19174" y="12650"/>
                </a:moveTo>
                <a:cubicBezTo>
                  <a:pt x="19195" y="12745"/>
                  <a:pt x="19163" y="12800"/>
                  <a:pt x="19149" y="12898"/>
                </a:cubicBezTo>
                <a:cubicBezTo>
                  <a:pt x="19138" y="12976"/>
                  <a:pt x="19131" y="13112"/>
                  <a:pt x="19174" y="13171"/>
                </a:cubicBezTo>
                <a:cubicBezTo>
                  <a:pt x="19194" y="13198"/>
                  <a:pt x="19225" y="13222"/>
                  <a:pt x="19248" y="13246"/>
                </a:cubicBezTo>
                <a:cubicBezTo>
                  <a:pt x="19301" y="13193"/>
                  <a:pt x="19318" y="13155"/>
                  <a:pt x="19348" y="13097"/>
                </a:cubicBezTo>
                <a:cubicBezTo>
                  <a:pt x="19389" y="13019"/>
                  <a:pt x="19393" y="12911"/>
                  <a:pt x="19397" y="12824"/>
                </a:cubicBezTo>
                <a:cubicBezTo>
                  <a:pt x="19400" y="12750"/>
                  <a:pt x="19401" y="12693"/>
                  <a:pt x="19372" y="12626"/>
                </a:cubicBezTo>
                <a:cubicBezTo>
                  <a:pt x="19338" y="12548"/>
                  <a:pt x="19298" y="12544"/>
                  <a:pt x="19248" y="12551"/>
                </a:cubicBezTo>
                <a:cubicBezTo>
                  <a:pt x="19232" y="12551"/>
                  <a:pt x="19215" y="12551"/>
                  <a:pt x="19199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Ink 27"/>
          <p:cNvSpPr/>
          <p:nvPr/>
        </p:nvSpPr>
        <p:spPr>
          <a:xfrm>
            <a:off x="7947000" y="4313160"/>
            <a:ext cx="723960" cy="384120"/>
          </a:xfrm>
          <a:custGeom>
            <a:avLst/>
            <a:gdLst/>
            <a:ahLst/>
            <a:rect l="l" t="t" r="r" b="b"/>
            <a:pathLst>
              <a:path w="2010" h="1067">
                <a:moveTo>
                  <a:pt x="22473" y="12154"/>
                </a:moveTo>
                <a:cubicBezTo>
                  <a:pt x="22495" y="12099"/>
                  <a:pt x="22451" y="12043"/>
                  <a:pt x="22374" y="12055"/>
                </a:cubicBezTo>
                <a:cubicBezTo>
                  <a:pt x="22330" y="12062"/>
                  <a:pt x="22238" y="12120"/>
                  <a:pt x="22200" y="12154"/>
                </a:cubicBezTo>
                <a:cubicBezTo>
                  <a:pt x="22159" y="12191"/>
                  <a:pt x="22116" y="12214"/>
                  <a:pt x="22076" y="12254"/>
                </a:cubicBezTo>
                <a:cubicBezTo>
                  <a:pt x="22150" y="12345"/>
                  <a:pt x="22129" y="12331"/>
                  <a:pt x="22250" y="12378"/>
                </a:cubicBezTo>
                <a:cubicBezTo>
                  <a:pt x="22294" y="12395"/>
                  <a:pt x="22347" y="12436"/>
                  <a:pt x="22374" y="12477"/>
                </a:cubicBezTo>
                <a:cubicBezTo>
                  <a:pt x="22419" y="12546"/>
                  <a:pt x="22424" y="12600"/>
                  <a:pt x="22399" y="12675"/>
                </a:cubicBezTo>
                <a:cubicBezTo>
                  <a:pt x="22376" y="12743"/>
                  <a:pt x="22330" y="12829"/>
                  <a:pt x="22275" y="12874"/>
                </a:cubicBezTo>
                <a:cubicBezTo>
                  <a:pt x="22204" y="12932"/>
                  <a:pt x="22142" y="12982"/>
                  <a:pt x="22076" y="13047"/>
                </a:cubicBezTo>
              </a:path>
              <a:path w="2010" h="1067">
                <a:moveTo>
                  <a:pt x="22622" y="12427"/>
                </a:moveTo>
                <a:cubicBezTo>
                  <a:pt x="22579" y="12532"/>
                  <a:pt x="22527" y="12641"/>
                  <a:pt x="22498" y="12750"/>
                </a:cubicBezTo>
                <a:cubicBezTo>
                  <a:pt x="22498" y="12758"/>
                  <a:pt x="22498" y="12766"/>
                  <a:pt x="22498" y="12774"/>
                </a:cubicBezTo>
              </a:path>
              <a:path w="2010" h="1067">
                <a:moveTo>
                  <a:pt x="22796" y="12080"/>
                </a:moveTo>
                <a:cubicBezTo>
                  <a:pt x="22804" y="12072"/>
                  <a:pt x="22812" y="12063"/>
                  <a:pt x="22820" y="12055"/>
                </a:cubicBezTo>
              </a:path>
              <a:path w="2010" h="1067">
                <a:moveTo>
                  <a:pt x="22845" y="12601"/>
                </a:moveTo>
                <a:cubicBezTo>
                  <a:pt x="22837" y="12642"/>
                  <a:pt x="22828" y="12684"/>
                  <a:pt x="22820" y="12725"/>
                </a:cubicBezTo>
                <a:cubicBezTo>
                  <a:pt x="22852" y="12662"/>
                  <a:pt x="22874" y="12610"/>
                  <a:pt x="22895" y="12551"/>
                </a:cubicBezTo>
                <a:cubicBezTo>
                  <a:pt x="22931" y="12449"/>
                  <a:pt x="22995" y="12356"/>
                  <a:pt x="23068" y="12278"/>
                </a:cubicBezTo>
                <a:cubicBezTo>
                  <a:pt x="23093" y="12254"/>
                  <a:pt x="23102" y="12246"/>
                  <a:pt x="23118" y="12229"/>
                </a:cubicBezTo>
                <a:cubicBezTo>
                  <a:pt x="23149" y="12280"/>
                  <a:pt x="23178" y="12360"/>
                  <a:pt x="23168" y="12427"/>
                </a:cubicBezTo>
                <a:cubicBezTo>
                  <a:pt x="23155" y="12510"/>
                  <a:pt x="23134" y="12594"/>
                  <a:pt x="23118" y="12675"/>
                </a:cubicBezTo>
                <a:cubicBezTo>
                  <a:pt x="23097" y="12757"/>
                  <a:pt x="23089" y="12773"/>
                  <a:pt x="23093" y="12824"/>
                </a:cubicBezTo>
              </a:path>
              <a:path w="2010" h="1067">
                <a:moveTo>
                  <a:pt x="23614" y="12080"/>
                </a:moveTo>
                <a:cubicBezTo>
                  <a:pt x="23586" y="12176"/>
                  <a:pt x="23550" y="12260"/>
                  <a:pt x="23515" y="12353"/>
                </a:cubicBezTo>
                <a:cubicBezTo>
                  <a:pt x="23464" y="12488"/>
                  <a:pt x="23442" y="12639"/>
                  <a:pt x="23391" y="12774"/>
                </a:cubicBezTo>
                <a:cubicBezTo>
                  <a:pt x="23363" y="12829"/>
                  <a:pt x="23355" y="12852"/>
                  <a:pt x="23366" y="12898"/>
                </a:cubicBezTo>
              </a:path>
              <a:path w="2010" h="1067">
                <a:moveTo>
                  <a:pt x="23837" y="12179"/>
                </a:moveTo>
                <a:cubicBezTo>
                  <a:pt x="23799" y="12245"/>
                  <a:pt x="23771" y="12308"/>
                  <a:pt x="23738" y="12378"/>
                </a:cubicBezTo>
                <a:cubicBezTo>
                  <a:pt x="23703" y="12450"/>
                  <a:pt x="23713" y="12522"/>
                  <a:pt x="23713" y="12601"/>
                </a:cubicBezTo>
                <a:cubicBezTo>
                  <a:pt x="23713" y="12665"/>
                  <a:pt x="23703" y="12712"/>
                  <a:pt x="23763" y="12750"/>
                </a:cubicBezTo>
                <a:cubicBezTo>
                  <a:pt x="23822" y="12787"/>
                  <a:pt x="23894" y="12752"/>
                  <a:pt x="23937" y="12700"/>
                </a:cubicBezTo>
                <a:cubicBezTo>
                  <a:pt x="23982" y="12646"/>
                  <a:pt x="24072" y="12530"/>
                  <a:pt x="24085" y="12452"/>
                </a:cubicBezTo>
                <a:cubicBezTo>
                  <a:pt x="24100" y="12363"/>
                  <a:pt x="24097" y="12235"/>
                  <a:pt x="24061" y="12154"/>
                </a:cubicBezTo>
                <a:cubicBezTo>
                  <a:pt x="24021" y="12064"/>
                  <a:pt x="23960" y="12055"/>
                  <a:pt x="23887" y="12005"/>
                </a:cubicBezTo>
                <a:cubicBezTo>
                  <a:pt x="23853" y="11972"/>
                  <a:pt x="23831" y="11964"/>
                  <a:pt x="23788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Ink 28"/>
          <p:cNvSpPr/>
          <p:nvPr/>
        </p:nvSpPr>
        <p:spPr>
          <a:xfrm>
            <a:off x="6473880" y="5010120"/>
            <a:ext cx="465120" cy="455760"/>
          </a:xfrm>
          <a:custGeom>
            <a:avLst/>
            <a:gdLst/>
            <a:ahLst/>
            <a:rect l="l" t="t" r="r" b="b"/>
            <a:pathLst>
              <a:path w="1291" h="1266">
                <a:moveTo>
                  <a:pt x="18479" y="13915"/>
                </a:moveTo>
                <a:cubicBezTo>
                  <a:pt x="18472" y="13994"/>
                  <a:pt x="18477" y="14005"/>
                  <a:pt x="18430" y="14064"/>
                </a:cubicBezTo>
                <a:cubicBezTo>
                  <a:pt x="18404" y="14044"/>
                  <a:pt x="18317" y="13962"/>
                  <a:pt x="18281" y="13965"/>
                </a:cubicBezTo>
                <a:cubicBezTo>
                  <a:pt x="18251" y="13995"/>
                  <a:pt x="18237" y="14006"/>
                  <a:pt x="18207" y="14015"/>
                </a:cubicBezTo>
              </a:path>
              <a:path w="1291" h="1266">
                <a:moveTo>
                  <a:pt x="18083" y="14213"/>
                </a:moveTo>
                <a:cubicBezTo>
                  <a:pt x="18023" y="14409"/>
                  <a:pt x="17983" y="14517"/>
                  <a:pt x="17983" y="14709"/>
                </a:cubicBezTo>
                <a:cubicBezTo>
                  <a:pt x="17983" y="14823"/>
                  <a:pt x="17993" y="14922"/>
                  <a:pt x="18008" y="15032"/>
                </a:cubicBezTo>
                <a:cubicBezTo>
                  <a:pt x="18028" y="15175"/>
                  <a:pt x="18141" y="15199"/>
                  <a:pt x="18256" y="15156"/>
                </a:cubicBezTo>
                <a:cubicBezTo>
                  <a:pt x="18306" y="15131"/>
                  <a:pt x="18322" y="15123"/>
                  <a:pt x="18355" y="15106"/>
                </a:cubicBezTo>
              </a:path>
              <a:path w="1291" h="1266">
                <a:moveTo>
                  <a:pt x="18827" y="14163"/>
                </a:moveTo>
                <a:cubicBezTo>
                  <a:pt x="18896" y="14173"/>
                  <a:pt x="18950" y="14202"/>
                  <a:pt x="19025" y="14213"/>
                </a:cubicBezTo>
                <a:cubicBezTo>
                  <a:pt x="19072" y="14220"/>
                  <a:pt x="19127" y="14213"/>
                  <a:pt x="19174" y="14213"/>
                </a:cubicBezTo>
              </a:path>
              <a:path w="1291" h="1266">
                <a:moveTo>
                  <a:pt x="18777" y="14461"/>
                </a:moveTo>
                <a:cubicBezTo>
                  <a:pt x="18857" y="14461"/>
                  <a:pt x="18930" y="14460"/>
                  <a:pt x="19000" y="14436"/>
                </a:cubicBezTo>
                <a:cubicBezTo>
                  <a:pt x="19070" y="14412"/>
                  <a:pt x="19123" y="14412"/>
                  <a:pt x="19199" y="14412"/>
                </a:cubicBezTo>
                <a:cubicBezTo>
                  <a:pt x="19224" y="14412"/>
                  <a:pt x="19248" y="14412"/>
                  <a:pt x="19273" y="144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Ink 29"/>
          <p:cNvSpPr/>
          <p:nvPr/>
        </p:nvSpPr>
        <p:spPr>
          <a:xfrm>
            <a:off x="7143840" y="4803840"/>
            <a:ext cx="608040" cy="598320"/>
          </a:xfrm>
          <a:custGeom>
            <a:avLst/>
            <a:gdLst/>
            <a:ahLst/>
            <a:rect l="l" t="t" r="r" b="b"/>
            <a:pathLst>
              <a:path w="1687" h="1663">
                <a:moveTo>
                  <a:pt x="20042" y="13841"/>
                </a:moveTo>
                <a:cubicBezTo>
                  <a:pt x="20026" y="13841"/>
                  <a:pt x="20009" y="13841"/>
                  <a:pt x="19993" y="13841"/>
                </a:cubicBezTo>
                <a:cubicBezTo>
                  <a:pt x="20048" y="13784"/>
                  <a:pt x="20086" y="13726"/>
                  <a:pt x="20141" y="13667"/>
                </a:cubicBezTo>
                <a:cubicBezTo>
                  <a:pt x="20198" y="13606"/>
                  <a:pt x="20255" y="13612"/>
                  <a:pt x="20315" y="13643"/>
                </a:cubicBezTo>
                <a:cubicBezTo>
                  <a:pt x="20394" y="13684"/>
                  <a:pt x="20410" y="13731"/>
                  <a:pt x="20414" y="13816"/>
                </a:cubicBezTo>
                <a:cubicBezTo>
                  <a:pt x="20419" y="13915"/>
                  <a:pt x="20379" y="14070"/>
                  <a:pt x="20340" y="14163"/>
                </a:cubicBezTo>
                <a:cubicBezTo>
                  <a:pt x="20297" y="14264"/>
                  <a:pt x="20267" y="14388"/>
                  <a:pt x="20216" y="14486"/>
                </a:cubicBezTo>
                <a:cubicBezTo>
                  <a:pt x="20166" y="14582"/>
                  <a:pt x="20113" y="14664"/>
                  <a:pt x="20067" y="14759"/>
                </a:cubicBezTo>
                <a:cubicBezTo>
                  <a:pt x="20018" y="14860"/>
                  <a:pt x="19952" y="14858"/>
                  <a:pt x="19869" y="14858"/>
                </a:cubicBezTo>
                <a:cubicBezTo>
                  <a:pt x="19843" y="14807"/>
                  <a:pt x="19830" y="14725"/>
                  <a:pt x="19844" y="14660"/>
                </a:cubicBezTo>
                <a:cubicBezTo>
                  <a:pt x="19851" y="14627"/>
                  <a:pt x="19895" y="14521"/>
                  <a:pt x="19943" y="14511"/>
                </a:cubicBezTo>
                <a:cubicBezTo>
                  <a:pt x="20011" y="14497"/>
                  <a:pt x="20074" y="14544"/>
                  <a:pt x="20092" y="14610"/>
                </a:cubicBezTo>
                <a:cubicBezTo>
                  <a:pt x="20111" y="14683"/>
                  <a:pt x="20117" y="14755"/>
                  <a:pt x="20117" y="14833"/>
                </a:cubicBezTo>
                <a:cubicBezTo>
                  <a:pt x="20117" y="14892"/>
                  <a:pt x="20117" y="14923"/>
                  <a:pt x="20117" y="14982"/>
                </a:cubicBezTo>
              </a:path>
              <a:path w="1687" h="1663">
                <a:moveTo>
                  <a:pt x="20489" y="13717"/>
                </a:moveTo>
                <a:cubicBezTo>
                  <a:pt x="20468" y="13792"/>
                  <a:pt x="20443" y="13864"/>
                  <a:pt x="20439" y="13940"/>
                </a:cubicBezTo>
                <a:cubicBezTo>
                  <a:pt x="20434" y="14021"/>
                  <a:pt x="20425" y="14066"/>
                  <a:pt x="20439" y="14139"/>
                </a:cubicBezTo>
                <a:cubicBezTo>
                  <a:pt x="20451" y="14204"/>
                  <a:pt x="20469" y="14247"/>
                  <a:pt x="20538" y="14188"/>
                </a:cubicBezTo>
                <a:cubicBezTo>
                  <a:pt x="20582" y="14150"/>
                  <a:pt x="20603" y="14108"/>
                  <a:pt x="20638" y="14064"/>
                </a:cubicBezTo>
              </a:path>
              <a:path w="1687" h="1663">
                <a:moveTo>
                  <a:pt x="20811" y="13345"/>
                </a:moveTo>
                <a:cubicBezTo>
                  <a:pt x="20768" y="13469"/>
                  <a:pt x="20739" y="13569"/>
                  <a:pt x="20712" y="13692"/>
                </a:cubicBezTo>
                <a:cubicBezTo>
                  <a:pt x="20687" y="13802"/>
                  <a:pt x="20705" y="13905"/>
                  <a:pt x="20687" y="14015"/>
                </a:cubicBezTo>
                <a:cubicBezTo>
                  <a:pt x="20667" y="14136"/>
                  <a:pt x="20650" y="14263"/>
                  <a:pt x="20638" y="14387"/>
                </a:cubicBezTo>
                <a:cubicBezTo>
                  <a:pt x="20629" y="14476"/>
                  <a:pt x="20619" y="14774"/>
                  <a:pt x="20662" y="14759"/>
                </a:cubicBezTo>
              </a:path>
              <a:path w="1687" h="1663">
                <a:moveTo>
                  <a:pt x="20811" y="14387"/>
                </a:moveTo>
                <a:cubicBezTo>
                  <a:pt x="20803" y="14403"/>
                  <a:pt x="20794" y="14420"/>
                  <a:pt x="20786" y="14436"/>
                </a:cubicBezTo>
              </a:path>
              <a:path w="1687" h="1663">
                <a:moveTo>
                  <a:pt x="21258" y="13568"/>
                </a:moveTo>
                <a:cubicBezTo>
                  <a:pt x="21247" y="13652"/>
                  <a:pt x="21220" y="13731"/>
                  <a:pt x="21208" y="13816"/>
                </a:cubicBezTo>
                <a:cubicBezTo>
                  <a:pt x="21199" y="13879"/>
                  <a:pt x="21169" y="13925"/>
                  <a:pt x="21158" y="13990"/>
                </a:cubicBezTo>
                <a:cubicBezTo>
                  <a:pt x="21148" y="14047"/>
                  <a:pt x="21195" y="14125"/>
                  <a:pt x="21258" y="14114"/>
                </a:cubicBezTo>
                <a:cubicBezTo>
                  <a:pt x="21305" y="14106"/>
                  <a:pt x="21381" y="14025"/>
                  <a:pt x="21406" y="13990"/>
                </a:cubicBezTo>
                <a:cubicBezTo>
                  <a:pt x="21435" y="13949"/>
                  <a:pt x="21449" y="13905"/>
                  <a:pt x="21481" y="13866"/>
                </a:cubicBezTo>
              </a:path>
              <a:path w="1687" h="1663">
                <a:moveTo>
                  <a:pt x="21530" y="13395"/>
                </a:moveTo>
                <a:cubicBezTo>
                  <a:pt x="21468" y="13529"/>
                  <a:pt x="21452" y="13624"/>
                  <a:pt x="21431" y="13767"/>
                </a:cubicBezTo>
                <a:cubicBezTo>
                  <a:pt x="21388" y="14058"/>
                  <a:pt x="21296" y="14345"/>
                  <a:pt x="21258" y="14635"/>
                </a:cubicBezTo>
                <a:cubicBezTo>
                  <a:pt x="21242" y="14755"/>
                  <a:pt x="21240" y="14885"/>
                  <a:pt x="21233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66840" y="973080"/>
            <a:ext cx="374400" cy="428760"/>
          </a:xfrm>
          <a:custGeom>
            <a:avLst/>
            <a:gdLst/>
            <a:ahLst/>
            <a:rect l="l" t="t" r="r" b="b"/>
            <a:pathLst>
              <a:path w="1043" h="1191">
                <a:moveTo>
                  <a:pt x="1091" y="3175"/>
                </a:moveTo>
                <a:cubicBezTo>
                  <a:pt x="1064" y="3129"/>
                  <a:pt x="1067" y="3108"/>
                  <a:pt x="1067" y="3051"/>
                </a:cubicBezTo>
                <a:cubicBezTo>
                  <a:pt x="1182" y="3051"/>
                  <a:pt x="1281" y="3043"/>
                  <a:pt x="1389" y="3026"/>
                </a:cubicBezTo>
                <a:cubicBezTo>
                  <a:pt x="1462" y="3014"/>
                  <a:pt x="1550" y="3013"/>
                  <a:pt x="1612" y="3001"/>
                </a:cubicBezTo>
                <a:cubicBezTo>
                  <a:pt x="1657" y="2992"/>
                  <a:pt x="1715" y="3001"/>
                  <a:pt x="1761" y="3001"/>
                </a:cubicBezTo>
                <a:cubicBezTo>
                  <a:pt x="1722" y="3050"/>
                  <a:pt x="1682" y="3114"/>
                  <a:pt x="1662" y="3175"/>
                </a:cubicBezTo>
                <a:cubicBezTo>
                  <a:pt x="1632" y="3268"/>
                  <a:pt x="1617" y="3377"/>
                  <a:pt x="1612" y="3473"/>
                </a:cubicBezTo>
                <a:cubicBezTo>
                  <a:pt x="1610" y="3521"/>
                  <a:pt x="1578" y="3695"/>
                  <a:pt x="1588" y="3646"/>
                </a:cubicBezTo>
                <a:cubicBezTo>
                  <a:pt x="1596" y="3630"/>
                  <a:pt x="1604" y="3613"/>
                  <a:pt x="1612" y="3597"/>
                </a:cubicBezTo>
              </a:path>
              <a:path w="1043" h="1191">
                <a:moveTo>
                  <a:pt x="1811" y="2778"/>
                </a:moveTo>
                <a:lnTo>
                  <a:pt x="1811" y="2778"/>
                </a:lnTo>
              </a:path>
              <a:path w="1043" h="1191">
                <a:moveTo>
                  <a:pt x="1017" y="3200"/>
                </a:moveTo>
                <a:cubicBezTo>
                  <a:pt x="1026" y="3582"/>
                  <a:pt x="977" y="3529"/>
                  <a:pt x="1166" y="3746"/>
                </a:cubicBezTo>
                <a:cubicBezTo>
                  <a:pt x="1278" y="3874"/>
                  <a:pt x="1445" y="3926"/>
                  <a:pt x="1612" y="3870"/>
                </a:cubicBezTo>
                <a:cubicBezTo>
                  <a:pt x="1745" y="3826"/>
                  <a:pt x="1795" y="3739"/>
                  <a:pt x="1885" y="3646"/>
                </a:cubicBezTo>
                <a:cubicBezTo>
                  <a:pt x="1977" y="3551"/>
                  <a:pt x="2003" y="3453"/>
                  <a:pt x="2034" y="3324"/>
                </a:cubicBezTo>
                <a:cubicBezTo>
                  <a:pt x="2070" y="3174"/>
                  <a:pt x="2050" y="3074"/>
                  <a:pt x="2009" y="2927"/>
                </a:cubicBezTo>
                <a:cubicBezTo>
                  <a:pt x="1983" y="2832"/>
                  <a:pt x="1928" y="2791"/>
                  <a:pt x="1836" y="2753"/>
                </a:cubicBezTo>
                <a:cubicBezTo>
                  <a:pt x="1772" y="2727"/>
                  <a:pt x="1685" y="2684"/>
                  <a:pt x="1612" y="2704"/>
                </a:cubicBezTo>
                <a:cubicBezTo>
                  <a:pt x="1575" y="2714"/>
                  <a:pt x="1453" y="2764"/>
                  <a:pt x="1439" y="2803"/>
                </a:cubicBezTo>
                <a:cubicBezTo>
                  <a:pt x="1439" y="2820"/>
                  <a:pt x="1439" y="2836"/>
                  <a:pt x="1439" y="28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Ink 5"/>
          <p:cNvSpPr/>
          <p:nvPr/>
        </p:nvSpPr>
        <p:spPr>
          <a:xfrm>
            <a:off x="938160" y="874800"/>
            <a:ext cx="1187640" cy="492120"/>
          </a:xfrm>
          <a:custGeom>
            <a:avLst/>
            <a:gdLst/>
            <a:ahLst/>
            <a:rect l="l" t="t" r="r" b="b"/>
            <a:pathLst>
              <a:path w="3301" h="1365">
                <a:moveTo>
                  <a:pt x="2753" y="3225"/>
                </a:moveTo>
                <a:cubicBezTo>
                  <a:pt x="2732" y="3331"/>
                  <a:pt x="2729" y="3444"/>
                  <a:pt x="2704" y="3547"/>
                </a:cubicBezTo>
                <a:cubicBezTo>
                  <a:pt x="2683" y="3632"/>
                  <a:pt x="2646" y="3697"/>
                  <a:pt x="2604" y="3770"/>
                </a:cubicBezTo>
                <a:cubicBezTo>
                  <a:pt x="2615" y="3668"/>
                  <a:pt x="2652" y="3573"/>
                  <a:pt x="2679" y="3473"/>
                </a:cubicBezTo>
                <a:cubicBezTo>
                  <a:pt x="2716" y="3339"/>
                  <a:pt x="2720" y="3178"/>
                  <a:pt x="2778" y="3051"/>
                </a:cubicBezTo>
                <a:cubicBezTo>
                  <a:pt x="2835" y="2925"/>
                  <a:pt x="2892" y="2816"/>
                  <a:pt x="2927" y="2679"/>
                </a:cubicBezTo>
                <a:cubicBezTo>
                  <a:pt x="2975" y="2490"/>
                  <a:pt x="2940" y="2517"/>
                  <a:pt x="3026" y="2431"/>
                </a:cubicBezTo>
                <a:cubicBezTo>
                  <a:pt x="3083" y="2478"/>
                  <a:pt x="3092" y="2547"/>
                  <a:pt x="3101" y="2629"/>
                </a:cubicBezTo>
                <a:cubicBezTo>
                  <a:pt x="3114" y="2753"/>
                  <a:pt x="3111" y="2877"/>
                  <a:pt x="3125" y="3001"/>
                </a:cubicBezTo>
                <a:cubicBezTo>
                  <a:pt x="3142" y="3154"/>
                  <a:pt x="3150" y="3294"/>
                  <a:pt x="3150" y="3448"/>
                </a:cubicBezTo>
                <a:cubicBezTo>
                  <a:pt x="3150" y="3554"/>
                  <a:pt x="3140" y="3647"/>
                  <a:pt x="3125" y="3746"/>
                </a:cubicBezTo>
                <a:cubicBezTo>
                  <a:pt x="3111" y="3841"/>
                  <a:pt x="3122" y="3775"/>
                  <a:pt x="3101" y="3746"/>
                </a:cubicBezTo>
              </a:path>
              <a:path w="3301" h="1365">
                <a:moveTo>
                  <a:pt x="2679" y="3225"/>
                </a:moveTo>
                <a:cubicBezTo>
                  <a:pt x="2775" y="3186"/>
                  <a:pt x="2873" y="3160"/>
                  <a:pt x="2977" y="3150"/>
                </a:cubicBezTo>
                <a:cubicBezTo>
                  <a:pt x="3059" y="3150"/>
                  <a:pt x="3076" y="3150"/>
                  <a:pt x="3125" y="3150"/>
                </a:cubicBezTo>
              </a:path>
              <a:path w="3301" h="1365">
                <a:moveTo>
                  <a:pt x="3547" y="3200"/>
                </a:moveTo>
                <a:cubicBezTo>
                  <a:pt x="3642" y="3200"/>
                  <a:pt x="3681" y="3199"/>
                  <a:pt x="3770" y="3175"/>
                </a:cubicBezTo>
              </a:path>
              <a:path w="3301" h="1365">
                <a:moveTo>
                  <a:pt x="3497" y="3398"/>
                </a:moveTo>
                <a:cubicBezTo>
                  <a:pt x="3565" y="3398"/>
                  <a:pt x="3661" y="3402"/>
                  <a:pt x="3721" y="3373"/>
                </a:cubicBezTo>
                <a:cubicBezTo>
                  <a:pt x="3746" y="3357"/>
                  <a:pt x="3770" y="3340"/>
                  <a:pt x="3795" y="3324"/>
                </a:cubicBezTo>
              </a:path>
              <a:path w="3301" h="1365">
                <a:moveTo>
                  <a:pt x="4266" y="2853"/>
                </a:moveTo>
                <a:lnTo>
                  <a:pt x="4242" y="3001"/>
                </a:lnTo>
                <a:lnTo>
                  <a:pt x="4242" y="3101"/>
                </a:lnTo>
                <a:lnTo>
                  <a:pt x="4217" y="3200"/>
                </a:lnTo>
                <a:lnTo>
                  <a:pt x="4217" y="3299"/>
                </a:lnTo>
                <a:lnTo>
                  <a:pt x="4192" y="3373"/>
                </a:lnTo>
                <a:lnTo>
                  <a:pt x="4192" y="3473"/>
                </a:lnTo>
                <a:lnTo>
                  <a:pt x="4167" y="3547"/>
                </a:lnTo>
                <a:lnTo>
                  <a:pt x="4167" y="3597"/>
                </a:lnTo>
                <a:lnTo>
                  <a:pt x="4167" y="3646"/>
                </a:lnTo>
                <a:lnTo>
                  <a:pt x="4167" y="3721"/>
                </a:lnTo>
                <a:lnTo>
                  <a:pt x="4167" y="3696"/>
                </a:lnTo>
              </a:path>
              <a:path w="3301" h="1365">
                <a:moveTo>
                  <a:pt x="4514" y="2853"/>
                </a:moveTo>
                <a:cubicBezTo>
                  <a:pt x="4604" y="2834"/>
                  <a:pt x="4700" y="2817"/>
                  <a:pt x="4787" y="2803"/>
                </a:cubicBezTo>
                <a:cubicBezTo>
                  <a:pt x="4856" y="2792"/>
                  <a:pt x="4920" y="2791"/>
                  <a:pt x="4986" y="2778"/>
                </a:cubicBezTo>
              </a:path>
              <a:path w="3301" h="1365">
                <a:moveTo>
                  <a:pt x="4539" y="2877"/>
                </a:moveTo>
                <a:cubicBezTo>
                  <a:pt x="4440" y="2976"/>
                  <a:pt x="4353" y="3004"/>
                  <a:pt x="4415" y="3125"/>
                </a:cubicBezTo>
                <a:cubicBezTo>
                  <a:pt x="4485" y="3117"/>
                  <a:pt x="4535" y="3100"/>
                  <a:pt x="4589" y="3051"/>
                </a:cubicBezTo>
                <a:cubicBezTo>
                  <a:pt x="4614" y="3028"/>
                  <a:pt x="4729" y="3000"/>
                  <a:pt x="4762" y="3026"/>
                </a:cubicBezTo>
                <a:cubicBezTo>
                  <a:pt x="4807" y="3061"/>
                  <a:pt x="4869" y="3167"/>
                  <a:pt x="4887" y="3225"/>
                </a:cubicBezTo>
                <a:cubicBezTo>
                  <a:pt x="4911" y="3301"/>
                  <a:pt x="4910" y="3427"/>
                  <a:pt x="4862" y="3497"/>
                </a:cubicBezTo>
                <a:cubicBezTo>
                  <a:pt x="4807" y="3577"/>
                  <a:pt x="4705" y="3647"/>
                  <a:pt x="4614" y="3671"/>
                </a:cubicBezTo>
                <a:cubicBezTo>
                  <a:pt x="4579" y="3680"/>
                  <a:pt x="4456" y="3687"/>
                  <a:pt x="4440" y="3646"/>
                </a:cubicBezTo>
                <a:cubicBezTo>
                  <a:pt x="4418" y="3590"/>
                  <a:pt x="4448" y="3523"/>
                  <a:pt x="4465" y="3473"/>
                </a:cubicBezTo>
              </a:path>
              <a:path w="3301" h="1365">
                <a:moveTo>
                  <a:pt x="5159" y="2952"/>
                </a:moveTo>
                <a:cubicBezTo>
                  <a:pt x="5153" y="3112"/>
                  <a:pt x="5135" y="3263"/>
                  <a:pt x="5135" y="3423"/>
                </a:cubicBezTo>
                <a:cubicBezTo>
                  <a:pt x="5135" y="3525"/>
                  <a:pt x="5134" y="3599"/>
                  <a:pt x="5159" y="3696"/>
                </a:cubicBezTo>
                <a:cubicBezTo>
                  <a:pt x="5350" y="3696"/>
                  <a:pt x="5307" y="3654"/>
                  <a:pt x="5407" y="3473"/>
                </a:cubicBezTo>
                <a:cubicBezTo>
                  <a:pt x="5466" y="3367"/>
                  <a:pt x="5457" y="3298"/>
                  <a:pt x="5457" y="3175"/>
                </a:cubicBezTo>
                <a:cubicBezTo>
                  <a:pt x="5457" y="3092"/>
                  <a:pt x="5415" y="3057"/>
                  <a:pt x="5358" y="3001"/>
                </a:cubicBezTo>
                <a:cubicBezTo>
                  <a:pt x="5306" y="2950"/>
                  <a:pt x="5315" y="2924"/>
                  <a:pt x="5308" y="2853"/>
                </a:cubicBezTo>
              </a:path>
              <a:path w="3301" h="1365">
                <a:moveTo>
                  <a:pt x="5556" y="2828"/>
                </a:moveTo>
                <a:cubicBezTo>
                  <a:pt x="5575" y="2939"/>
                  <a:pt x="5555" y="2962"/>
                  <a:pt x="5606" y="3001"/>
                </a:cubicBezTo>
                <a:cubicBezTo>
                  <a:pt x="5702" y="2958"/>
                  <a:pt x="5753" y="2904"/>
                  <a:pt x="5829" y="2828"/>
                </a:cubicBezTo>
                <a:cubicBezTo>
                  <a:pt x="5896" y="2761"/>
                  <a:pt x="5899" y="2685"/>
                  <a:pt x="5879" y="2604"/>
                </a:cubicBezTo>
                <a:cubicBezTo>
                  <a:pt x="5779" y="2604"/>
                  <a:pt x="5746" y="2604"/>
                  <a:pt x="5680" y="26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Ink 6"/>
          <p:cNvSpPr/>
          <p:nvPr/>
        </p:nvSpPr>
        <p:spPr>
          <a:xfrm>
            <a:off x="2714760" y="911160"/>
            <a:ext cx="1160280" cy="357120"/>
          </a:xfrm>
          <a:custGeom>
            <a:avLst/>
            <a:gdLst/>
            <a:ahLst/>
            <a:rect l="l" t="t" r="r" b="b"/>
            <a:pathLst>
              <a:path w="3225" h="993">
                <a:moveTo>
                  <a:pt x="7863" y="3200"/>
                </a:moveTo>
                <a:cubicBezTo>
                  <a:pt x="7863" y="3216"/>
                  <a:pt x="7863" y="3233"/>
                  <a:pt x="7863" y="3249"/>
                </a:cubicBezTo>
                <a:cubicBezTo>
                  <a:pt x="7881" y="3170"/>
                  <a:pt x="7874" y="3105"/>
                  <a:pt x="7838" y="3026"/>
                </a:cubicBezTo>
                <a:cubicBezTo>
                  <a:pt x="7818" y="2981"/>
                  <a:pt x="7797" y="2961"/>
                  <a:pt x="7764" y="2927"/>
                </a:cubicBezTo>
                <a:cubicBezTo>
                  <a:pt x="7689" y="3015"/>
                  <a:pt x="7630" y="3093"/>
                  <a:pt x="7590" y="3200"/>
                </a:cubicBezTo>
                <a:cubicBezTo>
                  <a:pt x="7554" y="3295"/>
                  <a:pt x="7549" y="3341"/>
                  <a:pt x="7565" y="3423"/>
                </a:cubicBezTo>
                <a:cubicBezTo>
                  <a:pt x="7565" y="3468"/>
                  <a:pt x="7561" y="3481"/>
                  <a:pt x="7590" y="3497"/>
                </a:cubicBezTo>
                <a:cubicBezTo>
                  <a:pt x="7647" y="3489"/>
                  <a:pt x="7697" y="3463"/>
                  <a:pt x="7714" y="3398"/>
                </a:cubicBezTo>
                <a:cubicBezTo>
                  <a:pt x="7730" y="3340"/>
                  <a:pt x="7704" y="3278"/>
                  <a:pt x="7689" y="3225"/>
                </a:cubicBezTo>
                <a:cubicBezTo>
                  <a:pt x="7736" y="3298"/>
                  <a:pt x="7743" y="3385"/>
                  <a:pt x="7789" y="3448"/>
                </a:cubicBezTo>
                <a:cubicBezTo>
                  <a:pt x="7833" y="3509"/>
                  <a:pt x="7912" y="3543"/>
                  <a:pt x="7987" y="3522"/>
                </a:cubicBezTo>
                <a:cubicBezTo>
                  <a:pt x="8004" y="3514"/>
                  <a:pt x="8020" y="3505"/>
                  <a:pt x="8037" y="3497"/>
                </a:cubicBezTo>
              </a:path>
              <a:path w="3225" h="993">
                <a:moveTo>
                  <a:pt x="8310" y="3001"/>
                </a:moveTo>
                <a:cubicBezTo>
                  <a:pt x="8390" y="3001"/>
                  <a:pt x="8494" y="3023"/>
                  <a:pt x="8558" y="2977"/>
                </a:cubicBezTo>
              </a:path>
              <a:path w="3225" h="993">
                <a:moveTo>
                  <a:pt x="8310" y="3249"/>
                </a:moveTo>
                <a:cubicBezTo>
                  <a:pt x="8402" y="3227"/>
                  <a:pt x="8473" y="3218"/>
                  <a:pt x="8558" y="3175"/>
                </a:cubicBezTo>
              </a:path>
              <a:path w="3225" h="993">
                <a:moveTo>
                  <a:pt x="8880" y="2729"/>
                </a:moveTo>
                <a:cubicBezTo>
                  <a:pt x="8960" y="2688"/>
                  <a:pt x="9056" y="2623"/>
                  <a:pt x="9153" y="2654"/>
                </a:cubicBezTo>
                <a:cubicBezTo>
                  <a:pt x="9222" y="2676"/>
                  <a:pt x="9222" y="2755"/>
                  <a:pt x="9203" y="2803"/>
                </a:cubicBezTo>
                <a:cubicBezTo>
                  <a:pt x="9166" y="2900"/>
                  <a:pt x="9126" y="2975"/>
                  <a:pt x="9054" y="3051"/>
                </a:cubicBezTo>
                <a:cubicBezTo>
                  <a:pt x="8979" y="3130"/>
                  <a:pt x="8902" y="3186"/>
                  <a:pt x="8880" y="3299"/>
                </a:cubicBezTo>
                <a:cubicBezTo>
                  <a:pt x="8871" y="3344"/>
                  <a:pt x="8880" y="3402"/>
                  <a:pt x="8880" y="3448"/>
                </a:cubicBezTo>
                <a:cubicBezTo>
                  <a:pt x="8964" y="3476"/>
                  <a:pt x="9026" y="3483"/>
                  <a:pt x="9103" y="3423"/>
                </a:cubicBezTo>
                <a:cubicBezTo>
                  <a:pt x="9162" y="3364"/>
                  <a:pt x="9191" y="3341"/>
                  <a:pt x="9252" y="3324"/>
                </a:cubicBezTo>
              </a:path>
              <a:path w="3225" h="993">
                <a:moveTo>
                  <a:pt x="9475" y="2679"/>
                </a:moveTo>
                <a:cubicBezTo>
                  <a:pt x="9440" y="2826"/>
                  <a:pt x="9347" y="2951"/>
                  <a:pt x="9327" y="3101"/>
                </a:cubicBezTo>
                <a:cubicBezTo>
                  <a:pt x="9315" y="3187"/>
                  <a:pt x="9323" y="3301"/>
                  <a:pt x="9376" y="3373"/>
                </a:cubicBezTo>
                <a:cubicBezTo>
                  <a:pt x="9423" y="3436"/>
                  <a:pt x="9558" y="3451"/>
                  <a:pt x="9624" y="3398"/>
                </a:cubicBezTo>
                <a:cubicBezTo>
                  <a:pt x="9680" y="3353"/>
                  <a:pt x="9771" y="3217"/>
                  <a:pt x="9798" y="3150"/>
                </a:cubicBezTo>
                <a:cubicBezTo>
                  <a:pt x="9853" y="3015"/>
                  <a:pt x="9825" y="2889"/>
                  <a:pt x="9847" y="2753"/>
                </a:cubicBezTo>
                <a:cubicBezTo>
                  <a:pt x="9860" y="2670"/>
                  <a:pt x="9862" y="2551"/>
                  <a:pt x="9748" y="2530"/>
                </a:cubicBezTo>
                <a:cubicBezTo>
                  <a:pt x="9721" y="2525"/>
                  <a:pt x="9524" y="2555"/>
                  <a:pt x="9599" y="2604"/>
                </a:cubicBezTo>
                <a:cubicBezTo>
                  <a:pt x="9607" y="2604"/>
                  <a:pt x="9616" y="2604"/>
                  <a:pt x="9624" y="2604"/>
                </a:cubicBezTo>
              </a:path>
              <a:path w="3225" h="993">
                <a:moveTo>
                  <a:pt x="10120" y="2853"/>
                </a:moveTo>
                <a:cubicBezTo>
                  <a:pt x="10083" y="2981"/>
                  <a:pt x="10017" y="3099"/>
                  <a:pt x="10071" y="3225"/>
                </a:cubicBezTo>
                <a:cubicBezTo>
                  <a:pt x="10093" y="3277"/>
                  <a:pt x="10162" y="3362"/>
                  <a:pt x="10220" y="3373"/>
                </a:cubicBezTo>
                <a:cubicBezTo>
                  <a:pt x="10333" y="3395"/>
                  <a:pt x="10402" y="3358"/>
                  <a:pt x="10492" y="3299"/>
                </a:cubicBezTo>
                <a:cubicBezTo>
                  <a:pt x="10604" y="3226"/>
                  <a:pt x="10722" y="3106"/>
                  <a:pt x="10765" y="2977"/>
                </a:cubicBezTo>
                <a:cubicBezTo>
                  <a:pt x="10789" y="2904"/>
                  <a:pt x="10759" y="2815"/>
                  <a:pt x="10691" y="2778"/>
                </a:cubicBezTo>
                <a:cubicBezTo>
                  <a:pt x="10606" y="2731"/>
                  <a:pt x="10486" y="2713"/>
                  <a:pt x="10393" y="2704"/>
                </a:cubicBezTo>
                <a:cubicBezTo>
                  <a:pt x="10360" y="2704"/>
                  <a:pt x="10327" y="2704"/>
                  <a:pt x="10294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Ink 7"/>
          <p:cNvSpPr/>
          <p:nvPr/>
        </p:nvSpPr>
        <p:spPr>
          <a:xfrm>
            <a:off x="785880" y="2160720"/>
            <a:ext cx="1009440" cy="447480"/>
          </a:xfrm>
          <a:custGeom>
            <a:avLst/>
            <a:gdLst/>
            <a:ahLst/>
            <a:rect l="l" t="t" r="r" b="b"/>
            <a:pathLst>
              <a:path w="2804" h="1241">
                <a:moveTo>
                  <a:pt x="2654" y="6474"/>
                </a:moveTo>
                <a:cubicBezTo>
                  <a:pt x="2646" y="6421"/>
                  <a:pt x="2638" y="6348"/>
                  <a:pt x="2604" y="6300"/>
                </a:cubicBezTo>
                <a:cubicBezTo>
                  <a:pt x="2574" y="6258"/>
                  <a:pt x="2521" y="6102"/>
                  <a:pt x="2456" y="6102"/>
                </a:cubicBezTo>
                <a:cubicBezTo>
                  <a:pt x="2366" y="6102"/>
                  <a:pt x="2307" y="6203"/>
                  <a:pt x="2282" y="6276"/>
                </a:cubicBezTo>
                <a:cubicBezTo>
                  <a:pt x="2228" y="6431"/>
                  <a:pt x="2188" y="6609"/>
                  <a:pt x="2183" y="6772"/>
                </a:cubicBezTo>
                <a:cubicBezTo>
                  <a:pt x="2179" y="6914"/>
                  <a:pt x="2235" y="6993"/>
                  <a:pt x="2282" y="7119"/>
                </a:cubicBezTo>
                <a:cubicBezTo>
                  <a:pt x="2327" y="7239"/>
                  <a:pt x="2402" y="7238"/>
                  <a:pt x="2530" y="7243"/>
                </a:cubicBezTo>
                <a:cubicBezTo>
                  <a:pt x="2608" y="7246"/>
                  <a:pt x="2637" y="7226"/>
                  <a:pt x="2704" y="7193"/>
                </a:cubicBezTo>
              </a:path>
              <a:path w="2804" h="1241">
                <a:moveTo>
                  <a:pt x="3001" y="6648"/>
                </a:moveTo>
                <a:cubicBezTo>
                  <a:pt x="3097" y="6641"/>
                  <a:pt x="3137" y="6631"/>
                  <a:pt x="3225" y="6598"/>
                </a:cubicBezTo>
              </a:path>
              <a:path w="2804" h="1241">
                <a:moveTo>
                  <a:pt x="2977" y="6871"/>
                </a:moveTo>
                <a:cubicBezTo>
                  <a:pt x="3061" y="6864"/>
                  <a:pt x="3119" y="6848"/>
                  <a:pt x="3200" y="6821"/>
                </a:cubicBezTo>
              </a:path>
              <a:path w="2804" h="1241">
                <a:moveTo>
                  <a:pt x="3597" y="6325"/>
                </a:moveTo>
                <a:cubicBezTo>
                  <a:pt x="3681" y="6284"/>
                  <a:pt x="3769" y="6250"/>
                  <a:pt x="3870" y="6276"/>
                </a:cubicBezTo>
                <a:cubicBezTo>
                  <a:pt x="3930" y="6291"/>
                  <a:pt x="4003" y="6335"/>
                  <a:pt x="4018" y="6400"/>
                </a:cubicBezTo>
                <a:cubicBezTo>
                  <a:pt x="4039" y="6492"/>
                  <a:pt x="3947" y="6591"/>
                  <a:pt x="3894" y="6648"/>
                </a:cubicBezTo>
                <a:cubicBezTo>
                  <a:pt x="3777" y="6774"/>
                  <a:pt x="3717" y="6864"/>
                  <a:pt x="3646" y="7020"/>
                </a:cubicBezTo>
                <a:cubicBezTo>
                  <a:pt x="3613" y="7092"/>
                  <a:pt x="3633" y="7154"/>
                  <a:pt x="3696" y="7193"/>
                </a:cubicBezTo>
                <a:cubicBezTo>
                  <a:pt x="3767" y="7237"/>
                  <a:pt x="3871" y="7228"/>
                  <a:pt x="3944" y="7193"/>
                </a:cubicBezTo>
                <a:cubicBezTo>
                  <a:pt x="4027" y="7153"/>
                  <a:pt x="4094" y="7075"/>
                  <a:pt x="4167" y="7020"/>
                </a:cubicBezTo>
              </a:path>
              <a:path w="2804" h="1241">
                <a:moveTo>
                  <a:pt x="4341" y="6424"/>
                </a:moveTo>
                <a:cubicBezTo>
                  <a:pt x="4300" y="6565"/>
                  <a:pt x="4235" y="6720"/>
                  <a:pt x="4266" y="6871"/>
                </a:cubicBezTo>
                <a:cubicBezTo>
                  <a:pt x="4301" y="7038"/>
                  <a:pt x="4415" y="7077"/>
                  <a:pt x="4564" y="7069"/>
                </a:cubicBezTo>
                <a:cubicBezTo>
                  <a:pt x="4647" y="7064"/>
                  <a:pt x="4742" y="6940"/>
                  <a:pt x="4762" y="6871"/>
                </a:cubicBezTo>
                <a:cubicBezTo>
                  <a:pt x="4786" y="6789"/>
                  <a:pt x="4768" y="6652"/>
                  <a:pt x="4738" y="6573"/>
                </a:cubicBezTo>
                <a:cubicBezTo>
                  <a:pt x="4710" y="6499"/>
                  <a:pt x="4626" y="6484"/>
                  <a:pt x="4564" y="6449"/>
                </a:cubicBezTo>
                <a:cubicBezTo>
                  <a:pt x="4493" y="6409"/>
                  <a:pt x="4455" y="6370"/>
                  <a:pt x="4415" y="6300"/>
                </a:cubicBezTo>
              </a:path>
              <a:path w="2804" h="1241">
                <a:moveTo>
                  <a:pt x="4812" y="6152"/>
                </a:moveTo>
                <a:cubicBezTo>
                  <a:pt x="4786" y="6260"/>
                  <a:pt x="4765" y="6288"/>
                  <a:pt x="4787" y="6375"/>
                </a:cubicBezTo>
                <a:cubicBezTo>
                  <a:pt x="4826" y="6356"/>
                  <a:pt x="4945" y="6321"/>
                  <a:pt x="4961" y="6276"/>
                </a:cubicBezTo>
                <a:cubicBezTo>
                  <a:pt x="4983" y="6215"/>
                  <a:pt x="5002" y="6128"/>
                  <a:pt x="4961" y="6077"/>
                </a:cubicBezTo>
                <a:cubicBezTo>
                  <a:pt x="4927" y="6035"/>
                  <a:pt x="4861" y="6025"/>
                  <a:pt x="481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Ink 8"/>
          <p:cNvSpPr/>
          <p:nvPr/>
        </p:nvSpPr>
        <p:spPr>
          <a:xfrm>
            <a:off x="3098880" y="1820880"/>
            <a:ext cx="1080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8607" y="5060"/>
                </a:moveTo>
                <a:cubicBezTo>
                  <a:pt x="8706" y="5130"/>
                  <a:pt x="8702" y="5128"/>
                  <a:pt x="8806" y="5159"/>
                </a:cubicBezTo>
                <a:cubicBezTo>
                  <a:pt x="8854" y="5183"/>
                  <a:pt x="8868" y="5192"/>
                  <a:pt x="8905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402000" y="1473120"/>
            <a:ext cx="822240" cy="455760"/>
          </a:xfrm>
          <a:custGeom>
            <a:avLst/>
            <a:gdLst/>
            <a:ahLst/>
            <a:rect l="l" t="t" r="r" b="b"/>
            <a:pathLst>
              <a:path w="2283" h="1266">
                <a:moveTo>
                  <a:pt x="9525" y="4266"/>
                </a:moveTo>
                <a:cubicBezTo>
                  <a:pt x="9525" y="4363"/>
                  <a:pt x="9488" y="4418"/>
                  <a:pt x="9475" y="4514"/>
                </a:cubicBezTo>
                <a:cubicBezTo>
                  <a:pt x="9461" y="4617"/>
                  <a:pt x="9461" y="4733"/>
                  <a:pt x="9451" y="4837"/>
                </a:cubicBezTo>
                <a:cubicBezTo>
                  <a:pt x="9441" y="4938"/>
                  <a:pt x="9446" y="5039"/>
                  <a:pt x="9475" y="5135"/>
                </a:cubicBezTo>
                <a:cubicBezTo>
                  <a:pt x="9511" y="5252"/>
                  <a:pt x="9534" y="5245"/>
                  <a:pt x="9624" y="5308"/>
                </a:cubicBezTo>
                <a:cubicBezTo>
                  <a:pt x="9718" y="5373"/>
                  <a:pt x="9754" y="5364"/>
                  <a:pt x="9847" y="5308"/>
                </a:cubicBezTo>
                <a:cubicBezTo>
                  <a:pt x="9946" y="5248"/>
                  <a:pt x="9973" y="5267"/>
                  <a:pt x="9996" y="5135"/>
                </a:cubicBezTo>
                <a:cubicBezTo>
                  <a:pt x="10008" y="5065"/>
                  <a:pt x="9962" y="4990"/>
                  <a:pt x="9922" y="4936"/>
                </a:cubicBezTo>
                <a:cubicBezTo>
                  <a:pt x="9880" y="4879"/>
                  <a:pt x="9792" y="4926"/>
                  <a:pt x="9748" y="4961"/>
                </a:cubicBezTo>
                <a:cubicBezTo>
                  <a:pt x="9685" y="5011"/>
                  <a:pt x="9653" y="5056"/>
                  <a:pt x="9649" y="5135"/>
                </a:cubicBezTo>
                <a:cubicBezTo>
                  <a:pt x="9642" y="5256"/>
                  <a:pt x="9675" y="5217"/>
                  <a:pt x="9773" y="5209"/>
                </a:cubicBezTo>
              </a:path>
              <a:path w="2283" h="1266">
                <a:moveTo>
                  <a:pt x="10542" y="4465"/>
                </a:moveTo>
                <a:cubicBezTo>
                  <a:pt x="10538" y="4349"/>
                  <a:pt x="10586" y="4200"/>
                  <a:pt x="10443" y="4192"/>
                </a:cubicBezTo>
                <a:cubicBezTo>
                  <a:pt x="10376" y="4188"/>
                  <a:pt x="10286" y="4242"/>
                  <a:pt x="10244" y="4291"/>
                </a:cubicBezTo>
                <a:cubicBezTo>
                  <a:pt x="10210" y="4331"/>
                  <a:pt x="10158" y="4410"/>
                  <a:pt x="10170" y="4465"/>
                </a:cubicBezTo>
                <a:cubicBezTo>
                  <a:pt x="10189" y="4549"/>
                  <a:pt x="10249" y="4560"/>
                  <a:pt x="10319" y="4564"/>
                </a:cubicBezTo>
                <a:cubicBezTo>
                  <a:pt x="10386" y="4567"/>
                  <a:pt x="10444" y="4534"/>
                  <a:pt x="10492" y="4490"/>
                </a:cubicBezTo>
                <a:cubicBezTo>
                  <a:pt x="10520" y="4465"/>
                  <a:pt x="10612" y="4358"/>
                  <a:pt x="10542" y="4390"/>
                </a:cubicBezTo>
                <a:cubicBezTo>
                  <a:pt x="10542" y="4567"/>
                  <a:pt x="10545" y="4742"/>
                  <a:pt x="10567" y="4911"/>
                </a:cubicBezTo>
                <a:cubicBezTo>
                  <a:pt x="10576" y="4977"/>
                  <a:pt x="10576" y="5046"/>
                  <a:pt x="10567" y="5085"/>
                </a:cubicBezTo>
                <a:cubicBezTo>
                  <a:pt x="10567" y="5093"/>
                  <a:pt x="10567" y="5102"/>
                  <a:pt x="10567" y="5110"/>
                </a:cubicBezTo>
              </a:path>
              <a:path w="2283" h="1266">
                <a:moveTo>
                  <a:pt x="10840" y="5085"/>
                </a:moveTo>
                <a:cubicBezTo>
                  <a:pt x="10877" y="5104"/>
                  <a:pt x="10938" y="5081"/>
                  <a:pt x="10914" y="5011"/>
                </a:cubicBezTo>
                <a:cubicBezTo>
                  <a:pt x="10881" y="4914"/>
                  <a:pt x="10818" y="5064"/>
                  <a:pt x="10815" y="5085"/>
                </a:cubicBezTo>
                <a:cubicBezTo>
                  <a:pt x="10837" y="5063"/>
                  <a:pt x="10842" y="5054"/>
                  <a:pt x="10864" y="5060"/>
                </a:cubicBezTo>
              </a:path>
              <a:path w="2283" h="1266">
                <a:moveTo>
                  <a:pt x="11187" y="4217"/>
                </a:moveTo>
                <a:cubicBezTo>
                  <a:pt x="11299" y="4161"/>
                  <a:pt x="11403" y="4147"/>
                  <a:pt x="11534" y="4142"/>
                </a:cubicBezTo>
                <a:cubicBezTo>
                  <a:pt x="11604" y="4139"/>
                  <a:pt x="11678" y="4126"/>
                  <a:pt x="11733" y="4093"/>
                </a:cubicBezTo>
              </a:path>
              <a:path w="2283" h="1266">
                <a:moveTo>
                  <a:pt x="11187" y="4192"/>
                </a:moveTo>
                <a:cubicBezTo>
                  <a:pt x="11168" y="4282"/>
                  <a:pt x="11162" y="4349"/>
                  <a:pt x="11162" y="4440"/>
                </a:cubicBezTo>
                <a:cubicBezTo>
                  <a:pt x="11162" y="4485"/>
                  <a:pt x="11158" y="4498"/>
                  <a:pt x="11187" y="4514"/>
                </a:cubicBezTo>
                <a:cubicBezTo>
                  <a:pt x="11252" y="4506"/>
                  <a:pt x="11307" y="4494"/>
                  <a:pt x="11361" y="4465"/>
                </a:cubicBezTo>
                <a:cubicBezTo>
                  <a:pt x="11463" y="4410"/>
                  <a:pt x="11483" y="4408"/>
                  <a:pt x="11559" y="4490"/>
                </a:cubicBezTo>
                <a:cubicBezTo>
                  <a:pt x="11610" y="4544"/>
                  <a:pt x="11648" y="4641"/>
                  <a:pt x="11658" y="4713"/>
                </a:cubicBezTo>
                <a:cubicBezTo>
                  <a:pt x="11670" y="4806"/>
                  <a:pt x="11705" y="4940"/>
                  <a:pt x="11683" y="5035"/>
                </a:cubicBezTo>
                <a:cubicBezTo>
                  <a:pt x="11662" y="5127"/>
                  <a:pt x="11620" y="5214"/>
                  <a:pt x="11534" y="5234"/>
                </a:cubicBezTo>
                <a:cubicBezTo>
                  <a:pt x="11468" y="5249"/>
                  <a:pt x="11417" y="5212"/>
                  <a:pt x="11361" y="5184"/>
                </a:cubicBezTo>
                <a:cubicBezTo>
                  <a:pt x="11320" y="5164"/>
                  <a:pt x="11314" y="5155"/>
                  <a:pt x="11286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901800" y="1562040"/>
            <a:ext cx="393480" cy="509760"/>
          </a:xfrm>
          <a:custGeom>
            <a:avLst/>
            <a:gdLst/>
            <a:ahLst/>
            <a:rect l="l" t="t" r="r" b="b"/>
            <a:pathLst>
              <a:path w="1093" h="1415">
                <a:moveTo>
                  <a:pt x="2580" y="4762"/>
                </a:moveTo>
                <a:cubicBezTo>
                  <a:pt x="2618" y="4908"/>
                  <a:pt x="2626" y="5057"/>
                  <a:pt x="2629" y="5209"/>
                </a:cubicBezTo>
                <a:cubicBezTo>
                  <a:pt x="2631" y="5325"/>
                  <a:pt x="2631" y="5468"/>
                  <a:pt x="2654" y="5581"/>
                </a:cubicBezTo>
                <a:cubicBezTo>
                  <a:pt x="2668" y="5650"/>
                  <a:pt x="2679" y="5685"/>
                  <a:pt x="2679" y="5755"/>
                </a:cubicBezTo>
                <a:cubicBezTo>
                  <a:pt x="2646" y="5657"/>
                  <a:pt x="2654" y="5563"/>
                  <a:pt x="2654" y="5457"/>
                </a:cubicBezTo>
                <a:cubicBezTo>
                  <a:pt x="2654" y="5312"/>
                  <a:pt x="2631" y="5178"/>
                  <a:pt x="2629" y="5035"/>
                </a:cubicBezTo>
                <a:cubicBezTo>
                  <a:pt x="2626" y="4844"/>
                  <a:pt x="2625" y="4693"/>
                  <a:pt x="2679" y="4514"/>
                </a:cubicBezTo>
                <a:cubicBezTo>
                  <a:pt x="2716" y="4391"/>
                  <a:pt x="2735" y="4409"/>
                  <a:pt x="2828" y="4366"/>
                </a:cubicBezTo>
                <a:cubicBezTo>
                  <a:pt x="2836" y="4358"/>
                  <a:pt x="2845" y="4349"/>
                  <a:pt x="2853" y="4341"/>
                </a:cubicBezTo>
                <a:cubicBezTo>
                  <a:pt x="2904" y="4406"/>
                  <a:pt x="2924" y="4431"/>
                  <a:pt x="2927" y="4514"/>
                </a:cubicBezTo>
                <a:cubicBezTo>
                  <a:pt x="2932" y="4667"/>
                  <a:pt x="2904" y="4766"/>
                  <a:pt x="2853" y="4911"/>
                </a:cubicBezTo>
                <a:cubicBezTo>
                  <a:pt x="2823" y="4995"/>
                  <a:pt x="2795" y="5005"/>
                  <a:pt x="2729" y="5060"/>
                </a:cubicBezTo>
                <a:cubicBezTo>
                  <a:pt x="2803" y="5053"/>
                  <a:pt x="2883" y="5027"/>
                  <a:pt x="2952" y="5060"/>
                </a:cubicBezTo>
                <a:cubicBezTo>
                  <a:pt x="3041" y="5103"/>
                  <a:pt x="3097" y="5163"/>
                  <a:pt x="3101" y="5259"/>
                </a:cubicBezTo>
                <a:cubicBezTo>
                  <a:pt x="3105" y="5351"/>
                  <a:pt x="3061" y="5436"/>
                  <a:pt x="3001" y="5507"/>
                </a:cubicBezTo>
                <a:cubicBezTo>
                  <a:pt x="2933" y="5588"/>
                  <a:pt x="2766" y="5706"/>
                  <a:pt x="2679" y="5730"/>
                </a:cubicBezTo>
                <a:cubicBezTo>
                  <a:pt x="2585" y="5756"/>
                  <a:pt x="2546" y="5727"/>
                  <a:pt x="2505" y="5655"/>
                </a:cubicBezTo>
              </a:path>
              <a:path w="1093" h="1415">
                <a:moveTo>
                  <a:pt x="3274" y="4986"/>
                </a:moveTo>
                <a:cubicBezTo>
                  <a:pt x="3367" y="4932"/>
                  <a:pt x="3420" y="4884"/>
                  <a:pt x="3497" y="4862"/>
                </a:cubicBezTo>
              </a:path>
              <a:path w="1093" h="1415">
                <a:moveTo>
                  <a:pt x="3324" y="5184"/>
                </a:moveTo>
                <a:cubicBezTo>
                  <a:pt x="3442" y="5173"/>
                  <a:pt x="3492" y="5120"/>
                  <a:pt x="3597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1571760" y="1581120"/>
            <a:ext cx="366480" cy="41904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4366" y="4514"/>
                </a:moveTo>
                <a:cubicBezTo>
                  <a:pt x="4366" y="4633"/>
                  <a:pt x="4387" y="4743"/>
                  <a:pt x="4390" y="4862"/>
                </a:cubicBezTo>
                <a:cubicBezTo>
                  <a:pt x="4393" y="4972"/>
                  <a:pt x="4415" y="5071"/>
                  <a:pt x="4415" y="5184"/>
                </a:cubicBezTo>
                <a:cubicBezTo>
                  <a:pt x="4415" y="5268"/>
                  <a:pt x="4390" y="5345"/>
                  <a:pt x="4390" y="5432"/>
                </a:cubicBezTo>
                <a:cubicBezTo>
                  <a:pt x="4390" y="5482"/>
                  <a:pt x="4390" y="5498"/>
                  <a:pt x="4390" y="5531"/>
                </a:cubicBezTo>
              </a:path>
              <a:path w="1018" h="1167">
                <a:moveTo>
                  <a:pt x="4663" y="4614"/>
                </a:moveTo>
                <a:cubicBezTo>
                  <a:pt x="4707" y="4700"/>
                  <a:pt x="4694" y="4769"/>
                  <a:pt x="4688" y="4862"/>
                </a:cubicBezTo>
                <a:cubicBezTo>
                  <a:pt x="4681" y="4981"/>
                  <a:pt x="4668" y="5092"/>
                  <a:pt x="4663" y="5209"/>
                </a:cubicBezTo>
                <a:cubicBezTo>
                  <a:pt x="4659" y="5303"/>
                  <a:pt x="4702" y="5397"/>
                  <a:pt x="4738" y="5482"/>
                </a:cubicBezTo>
                <a:cubicBezTo>
                  <a:pt x="4778" y="5577"/>
                  <a:pt x="4846" y="5578"/>
                  <a:pt x="4936" y="5531"/>
                </a:cubicBezTo>
                <a:cubicBezTo>
                  <a:pt x="5000" y="5497"/>
                  <a:pt x="5082" y="5396"/>
                  <a:pt x="5110" y="5333"/>
                </a:cubicBezTo>
                <a:cubicBezTo>
                  <a:pt x="5146" y="5252"/>
                  <a:pt x="5143" y="5147"/>
                  <a:pt x="5135" y="5060"/>
                </a:cubicBezTo>
                <a:cubicBezTo>
                  <a:pt x="5115" y="4856"/>
                  <a:pt x="5080" y="4831"/>
                  <a:pt x="4961" y="4688"/>
                </a:cubicBezTo>
                <a:cubicBezTo>
                  <a:pt x="4917" y="4635"/>
                  <a:pt x="4874" y="4637"/>
                  <a:pt x="4812" y="4614"/>
                </a:cubicBezTo>
              </a:path>
              <a:path w="1018" h="1167">
                <a:moveTo>
                  <a:pt x="5135" y="4465"/>
                </a:moveTo>
                <a:cubicBezTo>
                  <a:pt x="5138" y="4518"/>
                  <a:pt x="5124" y="4639"/>
                  <a:pt x="5209" y="4663"/>
                </a:cubicBezTo>
                <a:cubicBezTo>
                  <a:pt x="5269" y="4680"/>
                  <a:pt x="5369" y="4624"/>
                  <a:pt x="5383" y="4564"/>
                </a:cubicBezTo>
                <a:cubicBezTo>
                  <a:pt x="5399" y="4493"/>
                  <a:pt x="5369" y="4443"/>
                  <a:pt x="5333" y="4390"/>
                </a:cubicBezTo>
                <a:cubicBezTo>
                  <a:pt x="5260" y="4415"/>
                  <a:pt x="5236" y="4423"/>
                  <a:pt x="5184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2803680" y="1589040"/>
            <a:ext cx="35856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7789" y="4415"/>
                </a:moveTo>
                <a:cubicBezTo>
                  <a:pt x="7796" y="4567"/>
                  <a:pt x="7813" y="4710"/>
                  <a:pt x="7813" y="4862"/>
                </a:cubicBezTo>
                <a:cubicBezTo>
                  <a:pt x="7813" y="5002"/>
                  <a:pt x="7813" y="5143"/>
                  <a:pt x="7813" y="5283"/>
                </a:cubicBezTo>
                <a:cubicBezTo>
                  <a:pt x="7849" y="5224"/>
                  <a:pt x="7836" y="5157"/>
                  <a:pt x="7863" y="5085"/>
                </a:cubicBezTo>
                <a:cubicBezTo>
                  <a:pt x="7892" y="5010"/>
                  <a:pt x="7928" y="4934"/>
                  <a:pt x="7962" y="4862"/>
                </a:cubicBezTo>
                <a:cubicBezTo>
                  <a:pt x="7988" y="4806"/>
                  <a:pt x="8071" y="4787"/>
                  <a:pt x="8136" y="4812"/>
                </a:cubicBezTo>
                <a:cubicBezTo>
                  <a:pt x="8191" y="4833"/>
                  <a:pt x="8226" y="4939"/>
                  <a:pt x="8235" y="4986"/>
                </a:cubicBezTo>
                <a:cubicBezTo>
                  <a:pt x="8246" y="5041"/>
                  <a:pt x="8200" y="5211"/>
                  <a:pt x="8136" y="5234"/>
                </a:cubicBezTo>
                <a:cubicBezTo>
                  <a:pt x="8108" y="5244"/>
                  <a:pt x="7957" y="5287"/>
                  <a:pt x="7938" y="5283"/>
                </a:cubicBezTo>
                <a:cubicBezTo>
                  <a:pt x="7893" y="5274"/>
                  <a:pt x="7850" y="5257"/>
                  <a:pt x="7838" y="5209"/>
                </a:cubicBezTo>
              </a:path>
              <a:path w="993" h="869">
                <a:moveTo>
                  <a:pt x="8632" y="4862"/>
                </a:moveTo>
                <a:cubicBezTo>
                  <a:pt x="8715" y="4862"/>
                  <a:pt x="8731" y="4862"/>
                  <a:pt x="8781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2803680" y="2286000"/>
            <a:ext cx="455400" cy="27792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8310" y="6449"/>
                </a:moveTo>
                <a:cubicBezTo>
                  <a:pt x="8330" y="6510"/>
                  <a:pt x="8327" y="6525"/>
                  <a:pt x="8359" y="6548"/>
                </a:cubicBezTo>
                <a:cubicBezTo>
                  <a:pt x="8321" y="6501"/>
                  <a:pt x="8303" y="6415"/>
                  <a:pt x="8260" y="6375"/>
                </a:cubicBezTo>
                <a:cubicBezTo>
                  <a:pt x="8187" y="6307"/>
                  <a:pt x="8096" y="6361"/>
                  <a:pt x="8037" y="6400"/>
                </a:cubicBezTo>
                <a:cubicBezTo>
                  <a:pt x="7936" y="6467"/>
                  <a:pt x="7828" y="6606"/>
                  <a:pt x="7789" y="6722"/>
                </a:cubicBezTo>
                <a:cubicBezTo>
                  <a:pt x="7755" y="6823"/>
                  <a:pt x="7801" y="6947"/>
                  <a:pt x="7863" y="7020"/>
                </a:cubicBezTo>
                <a:cubicBezTo>
                  <a:pt x="7927" y="7094"/>
                  <a:pt x="8019" y="7109"/>
                  <a:pt x="8111" y="7119"/>
                </a:cubicBezTo>
                <a:cubicBezTo>
                  <a:pt x="8219" y="7131"/>
                  <a:pt x="8353" y="7115"/>
                  <a:pt x="8458" y="7094"/>
                </a:cubicBezTo>
                <a:cubicBezTo>
                  <a:pt x="8483" y="7086"/>
                  <a:pt x="8508" y="7077"/>
                  <a:pt x="8533" y="7069"/>
                </a:cubicBezTo>
              </a:path>
              <a:path w="1266" h="770">
                <a:moveTo>
                  <a:pt x="8806" y="6672"/>
                </a:moveTo>
                <a:cubicBezTo>
                  <a:pt x="8887" y="6645"/>
                  <a:pt x="8970" y="6612"/>
                  <a:pt x="9054" y="6598"/>
                </a:cubicBezTo>
              </a:path>
              <a:path w="1266" h="770">
                <a:moveTo>
                  <a:pt x="8731" y="6821"/>
                </a:moveTo>
                <a:cubicBezTo>
                  <a:pt x="8844" y="6845"/>
                  <a:pt x="8875" y="6834"/>
                  <a:pt x="8979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483000" y="2205000"/>
            <a:ext cx="928800" cy="358920"/>
          </a:xfrm>
          <a:custGeom>
            <a:avLst/>
            <a:gdLst/>
            <a:ahLst/>
            <a:rect l="l" t="t" r="r" b="b"/>
            <a:pathLst>
              <a:path w="2581" h="993">
                <a:moveTo>
                  <a:pt x="9674" y="6251"/>
                </a:moveTo>
                <a:cubicBezTo>
                  <a:pt x="9705" y="6331"/>
                  <a:pt x="9683" y="6390"/>
                  <a:pt x="9699" y="6474"/>
                </a:cubicBezTo>
                <a:cubicBezTo>
                  <a:pt x="9716" y="6563"/>
                  <a:pt x="9705" y="6660"/>
                  <a:pt x="9723" y="6747"/>
                </a:cubicBezTo>
                <a:cubicBezTo>
                  <a:pt x="9745" y="6853"/>
                  <a:pt x="9727" y="6889"/>
                  <a:pt x="9723" y="6995"/>
                </a:cubicBezTo>
                <a:cubicBezTo>
                  <a:pt x="9722" y="7019"/>
                  <a:pt x="9728" y="7130"/>
                  <a:pt x="9699" y="7069"/>
                </a:cubicBezTo>
              </a:path>
              <a:path w="2581" h="993">
                <a:moveTo>
                  <a:pt x="10021" y="6300"/>
                </a:moveTo>
                <a:cubicBezTo>
                  <a:pt x="10071" y="6222"/>
                  <a:pt x="10099" y="6181"/>
                  <a:pt x="10195" y="6176"/>
                </a:cubicBezTo>
                <a:cubicBezTo>
                  <a:pt x="10268" y="6172"/>
                  <a:pt x="10367" y="6166"/>
                  <a:pt x="10418" y="6226"/>
                </a:cubicBezTo>
                <a:cubicBezTo>
                  <a:pt x="10465" y="6281"/>
                  <a:pt x="10445" y="6350"/>
                  <a:pt x="10418" y="6400"/>
                </a:cubicBezTo>
                <a:cubicBezTo>
                  <a:pt x="10379" y="6472"/>
                  <a:pt x="10342" y="6488"/>
                  <a:pt x="10269" y="6524"/>
                </a:cubicBezTo>
                <a:cubicBezTo>
                  <a:pt x="10220" y="6548"/>
                  <a:pt x="10188" y="6547"/>
                  <a:pt x="10145" y="6573"/>
                </a:cubicBezTo>
                <a:cubicBezTo>
                  <a:pt x="10228" y="6542"/>
                  <a:pt x="10307" y="6532"/>
                  <a:pt x="10393" y="6573"/>
                </a:cubicBezTo>
                <a:cubicBezTo>
                  <a:pt x="10434" y="6592"/>
                  <a:pt x="10471" y="6662"/>
                  <a:pt x="10492" y="6697"/>
                </a:cubicBezTo>
                <a:cubicBezTo>
                  <a:pt x="10535" y="6770"/>
                  <a:pt x="10565" y="6858"/>
                  <a:pt x="10542" y="6945"/>
                </a:cubicBezTo>
                <a:cubicBezTo>
                  <a:pt x="10512" y="7059"/>
                  <a:pt x="10413" y="7065"/>
                  <a:pt x="10319" y="7069"/>
                </a:cubicBezTo>
                <a:cubicBezTo>
                  <a:pt x="10248" y="7072"/>
                  <a:pt x="10217" y="7042"/>
                  <a:pt x="10170" y="6995"/>
                </a:cubicBezTo>
                <a:cubicBezTo>
                  <a:pt x="10162" y="6987"/>
                  <a:pt x="10153" y="6978"/>
                  <a:pt x="10145" y="6970"/>
                </a:cubicBezTo>
              </a:path>
              <a:path w="2581" h="993">
                <a:moveTo>
                  <a:pt x="10815" y="6152"/>
                </a:moveTo>
                <a:cubicBezTo>
                  <a:pt x="10815" y="6242"/>
                  <a:pt x="10801" y="6317"/>
                  <a:pt x="10790" y="6400"/>
                </a:cubicBezTo>
                <a:cubicBezTo>
                  <a:pt x="10779" y="6484"/>
                  <a:pt x="10750" y="6567"/>
                  <a:pt x="10740" y="6648"/>
                </a:cubicBezTo>
                <a:cubicBezTo>
                  <a:pt x="10729" y="6739"/>
                  <a:pt x="10741" y="6861"/>
                  <a:pt x="10765" y="6945"/>
                </a:cubicBezTo>
                <a:cubicBezTo>
                  <a:pt x="10788" y="7025"/>
                  <a:pt x="10788" y="7054"/>
                  <a:pt x="10864" y="7094"/>
                </a:cubicBezTo>
                <a:cubicBezTo>
                  <a:pt x="10949" y="7139"/>
                  <a:pt x="11004" y="7107"/>
                  <a:pt x="11088" y="7094"/>
                </a:cubicBezTo>
                <a:cubicBezTo>
                  <a:pt x="11158" y="7083"/>
                  <a:pt x="11173" y="7059"/>
                  <a:pt x="11212" y="6995"/>
                </a:cubicBezTo>
                <a:cubicBezTo>
                  <a:pt x="11252" y="6929"/>
                  <a:pt x="11283" y="6896"/>
                  <a:pt x="11237" y="6821"/>
                </a:cubicBezTo>
                <a:cubicBezTo>
                  <a:pt x="11195" y="6752"/>
                  <a:pt x="11144" y="6782"/>
                  <a:pt x="11088" y="6821"/>
                </a:cubicBezTo>
                <a:cubicBezTo>
                  <a:pt x="11059" y="6841"/>
                  <a:pt x="11008" y="6921"/>
                  <a:pt x="11013" y="6945"/>
                </a:cubicBezTo>
                <a:cubicBezTo>
                  <a:pt x="11018" y="6972"/>
                  <a:pt x="11048" y="7058"/>
                  <a:pt x="11088" y="7069"/>
                </a:cubicBezTo>
                <a:cubicBezTo>
                  <a:pt x="11104" y="7069"/>
                  <a:pt x="11121" y="7069"/>
                  <a:pt x="11137" y="7069"/>
                </a:cubicBezTo>
              </a:path>
              <a:path w="2581" h="993">
                <a:moveTo>
                  <a:pt x="11559" y="7020"/>
                </a:moveTo>
                <a:cubicBezTo>
                  <a:pt x="11567" y="7028"/>
                  <a:pt x="11576" y="7037"/>
                  <a:pt x="11584" y="7045"/>
                </a:cubicBezTo>
              </a:path>
              <a:path w="2581" h="993">
                <a:moveTo>
                  <a:pt x="12154" y="6325"/>
                </a:moveTo>
                <a:cubicBezTo>
                  <a:pt x="12154" y="6278"/>
                  <a:pt x="12174" y="6171"/>
                  <a:pt x="12105" y="6152"/>
                </a:cubicBezTo>
                <a:cubicBezTo>
                  <a:pt x="12034" y="6132"/>
                  <a:pt x="11962" y="6165"/>
                  <a:pt x="11906" y="6176"/>
                </a:cubicBezTo>
                <a:cubicBezTo>
                  <a:pt x="11860" y="6185"/>
                  <a:pt x="11754" y="6192"/>
                  <a:pt x="11733" y="6251"/>
                </a:cubicBezTo>
                <a:cubicBezTo>
                  <a:pt x="11701" y="6342"/>
                  <a:pt x="11809" y="6405"/>
                  <a:pt x="11857" y="6449"/>
                </a:cubicBezTo>
                <a:cubicBezTo>
                  <a:pt x="11946" y="6530"/>
                  <a:pt x="12025" y="6609"/>
                  <a:pt x="12105" y="6697"/>
                </a:cubicBezTo>
                <a:cubicBezTo>
                  <a:pt x="12180" y="6780"/>
                  <a:pt x="12209" y="6859"/>
                  <a:pt x="12229" y="6970"/>
                </a:cubicBezTo>
                <a:cubicBezTo>
                  <a:pt x="12126" y="7039"/>
                  <a:pt x="12146" y="7014"/>
                  <a:pt x="12055" y="6970"/>
                </a:cubicBezTo>
                <a:cubicBezTo>
                  <a:pt x="11995" y="6941"/>
                  <a:pt x="11926" y="6921"/>
                  <a:pt x="11906" y="6846"/>
                </a:cubicBezTo>
                <a:cubicBezTo>
                  <a:pt x="11891" y="6790"/>
                  <a:pt x="11914" y="6698"/>
                  <a:pt x="11931" y="6648"/>
                </a:cubicBezTo>
                <a:cubicBezTo>
                  <a:pt x="11961" y="6560"/>
                  <a:pt x="12069" y="6472"/>
                  <a:pt x="12129" y="6400"/>
                </a:cubicBezTo>
                <a:cubicBezTo>
                  <a:pt x="12175" y="6344"/>
                  <a:pt x="12237" y="6302"/>
                  <a:pt x="12254" y="6226"/>
                </a:cubicBezTo>
                <a:cubicBezTo>
                  <a:pt x="12266" y="6171"/>
                  <a:pt x="12238" y="6160"/>
                  <a:pt x="12204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500040" y="3143160"/>
            <a:ext cx="1135080" cy="349200"/>
          </a:xfrm>
          <a:custGeom>
            <a:avLst/>
            <a:gdLst/>
            <a:ahLst/>
            <a:rect l="l" t="t" r="r" b="b"/>
            <a:pathLst>
              <a:path w="3151" h="969">
                <a:moveTo>
                  <a:pt x="1786" y="9227"/>
                </a:moveTo>
                <a:cubicBezTo>
                  <a:pt x="1786" y="9202"/>
                  <a:pt x="1786" y="9178"/>
                  <a:pt x="1786" y="9153"/>
                </a:cubicBezTo>
                <a:cubicBezTo>
                  <a:pt x="1694" y="9153"/>
                  <a:pt x="1623" y="9157"/>
                  <a:pt x="1538" y="9178"/>
                </a:cubicBezTo>
                <a:cubicBezTo>
                  <a:pt x="1481" y="9192"/>
                  <a:pt x="1443" y="9245"/>
                  <a:pt x="1488" y="9302"/>
                </a:cubicBezTo>
                <a:cubicBezTo>
                  <a:pt x="1499" y="9316"/>
                  <a:pt x="1572" y="9370"/>
                  <a:pt x="1588" y="9376"/>
                </a:cubicBezTo>
                <a:cubicBezTo>
                  <a:pt x="1683" y="9411"/>
                  <a:pt x="1731" y="9464"/>
                  <a:pt x="1786" y="9550"/>
                </a:cubicBezTo>
                <a:cubicBezTo>
                  <a:pt x="1829" y="9618"/>
                  <a:pt x="1809" y="9637"/>
                  <a:pt x="1761" y="9674"/>
                </a:cubicBezTo>
                <a:cubicBezTo>
                  <a:pt x="1711" y="9713"/>
                  <a:pt x="1652" y="9699"/>
                  <a:pt x="1588" y="9699"/>
                </a:cubicBezTo>
                <a:cubicBezTo>
                  <a:pt x="1551" y="9699"/>
                  <a:pt x="1406" y="9691"/>
                  <a:pt x="1389" y="9674"/>
                </a:cubicBezTo>
                <a:cubicBezTo>
                  <a:pt x="1389" y="9657"/>
                  <a:pt x="1389" y="9641"/>
                  <a:pt x="1389" y="9624"/>
                </a:cubicBezTo>
              </a:path>
              <a:path w="3151" h="969">
                <a:moveTo>
                  <a:pt x="2108" y="9227"/>
                </a:moveTo>
                <a:cubicBezTo>
                  <a:pt x="2124" y="9382"/>
                  <a:pt x="2102" y="9393"/>
                  <a:pt x="2084" y="9525"/>
                </a:cubicBezTo>
                <a:cubicBezTo>
                  <a:pt x="2084" y="9550"/>
                  <a:pt x="2084" y="9574"/>
                  <a:pt x="2084" y="9599"/>
                </a:cubicBezTo>
              </a:path>
              <a:path w="3151" h="969">
                <a:moveTo>
                  <a:pt x="2133" y="9004"/>
                </a:moveTo>
                <a:cubicBezTo>
                  <a:pt x="2141" y="8987"/>
                  <a:pt x="2150" y="8971"/>
                  <a:pt x="2158" y="8954"/>
                </a:cubicBezTo>
              </a:path>
              <a:path w="3151" h="969">
                <a:moveTo>
                  <a:pt x="2356" y="9500"/>
                </a:moveTo>
                <a:cubicBezTo>
                  <a:pt x="2356" y="9601"/>
                  <a:pt x="2366" y="9622"/>
                  <a:pt x="2332" y="9674"/>
                </a:cubicBezTo>
                <a:cubicBezTo>
                  <a:pt x="2332" y="9591"/>
                  <a:pt x="2330" y="9521"/>
                  <a:pt x="2356" y="9451"/>
                </a:cubicBezTo>
                <a:cubicBezTo>
                  <a:pt x="2378" y="9393"/>
                  <a:pt x="2421" y="9262"/>
                  <a:pt x="2480" y="9227"/>
                </a:cubicBezTo>
                <a:cubicBezTo>
                  <a:pt x="2562" y="9178"/>
                  <a:pt x="2658" y="9242"/>
                  <a:pt x="2679" y="9302"/>
                </a:cubicBezTo>
                <a:cubicBezTo>
                  <a:pt x="2698" y="9355"/>
                  <a:pt x="2726" y="9395"/>
                  <a:pt x="2729" y="9451"/>
                </a:cubicBezTo>
                <a:cubicBezTo>
                  <a:pt x="2734" y="9528"/>
                  <a:pt x="2713" y="9633"/>
                  <a:pt x="2753" y="9674"/>
                </a:cubicBezTo>
              </a:path>
              <a:path w="3151" h="969">
                <a:moveTo>
                  <a:pt x="3051" y="9029"/>
                </a:moveTo>
                <a:cubicBezTo>
                  <a:pt x="3067" y="9116"/>
                  <a:pt x="3097" y="9236"/>
                  <a:pt x="3076" y="9327"/>
                </a:cubicBezTo>
                <a:cubicBezTo>
                  <a:pt x="3055" y="9419"/>
                  <a:pt x="3051" y="9500"/>
                  <a:pt x="3051" y="9599"/>
                </a:cubicBezTo>
                <a:cubicBezTo>
                  <a:pt x="3051" y="9657"/>
                  <a:pt x="3051" y="9666"/>
                  <a:pt x="3051" y="9699"/>
                </a:cubicBezTo>
              </a:path>
              <a:path w="3151" h="969">
                <a:moveTo>
                  <a:pt x="3448" y="9079"/>
                </a:moveTo>
                <a:cubicBezTo>
                  <a:pt x="3539" y="9079"/>
                  <a:pt x="3630" y="9079"/>
                  <a:pt x="3721" y="9079"/>
                </a:cubicBezTo>
              </a:path>
              <a:path w="3151" h="969">
                <a:moveTo>
                  <a:pt x="3423" y="9079"/>
                </a:moveTo>
                <a:cubicBezTo>
                  <a:pt x="3363" y="9168"/>
                  <a:pt x="3306" y="9202"/>
                  <a:pt x="3349" y="9302"/>
                </a:cubicBezTo>
                <a:cubicBezTo>
                  <a:pt x="3420" y="9302"/>
                  <a:pt x="3430" y="9242"/>
                  <a:pt x="3497" y="9227"/>
                </a:cubicBezTo>
                <a:cubicBezTo>
                  <a:pt x="3581" y="9209"/>
                  <a:pt x="3660" y="9223"/>
                  <a:pt x="3696" y="9302"/>
                </a:cubicBezTo>
                <a:cubicBezTo>
                  <a:pt x="3727" y="9369"/>
                  <a:pt x="3766" y="9426"/>
                  <a:pt x="3770" y="9500"/>
                </a:cubicBezTo>
                <a:cubicBezTo>
                  <a:pt x="3775" y="9596"/>
                  <a:pt x="3707" y="9632"/>
                  <a:pt x="3646" y="9674"/>
                </a:cubicBezTo>
                <a:cubicBezTo>
                  <a:pt x="3600" y="9706"/>
                  <a:pt x="3499" y="9705"/>
                  <a:pt x="3448" y="9674"/>
                </a:cubicBezTo>
                <a:cubicBezTo>
                  <a:pt x="3409" y="9635"/>
                  <a:pt x="3392" y="9633"/>
                  <a:pt x="3398" y="9599"/>
                </a:cubicBezTo>
              </a:path>
              <a:path w="3151" h="969">
                <a:moveTo>
                  <a:pt x="3994" y="9103"/>
                </a:moveTo>
                <a:cubicBezTo>
                  <a:pt x="3969" y="9198"/>
                  <a:pt x="3900" y="9352"/>
                  <a:pt x="3894" y="9451"/>
                </a:cubicBezTo>
                <a:cubicBezTo>
                  <a:pt x="3890" y="9513"/>
                  <a:pt x="3917" y="9580"/>
                  <a:pt x="3969" y="9599"/>
                </a:cubicBezTo>
                <a:cubicBezTo>
                  <a:pt x="4021" y="9618"/>
                  <a:pt x="4145" y="9640"/>
                  <a:pt x="4192" y="9599"/>
                </a:cubicBezTo>
                <a:cubicBezTo>
                  <a:pt x="4244" y="9554"/>
                  <a:pt x="4302" y="9443"/>
                  <a:pt x="4291" y="9376"/>
                </a:cubicBezTo>
                <a:cubicBezTo>
                  <a:pt x="4282" y="9319"/>
                  <a:pt x="4222" y="9183"/>
                  <a:pt x="4167" y="9153"/>
                </a:cubicBezTo>
                <a:cubicBezTo>
                  <a:pt x="4136" y="9136"/>
                  <a:pt x="4120" y="9113"/>
                  <a:pt x="4093" y="9079"/>
                </a:cubicBezTo>
              </a:path>
              <a:path w="3151" h="969">
                <a:moveTo>
                  <a:pt x="4316" y="8855"/>
                </a:moveTo>
                <a:cubicBezTo>
                  <a:pt x="4295" y="8939"/>
                  <a:pt x="4280" y="8958"/>
                  <a:pt x="4316" y="9004"/>
                </a:cubicBezTo>
                <a:cubicBezTo>
                  <a:pt x="4391" y="9004"/>
                  <a:pt x="4468" y="9028"/>
                  <a:pt x="4514" y="8954"/>
                </a:cubicBezTo>
                <a:cubicBezTo>
                  <a:pt x="4547" y="8901"/>
                  <a:pt x="4551" y="8770"/>
                  <a:pt x="4490" y="8731"/>
                </a:cubicBezTo>
                <a:cubicBezTo>
                  <a:pt x="4467" y="8716"/>
                  <a:pt x="4370" y="8731"/>
                  <a:pt x="4341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509760" y="3214800"/>
            <a:ext cx="2589120" cy="795240"/>
          </a:xfrm>
          <a:custGeom>
            <a:avLst/>
            <a:gdLst/>
            <a:ahLst/>
            <a:rect l="l" t="t" r="r" b="b"/>
            <a:pathLst>
              <a:path w="7194" h="2208">
                <a:moveTo>
                  <a:pt x="1414" y="9922"/>
                </a:moveTo>
                <a:cubicBezTo>
                  <a:pt x="1496" y="10003"/>
                  <a:pt x="1633" y="9971"/>
                  <a:pt x="1761" y="9971"/>
                </a:cubicBezTo>
                <a:cubicBezTo>
                  <a:pt x="2669" y="9971"/>
                  <a:pt x="4770" y="10735"/>
                  <a:pt x="4366" y="9922"/>
                </a:cubicBezTo>
              </a:path>
              <a:path w="7194" h="2208">
                <a:moveTo>
                  <a:pt x="2034" y="10418"/>
                </a:moveTo>
                <a:cubicBezTo>
                  <a:pt x="1925" y="10473"/>
                  <a:pt x="2081" y="10418"/>
                  <a:pt x="2133" y="10418"/>
                </a:cubicBezTo>
                <a:cubicBezTo>
                  <a:pt x="2248" y="10418"/>
                  <a:pt x="2207" y="10435"/>
                  <a:pt x="2282" y="10492"/>
                </a:cubicBezTo>
                <a:cubicBezTo>
                  <a:pt x="2349" y="10543"/>
                  <a:pt x="2273" y="10640"/>
                  <a:pt x="2208" y="10691"/>
                </a:cubicBezTo>
                <a:cubicBezTo>
                  <a:pt x="2141" y="10744"/>
                  <a:pt x="2101" y="10813"/>
                  <a:pt x="2034" y="10864"/>
                </a:cubicBezTo>
                <a:cubicBezTo>
                  <a:pt x="1971" y="10912"/>
                  <a:pt x="1883" y="10939"/>
                  <a:pt x="1910" y="11038"/>
                </a:cubicBezTo>
                <a:cubicBezTo>
                  <a:pt x="1928" y="11104"/>
                  <a:pt x="2059" y="11088"/>
                  <a:pt x="2108" y="11088"/>
                </a:cubicBezTo>
                <a:cubicBezTo>
                  <a:pt x="2186" y="11088"/>
                  <a:pt x="2228" y="11078"/>
                  <a:pt x="2282" y="11038"/>
                </a:cubicBezTo>
              </a:path>
              <a:path w="7194" h="2208">
                <a:moveTo>
                  <a:pt x="2629" y="10641"/>
                </a:moveTo>
                <a:cubicBezTo>
                  <a:pt x="2576" y="10694"/>
                  <a:pt x="2552" y="10743"/>
                  <a:pt x="2530" y="10815"/>
                </a:cubicBezTo>
                <a:cubicBezTo>
                  <a:pt x="2515" y="10864"/>
                  <a:pt x="2490" y="10983"/>
                  <a:pt x="2505" y="11038"/>
                </a:cubicBezTo>
                <a:cubicBezTo>
                  <a:pt x="2521" y="11097"/>
                  <a:pt x="2621" y="11123"/>
                  <a:pt x="2679" y="11112"/>
                </a:cubicBezTo>
                <a:cubicBezTo>
                  <a:pt x="2761" y="11096"/>
                  <a:pt x="2816" y="11060"/>
                  <a:pt x="2853" y="10988"/>
                </a:cubicBezTo>
                <a:cubicBezTo>
                  <a:pt x="2895" y="10906"/>
                  <a:pt x="2923" y="10811"/>
                  <a:pt x="2902" y="10716"/>
                </a:cubicBezTo>
                <a:cubicBezTo>
                  <a:pt x="2889" y="10655"/>
                  <a:pt x="2844" y="10544"/>
                  <a:pt x="2778" y="10517"/>
                </a:cubicBezTo>
                <a:cubicBezTo>
                  <a:pt x="2719" y="10492"/>
                  <a:pt x="2655" y="10486"/>
                  <a:pt x="2604" y="10517"/>
                </a:cubicBezTo>
              </a:path>
              <a:path w="7194" h="2208">
                <a:moveTo>
                  <a:pt x="3125" y="10691"/>
                </a:moveTo>
                <a:cubicBezTo>
                  <a:pt x="3061" y="10839"/>
                  <a:pt x="3026" y="10891"/>
                  <a:pt x="3026" y="11038"/>
                </a:cubicBezTo>
                <a:cubicBezTo>
                  <a:pt x="3026" y="11110"/>
                  <a:pt x="3055" y="11134"/>
                  <a:pt x="3125" y="11137"/>
                </a:cubicBezTo>
                <a:cubicBezTo>
                  <a:pt x="3173" y="11139"/>
                  <a:pt x="3332" y="11146"/>
                  <a:pt x="3373" y="11112"/>
                </a:cubicBezTo>
                <a:cubicBezTo>
                  <a:pt x="3455" y="11043"/>
                  <a:pt x="3407" y="10942"/>
                  <a:pt x="3398" y="10864"/>
                </a:cubicBezTo>
                <a:cubicBezTo>
                  <a:pt x="3387" y="10767"/>
                  <a:pt x="3371" y="10763"/>
                  <a:pt x="3299" y="10691"/>
                </a:cubicBezTo>
                <a:cubicBezTo>
                  <a:pt x="3243" y="10635"/>
                  <a:pt x="3245" y="10641"/>
                  <a:pt x="3175" y="10641"/>
                </a:cubicBezTo>
              </a:path>
              <a:path w="7194" h="2208">
                <a:moveTo>
                  <a:pt x="5110" y="9971"/>
                </a:moveTo>
                <a:cubicBezTo>
                  <a:pt x="5202" y="9881"/>
                  <a:pt x="5216" y="9963"/>
                  <a:pt x="5333" y="9971"/>
                </a:cubicBezTo>
                <a:cubicBezTo>
                  <a:pt x="5366" y="9971"/>
                  <a:pt x="5399" y="9971"/>
                  <a:pt x="5432" y="9971"/>
                </a:cubicBezTo>
              </a:path>
              <a:path w="7194" h="2208">
                <a:moveTo>
                  <a:pt x="5184" y="10195"/>
                </a:moveTo>
                <a:cubicBezTo>
                  <a:pt x="5311" y="10195"/>
                  <a:pt x="5371" y="10201"/>
                  <a:pt x="5482" y="10145"/>
                </a:cubicBezTo>
              </a:path>
              <a:path w="7194" h="2208">
                <a:moveTo>
                  <a:pt x="6127" y="9302"/>
                </a:moveTo>
                <a:cubicBezTo>
                  <a:pt x="6052" y="9302"/>
                  <a:pt x="5801" y="9257"/>
                  <a:pt x="5879" y="9376"/>
                </a:cubicBezTo>
                <a:cubicBezTo>
                  <a:pt x="5941" y="9470"/>
                  <a:pt x="6004" y="9492"/>
                  <a:pt x="6077" y="9599"/>
                </a:cubicBezTo>
                <a:cubicBezTo>
                  <a:pt x="6129" y="9676"/>
                  <a:pt x="6202" y="9710"/>
                  <a:pt x="6176" y="9823"/>
                </a:cubicBezTo>
                <a:cubicBezTo>
                  <a:pt x="6160" y="9893"/>
                  <a:pt x="6058" y="9897"/>
                  <a:pt x="6003" y="9897"/>
                </a:cubicBezTo>
                <a:cubicBezTo>
                  <a:pt x="5894" y="9897"/>
                  <a:pt x="5919" y="9860"/>
                  <a:pt x="5829" y="9823"/>
                </a:cubicBezTo>
                <a:cubicBezTo>
                  <a:pt x="5796" y="9823"/>
                  <a:pt x="5787" y="9815"/>
                  <a:pt x="5804" y="9773"/>
                </a:cubicBezTo>
              </a:path>
              <a:path w="7194" h="2208">
                <a:moveTo>
                  <a:pt x="6449" y="9451"/>
                </a:moveTo>
                <a:cubicBezTo>
                  <a:pt x="6449" y="9575"/>
                  <a:pt x="6449" y="9699"/>
                  <a:pt x="6449" y="9823"/>
                </a:cubicBezTo>
              </a:path>
              <a:path w="7194" h="2208">
                <a:moveTo>
                  <a:pt x="6449" y="9079"/>
                </a:moveTo>
                <a:cubicBezTo>
                  <a:pt x="6457" y="9079"/>
                  <a:pt x="6466" y="9079"/>
                  <a:pt x="6474" y="9079"/>
                </a:cubicBezTo>
              </a:path>
              <a:path w="7194" h="2208">
                <a:moveTo>
                  <a:pt x="6697" y="9748"/>
                </a:moveTo>
                <a:cubicBezTo>
                  <a:pt x="6742" y="9703"/>
                  <a:pt x="6725" y="9669"/>
                  <a:pt x="6747" y="9599"/>
                </a:cubicBezTo>
                <a:cubicBezTo>
                  <a:pt x="6767" y="9535"/>
                  <a:pt x="6769" y="9456"/>
                  <a:pt x="6796" y="9401"/>
                </a:cubicBezTo>
                <a:cubicBezTo>
                  <a:pt x="6822" y="9348"/>
                  <a:pt x="6964" y="9364"/>
                  <a:pt x="6995" y="9401"/>
                </a:cubicBezTo>
                <a:cubicBezTo>
                  <a:pt x="7043" y="9458"/>
                  <a:pt x="7069" y="9563"/>
                  <a:pt x="7094" y="9624"/>
                </a:cubicBezTo>
                <a:cubicBezTo>
                  <a:pt x="7123" y="9696"/>
                  <a:pt x="7132" y="9839"/>
                  <a:pt x="7169" y="9897"/>
                </a:cubicBezTo>
                <a:cubicBezTo>
                  <a:pt x="7177" y="9897"/>
                  <a:pt x="7185" y="9897"/>
                  <a:pt x="7193" y="9897"/>
                </a:cubicBezTo>
              </a:path>
              <a:path w="7194" h="2208">
                <a:moveTo>
                  <a:pt x="7565" y="9079"/>
                </a:moveTo>
                <a:cubicBezTo>
                  <a:pt x="7565" y="9210"/>
                  <a:pt x="7546" y="9324"/>
                  <a:pt x="7541" y="9451"/>
                </a:cubicBezTo>
                <a:cubicBezTo>
                  <a:pt x="7538" y="9528"/>
                  <a:pt x="7543" y="9675"/>
                  <a:pt x="7565" y="9748"/>
                </a:cubicBezTo>
                <a:cubicBezTo>
                  <a:pt x="7595" y="9778"/>
                  <a:pt x="7609" y="9783"/>
                  <a:pt x="7640" y="9748"/>
                </a:cubicBezTo>
              </a:path>
              <a:path w="7194" h="2208">
                <a:moveTo>
                  <a:pt x="7888" y="9153"/>
                </a:moveTo>
                <a:cubicBezTo>
                  <a:pt x="7847" y="9249"/>
                  <a:pt x="7780" y="9344"/>
                  <a:pt x="7764" y="9451"/>
                </a:cubicBezTo>
                <a:cubicBezTo>
                  <a:pt x="7751" y="9538"/>
                  <a:pt x="7749" y="9667"/>
                  <a:pt x="7789" y="9748"/>
                </a:cubicBezTo>
                <a:cubicBezTo>
                  <a:pt x="7832" y="9836"/>
                  <a:pt x="7932" y="9870"/>
                  <a:pt x="8012" y="9922"/>
                </a:cubicBezTo>
                <a:cubicBezTo>
                  <a:pt x="8145" y="10009"/>
                  <a:pt x="8219" y="9949"/>
                  <a:pt x="8310" y="9823"/>
                </a:cubicBezTo>
                <a:cubicBezTo>
                  <a:pt x="8378" y="9729"/>
                  <a:pt x="8359" y="9608"/>
                  <a:pt x="8359" y="9500"/>
                </a:cubicBezTo>
                <a:cubicBezTo>
                  <a:pt x="8359" y="9400"/>
                  <a:pt x="8363" y="9304"/>
                  <a:pt x="8285" y="9227"/>
                </a:cubicBezTo>
                <a:cubicBezTo>
                  <a:pt x="8248" y="9190"/>
                  <a:pt x="8132" y="9127"/>
                  <a:pt x="8086" y="9103"/>
                </a:cubicBezTo>
                <a:cubicBezTo>
                  <a:pt x="8078" y="9103"/>
                  <a:pt x="8070" y="9103"/>
                  <a:pt x="8062" y="9103"/>
                </a:cubicBezTo>
              </a:path>
              <a:path w="7194" h="2208">
                <a:moveTo>
                  <a:pt x="8235" y="9079"/>
                </a:moveTo>
                <a:cubicBezTo>
                  <a:pt x="8303" y="9140"/>
                  <a:pt x="8356" y="9206"/>
                  <a:pt x="8458" y="9178"/>
                </a:cubicBezTo>
                <a:cubicBezTo>
                  <a:pt x="8539" y="9155"/>
                  <a:pt x="8519" y="9114"/>
                  <a:pt x="8582" y="9079"/>
                </a:cubicBezTo>
                <a:cubicBezTo>
                  <a:pt x="8590" y="9079"/>
                  <a:pt x="8599" y="9079"/>
                  <a:pt x="8607" y="9079"/>
                </a:cubicBezTo>
                <a:cubicBezTo>
                  <a:pt x="8572" y="8982"/>
                  <a:pt x="8569" y="8935"/>
                  <a:pt x="8458" y="8930"/>
                </a:cubicBezTo>
                <a:cubicBezTo>
                  <a:pt x="8363" y="8926"/>
                  <a:pt x="8352" y="8945"/>
                  <a:pt x="8285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1473120" y="3490920"/>
            <a:ext cx="1384560" cy="652320"/>
          </a:xfrm>
          <a:custGeom>
            <a:avLst/>
            <a:gdLst/>
            <a:ahLst/>
            <a:rect l="l" t="t" r="r" b="b"/>
            <a:pathLst>
              <a:path w="3846" h="1811">
                <a:moveTo>
                  <a:pt x="5953" y="10195"/>
                </a:moveTo>
                <a:cubicBezTo>
                  <a:pt x="6144" y="10145"/>
                  <a:pt x="6324" y="10124"/>
                  <a:pt x="6524" y="10120"/>
                </a:cubicBezTo>
                <a:cubicBezTo>
                  <a:pt x="6856" y="10114"/>
                  <a:pt x="7172" y="10116"/>
                  <a:pt x="7491" y="10071"/>
                </a:cubicBezTo>
                <a:cubicBezTo>
                  <a:pt x="7613" y="10054"/>
                  <a:pt x="7739" y="10046"/>
                  <a:pt x="7863" y="10046"/>
                </a:cubicBezTo>
                <a:cubicBezTo>
                  <a:pt x="7945" y="10046"/>
                  <a:pt x="7909" y="10024"/>
                  <a:pt x="7938" y="9971"/>
                </a:cubicBezTo>
              </a:path>
              <a:path w="3846" h="1811">
                <a:moveTo>
                  <a:pt x="7119" y="10492"/>
                </a:moveTo>
                <a:cubicBezTo>
                  <a:pt x="7096" y="10650"/>
                  <a:pt x="7069" y="10782"/>
                  <a:pt x="7069" y="10939"/>
                </a:cubicBezTo>
                <a:cubicBezTo>
                  <a:pt x="7069" y="11023"/>
                  <a:pt x="7067" y="11085"/>
                  <a:pt x="7094" y="11162"/>
                </a:cubicBezTo>
                <a:cubicBezTo>
                  <a:pt x="7114" y="11223"/>
                  <a:pt x="7112" y="11238"/>
                  <a:pt x="7144" y="11261"/>
                </a:cubicBezTo>
                <a:cubicBezTo>
                  <a:pt x="7191" y="11215"/>
                  <a:pt x="7213" y="11171"/>
                  <a:pt x="7243" y="11112"/>
                </a:cubicBezTo>
                <a:cubicBezTo>
                  <a:pt x="7273" y="11053"/>
                  <a:pt x="7303" y="10991"/>
                  <a:pt x="7342" y="10939"/>
                </a:cubicBezTo>
                <a:cubicBezTo>
                  <a:pt x="7379" y="10890"/>
                  <a:pt x="7468" y="10895"/>
                  <a:pt x="7516" y="10914"/>
                </a:cubicBezTo>
                <a:cubicBezTo>
                  <a:pt x="7605" y="10949"/>
                  <a:pt x="7678" y="11009"/>
                  <a:pt x="7689" y="11112"/>
                </a:cubicBezTo>
                <a:cubicBezTo>
                  <a:pt x="7706" y="11277"/>
                  <a:pt x="7678" y="11321"/>
                  <a:pt x="7590" y="11435"/>
                </a:cubicBezTo>
                <a:cubicBezTo>
                  <a:pt x="7542" y="11498"/>
                  <a:pt x="7463" y="11506"/>
                  <a:pt x="7392" y="11509"/>
                </a:cubicBezTo>
                <a:cubicBezTo>
                  <a:pt x="7251" y="11516"/>
                  <a:pt x="7162" y="11426"/>
                  <a:pt x="7045" y="11361"/>
                </a:cubicBezTo>
                <a:cubicBezTo>
                  <a:pt x="7012" y="11344"/>
                  <a:pt x="6978" y="11328"/>
                  <a:pt x="6945" y="11311"/>
                </a:cubicBezTo>
              </a:path>
              <a:path w="3846" h="1811">
                <a:moveTo>
                  <a:pt x="4415" y="9699"/>
                </a:moveTo>
                <a:cubicBezTo>
                  <a:pt x="4527" y="9818"/>
                  <a:pt x="4627" y="9873"/>
                  <a:pt x="4762" y="9971"/>
                </a:cubicBezTo>
                <a:cubicBezTo>
                  <a:pt x="4936" y="10097"/>
                  <a:pt x="5116" y="10222"/>
                  <a:pt x="5283" y="10344"/>
                </a:cubicBezTo>
                <a:cubicBezTo>
                  <a:pt x="5382" y="10417"/>
                  <a:pt x="5581" y="10515"/>
                  <a:pt x="5655" y="10592"/>
                </a:cubicBezTo>
                <a:cubicBezTo>
                  <a:pt x="5772" y="10714"/>
                  <a:pt x="5700" y="10672"/>
                  <a:pt x="5804" y="10716"/>
                </a:cubicBezTo>
              </a:path>
              <a:path w="3846" h="1811">
                <a:moveTo>
                  <a:pt x="5407" y="9773"/>
                </a:moveTo>
                <a:cubicBezTo>
                  <a:pt x="5242" y="9921"/>
                  <a:pt x="5088" y="10063"/>
                  <a:pt x="4911" y="10195"/>
                </a:cubicBezTo>
                <a:cubicBezTo>
                  <a:pt x="4737" y="10326"/>
                  <a:pt x="4494" y="10450"/>
                  <a:pt x="4341" y="10592"/>
                </a:cubicBezTo>
                <a:cubicBezTo>
                  <a:pt x="4256" y="10671"/>
                  <a:pt x="4179" y="10759"/>
                  <a:pt x="4093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598320" y="4197240"/>
            <a:ext cx="3017880" cy="473040"/>
          </a:xfrm>
          <a:custGeom>
            <a:avLst/>
            <a:gdLst/>
            <a:ahLst/>
            <a:rect l="l" t="t" r="r" b="b"/>
            <a:pathLst>
              <a:path w="8385" h="1316">
                <a:moveTo>
                  <a:pt x="1761" y="11658"/>
                </a:moveTo>
                <a:cubicBezTo>
                  <a:pt x="1767" y="11828"/>
                  <a:pt x="1786" y="11985"/>
                  <a:pt x="1786" y="12154"/>
                </a:cubicBezTo>
                <a:cubicBezTo>
                  <a:pt x="1786" y="12305"/>
                  <a:pt x="1819" y="12458"/>
                  <a:pt x="1836" y="12601"/>
                </a:cubicBezTo>
                <a:cubicBezTo>
                  <a:pt x="1845" y="12676"/>
                  <a:pt x="1837" y="12727"/>
                  <a:pt x="1860" y="12799"/>
                </a:cubicBezTo>
                <a:cubicBezTo>
                  <a:pt x="1860" y="12714"/>
                  <a:pt x="1872" y="12654"/>
                  <a:pt x="1885" y="12576"/>
                </a:cubicBezTo>
                <a:cubicBezTo>
                  <a:pt x="1895" y="12516"/>
                  <a:pt x="1903" y="12442"/>
                  <a:pt x="1960" y="12402"/>
                </a:cubicBezTo>
                <a:cubicBezTo>
                  <a:pt x="2021" y="12359"/>
                  <a:pt x="2068" y="12331"/>
                  <a:pt x="2133" y="12378"/>
                </a:cubicBezTo>
                <a:cubicBezTo>
                  <a:pt x="2212" y="12434"/>
                  <a:pt x="2228" y="12485"/>
                  <a:pt x="2232" y="12576"/>
                </a:cubicBezTo>
                <a:cubicBezTo>
                  <a:pt x="2235" y="12641"/>
                  <a:pt x="2248" y="12724"/>
                  <a:pt x="2208" y="12774"/>
                </a:cubicBezTo>
                <a:cubicBezTo>
                  <a:pt x="2179" y="12810"/>
                  <a:pt x="2079" y="12889"/>
                  <a:pt x="2034" y="12898"/>
                </a:cubicBezTo>
                <a:cubicBezTo>
                  <a:pt x="1968" y="12911"/>
                  <a:pt x="1889" y="12902"/>
                  <a:pt x="1836" y="12874"/>
                </a:cubicBezTo>
                <a:cubicBezTo>
                  <a:pt x="1773" y="12841"/>
                  <a:pt x="1769" y="12803"/>
                  <a:pt x="1736" y="12750"/>
                </a:cubicBezTo>
              </a:path>
              <a:path w="8385" h="1316">
                <a:moveTo>
                  <a:pt x="2753" y="12427"/>
                </a:moveTo>
                <a:cubicBezTo>
                  <a:pt x="2753" y="12345"/>
                  <a:pt x="2761" y="12292"/>
                  <a:pt x="2704" y="12229"/>
                </a:cubicBezTo>
                <a:cubicBezTo>
                  <a:pt x="2665" y="12186"/>
                  <a:pt x="2588" y="12157"/>
                  <a:pt x="2530" y="12179"/>
                </a:cubicBezTo>
                <a:cubicBezTo>
                  <a:pt x="2469" y="12202"/>
                  <a:pt x="2457" y="12288"/>
                  <a:pt x="2505" y="12328"/>
                </a:cubicBezTo>
                <a:cubicBezTo>
                  <a:pt x="2556" y="12371"/>
                  <a:pt x="2604" y="12405"/>
                  <a:pt x="2654" y="12452"/>
                </a:cubicBezTo>
                <a:cubicBezTo>
                  <a:pt x="2726" y="12519"/>
                  <a:pt x="2808" y="12588"/>
                  <a:pt x="2853" y="12675"/>
                </a:cubicBezTo>
                <a:cubicBezTo>
                  <a:pt x="2876" y="12723"/>
                  <a:pt x="2884" y="12738"/>
                  <a:pt x="2877" y="12774"/>
                </a:cubicBezTo>
                <a:cubicBezTo>
                  <a:pt x="2785" y="12766"/>
                  <a:pt x="2699" y="12766"/>
                  <a:pt x="2629" y="12700"/>
                </a:cubicBezTo>
                <a:cubicBezTo>
                  <a:pt x="2577" y="12651"/>
                  <a:pt x="2544" y="12620"/>
                  <a:pt x="2530" y="12551"/>
                </a:cubicBezTo>
              </a:path>
              <a:path w="8385" h="1316">
                <a:moveTo>
                  <a:pt x="3026" y="12229"/>
                </a:moveTo>
                <a:cubicBezTo>
                  <a:pt x="3059" y="12359"/>
                  <a:pt x="3061" y="12419"/>
                  <a:pt x="3051" y="12551"/>
                </a:cubicBezTo>
                <a:cubicBezTo>
                  <a:pt x="3049" y="12573"/>
                  <a:pt x="3051" y="12784"/>
                  <a:pt x="3051" y="12650"/>
                </a:cubicBezTo>
              </a:path>
              <a:path w="8385" h="1316">
                <a:moveTo>
                  <a:pt x="3051" y="11956"/>
                </a:moveTo>
                <a:cubicBezTo>
                  <a:pt x="3059" y="11931"/>
                  <a:pt x="3068" y="11906"/>
                  <a:pt x="3076" y="11881"/>
                </a:cubicBezTo>
              </a:path>
              <a:path w="8385" h="1316">
                <a:moveTo>
                  <a:pt x="3274" y="12452"/>
                </a:moveTo>
                <a:cubicBezTo>
                  <a:pt x="3274" y="12596"/>
                  <a:pt x="3313" y="12699"/>
                  <a:pt x="3249" y="12626"/>
                </a:cubicBezTo>
                <a:cubicBezTo>
                  <a:pt x="3249" y="12550"/>
                  <a:pt x="3251" y="12472"/>
                  <a:pt x="3274" y="12402"/>
                </a:cubicBezTo>
                <a:cubicBezTo>
                  <a:pt x="3294" y="12341"/>
                  <a:pt x="3361" y="12271"/>
                  <a:pt x="3423" y="12254"/>
                </a:cubicBezTo>
                <a:cubicBezTo>
                  <a:pt x="3541" y="12222"/>
                  <a:pt x="3547" y="12304"/>
                  <a:pt x="3572" y="12378"/>
                </a:cubicBezTo>
                <a:cubicBezTo>
                  <a:pt x="3596" y="12451"/>
                  <a:pt x="3618" y="12522"/>
                  <a:pt x="3621" y="12601"/>
                </a:cubicBezTo>
                <a:cubicBezTo>
                  <a:pt x="3621" y="12612"/>
                  <a:pt x="3648" y="12830"/>
                  <a:pt x="3671" y="12824"/>
                </a:cubicBezTo>
                <a:cubicBezTo>
                  <a:pt x="3679" y="12807"/>
                  <a:pt x="3688" y="12791"/>
                  <a:pt x="3696" y="12774"/>
                </a:cubicBezTo>
              </a:path>
              <a:path w="8385" h="1316">
                <a:moveTo>
                  <a:pt x="3919" y="12080"/>
                </a:moveTo>
                <a:cubicBezTo>
                  <a:pt x="3941" y="12192"/>
                  <a:pt x="3944" y="12288"/>
                  <a:pt x="3944" y="12402"/>
                </a:cubicBezTo>
                <a:cubicBezTo>
                  <a:pt x="3944" y="12499"/>
                  <a:pt x="3958" y="12586"/>
                  <a:pt x="3969" y="12675"/>
                </a:cubicBezTo>
                <a:cubicBezTo>
                  <a:pt x="3979" y="12751"/>
                  <a:pt x="3976" y="12784"/>
                  <a:pt x="4018" y="12849"/>
                </a:cubicBezTo>
              </a:path>
              <a:path w="8385" h="1316">
                <a:moveTo>
                  <a:pt x="4217" y="12105"/>
                </a:moveTo>
                <a:cubicBezTo>
                  <a:pt x="4301" y="12081"/>
                  <a:pt x="4414" y="12083"/>
                  <a:pt x="4490" y="12055"/>
                </a:cubicBezTo>
                <a:cubicBezTo>
                  <a:pt x="4498" y="12047"/>
                  <a:pt x="4506" y="12038"/>
                  <a:pt x="4514" y="12030"/>
                </a:cubicBezTo>
              </a:path>
              <a:path w="8385" h="1316">
                <a:moveTo>
                  <a:pt x="4242" y="12055"/>
                </a:moveTo>
                <a:cubicBezTo>
                  <a:pt x="4179" y="12105"/>
                  <a:pt x="4104" y="12157"/>
                  <a:pt x="4142" y="12254"/>
                </a:cubicBezTo>
                <a:cubicBezTo>
                  <a:pt x="4162" y="12305"/>
                  <a:pt x="4340" y="12320"/>
                  <a:pt x="4390" y="12328"/>
                </a:cubicBezTo>
                <a:cubicBezTo>
                  <a:pt x="4504" y="12346"/>
                  <a:pt x="4497" y="12344"/>
                  <a:pt x="4539" y="12427"/>
                </a:cubicBezTo>
                <a:cubicBezTo>
                  <a:pt x="4564" y="12476"/>
                  <a:pt x="4586" y="12564"/>
                  <a:pt x="4564" y="12626"/>
                </a:cubicBezTo>
                <a:cubicBezTo>
                  <a:pt x="4535" y="12705"/>
                  <a:pt x="4521" y="12771"/>
                  <a:pt x="4415" y="12799"/>
                </a:cubicBezTo>
                <a:cubicBezTo>
                  <a:pt x="4349" y="12816"/>
                  <a:pt x="4290" y="12793"/>
                  <a:pt x="4242" y="12750"/>
                </a:cubicBezTo>
                <a:cubicBezTo>
                  <a:pt x="4198" y="12710"/>
                  <a:pt x="4199" y="12680"/>
                  <a:pt x="4192" y="12626"/>
                </a:cubicBezTo>
              </a:path>
              <a:path w="8385" h="1316">
                <a:moveTo>
                  <a:pt x="4713" y="12254"/>
                </a:moveTo>
                <a:cubicBezTo>
                  <a:pt x="4693" y="12330"/>
                  <a:pt x="4598" y="12553"/>
                  <a:pt x="4614" y="12650"/>
                </a:cubicBezTo>
                <a:cubicBezTo>
                  <a:pt x="4626" y="12722"/>
                  <a:pt x="4680" y="12848"/>
                  <a:pt x="4738" y="12898"/>
                </a:cubicBezTo>
                <a:cubicBezTo>
                  <a:pt x="4808" y="12959"/>
                  <a:pt x="4896" y="12885"/>
                  <a:pt x="4936" y="12824"/>
                </a:cubicBezTo>
                <a:cubicBezTo>
                  <a:pt x="4982" y="12755"/>
                  <a:pt x="5008" y="12657"/>
                  <a:pt x="5011" y="12576"/>
                </a:cubicBezTo>
                <a:cubicBezTo>
                  <a:pt x="5016" y="12462"/>
                  <a:pt x="4956" y="12357"/>
                  <a:pt x="4911" y="12254"/>
                </a:cubicBezTo>
                <a:cubicBezTo>
                  <a:pt x="4887" y="12199"/>
                  <a:pt x="4797" y="12164"/>
                  <a:pt x="4812" y="12105"/>
                </a:cubicBezTo>
                <a:cubicBezTo>
                  <a:pt x="4820" y="12105"/>
                  <a:pt x="4829" y="12105"/>
                  <a:pt x="4837" y="12105"/>
                </a:cubicBezTo>
              </a:path>
              <a:path w="8385" h="1316">
                <a:moveTo>
                  <a:pt x="5333" y="12477"/>
                </a:moveTo>
                <a:cubicBezTo>
                  <a:pt x="5383" y="12485"/>
                  <a:pt x="5432" y="12494"/>
                  <a:pt x="5482" y="12502"/>
                </a:cubicBezTo>
              </a:path>
              <a:path w="8385" h="1316">
                <a:moveTo>
                  <a:pt x="5333" y="12601"/>
                </a:moveTo>
                <a:cubicBezTo>
                  <a:pt x="5461" y="12625"/>
                  <a:pt x="5515" y="12645"/>
                  <a:pt x="5631" y="12626"/>
                </a:cubicBezTo>
              </a:path>
              <a:path w="8385" h="1316">
                <a:moveTo>
                  <a:pt x="6152" y="12055"/>
                </a:moveTo>
                <a:cubicBezTo>
                  <a:pt x="6293" y="12119"/>
                  <a:pt x="6374" y="12148"/>
                  <a:pt x="6424" y="12303"/>
                </a:cubicBezTo>
                <a:cubicBezTo>
                  <a:pt x="6456" y="12403"/>
                  <a:pt x="6468" y="12546"/>
                  <a:pt x="6449" y="12650"/>
                </a:cubicBezTo>
                <a:cubicBezTo>
                  <a:pt x="6430" y="12755"/>
                  <a:pt x="6386" y="12817"/>
                  <a:pt x="6300" y="12874"/>
                </a:cubicBezTo>
                <a:cubicBezTo>
                  <a:pt x="6212" y="12932"/>
                  <a:pt x="6195" y="12923"/>
                  <a:pt x="6127" y="12849"/>
                </a:cubicBezTo>
                <a:cubicBezTo>
                  <a:pt x="6087" y="12806"/>
                  <a:pt x="6053" y="12737"/>
                  <a:pt x="6077" y="12675"/>
                </a:cubicBezTo>
                <a:cubicBezTo>
                  <a:pt x="6096" y="12625"/>
                  <a:pt x="6158" y="12604"/>
                  <a:pt x="6201" y="12601"/>
                </a:cubicBezTo>
                <a:cubicBezTo>
                  <a:pt x="6268" y="12597"/>
                  <a:pt x="6341" y="12590"/>
                  <a:pt x="6400" y="12626"/>
                </a:cubicBezTo>
                <a:cubicBezTo>
                  <a:pt x="6451" y="12657"/>
                  <a:pt x="6484" y="12731"/>
                  <a:pt x="6524" y="12774"/>
                </a:cubicBezTo>
                <a:cubicBezTo>
                  <a:pt x="6552" y="12803"/>
                  <a:pt x="6565" y="12811"/>
                  <a:pt x="6598" y="12799"/>
                </a:cubicBezTo>
              </a:path>
              <a:path w="8385" h="1316">
                <a:moveTo>
                  <a:pt x="6796" y="12105"/>
                </a:moveTo>
                <a:cubicBezTo>
                  <a:pt x="6749" y="12164"/>
                  <a:pt x="6722" y="12215"/>
                  <a:pt x="6697" y="12278"/>
                </a:cubicBezTo>
                <a:cubicBezTo>
                  <a:pt x="6659" y="12376"/>
                  <a:pt x="6723" y="12507"/>
                  <a:pt x="6772" y="12601"/>
                </a:cubicBezTo>
                <a:cubicBezTo>
                  <a:pt x="6804" y="12662"/>
                  <a:pt x="6906" y="12754"/>
                  <a:pt x="6970" y="12774"/>
                </a:cubicBezTo>
                <a:cubicBezTo>
                  <a:pt x="7025" y="12791"/>
                  <a:pt x="7110" y="12773"/>
                  <a:pt x="7144" y="12725"/>
                </a:cubicBezTo>
                <a:cubicBezTo>
                  <a:pt x="7201" y="12645"/>
                  <a:pt x="7193" y="12572"/>
                  <a:pt x="7193" y="12477"/>
                </a:cubicBezTo>
                <a:cubicBezTo>
                  <a:pt x="7193" y="12369"/>
                  <a:pt x="7191" y="12255"/>
                  <a:pt x="7144" y="12154"/>
                </a:cubicBezTo>
                <a:cubicBezTo>
                  <a:pt x="7108" y="12078"/>
                  <a:pt x="7019" y="11960"/>
                  <a:pt x="6921" y="11981"/>
                </a:cubicBezTo>
                <a:cubicBezTo>
                  <a:pt x="6844" y="11998"/>
                  <a:pt x="6825" y="12062"/>
                  <a:pt x="6821" y="12129"/>
                </a:cubicBezTo>
                <a:cubicBezTo>
                  <a:pt x="6817" y="12204"/>
                  <a:pt x="6870" y="12283"/>
                  <a:pt x="6896" y="12353"/>
                </a:cubicBezTo>
              </a:path>
              <a:path w="8385" h="1316">
                <a:moveTo>
                  <a:pt x="7417" y="12229"/>
                </a:moveTo>
                <a:cubicBezTo>
                  <a:pt x="7387" y="12278"/>
                  <a:pt x="7354" y="12364"/>
                  <a:pt x="7342" y="12427"/>
                </a:cubicBezTo>
                <a:cubicBezTo>
                  <a:pt x="7325" y="12517"/>
                  <a:pt x="7354" y="12596"/>
                  <a:pt x="7392" y="12675"/>
                </a:cubicBezTo>
                <a:cubicBezTo>
                  <a:pt x="7420" y="12734"/>
                  <a:pt x="7494" y="12838"/>
                  <a:pt x="7565" y="12849"/>
                </a:cubicBezTo>
                <a:cubicBezTo>
                  <a:pt x="7670" y="12865"/>
                  <a:pt x="7767" y="12852"/>
                  <a:pt x="7838" y="12774"/>
                </a:cubicBezTo>
                <a:cubicBezTo>
                  <a:pt x="7896" y="12709"/>
                  <a:pt x="7944" y="12562"/>
                  <a:pt x="7938" y="12477"/>
                </a:cubicBezTo>
                <a:cubicBezTo>
                  <a:pt x="7927" y="12335"/>
                  <a:pt x="7892" y="12247"/>
                  <a:pt x="7813" y="12129"/>
                </a:cubicBezTo>
                <a:cubicBezTo>
                  <a:pt x="7755" y="12042"/>
                  <a:pt x="7709" y="12005"/>
                  <a:pt x="7615" y="11956"/>
                </a:cubicBezTo>
                <a:cubicBezTo>
                  <a:pt x="7533" y="11913"/>
                  <a:pt x="7449" y="11943"/>
                  <a:pt x="7392" y="12030"/>
                </a:cubicBezTo>
                <a:cubicBezTo>
                  <a:pt x="7366" y="12070"/>
                  <a:pt x="7356" y="12178"/>
                  <a:pt x="7367" y="12229"/>
                </a:cubicBezTo>
                <a:cubicBezTo>
                  <a:pt x="7380" y="12291"/>
                  <a:pt x="7414" y="12346"/>
                  <a:pt x="7441" y="12402"/>
                </a:cubicBezTo>
              </a:path>
              <a:path w="8385" h="1316">
                <a:moveTo>
                  <a:pt x="8260" y="12129"/>
                </a:moveTo>
                <a:cubicBezTo>
                  <a:pt x="8178" y="12109"/>
                  <a:pt x="8162" y="12101"/>
                  <a:pt x="8111" y="12105"/>
                </a:cubicBezTo>
                <a:cubicBezTo>
                  <a:pt x="8121" y="12213"/>
                  <a:pt x="8148" y="12238"/>
                  <a:pt x="8210" y="12328"/>
                </a:cubicBezTo>
                <a:cubicBezTo>
                  <a:pt x="8265" y="12409"/>
                  <a:pt x="8444" y="12611"/>
                  <a:pt x="8384" y="12725"/>
                </a:cubicBezTo>
                <a:cubicBezTo>
                  <a:pt x="8367" y="12733"/>
                  <a:pt x="8351" y="12742"/>
                  <a:pt x="8334" y="12750"/>
                </a:cubicBezTo>
                <a:cubicBezTo>
                  <a:pt x="8272" y="12741"/>
                  <a:pt x="8235" y="12720"/>
                  <a:pt x="8186" y="12675"/>
                </a:cubicBezTo>
                <a:cubicBezTo>
                  <a:pt x="8138" y="12631"/>
                  <a:pt x="8136" y="12616"/>
                  <a:pt x="8136" y="12551"/>
                </a:cubicBezTo>
              </a:path>
              <a:path w="8385" h="1316">
                <a:moveTo>
                  <a:pt x="8533" y="12303"/>
                </a:moveTo>
                <a:cubicBezTo>
                  <a:pt x="8533" y="12344"/>
                  <a:pt x="8498" y="12617"/>
                  <a:pt x="8558" y="12675"/>
                </a:cubicBezTo>
                <a:cubicBezTo>
                  <a:pt x="8558" y="12667"/>
                  <a:pt x="8558" y="12658"/>
                  <a:pt x="8558" y="12650"/>
                </a:cubicBezTo>
              </a:path>
              <a:path w="8385" h="1316">
                <a:moveTo>
                  <a:pt x="8582" y="12005"/>
                </a:moveTo>
                <a:cubicBezTo>
                  <a:pt x="8626" y="11984"/>
                  <a:pt x="8638" y="11981"/>
                  <a:pt x="8657" y="11956"/>
                </a:cubicBezTo>
              </a:path>
              <a:path w="8385" h="1316">
                <a:moveTo>
                  <a:pt x="8706" y="12502"/>
                </a:moveTo>
                <a:cubicBezTo>
                  <a:pt x="8718" y="12595"/>
                  <a:pt x="8714" y="12679"/>
                  <a:pt x="8756" y="12750"/>
                </a:cubicBezTo>
                <a:cubicBezTo>
                  <a:pt x="8792" y="12654"/>
                  <a:pt x="8779" y="12548"/>
                  <a:pt x="8806" y="12452"/>
                </a:cubicBezTo>
                <a:cubicBezTo>
                  <a:pt x="8820" y="12403"/>
                  <a:pt x="8873" y="12339"/>
                  <a:pt x="8930" y="12353"/>
                </a:cubicBezTo>
                <a:cubicBezTo>
                  <a:pt x="8995" y="12368"/>
                  <a:pt x="9055" y="12443"/>
                  <a:pt x="9079" y="12502"/>
                </a:cubicBezTo>
                <a:cubicBezTo>
                  <a:pt x="9107" y="12570"/>
                  <a:pt x="9125" y="12663"/>
                  <a:pt x="9153" y="12725"/>
                </a:cubicBezTo>
                <a:cubicBezTo>
                  <a:pt x="9178" y="12750"/>
                  <a:pt x="9186" y="12758"/>
                  <a:pt x="9203" y="12725"/>
                </a:cubicBezTo>
              </a:path>
              <a:path w="8385" h="1316">
                <a:moveTo>
                  <a:pt x="9351" y="12105"/>
                </a:moveTo>
                <a:cubicBezTo>
                  <a:pt x="9377" y="12208"/>
                  <a:pt x="9358" y="12299"/>
                  <a:pt x="9376" y="12402"/>
                </a:cubicBezTo>
                <a:cubicBezTo>
                  <a:pt x="9391" y="12486"/>
                  <a:pt x="9416" y="12564"/>
                  <a:pt x="9426" y="12650"/>
                </a:cubicBezTo>
              </a:path>
              <a:path w="8385" h="1316">
                <a:moveTo>
                  <a:pt x="9599" y="12080"/>
                </a:moveTo>
                <a:cubicBezTo>
                  <a:pt x="9576" y="12178"/>
                  <a:pt x="9526" y="12298"/>
                  <a:pt x="9550" y="12402"/>
                </a:cubicBezTo>
                <a:cubicBezTo>
                  <a:pt x="9568" y="12481"/>
                  <a:pt x="9628" y="12586"/>
                  <a:pt x="9674" y="12650"/>
                </a:cubicBezTo>
                <a:cubicBezTo>
                  <a:pt x="9715" y="12707"/>
                  <a:pt x="9818" y="12757"/>
                  <a:pt x="9872" y="12725"/>
                </a:cubicBezTo>
                <a:cubicBezTo>
                  <a:pt x="9954" y="12677"/>
                  <a:pt x="9979" y="12610"/>
                  <a:pt x="10021" y="12526"/>
                </a:cubicBezTo>
                <a:cubicBezTo>
                  <a:pt x="10051" y="12466"/>
                  <a:pt x="10064" y="12370"/>
                  <a:pt x="10046" y="12303"/>
                </a:cubicBezTo>
                <a:cubicBezTo>
                  <a:pt x="10021" y="12207"/>
                  <a:pt x="9957" y="12186"/>
                  <a:pt x="9872" y="12154"/>
                </a:cubicBezTo>
                <a:cubicBezTo>
                  <a:pt x="9791" y="12127"/>
                  <a:pt x="9760" y="12118"/>
                  <a:pt x="9699" y="12129"/>
                </a:cubicBezTo>
              </a:path>
              <a:path w="8385" h="1316">
                <a:moveTo>
                  <a:pt x="2059" y="12774"/>
                </a:moveTo>
                <a:cubicBezTo>
                  <a:pt x="1931" y="12762"/>
                  <a:pt x="1839" y="12767"/>
                  <a:pt x="1712" y="12774"/>
                </a:cubicBezTo>
                <a:cubicBezTo>
                  <a:pt x="1583" y="12781"/>
                  <a:pt x="1804" y="12769"/>
                  <a:pt x="1836" y="12774"/>
                </a:cubicBezTo>
                <a:cubicBezTo>
                  <a:pt x="1982" y="12795"/>
                  <a:pt x="2086" y="12778"/>
                  <a:pt x="2232" y="12774"/>
                </a:cubicBezTo>
                <a:cubicBezTo>
                  <a:pt x="2670" y="12762"/>
                  <a:pt x="3111" y="12768"/>
                  <a:pt x="3547" y="12799"/>
                </a:cubicBezTo>
                <a:cubicBezTo>
                  <a:pt x="3870" y="12822"/>
                  <a:pt x="4174" y="12888"/>
                  <a:pt x="4490" y="12923"/>
                </a:cubicBezTo>
                <a:cubicBezTo>
                  <a:pt x="4661" y="12942"/>
                  <a:pt x="4841" y="12959"/>
                  <a:pt x="5011" y="12973"/>
                </a:cubicBezTo>
                <a:cubicBezTo>
                  <a:pt x="5064" y="12977"/>
                  <a:pt x="5249" y="12993"/>
                  <a:pt x="5283" y="12923"/>
                </a:cubicBezTo>
                <a:cubicBezTo>
                  <a:pt x="5263" y="12862"/>
                  <a:pt x="5265" y="12848"/>
                  <a:pt x="5234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946080" y="4330800"/>
            <a:ext cx="955800" cy="563400"/>
          </a:xfrm>
          <a:custGeom>
            <a:avLst/>
            <a:gdLst/>
            <a:ahLst/>
            <a:rect l="l" t="t" r="r" b="b"/>
            <a:pathLst>
              <a:path w="2655" h="1564">
                <a:moveTo>
                  <a:pt x="2629" y="12526"/>
                </a:moveTo>
                <a:cubicBezTo>
                  <a:pt x="2852" y="12421"/>
                  <a:pt x="3058" y="12368"/>
                  <a:pt x="3299" y="12303"/>
                </a:cubicBezTo>
                <a:cubicBezTo>
                  <a:pt x="3529" y="12241"/>
                  <a:pt x="3760" y="12170"/>
                  <a:pt x="3994" y="12129"/>
                </a:cubicBezTo>
                <a:cubicBezTo>
                  <a:pt x="4226" y="12088"/>
                  <a:pt x="4478" y="12047"/>
                  <a:pt x="4713" y="12030"/>
                </a:cubicBezTo>
                <a:cubicBezTo>
                  <a:pt x="4881" y="12018"/>
                  <a:pt x="5047" y="12032"/>
                  <a:pt x="5209" y="12055"/>
                </a:cubicBezTo>
                <a:cubicBezTo>
                  <a:pt x="5304" y="12069"/>
                  <a:pt x="5228" y="12070"/>
                  <a:pt x="5184" y="12105"/>
                </a:cubicBezTo>
              </a:path>
              <a:path w="2655" h="1564">
                <a:moveTo>
                  <a:pt x="2902" y="13593"/>
                </a:moveTo>
                <a:cubicBezTo>
                  <a:pt x="3002" y="13516"/>
                  <a:pt x="3077" y="13523"/>
                  <a:pt x="3200" y="13494"/>
                </a:cubicBezTo>
                <a:cubicBezTo>
                  <a:pt x="3427" y="13440"/>
                  <a:pt x="3642" y="13429"/>
                  <a:pt x="3870" y="13395"/>
                </a:cubicBezTo>
                <a:cubicBezTo>
                  <a:pt x="4083" y="13364"/>
                  <a:pt x="4299" y="13349"/>
                  <a:pt x="4514" y="13345"/>
                </a:cubicBezTo>
                <a:cubicBezTo>
                  <a:pt x="4690" y="13342"/>
                  <a:pt x="4863" y="13315"/>
                  <a:pt x="5035" y="13271"/>
                </a:cubicBezTo>
                <a:cubicBezTo>
                  <a:pt x="5099" y="13255"/>
                  <a:pt x="5241" y="13235"/>
                  <a:pt x="5283" y="13196"/>
                </a:cubicBezTo>
                <a:cubicBezTo>
                  <a:pt x="5283" y="13146"/>
                  <a:pt x="5283" y="13130"/>
                  <a:pt x="5234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973080" y="4633920"/>
            <a:ext cx="2616120" cy="457200"/>
          </a:xfrm>
          <a:custGeom>
            <a:avLst/>
            <a:gdLst/>
            <a:ahLst/>
            <a:rect l="l" t="t" r="r" b="b"/>
            <a:pathLst>
              <a:path w="7268" h="1266">
                <a:moveTo>
                  <a:pt x="3150" y="13072"/>
                </a:moveTo>
                <a:cubicBezTo>
                  <a:pt x="3056" y="13078"/>
                  <a:pt x="2946" y="13079"/>
                  <a:pt x="2853" y="13097"/>
                </a:cubicBezTo>
                <a:cubicBezTo>
                  <a:pt x="2798" y="13108"/>
                  <a:pt x="2747" y="13121"/>
                  <a:pt x="2704" y="13146"/>
                </a:cubicBezTo>
                <a:cubicBezTo>
                  <a:pt x="2764" y="13222"/>
                  <a:pt x="2813" y="13292"/>
                  <a:pt x="2877" y="13370"/>
                </a:cubicBezTo>
                <a:cubicBezTo>
                  <a:pt x="2954" y="13463"/>
                  <a:pt x="3080" y="13610"/>
                  <a:pt x="3125" y="13717"/>
                </a:cubicBezTo>
                <a:cubicBezTo>
                  <a:pt x="3144" y="13761"/>
                  <a:pt x="3120" y="13808"/>
                  <a:pt x="3101" y="13841"/>
                </a:cubicBezTo>
                <a:cubicBezTo>
                  <a:pt x="2983" y="13828"/>
                  <a:pt x="2940" y="13799"/>
                  <a:pt x="2853" y="13717"/>
                </a:cubicBezTo>
                <a:cubicBezTo>
                  <a:pt x="2821" y="13687"/>
                  <a:pt x="2819" y="13636"/>
                  <a:pt x="2803" y="13593"/>
                </a:cubicBezTo>
              </a:path>
              <a:path w="7268" h="1266">
                <a:moveTo>
                  <a:pt x="3423" y="13543"/>
                </a:moveTo>
                <a:cubicBezTo>
                  <a:pt x="3408" y="13629"/>
                  <a:pt x="3460" y="13789"/>
                  <a:pt x="3373" y="13791"/>
                </a:cubicBezTo>
                <a:cubicBezTo>
                  <a:pt x="3373" y="13783"/>
                  <a:pt x="3373" y="13775"/>
                  <a:pt x="3373" y="13767"/>
                </a:cubicBezTo>
              </a:path>
              <a:path w="7268" h="1266">
                <a:moveTo>
                  <a:pt x="3398" y="12998"/>
                </a:moveTo>
                <a:cubicBezTo>
                  <a:pt x="3453" y="13036"/>
                  <a:pt x="3476" y="13068"/>
                  <a:pt x="3522" y="13122"/>
                </a:cubicBezTo>
              </a:path>
              <a:path w="7268" h="1266">
                <a:moveTo>
                  <a:pt x="3572" y="13717"/>
                </a:moveTo>
                <a:cubicBezTo>
                  <a:pt x="3572" y="13860"/>
                  <a:pt x="3569" y="13604"/>
                  <a:pt x="3572" y="13593"/>
                </a:cubicBezTo>
                <a:cubicBezTo>
                  <a:pt x="3582" y="13550"/>
                  <a:pt x="3623" y="13412"/>
                  <a:pt x="3671" y="13395"/>
                </a:cubicBezTo>
                <a:cubicBezTo>
                  <a:pt x="3756" y="13365"/>
                  <a:pt x="3782" y="13448"/>
                  <a:pt x="3820" y="13494"/>
                </a:cubicBezTo>
                <a:cubicBezTo>
                  <a:pt x="3899" y="13588"/>
                  <a:pt x="3871" y="13632"/>
                  <a:pt x="3894" y="13742"/>
                </a:cubicBezTo>
                <a:cubicBezTo>
                  <a:pt x="3905" y="13796"/>
                  <a:pt x="3915" y="13896"/>
                  <a:pt x="3944" y="13915"/>
                </a:cubicBezTo>
              </a:path>
              <a:path w="7268" h="1266">
                <a:moveTo>
                  <a:pt x="4192" y="13295"/>
                </a:moveTo>
                <a:cubicBezTo>
                  <a:pt x="4238" y="13371"/>
                  <a:pt x="4224" y="13407"/>
                  <a:pt x="4217" y="13494"/>
                </a:cubicBezTo>
                <a:cubicBezTo>
                  <a:pt x="4208" y="13612"/>
                  <a:pt x="4216" y="13754"/>
                  <a:pt x="4242" y="13866"/>
                </a:cubicBezTo>
                <a:cubicBezTo>
                  <a:pt x="4253" y="13913"/>
                  <a:pt x="4267" y="13949"/>
                  <a:pt x="4291" y="13965"/>
                </a:cubicBezTo>
              </a:path>
              <a:path w="7268" h="1266">
                <a:moveTo>
                  <a:pt x="4415" y="13345"/>
                </a:moveTo>
                <a:cubicBezTo>
                  <a:pt x="4512" y="13297"/>
                  <a:pt x="4609" y="13270"/>
                  <a:pt x="4713" y="13246"/>
                </a:cubicBezTo>
                <a:cubicBezTo>
                  <a:pt x="4721" y="13246"/>
                  <a:pt x="4730" y="13246"/>
                  <a:pt x="4738" y="13246"/>
                </a:cubicBezTo>
              </a:path>
              <a:path w="7268" h="1266">
                <a:moveTo>
                  <a:pt x="4539" y="13196"/>
                </a:moveTo>
                <a:cubicBezTo>
                  <a:pt x="4481" y="13230"/>
                  <a:pt x="4434" y="13265"/>
                  <a:pt x="4465" y="13345"/>
                </a:cubicBezTo>
                <a:cubicBezTo>
                  <a:pt x="4485" y="13396"/>
                  <a:pt x="4577" y="13457"/>
                  <a:pt x="4614" y="13494"/>
                </a:cubicBezTo>
                <a:cubicBezTo>
                  <a:pt x="4673" y="13553"/>
                  <a:pt x="4702" y="13618"/>
                  <a:pt x="4738" y="13692"/>
                </a:cubicBezTo>
                <a:cubicBezTo>
                  <a:pt x="4771" y="13758"/>
                  <a:pt x="4771" y="13886"/>
                  <a:pt x="4663" y="13891"/>
                </a:cubicBezTo>
                <a:cubicBezTo>
                  <a:pt x="4644" y="13892"/>
                  <a:pt x="4480" y="13854"/>
                  <a:pt x="4465" y="13841"/>
                </a:cubicBezTo>
                <a:cubicBezTo>
                  <a:pt x="4421" y="13800"/>
                  <a:pt x="4415" y="13747"/>
                  <a:pt x="4415" y="13692"/>
                </a:cubicBezTo>
              </a:path>
              <a:path w="7268" h="1266">
                <a:moveTo>
                  <a:pt x="4936" y="13419"/>
                </a:moveTo>
                <a:cubicBezTo>
                  <a:pt x="4896" y="13540"/>
                  <a:pt x="4849" y="13625"/>
                  <a:pt x="4887" y="13742"/>
                </a:cubicBezTo>
                <a:cubicBezTo>
                  <a:pt x="4910" y="13812"/>
                  <a:pt x="4988" y="13875"/>
                  <a:pt x="5060" y="13891"/>
                </a:cubicBezTo>
                <a:cubicBezTo>
                  <a:pt x="5186" y="13919"/>
                  <a:pt x="5237" y="13792"/>
                  <a:pt x="5259" y="13692"/>
                </a:cubicBezTo>
                <a:cubicBezTo>
                  <a:pt x="5276" y="13616"/>
                  <a:pt x="5214" y="13512"/>
                  <a:pt x="5184" y="13444"/>
                </a:cubicBezTo>
                <a:cubicBezTo>
                  <a:pt x="5148" y="13361"/>
                  <a:pt x="5144" y="13393"/>
                  <a:pt x="5135" y="13295"/>
                </a:cubicBezTo>
              </a:path>
              <a:path w="7268" h="1266">
                <a:moveTo>
                  <a:pt x="5978" y="12898"/>
                </a:moveTo>
                <a:cubicBezTo>
                  <a:pt x="6208" y="12876"/>
                  <a:pt x="6418" y="12865"/>
                  <a:pt x="6648" y="12898"/>
                </a:cubicBezTo>
                <a:cubicBezTo>
                  <a:pt x="6863" y="12929"/>
                  <a:pt x="7078" y="12927"/>
                  <a:pt x="7293" y="12948"/>
                </a:cubicBezTo>
                <a:cubicBezTo>
                  <a:pt x="7525" y="12971"/>
                  <a:pt x="7754" y="12994"/>
                  <a:pt x="7987" y="12998"/>
                </a:cubicBezTo>
                <a:cubicBezTo>
                  <a:pt x="8197" y="13002"/>
                  <a:pt x="8400" y="12985"/>
                  <a:pt x="8607" y="12973"/>
                </a:cubicBezTo>
                <a:cubicBezTo>
                  <a:pt x="8793" y="12963"/>
                  <a:pt x="8991" y="12925"/>
                  <a:pt x="9178" y="12948"/>
                </a:cubicBezTo>
                <a:cubicBezTo>
                  <a:pt x="9296" y="12963"/>
                  <a:pt x="9429" y="12996"/>
                  <a:pt x="9550" y="12973"/>
                </a:cubicBezTo>
                <a:cubicBezTo>
                  <a:pt x="9623" y="12959"/>
                  <a:pt x="9638" y="12926"/>
                  <a:pt x="9674" y="12898"/>
                </a:cubicBezTo>
              </a:path>
              <a:path w="7268" h="1266">
                <a:moveTo>
                  <a:pt x="7615" y="13494"/>
                </a:moveTo>
                <a:cubicBezTo>
                  <a:pt x="7555" y="13466"/>
                  <a:pt x="7386" y="13388"/>
                  <a:pt x="7317" y="13469"/>
                </a:cubicBezTo>
                <a:cubicBezTo>
                  <a:pt x="7278" y="13515"/>
                  <a:pt x="7367" y="13666"/>
                  <a:pt x="7392" y="13692"/>
                </a:cubicBezTo>
                <a:cubicBezTo>
                  <a:pt x="7475" y="13780"/>
                  <a:pt x="7573" y="13832"/>
                  <a:pt x="7640" y="13940"/>
                </a:cubicBezTo>
                <a:cubicBezTo>
                  <a:pt x="7678" y="14001"/>
                  <a:pt x="7732" y="14093"/>
                  <a:pt x="7640" y="14139"/>
                </a:cubicBezTo>
                <a:cubicBezTo>
                  <a:pt x="7567" y="14176"/>
                  <a:pt x="7480" y="14055"/>
                  <a:pt x="7441" y="14015"/>
                </a:cubicBezTo>
                <a:cubicBezTo>
                  <a:pt x="7391" y="13965"/>
                  <a:pt x="7420" y="13898"/>
                  <a:pt x="7441" y="13841"/>
                </a:cubicBezTo>
              </a:path>
              <a:path w="7268" h="1266">
                <a:moveTo>
                  <a:pt x="7913" y="13717"/>
                </a:moveTo>
                <a:cubicBezTo>
                  <a:pt x="7913" y="13822"/>
                  <a:pt x="7857" y="14015"/>
                  <a:pt x="7962" y="14015"/>
                </a:cubicBezTo>
                <a:cubicBezTo>
                  <a:pt x="7962" y="14007"/>
                  <a:pt x="7962" y="13998"/>
                  <a:pt x="7962" y="13990"/>
                </a:cubicBezTo>
              </a:path>
              <a:path w="7268" h="1266">
                <a:moveTo>
                  <a:pt x="7913" y="13295"/>
                </a:moveTo>
                <a:cubicBezTo>
                  <a:pt x="7913" y="13251"/>
                  <a:pt x="7910" y="13237"/>
                  <a:pt x="7938" y="13221"/>
                </a:cubicBezTo>
              </a:path>
              <a:path w="7268" h="1266">
                <a:moveTo>
                  <a:pt x="8136" y="13940"/>
                </a:moveTo>
                <a:cubicBezTo>
                  <a:pt x="8159" y="13879"/>
                  <a:pt x="8176" y="13797"/>
                  <a:pt x="8186" y="13742"/>
                </a:cubicBezTo>
                <a:cubicBezTo>
                  <a:pt x="8191" y="13714"/>
                  <a:pt x="8204" y="13591"/>
                  <a:pt x="8260" y="13593"/>
                </a:cubicBezTo>
                <a:cubicBezTo>
                  <a:pt x="8378" y="13598"/>
                  <a:pt x="8441" y="13691"/>
                  <a:pt x="8483" y="13791"/>
                </a:cubicBezTo>
                <a:cubicBezTo>
                  <a:pt x="8518" y="13874"/>
                  <a:pt x="8545" y="13976"/>
                  <a:pt x="8558" y="14064"/>
                </a:cubicBezTo>
                <a:cubicBezTo>
                  <a:pt x="8558" y="14109"/>
                  <a:pt x="8554" y="14122"/>
                  <a:pt x="8582" y="14139"/>
                </a:cubicBezTo>
              </a:path>
              <a:path w="7268" h="1266">
                <a:moveTo>
                  <a:pt x="8731" y="13419"/>
                </a:moveTo>
                <a:cubicBezTo>
                  <a:pt x="8758" y="13534"/>
                  <a:pt x="8795" y="13651"/>
                  <a:pt x="8806" y="13767"/>
                </a:cubicBezTo>
                <a:cubicBezTo>
                  <a:pt x="8816" y="13876"/>
                  <a:pt x="8833" y="13939"/>
                  <a:pt x="8855" y="14039"/>
                </a:cubicBezTo>
                <a:cubicBezTo>
                  <a:pt x="8855" y="14056"/>
                  <a:pt x="8855" y="14072"/>
                  <a:pt x="8855" y="14089"/>
                </a:cubicBezTo>
              </a:path>
              <a:path w="7268" h="1266">
                <a:moveTo>
                  <a:pt x="9079" y="13419"/>
                </a:moveTo>
                <a:cubicBezTo>
                  <a:pt x="9170" y="13419"/>
                  <a:pt x="9260" y="13419"/>
                  <a:pt x="9351" y="13419"/>
                </a:cubicBezTo>
              </a:path>
              <a:path w="7268" h="1266">
                <a:moveTo>
                  <a:pt x="9178" y="13345"/>
                </a:moveTo>
                <a:cubicBezTo>
                  <a:pt x="9118" y="13385"/>
                  <a:pt x="9009" y="13449"/>
                  <a:pt x="9103" y="13543"/>
                </a:cubicBezTo>
                <a:cubicBezTo>
                  <a:pt x="9157" y="13597"/>
                  <a:pt x="9222" y="13646"/>
                  <a:pt x="9277" y="13692"/>
                </a:cubicBezTo>
                <a:cubicBezTo>
                  <a:pt x="9320" y="13728"/>
                  <a:pt x="9357" y="13758"/>
                  <a:pt x="9401" y="13791"/>
                </a:cubicBezTo>
                <a:cubicBezTo>
                  <a:pt x="9431" y="13813"/>
                  <a:pt x="9478" y="13913"/>
                  <a:pt x="9475" y="13940"/>
                </a:cubicBezTo>
                <a:cubicBezTo>
                  <a:pt x="9463" y="14036"/>
                  <a:pt x="9385" y="14136"/>
                  <a:pt x="9277" y="14114"/>
                </a:cubicBezTo>
                <a:cubicBezTo>
                  <a:pt x="9232" y="14105"/>
                  <a:pt x="9147" y="14006"/>
                  <a:pt x="9153" y="13965"/>
                </a:cubicBezTo>
                <a:cubicBezTo>
                  <a:pt x="9161" y="13940"/>
                  <a:pt x="9170" y="13916"/>
                  <a:pt x="9178" y="13891"/>
                </a:cubicBezTo>
              </a:path>
              <a:path w="7268" h="1266">
                <a:moveTo>
                  <a:pt x="9649" y="13643"/>
                </a:moveTo>
                <a:cubicBezTo>
                  <a:pt x="9623" y="13684"/>
                  <a:pt x="9522" y="13811"/>
                  <a:pt x="9525" y="13866"/>
                </a:cubicBezTo>
                <a:cubicBezTo>
                  <a:pt x="9527" y="13909"/>
                  <a:pt x="9597" y="14029"/>
                  <a:pt x="9624" y="14064"/>
                </a:cubicBezTo>
                <a:cubicBezTo>
                  <a:pt x="9680" y="14135"/>
                  <a:pt x="9755" y="14170"/>
                  <a:pt x="9847" y="14139"/>
                </a:cubicBezTo>
                <a:cubicBezTo>
                  <a:pt x="9888" y="14125"/>
                  <a:pt x="9960" y="14057"/>
                  <a:pt x="9971" y="14015"/>
                </a:cubicBezTo>
                <a:cubicBezTo>
                  <a:pt x="9994" y="13928"/>
                  <a:pt x="9856" y="13813"/>
                  <a:pt x="9798" y="13767"/>
                </a:cubicBezTo>
                <a:cubicBezTo>
                  <a:pt x="9773" y="13750"/>
                  <a:pt x="9748" y="13734"/>
                  <a:pt x="9723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Ink 21"/>
          <p:cNvSpPr/>
          <p:nvPr/>
        </p:nvSpPr>
        <p:spPr>
          <a:xfrm>
            <a:off x="1330200" y="5143680"/>
            <a:ext cx="411120" cy="473040"/>
          </a:xfrm>
          <a:custGeom>
            <a:avLst/>
            <a:gdLst/>
            <a:ahLst/>
            <a:rect l="l" t="t" r="r" b="b"/>
            <a:pathLst>
              <a:path w="1142" h="1315">
                <a:moveTo>
                  <a:pt x="3721" y="14288"/>
                </a:moveTo>
                <a:cubicBezTo>
                  <a:pt x="3721" y="14433"/>
                  <a:pt x="3709" y="14569"/>
                  <a:pt x="3696" y="14709"/>
                </a:cubicBezTo>
                <a:cubicBezTo>
                  <a:pt x="3685" y="14830"/>
                  <a:pt x="3717" y="14938"/>
                  <a:pt x="3721" y="15056"/>
                </a:cubicBezTo>
                <a:cubicBezTo>
                  <a:pt x="3723" y="15126"/>
                  <a:pt x="3698" y="15358"/>
                  <a:pt x="3746" y="15404"/>
                </a:cubicBezTo>
                <a:cubicBezTo>
                  <a:pt x="3833" y="15487"/>
                  <a:pt x="3767" y="15164"/>
                  <a:pt x="3820" y="15056"/>
                </a:cubicBezTo>
                <a:cubicBezTo>
                  <a:pt x="3840" y="15016"/>
                  <a:pt x="3902" y="14953"/>
                  <a:pt x="3944" y="14957"/>
                </a:cubicBezTo>
                <a:cubicBezTo>
                  <a:pt x="4033" y="14966"/>
                  <a:pt x="4108" y="15027"/>
                  <a:pt x="4142" y="15106"/>
                </a:cubicBezTo>
                <a:cubicBezTo>
                  <a:pt x="4172" y="15174"/>
                  <a:pt x="4205" y="15306"/>
                  <a:pt x="4192" y="15379"/>
                </a:cubicBezTo>
                <a:cubicBezTo>
                  <a:pt x="4178" y="15457"/>
                  <a:pt x="4110" y="15542"/>
                  <a:pt x="4043" y="15577"/>
                </a:cubicBezTo>
                <a:cubicBezTo>
                  <a:pt x="3980" y="15610"/>
                  <a:pt x="3838" y="15622"/>
                  <a:pt x="3770" y="15602"/>
                </a:cubicBezTo>
                <a:cubicBezTo>
                  <a:pt x="3694" y="15579"/>
                  <a:pt x="3714" y="15498"/>
                  <a:pt x="3721" y="15453"/>
                </a:cubicBezTo>
                <a:cubicBezTo>
                  <a:pt x="3721" y="15445"/>
                  <a:pt x="3721" y="15437"/>
                  <a:pt x="3721" y="15429"/>
                </a:cubicBezTo>
              </a:path>
              <a:path w="1142" h="1315">
                <a:moveTo>
                  <a:pt x="4490" y="15032"/>
                </a:moveTo>
                <a:cubicBezTo>
                  <a:pt x="4573" y="15032"/>
                  <a:pt x="4655" y="15032"/>
                  <a:pt x="4738" y="15032"/>
                </a:cubicBezTo>
              </a:path>
              <a:path w="1142" h="1315">
                <a:moveTo>
                  <a:pt x="4614" y="15180"/>
                </a:moveTo>
                <a:cubicBezTo>
                  <a:pt x="4718" y="15232"/>
                  <a:pt x="4756" y="15250"/>
                  <a:pt x="4837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Ink 22"/>
          <p:cNvSpPr/>
          <p:nvPr/>
        </p:nvSpPr>
        <p:spPr>
          <a:xfrm>
            <a:off x="1955880" y="5303880"/>
            <a:ext cx="598320" cy="455400"/>
          </a:xfrm>
          <a:custGeom>
            <a:avLst/>
            <a:gdLst/>
            <a:ahLst/>
            <a:rect l="l" t="t" r="r" b="b"/>
            <a:pathLst>
              <a:path w="1663" h="1266">
                <a:moveTo>
                  <a:pt x="5680" y="14759"/>
                </a:moveTo>
                <a:cubicBezTo>
                  <a:pt x="5647" y="14842"/>
                  <a:pt x="5631" y="14957"/>
                  <a:pt x="5581" y="15032"/>
                </a:cubicBezTo>
                <a:cubicBezTo>
                  <a:pt x="5527" y="15113"/>
                  <a:pt x="5472" y="15200"/>
                  <a:pt x="5457" y="15304"/>
                </a:cubicBezTo>
                <a:cubicBezTo>
                  <a:pt x="5442" y="15403"/>
                  <a:pt x="5430" y="15504"/>
                  <a:pt x="5457" y="15602"/>
                </a:cubicBezTo>
                <a:cubicBezTo>
                  <a:pt x="5479" y="15681"/>
                  <a:pt x="5489" y="15785"/>
                  <a:pt x="5581" y="15825"/>
                </a:cubicBezTo>
                <a:cubicBezTo>
                  <a:pt x="5681" y="15869"/>
                  <a:pt x="5719" y="15729"/>
                  <a:pt x="5755" y="15677"/>
                </a:cubicBezTo>
                <a:cubicBezTo>
                  <a:pt x="5794" y="15620"/>
                  <a:pt x="5791" y="15542"/>
                  <a:pt x="5755" y="15478"/>
                </a:cubicBezTo>
                <a:cubicBezTo>
                  <a:pt x="5747" y="15470"/>
                  <a:pt x="5738" y="15461"/>
                  <a:pt x="5730" y="15453"/>
                </a:cubicBezTo>
                <a:cubicBezTo>
                  <a:pt x="5668" y="15488"/>
                  <a:pt x="5603" y="15543"/>
                  <a:pt x="5606" y="15627"/>
                </a:cubicBezTo>
                <a:cubicBezTo>
                  <a:pt x="5631" y="15701"/>
                  <a:pt x="5639" y="15726"/>
                  <a:pt x="5655" y="15776"/>
                </a:cubicBezTo>
              </a:path>
              <a:path w="1663" h="1266">
                <a:moveTo>
                  <a:pt x="6226" y="15131"/>
                </a:moveTo>
                <a:cubicBezTo>
                  <a:pt x="6253" y="15004"/>
                  <a:pt x="6302" y="14901"/>
                  <a:pt x="6226" y="14784"/>
                </a:cubicBezTo>
                <a:cubicBezTo>
                  <a:pt x="6199" y="14742"/>
                  <a:pt x="6126" y="14706"/>
                  <a:pt x="6077" y="14734"/>
                </a:cubicBezTo>
                <a:cubicBezTo>
                  <a:pt x="6012" y="14771"/>
                  <a:pt x="5981" y="14840"/>
                  <a:pt x="5978" y="14908"/>
                </a:cubicBezTo>
                <a:cubicBezTo>
                  <a:pt x="5975" y="14967"/>
                  <a:pt x="5990" y="15082"/>
                  <a:pt x="6028" y="15131"/>
                </a:cubicBezTo>
                <a:cubicBezTo>
                  <a:pt x="6080" y="15197"/>
                  <a:pt x="6129" y="15263"/>
                  <a:pt x="6201" y="15205"/>
                </a:cubicBezTo>
                <a:cubicBezTo>
                  <a:pt x="6231" y="15181"/>
                  <a:pt x="6290" y="15075"/>
                  <a:pt x="6300" y="15032"/>
                </a:cubicBezTo>
                <a:cubicBezTo>
                  <a:pt x="6329" y="14907"/>
                  <a:pt x="6253" y="15070"/>
                  <a:pt x="6251" y="15081"/>
                </a:cubicBezTo>
                <a:cubicBezTo>
                  <a:pt x="6230" y="15182"/>
                  <a:pt x="6210" y="15298"/>
                  <a:pt x="6201" y="15404"/>
                </a:cubicBezTo>
                <a:cubicBezTo>
                  <a:pt x="6191" y="15518"/>
                  <a:pt x="6201" y="15637"/>
                  <a:pt x="6201" y="15751"/>
                </a:cubicBezTo>
              </a:path>
              <a:path w="1663" h="1266">
                <a:moveTo>
                  <a:pt x="6400" y="15726"/>
                </a:moveTo>
                <a:lnTo>
                  <a:pt x="6400" y="15726"/>
                </a:lnTo>
              </a:path>
              <a:path w="1663" h="1266">
                <a:moveTo>
                  <a:pt x="6821" y="14858"/>
                </a:moveTo>
                <a:cubicBezTo>
                  <a:pt x="6900" y="14844"/>
                  <a:pt x="6985" y="14891"/>
                  <a:pt x="7045" y="14883"/>
                </a:cubicBezTo>
                <a:cubicBezTo>
                  <a:pt x="7061" y="14875"/>
                  <a:pt x="7078" y="14866"/>
                  <a:pt x="7094" y="14858"/>
                </a:cubicBezTo>
              </a:path>
              <a:path w="1663" h="1266">
                <a:moveTo>
                  <a:pt x="6772" y="14858"/>
                </a:moveTo>
                <a:cubicBezTo>
                  <a:pt x="6715" y="14920"/>
                  <a:pt x="6605" y="15003"/>
                  <a:pt x="6623" y="15106"/>
                </a:cubicBezTo>
                <a:cubicBezTo>
                  <a:pt x="6637" y="15186"/>
                  <a:pt x="6680" y="15216"/>
                  <a:pt x="6747" y="15230"/>
                </a:cubicBezTo>
                <a:cubicBezTo>
                  <a:pt x="6825" y="15246"/>
                  <a:pt x="6872" y="15230"/>
                  <a:pt x="6945" y="15280"/>
                </a:cubicBezTo>
                <a:cubicBezTo>
                  <a:pt x="6988" y="15310"/>
                  <a:pt x="7035" y="15471"/>
                  <a:pt x="7045" y="15528"/>
                </a:cubicBezTo>
                <a:cubicBezTo>
                  <a:pt x="7061" y="15619"/>
                  <a:pt x="7053" y="15743"/>
                  <a:pt x="7020" y="15825"/>
                </a:cubicBezTo>
                <a:cubicBezTo>
                  <a:pt x="6993" y="15891"/>
                  <a:pt x="6995" y="15923"/>
                  <a:pt x="6945" y="15974"/>
                </a:cubicBezTo>
                <a:cubicBezTo>
                  <a:pt x="6903" y="16016"/>
                  <a:pt x="6866" y="16003"/>
                  <a:pt x="6821" y="15974"/>
                </a:cubicBezTo>
                <a:cubicBezTo>
                  <a:pt x="6748" y="15927"/>
                  <a:pt x="6718" y="15915"/>
                  <a:pt x="6672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Lesson 6.1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5ffff"/>
                </a:solidFill>
                <a:latin typeface="Arial"/>
              </a:rPr>
              <a:t>The Law of Sines works in the cases of AAS, ASA and SAS when solving a triangle</a:t>
            </a:r>
            <a:endParaRPr b="0" lang="en-US" sz="5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51" name="Ink 3"/>
          <p:cNvSpPr/>
          <p:nvPr/>
        </p:nvSpPr>
        <p:spPr>
          <a:xfrm>
            <a:off x="7010280" y="2544840"/>
            <a:ext cx="1339920" cy="206280"/>
          </a:xfrm>
          <a:custGeom>
            <a:avLst/>
            <a:gdLst/>
            <a:ahLst/>
            <a:rect l="l" t="t" r="r" b="b"/>
            <a:pathLst>
              <a:path w="3721" h="572">
                <a:moveTo>
                  <a:pt x="19496" y="7218"/>
                </a:moveTo>
                <a:cubicBezTo>
                  <a:pt x="19594" y="7248"/>
                  <a:pt x="19642" y="7243"/>
                  <a:pt x="19745" y="7243"/>
                </a:cubicBezTo>
                <a:cubicBezTo>
                  <a:pt x="19960" y="7243"/>
                  <a:pt x="20172" y="7268"/>
                  <a:pt x="20389" y="7268"/>
                </a:cubicBezTo>
                <a:cubicBezTo>
                  <a:pt x="20686" y="7268"/>
                  <a:pt x="20986" y="7291"/>
                  <a:pt x="21282" y="7317"/>
                </a:cubicBezTo>
                <a:cubicBezTo>
                  <a:pt x="21662" y="7351"/>
                  <a:pt x="22049" y="7415"/>
                  <a:pt x="22423" y="7491"/>
                </a:cubicBezTo>
                <a:cubicBezTo>
                  <a:pt x="22613" y="7530"/>
                  <a:pt x="22805" y="7608"/>
                  <a:pt x="22994" y="7640"/>
                </a:cubicBezTo>
                <a:cubicBezTo>
                  <a:pt x="23019" y="7640"/>
                  <a:pt x="23043" y="7640"/>
                  <a:pt x="23068" y="7640"/>
                </a:cubicBezTo>
                <a:cubicBezTo>
                  <a:pt x="22890" y="7525"/>
                  <a:pt x="22728" y="7511"/>
                  <a:pt x="22523" y="7466"/>
                </a:cubicBezTo>
                <a:cubicBezTo>
                  <a:pt x="22170" y="7389"/>
                  <a:pt x="21847" y="7316"/>
                  <a:pt x="21481" y="7293"/>
                </a:cubicBezTo>
                <a:cubicBezTo>
                  <a:pt x="21174" y="7274"/>
                  <a:pt x="20868" y="7306"/>
                  <a:pt x="20563" y="7317"/>
                </a:cubicBezTo>
                <a:cubicBezTo>
                  <a:pt x="20283" y="7327"/>
                  <a:pt x="19997" y="7351"/>
                  <a:pt x="19720" y="7392"/>
                </a:cubicBezTo>
                <a:cubicBezTo>
                  <a:pt x="19687" y="7400"/>
                  <a:pt x="19654" y="7409"/>
                  <a:pt x="19621" y="7417"/>
                </a:cubicBezTo>
                <a:cubicBezTo>
                  <a:pt x="19729" y="7372"/>
                  <a:pt x="19843" y="7327"/>
                  <a:pt x="19968" y="7317"/>
                </a:cubicBezTo>
                <a:cubicBezTo>
                  <a:pt x="20208" y="7298"/>
                  <a:pt x="20446" y="7271"/>
                  <a:pt x="20687" y="7268"/>
                </a:cubicBezTo>
                <a:cubicBezTo>
                  <a:pt x="21068" y="7263"/>
                  <a:pt x="21449" y="7258"/>
                  <a:pt x="21828" y="7293"/>
                </a:cubicBezTo>
                <a:cubicBezTo>
                  <a:pt x="22163" y="7324"/>
                  <a:pt x="22496" y="7375"/>
                  <a:pt x="22820" y="7466"/>
                </a:cubicBezTo>
                <a:cubicBezTo>
                  <a:pt x="22929" y="7497"/>
                  <a:pt x="23079" y="7572"/>
                  <a:pt x="23192" y="7565"/>
                </a:cubicBezTo>
                <a:cubicBezTo>
                  <a:pt x="23184" y="7557"/>
                  <a:pt x="23176" y="7549"/>
                  <a:pt x="23168" y="7541"/>
                </a:cubicBezTo>
                <a:cubicBezTo>
                  <a:pt x="23018" y="7495"/>
                  <a:pt x="22872" y="7435"/>
                  <a:pt x="22721" y="7392"/>
                </a:cubicBezTo>
                <a:cubicBezTo>
                  <a:pt x="22380" y="7294"/>
                  <a:pt x="22006" y="7218"/>
                  <a:pt x="21654" y="7169"/>
                </a:cubicBezTo>
                <a:cubicBezTo>
                  <a:pt x="21338" y="7125"/>
                  <a:pt x="21005" y="7123"/>
                  <a:pt x="20687" y="7119"/>
                </a:cubicBezTo>
                <a:cubicBezTo>
                  <a:pt x="20552" y="7117"/>
                  <a:pt x="19949" y="7101"/>
                  <a:pt x="19993" y="7094"/>
                </a:cubicBezTo>
                <a:cubicBezTo>
                  <a:pt x="20083" y="7079"/>
                  <a:pt x="20159" y="7089"/>
                  <a:pt x="20265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Ink 4"/>
          <p:cNvSpPr/>
          <p:nvPr/>
        </p:nvSpPr>
        <p:spPr>
          <a:xfrm>
            <a:off x="598320" y="3303720"/>
            <a:ext cx="2946600" cy="723600"/>
          </a:xfrm>
          <a:custGeom>
            <a:avLst/>
            <a:gdLst/>
            <a:ahLst/>
            <a:rect l="l" t="t" r="r" b="b"/>
            <a:pathLst>
              <a:path w="8186" h="2010">
                <a:moveTo>
                  <a:pt x="6251" y="9451"/>
                </a:moveTo>
                <a:cubicBezTo>
                  <a:pt x="6355" y="9455"/>
                  <a:pt x="6446" y="9462"/>
                  <a:pt x="6548" y="9475"/>
                </a:cubicBezTo>
                <a:cubicBezTo>
                  <a:pt x="6810" y="9508"/>
                  <a:pt x="7079" y="9521"/>
                  <a:pt x="7342" y="9525"/>
                </a:cubicBezTo>
                <a:cubicBezTo>
                  <a:pt x="7600" y="9529"/>
                  <a:pt x="7854" y="9547"/>
                  <a:pt x="8111" y="9550"/>
                </a:cubicBezTo>
                <a:cubicBezTo>
                  <a:pt x="8404" y="9554"/>
                  <a:pt x="8683" y="9599"/>
                  <a:pt x="8979" y="9599"/>
                </a:cubicBezTo>
                <a:cubicBezTo>
                  <a:pt x="9186" y="9599"/>
                  <a:pt x="9761" y="9599"/>
                  <a:pt x="9798" y="9599"/>
                </a:cubicBezTo>
                <a:cubicBezTo>
                  <a:pt x="9634" y="9538"/>
                  <a:pt x="9487" y="9487"/>
                  <a:pt x="9302" y="9475"/>
                </a:cubicBezTo>
                <a:cubicBezTo>
                  <a:pt x="9031" y="9457"/>
                  <a:pt x="8754" y="9454"/>
                  <a:pt x="8483" y="9451"/>
                </a:cubicBezTo>
                <a:cubicBezTo>
                  <a:pt x="8168" y="9447"/>
                  <a:pt x="7827" y="9451"/>
                  <a:pt x="7516" y="9500"/>
                </a:cubicBezTo>
                <a:cubicBezTo>
                  <a:pt x="7214" y="9548"/>
                  <a:pt x="6930" y="9610"/>
                  <a:pt x="6623" y="9624"/>
                </a:cubicBezTo>
                <a:cubicBezTo>
                  <a:pt x="6439" y="9632"/>
                  <a:pt x="6178" y="9736"/>
                  <a:pt x="6003" y="9674"/>
                </a:cubicBezTo>
                <a:cubicBezTo>
                  <a:pt x="5943" y="9674"/>
                  <a:pt x="5930" y="9665"/>
                  <a:pt x="5978" y="9599"/>
                </a:cubicBezTo>
                <a:cubicBezTo>
                  <a:pt x="6222" y="9485"/>
                  <a:pt x="6429" y="9449"/>
                  <a:pt x="6697" y="9401"/>
                </a:cubicBezTo>
                <a:cubicBezTo>
                  <a:pt x="7021" y="9343"/>
                  <a:pt x="7361" y="9376"/>
                  <a:pt x="7689" y="9376"/>
                </a:cubicBezTo>
                <a:cubicBezTo>
                  <a:pt x="7972" y="9376"/>
                  <a:pt x="8257" y="9416"/>
                  <a:pt x="8533" y="9475"/>
                </a:cubicBezTo>
                <a:cubicBezTo>
                  <a:pt x="8727" y="9517"/>
                  <a:pt x="8951" y="9590"/>
                  <a:pt x="9128" y="9674"/>
                </a:cubicBezTo>
                <a:cubicBezTo>
                  <a:pt x="9161" y="9699"/>
                  <a:pt x="9194" y="9723"/>
                  <a:pt x="9227" y="9748"/>
                </a:cubicBezTo>
                <a:cubicBezTo>
                  <a:pt x="9004" y="9669"/>
                  <a:pt x="8770" y="9608"/>
                  <a:pt x="8533" y="9550"/>
                </a:cubicBezTo>
                <a:cubicBezTo>
                  <a:pt x="8217" y="9472"/>
                  <a:pt x="7912" y="9441"/>
                  <a:pt x="7590" y="9401"/>
                </a:cubicBezTo>
                <a:cubicBezTo>
                  <a:pt x="7256" y="9360"/>
                  <a:pt x="6909" y="9319"/>
                  <a:pt x="6573" y="9302"/>
                </a:cubicBezTo>
                <a:cubicBezTo>
                  <a:pt x="6079" y="9276"/>
                  <a:pt x="5578" y="9307"/>
                  <a:pt x="5085" y="9327"/>
                </a:cubicBezTo>
                <a:cubicBezTo>
                  <a:pt x="4975" y="9331"/>
                  <a:pt x="4969" y="9324"/>
                  <a:pt x="4862" y="9302"/>
                </a:cubicBezTo>
                <a:cubicBezTo>
                  <a:pt x="5321" y="9302"/>
                  <a:pt x="5773" y="9309"/>
                  <a:pt x="6226" y="9401"/>
                </a:cubicBezTo>
                <a:cubicBezTo>
                  <a:pt x="6451" y="9447"/>
                  <a:pt x="6640" y="9503"/>
                  <a:pt x="6846" y="9599"/>
                </a:cubicBezTo>
                <a:cubicBezTo>
                  <a:pt x="6952" y="9620"/>
                  <a:pt x="6980" y="9616"/>
                  <a:pt x="7020" y="9674"/>
                </a:cubicBezTo>
                <a:cubicBezTo>
                  <a:pt x="6910" y="9664"/>
                  <a:pt x="6856" y="9645"/>
                  <a:pt x="6747" y="9624"/>
                </a:cubicBezTo>
                <a:cubicBezTo>
                  <a:pt x="6390" y="9555"/>
                  <a:pt x="6077" y="9451"/>
                  <a:pt x="5705" y="9401"/>
                </a:cubicBezTo>
                <a:cubicBezTo>
                  <a:pt x="5366" y="9355"/>
                  <a:pt x="5027" y="9295"/>
                  <a:pt x="4688" y="9252"/>
                </a:cubicBezTo>
                <a:cubicBezTo>
                  <a:pt x="4271" y="9200"/>
                  <a:pt x="3842" y="9227"/>
                  <a:pt x="3423" y="9227"/>
                </a:cubicBezTo>
                <a:cubicBezTo>
                  <a:pt x="2871" y="9227"/>
                  <a:pt x="2289" y="9248"/>
                  <a:pt x="1761" y="9178"/>
                </a:cubicBezTo>
                <a:cubicBezTo>
                  <a:pt x="1712" y="9178"/>
                  <a:pt x="1695" y="9178"/>
                  <a:pt x="1662" y="9178"/>
                </a:cubicBezTo>
              </a:path>
              <a:path w="8186" h="2010">
                <a:moveTo>
                  <a:pt x="3150" y="11063"/>
                </a:moveTo>
                <a:cubicBezTo>
                  <a:pt x="3199" y="11112"/>
                  <a:pt x="3227" y="11133"/>
                  <a:pt x="3299" y="11137"/>
                </a:cubicBezTo>
                <a:cubicBezTo>
                  <a:pt x="3353" y="11140"/>
                  <a:pt x="3416" y="11150"/>
                  <a:pt x="3473" y="11162"/>
                </a:cubicBezTo>
                <a:cubicBezTo>
                  <a:pt x="3592" y="11188"/>
                  <a:pt x="3623" y="11177"/>
                  <a:pt x="3746" y="11162"/>
                </a:cubicBezTo>
                <a:cubicBezTo>
                  <a:pt x="3817" y="11153"/>
                  <a:pt x="3877" y="11137"/>
                  <a:pt x="3944" y="11112"/>
                </a:cubicBezTo>
                <a:cubicBezTo>
                  <a:pt x="3900" y="11086"/>
                  <a:pt x="3827" y="11073"/>
                  <a:pt x="3770" y="11088"/>
                </a:cubicBezTo>
                <a:cubicBezTo>
                  <a:pt x="3693" y="11109"/>
                  <a:pt x="3631" y="11112"/>
                  <a:pt x="3547" y="11112"/>
                </a:cubicBezTo>
                <a:cubicBezTo>
                  <a:pt x="3466" y="11112"/>
                  <a:pt x="3401" y="11092"/>
                  <a:pt x="3324" y="11088"/>
                </a:cubicBezTo>
                <a:cubicBezTo>
                  <a:pt x="3194" y="11081"/>
                  <a:pt x="3407" y="11110"/>
                  <a:pt x="3423" y="11112"/>
                </a:cubicBezTo>
                <a:cubicBezTo>
                  <a:pt x="3512" y="11124"/>
                  <a:pt x="3609" y="11132"/>
                  <a:pt x="3696" y="11137"/>
                </a:cubicBezTo>
                <a:cubicBezTo>
                  <a:pt x="3725" y="11139"/>
                  <a:pt x="3915" y="11114"/>
                  <a:pt x="3820" y="11063"/>
                </a:cubicBezTo>
                <a:cubicBezTo>
                  <a:pt x="3779" y="11063"/>
                  <a:pt x="3771" y="11063"/>
                  <a:pt x="3746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Ink 5"/>
          <p:cNvSpPr/>
          <p:nvPr/>
        </p:nvSpPr>
        <p:spPr>
          <a:xfrm>
            <a:off x="785880" y="3803760"/>
            <a:ext cx="4973400" cy="1876320"/>
          </a:xfrm>
          <a:custGeom>
            <a:avLst/>
            <a:gdLst/>
            <a:ahLst/>
            <a:rect l="l" t="t" r="r" b="b"/>
            <a:pathLst>
              <a:path w="13817" h="5210">
                <a:moveTo>
                  <a:pt x="5680" y="15180"/>
                </a:moveTo>
                <a:cubicBezTo>
                  <a:pt x="5672" y="15172"/>
                  <a:pt x="5663" y="15164"/>
                  <a:pt x="5655" y="15156"/>
                </a:cubicBezTo>
              </a:path>
              <a:path w="13817" h="5210">
                <a:moveTo>
                  <a:pt x="5680" y="15180"/>
                </a:moveTo>
                <a:lnTo>
                  <a:pt x="5680" y="15180"/>
                </a:lnTo>
              </a:path>
              <a:path w="13817" h="5210">
                <a:moveTo>
                  <a:pt x="3299" y="10740"/>
                </a:moveTo>
                <a:cubicBezTo>
                  <a:pt x="3266" y="10810"/>
                  <a:pt x="3235" y="10890"/>
                  <a:pt x="3200" y="10964"/>
                </a:cubicBezTo>
                <a:cubicBezTo>
                  <a:pt x="3108" y="11158"/>
                  <a:pt x="3051" y="11336"/>
                  <a:pt x="2977" y="11534"/>
                </a:cubicBezTo>
                <a:cubicBezTo>
                  <a:pt x="2921" y="11685"/>
                  <a:pt x="2860" y="11830"/>
                  <a:pt x="2803" y="11981"/>
                </a:cubicBezTo>
                <a:cubicBezTo>
                  <a:pt x="2722" y="12195"/>
                  <a:pt x="2660" y="12413"/>
                  <a:pt x="2580" y="12626"/>
                </a:cubicBezTo>
                <a:cubicBezTo>
                  <a:pt x="2511" y="12807"/>
                  <a:pt x="2469" y="12989"/>
                  <a:pt x="2406" y="13171"/>
                </a:cubicBezTo>
                <a:cubicBezTo>
                  <a:pt x="2371" y="13274"/>
                  <a:pt x="2321" y="13402"/>
                  <a:pt x="2282" y="13494"/>
                </a:cubicBezTo>
                <a:cubicBezTo>
                  <a:pt x="2253" y="13563"/>
                  <a:pt x="2236" y="13625"/>
                  <a:pt x="2208" y="13692"/>
                </a:cubicBezTo>
                <a:cubicBezTo>
                  <a:pt x="2200" y="13700"/>
                  <a:pt x="2191" y="13709"/>
                  <a:pt x="2183" y="13717"/>
                </a:cubicBezTo>
                <a:cubicBezTo>
                  <a:pt x="2266" y="13730"/>
                  <a:pt x="2348" y="13731"/>
                  <a:pt x="2431" y="13742"/>
                </a:cubicBezTo>
                <a:cubicBezTo>
                  <a:pt x="2518" y="13754"/>
                  <a:pt x="2611" y="13758"/>
                  <a:pt x="2704" y="13767"/>
                </a:cubicBezTo>
                <a:cubicBezTo>
                  <a:pt x="2838" y="13779"/>
                  <a:pt x="2964" y="13789"/>
                  <a:pt x="3101" y="13791"/>
                </a:cubicBezTo>
                <a:cubicBezTo>
                  <a:pt x="3409" y="13795"/>
                  <a:pt x="3713" y="13784"/>
                  <a:pt x="4018" y="13767"/>
                </a:cubicBezTo>
                <a:cubicBezTo>
                  <a:pt x="4379" y="13746"/>
                  <a:pt x="4751" y="13756"/>
                  <a:pt x="5110" y="13742"/>
                </a:cubicBezTo>
                <a:cubicBezTo>
                  <a:pt x="5282" y="13735"/>
                  <a:pt x="5442" y="13745"/>
                  <a:pt x="5606" y="13717"/>
                </a:cubicBezTo>
                <a:cubicBezTo>
                  <a:pt x="5700" y="13701"/>
                  <a:pt x="5784" y="13689"/>
                  <a:pt x="5879" y="13667"/>
                </a:cubicBezTo>
                <a:cubicBezTo>
                  <a:pt x="5923" y="13667"/>
                  <a:pt x="5936" y="13670"/>
                  <a:pt x="5953" y="13643"/>
                </a:cubicBezTo>
                <a:cubicBezTo>
                  <a:pt x="5879" y="13569"/>
                  <a:pt x="5872" y="13530"/>
                  <a:pt x="5804" y="13444"/>
                </a:cubicBezTo>
                <a:cubicBezTo>
                  <a:pt x="5739" y="13361"/>
                  <a:pt x="5705" y="13312"/>
                  <a:pt x="5655" y="13221"/>
                </a:cubicBezTo>
                <a:cubicBezTo>
                  <a:pt x="5589" y="13102"/>
                  <a:pt x="5513" y="12981"/>
                  <a:pt x="5432" y="12874"/>
                </a:cubicBezTo>
                <a:cubicBezTo>
                  <a:pt x="5329" y="12738"/>
                  <a:pt x="5220" y="12608"/>
                  <a:pt x="5110" y="12477"/>
                </a:cubicBezTo>
                <a:cubicBezTo>
                  <a:pt x="4904" y="12231"/>
                  <a:pt x="4718" y="11932"/>
                  <a:pt x="4490" y="11708"/>
                </a:cubicBezTo>
                <a:cubicBezTo>
                  <a:pt x="4378" y="11598"/>
                  <a:pt x="4241" y="11436"/>
                  <a:pt x="4118" y="11336"/>
                </a:cubicBezTo>
                <a:cubicBezTo>
                  <a:pt x="3992" y="11233"/>
                  <a:pt x="3897" y="11144"/>
                  <a:pt x="3770" y="11038"/>
                </a:cubicBezTo>
                <a:cubicBezTo>
                  <a:pt x="3676" y="10960"/>
                  <a:pt x="3610" y="10871"/>
                  <a:pt x="3522" y="10790"/>
                </a:cubicBezTo>
                <a:cubicBezTo>
                  <a:pt x="3506" y="10775"/>
                  <a:pt x="3368" y="10604"/>
                  <a:pt x="3349" y="10592"/>
                </a:cubicBezTo>
                <a:cubicBezTo>
                  <a:pt x="3311" y="10568"/>
                  <a:pt x="3339" y="10612"/>
                  <a:pt x="3299" y="10592"/>
                </a:cubicBezTo>
              </a:path>
              <a:path w="13817" h="5210">
                <a:moveTo>
                  <a:pt x="2604" y="12874"/>
                </a:moveTo>
                <a:cubicBezTo>
                  <a:pt x="2643" y="12912"/>
                  <a:pt x="2677" y="12953"/>
                  <a:pt x="2704" y="12998"/>
                </a:cubicBezTo>
                <a:cubicBezTo>
                  <a:pt x="2759" y="13088"/>
                  <a:pt x="2817" y="13172"/>
                  <a:pt x="2853" y="13271"/>
                </a:cubicBezTo>
                <a:cubicBezTo>
                  <a:pt x="2884" y="13355"/>
                  <a:pt x="2937" y="13413"/>
                  <a:pt x="2977" y="13494"/>
                </a:cubicBezTo>
                <a:cubicBezTo>
                  <a:pt x="3000" y="13542"/>
                  <a:pt x="3008" y="13556"/>
                  <a:pt x="3001" y="13593"/>
                </a:cubicBezTo>
                <a:cubicBezTo>
                  <a:pt x="2968" y="13534"/>
                  <a:pt x="2933" y="13481"/>
                  <a:pt x="2902" y="13419"/>
                </a:cubicBezTo>
                <a:cubicBezTo>
                  <a:pt x="2868" y="13351"/>
                  <a:pt x="2850" y="13285"/>
                  <a:pt x="2828" y="13221"/>
                </a:cubicBezTo>
                <a:cubicBezTo>
                  <a:pt x="2808" y="13164"/>
                  <a:pt x="2759" y="13122"/>
                  <a:pt x="2729" y="13072"/>
                </a:cubicBezTo>
                <a:cubicBezTo>
                  <a:pt x="2695" y="13015"/>
                  <a:pt x="2650" y="12975"/>
                  <a:pt x="2604" y="12923"/>
                </a:cubicBezTo>
                <a:cubicBezTo>
                  <a:pt x="2575" y="12893"/>
                  <a:pt x="2561" y="12882"/>
                  <a:pt x="2530" y="12874"/>
                </a:cubicBezTo>
                <a:cubicBezTo>
                  <a:pt x="2436" y="12825"/>
                  <a:pt x="2594" y="12940"/>
                  <a:pt x="2604" y="12948"/>
                </a:cubicBezTo>
                <a:cubicBezTo>
                  <a:pt x="2685" y="13015"/>
                  <a:pt x="2783" y="13103"/>
                  <a:pt x="2828" y="13196"/>
                </a:cubicBezTo>
                <a:cubicBezTo>
                  <a:pt x="2869" y="13282"/>
                  <a:pt x="2926" y="13318"/>
                  <a:pt x="2977" y="13395"/>
                </a:cubicBezTo>
                <a:cubicBezTo>
                  <a:pt x="3001" y="13444"/>
                  <a:pt x="3009" y="13461"/>
                  <a:pt x="3026" y="13494"/>
                </a:cubicBezTo>
                <a:cubicBezTo>
                  <a:pt x="3026" y="13620"/>
                  <a:pt x="3012" y="13420"/>
                  <a:pt x="3001" y="13395"/>
                </a:cubicBezTo>
                <a:cubicBezTo>
                  <a:pt x="2977" y="13342"/>
                  <a:pt x="2933" y="13243"/>
                  <a:pt x="2902" y="13196"/>
                </a:cubicBezTo>
                <a:cubicBezTo>
                  <a:pt x="2858" y="13130"/>
                  <a:pt x="2841" y="13074"/>
                  <a:pt x="2803" y="12998"/>
                </a:cubicBezTo>
                <a:cubicBezTo>
                  <a:pt x="2768" y="12929"/>
                  <a:pt x="2721" y="12865"/>
                  <a:pt x="2679" y="12799"/>
                </a:cubicBezTo>
                <a:cubicBezTo>
                  <a:pt x="2690" y="12887"/>
                  <a:pt x="2735" y="12921"/>
                  <a:pt x="2778" y="12998"/>
                </a:cubicBezTo>
                <a:cubicBezTo>
                  <a:pt x="2819" y="13071"/>
                  <a:pt x="2834" y="13145"/>
                  <a:pt x="2853" y="13221"/>
                </a:cubicBezTo>
                <a:cubicBezTo>
                  <a:pt x="2873" y="13301"/>
                  <a:pt x="2921" y="13337"/>
                  <a:pt x="2927" y="13419"/>
                </a:cubicBezTo>
                <a:cubicBezTo>
                  <a:pt x="2927" y="13427"/>
                  <a:pt x="2927" y="13436"/>
                  <a:pt x="2927" y="13444"/>
                </a:cubicBezTo>
              </a:path>
              <a:path w="13817" h="5210">
                <a:moveTo>
                  <a:pt x="4142" y="13320"/>
                </a:moveTo>
                <a:cubicBezTo>
                  <a:pt x="4163" y="13424"/>
                  <a:pt x="4154" y="13515"/>
                  <a:pt x="4167" y="13618"/>
                </a:cubicBezTo>
                <a:cubicBezTo>
                  <a:pt x="4182" y="13739"/>
                  <a:pt x="4191" y="13873"/>
                  <a:pt x="4217" y="13990"/>
                </a:cubicBezTo>
                <a:cubicBezTo>
                  <a:pt x="4225" y="14015"/>
                  <a:pt x="4234" y="14039"/>
                  <a:pt x="4242" y="14064"/>
                </a:cubicBezTo>
                <a:cubicBezTo>
                  <a:pt x="4242" y="14206"/>
                  <a:pt x="4242" y="13952"/>
                  <a:pt x="4242" y="13940"/>
                </a:cubicBezTo>
                <a:cubicBezTo>
                  <a:pt x="4242" y="13763"/>
                  <a:pt x="4243" y="13588"/>
                  <a:pt x="4217" y="13419"/>
                </a:cubicBezTo>
                <a:cubicBezTo>
                  <a:pt x="4217" y="13375"/>
                  <a:pt x="4220" y="13361"/>
                  <a:pt x="4192" y="13345"/>
                </a:cubicBezTo>
                <a:cubicBezTo>
                  <a:pt x="4192" y="13496"/>
                  <a:pt x="4186" y="13642"/>
                  <a:pt x="4217" y="13791"/>
                </a:cubicBezTo>
                <a:cubicBezTo>
                  <a:pt x="4236" y="13880"/>
                  <a:pt x="4267" y="13980"/>
                  <a:pt x="4291" y="14064"/>
                </a:cubicBezTo>
                <a:cubicBezTo>
                  <a:pt x="4299" y="14091"/>
                  <a:pt x="4316" y="14242"/>
                  <a:pt x="4316" y="14188"/>
                </a:cubicBezTo>
              </a:path>
              <a:path w="13817" h="5210">
                <a:moveTo>
                  <a:pt x="8235" y="11857"/>
                </a:moveTo>
                <a:cubicBezTo>
                  <a:pt x="8215" y="11977"/>
                  <a:pt x="8193" y="12084"/>
                  <a:pt x="8161" y="12204"/>
                </a:cubicBezTo>
                <a:cubicBezTo>
                  <a:pt x="8114" y="12380"/>
                  <a:pt x="8072" y="12552"/>
                  <a:pt x="8012" y="12725"/>
                </a:cubicBezTo>
                <a:cubicBezTo>
                  <a:pt x="7936" y="12945"/>
                  <a:pt x="7875" y="13154"/>
                  <a:pt x="7789" y="13370"/>
                </a:cubicBezTo>
                <a:cubicBezTo>
                  <a:pt x="7722" y="13539"/>
                  <a:pt x="7675" y="13720"/>
                  <a:pt x="7615" y="13891"/>
                </a:cubicBezTo>
                <a:cubicBezTo>
                  <a:pt x="7562" y="14042"/>
                  <a:pt x="7503" y="14188"/>
                  <a:pt x="7441" y="14337"/>
                </a:cubicBezTo>
                <a:cubicBezTo>
                  <a:pt x="7385" y="14471"/>
                  <a:pt x="7331" y="14611"/>
                  <a:pt x="7268" y="14734"/>
                </a:cubicBezTo>
                <a:cubicBezTo>
                  <a:pt x="7237" y="14795"/>
                  <a:pt x="7205" y="14851"/>
                  <a:pt x="7169" y="14908"/>
                </a:cubicBezTo>
                <a:cubicBezTo>
                  <a:pt x="7306" y="14908"/>
                  <a:pt x="7436" y="14914"/>
                  <a:pt x="7565" y="14932"/>
                </a:cubicBezTo>
                <a:cubicBezTo>
                  <a:pt x="7748" y="14957"/>
                  <a:pt x="7926" y="14998"/>
                  <a:pt x="8111" y="15032"/>
                </a:cubicBezTo>
                <a:cubicBezTo>
                  <a:pt x="8459" y="15096"/>
                  <a:pt x="8808" y="15160"/>
                  <a:pt x="9153" y="15230"/>
                </a:cubicBezTo>
                <a:cubicBezTo>
                  <a:pt x="9376" y="15275"/>
                  <a:pt x="9600" y="15315"/>
                  <a:pt x="9823" y="15354"/>
                </a:cubicBezTo>
                <a:cubicBezTo>
                  <a:pt x="10112" y="15405"/>
                  <a:pt x="10403" y="15460"/>
                  <a:pt x="10691" y="15503"/>
                </a:cubicBezTo>
                <a:cubicBezTo>
                  <a:pt x="10782" y="15517"/>
                  <a:pt x="10872" y="15521"/>
                  <a:pt x="10964" y="15528"/>
                </a:cubicBezTo>
                <a:cubicBezTo>
                  <a:pt x="10980" y="15528"/>
                  <a:pt x="10997" y="15528"/>
                  <a:pt x="11013" y="15528"/>
                </a:cubicBezTo>
                <a:cubicBezTo>
                  <a:pt x="10996" y="15479"/>
                  <a:pt x="11008" y="15425"/>
                  <a:pt x="10939" y="15354"/>
                </a:cubicBezTo>
                <a:cubicBezTo>
                  <a:pt x="10863" y="15275"/>
                  <a:pt x="10772" y="15202"/>
                  <a:pt x="10691" y="15106"/>
                </a:cubicBezTo>
                <a:cubicBezTo>
                  <a:pt x="10599" y="14997"/>
                  <a:pt x="10497" y="14877"/>
                  <a:pt x="10418" y="14759"/>
                </a:cubicBezTo>
                <a:cubicBezTo>
                  <a:pt x="10330" y="14628"/>
                  <a:pt x="10239" y="14513"/>
                  <a:pt x="10145" y="14387"/>
                </a:cubicBezTo>
                <a:cubicBezTo>
                  <a:pt x="9970" y="14154"/>
                  <a:pt x="9831" y="13889"/>
                  <a:pt x="9674" y="13643"/>
                </a:cubicBezTo>
                <a:cubicBezTo>
                  <a:pt x="9568" y="13476"/>
                  <a:pt x="9458" y="13313"/>
                  <a:pt x="9351" y="13146"/>
                </a:cubicBezTo>
                <a:cubicBezTo>
                  <a:pt x="9243" y="12978"/>
                  <a:pt x="9139" y="12799"/>
                  <a:pt x="9004" y="12650"/>
                </a:cubicBezTo>
                <a:cubicBezTo>
                  <a:pt x="8887" y="12521"/>
                  <a:pt x="8791" y="12390"/>
                  <a:pt x="8682" y="12254"/>
                </a:cubicBezTo>
                <a:cubicBezTo>
                  <a:pt x="8582" y="12129"/>
                  <a:pt x="8460" y="12022"/>
                  <a:pt x="8359" y="11906"/>
                </a:cubicBezTo>
                <a:cubicBezTo>
                  <a:pt x="8320" y="11862"/>
                  <a:pt x="8279" y="11768"/>
                  <a:pt x="8235" y="11733"/>
                </a:cubicBezTo>
                <a:cubicBezTo>
                  <a:pt x="8195" y="11713"/>
                  <a:pt x="8179" y="11694"/>
                  <a:pt x="8186" y="11733"/>
                </a:cubicBezTo>
              </a:path>
              <a:path w="13817" h="5210">
                <a:moveTo>
                  <a:pt x="12874" y="12353"/>
                </a:moveTo>
                <a:cubicBezTo>
                  <a:pt x="12870" y="12440"/>
                  <a:pt x="12864" y="12517"/>
                  <a:pt x="12849" y="12601"/>
                </a:cubicBezTo>
                <a:cubicBezTo>
                  <a:pt x="12807" y="12836"/>
                  <a:pt x="12684" y="13062"/>
                  <a:pt x="12576" y="13271"/>
                </a:cubicBezTo>
                <a:cubicBezTo>
                  <a:pt x="12450" y="13513"/>
                  <a:pt x="12337" y="13766"/>
                  <a:pt x="12229" y="14015"/>
                </a:cubicBezTo>
                <a:cubicBezTo>
                  <a:pt x="12141" y="14219"/>
                  <a:pt x="12048" y="14409"/>
                  <a:pt x="11956" y="14610"/>
                </a:cubicBezTo>
                <a:cubicBezTo>
                  <a:pt x="11893" y="14747"/>
                  <a:pt x="11831" y="14876"/>
                  <a:pt x="11757" y="15007"/>
                </a:cubicBezTo>
                <a:cubicBezTo>
                  <a:pt x="11749" y="15023"/>
                  <a:pt x="11741" y="15040"/>
                  <a:pt x="11733" y="15056"/>
                </a:cubicBezTo>
                <a:cubicBezTo>
                  <a:pt x="11787" y="14882"/>
                  <a:pt x="11875" y="14729"/>
                  <a:pt x="11956" y="14560"/>
                </a:cubicBezTo>
              </a:path>
              <a:path w="13817" h="5210">
                <a:moveTo>
                  <a:pt x="12874" y="12129"/>
                </a:moveTo>
                <a:cubicBezTo>
                  <a:pt x="12953" y="12224"/>
                  <a:pt x="13033" y="12341"/>
                  <a:pt x="13122" y="12427"/>
                </a:cubicBezTo>
                <a:cubicBezTo>
                  <a:pt x="13267" y="12568"/>
                  <a:pt x="13418" y="12688"/>
                  <a:pt x="13568" y="12824"/>
                </a:cubicBezTo>
                <a:cubicBezTo>
                  <a:pt x="13908" y="13132"/>
                  <a:pt x="14253" y="13455"/>
                  <a:pt x="14610" y="13742"/>
                </a:cubicBezTo>
                <a:cubicBezTo>
                  <a:pt x="14862" y="13945"/>
                  <a:pt x="15085" y="14175"/>
                  <a:pt x="15329" y="14387"/>
                </a:cubicBezTo>
                <a:cubicBezTo>
                  <a:pt x="15488" y="14525"/>
                  <a:pt x="15642" y="14670"/>
                  <a:pt x="15801" y="14808"/>
                </a:cubicBezTo>
                <a:cubicBezTo>
                  <a:pt x="15870" y="14868"/>
                  <a:pt x="15937" y="14924"/>
                  <a:pt x="15999" y="14982"/>
                </a:cubicBezTo>
                <a:cubicBezTo>
                  <a:pt x="15898" y="14969"/>
                  <a:pt x="15819" y="14959"/>
                  <a:pt x="15701" y="14957"/>
                </a:cubicBezTo>
                <a:cubicBezTo>
                  <a:pt x="15502" y="14953"/>
                  <a:pt x="15302" y="14954"/>
                  <a:pt x="15106" y="14982"/>
                </a:cubicBezTo>
                <a:cubicBezTo>
                  <a:pt x="14958" y="15003"/>
                  <a:pt x="14807" y="15011"/>
                  <a:pt x="14660" y="15032"/>
                </a:cubicBezTo>
                <a:cubicBezTo>
                  <a:pt x="14444" y="15063"/>
                  <a:pt x="14229" y="15082"/>
                  <a:pt x="14015" y="15106"/>
                </a:cubicBezTo>
                <a:cubicBezTo>
                  <a:pt x="13830" y="15127"/>
                  <a:pt x="13656" y="15131"/>
                  <a:pt x="13469" y="15131"/>
                </a:cubicBezTo>
                <a:cubicBezTo>
                  <a:pt x="13254" y="15131"/>
                  <a:pt x="13042" y="15156"/>
                  <a:pt x="12824" y="15156"/>
                </a:cubicBezTo>
                <a:cubicBezTo>
                  <a:pt x="12672" y="15156"/>
                  <a:pt x="12526" y="15139"/>
                  <a:pt x="12378" y="15131"/>
                </a:cubicBezTo>
                <a:cubicBezTo>
                  <a:pt x="12230" y="15123"/>
                  <a:pt x="12035" y="15164"/>
                  <a:pt x="11906" y="15106"/>
                </a:cubicBezTo>
                <a:cubicBezTo>
                  <a:pt x="11914" y="15098"/>
                  <a:pt x="11923" y="15089"/>
                  <a:pt x="11931" y="15081"/>
                </a:cubicBezTo>
              </a:path>
              <a:path w="13817" h="5210">
                <a:moveTo>
                  <a:pt x="12229" y="13395"/>
                </a:moveTo>
                <a:cubicBezTo>
                  <a:pt x="12364" y="13460"/>
                  <a:pt x="12430" y="13526"/>
                  <a:pt x="12551" y="13593"/>
                </a:cubicBezTo>
                <a:cubicBezTo>
                  <a:pt x="12599" y="13617"/>
                  <a:pt x="12613" y="13625"/>
                  <a:pt x="12650" y="13618"/>
                </a:cubicBezTo>
                <a:cubicBezTo>
                  <a:pt x="12596" y="13573"/>
                  <a:pt x="12531" y="13539"/>
                  <a:pt x="12477" y="13494"/>
                </a:cubicBezTo>
                <a:cubicBezTo>
                  <a:pt x="12401" y="13431"/>
                  <a:pt x="12311" y="13404"/>
                  <a:pt x="12229" y="13345"/>
                </a:cubicBezTo>
                <a:cubicBezTo>
                  <a:pt x="12201" y="13317"/>
                  <a:pt x="12187" y="13308"/>
                  <a:pt x="12154" y="13320"/>
                </a:cubicBezTo>
                <a:cubicBezTo>
                  <a:pt x="12234" y="13400"/>
                  <a:pt x="12312" y="13449"/>
                  <a:pt x="12402" y="13519"/>
                </a:cubicBezTo>
                <a:cubicBezTo>
                  <a:pt x="12449" y="13565"/>
                  <a:pt x="12461" y="13579"/>
                  <a:pt x="12502" y="13593"/>
                </a:cubicBezTo>
              </a:path>
              <a:path w="13817" h="5210">
                <a:moveTo>
                  <a:pt x="12105" y="14139"/>
                </a:moveTo>
                <a:cubicBezTo>
                  <a:pt x="12187" y="14179"/>
                  <a:pt x="12234" y="14206"/>
                  <a:pt x="12278" y="14288"/>
                </a:cubicBezTo>
                <a:cubicBezTo>
                  <a:pt x="12330" y="14385"/>
                  <a:pt x="12394" y="14467"/>
                  <a:pt x="12452" y="14560"/>
                </a:cubicBezTo>
                <a:cubicBezTo>
                  <a:pt x="12498" y="14634"/>
                  <a:pt x="12532" y="14711"/>
                  <a:pt x="12576" y="14784"/>
                </a:cubicBezTo>
                <a:cubicBezTo>
                  <a:pt x="12598" y="14827"/>
                  <a:pt x="12602" y="14839"/>
                  <a:pt x="12626" y="14858"/>
                </a:cubicBezTo>
                <a:cubicBezTo>
                  <a:pt x="12616" y="14775"/>
                  <a:pt x="12584" y="14690"/>
                  <a:pt x="12551" y="14610"/>
                </a:cubicBezTo>
                <a:cubicBezTo>
                  <a:pt x="12514" y="14519"/>
                  <a:pt x="12467" y="14426"/>
                  <a:pt x="12427" y="14337"/>
                </a:cubicBezTo>
                <a:cubicBezTo>
                  <a:pt x="12388" y="14251"/>
                  <a:pt x="12299" y="14183"/>
                  <a:pt x="12278" y="14089"/>
                </a:cubicBezTo>
                <a:cubicBezTo>
                  <a:pt x="12263" y="14023"/>
                  <a:pt x="12254" y="14015"/>
                  <a:pt x="12204" y="13965"/>
                </a:cubicBezTo>
                <a:cubicBezTo>
                  <a:pt x="12196" y="13957"/>
                  <a:pt x="12187" y="13948"/>
                  <a:pt x="12179" y="13940"/>
                </a:cubicBezTo>
                <a:cubicBezTo>
                  <a:pt x="12189" y="14007"/>
                  <a:pt x="12222" y="14049"/>
                  <a:pt x="12254" y="14114"/>
                </a:cubicBezTo>
                <a:cubicBezTo>
                  <a:pt x="12297" y="14202"/>
                  <a:pt x="12347" y="14281"/>
                  <a:pt x="12402" y="14362"/>
                </a:cubicBezTo>
                <a:cubicBezTo>
                  <a:pt x="12483" y="14483"/>
                  <a:pt x="12534" y="14620"/>
                  <a:pt x="12626" y="14734"/>
                </a:cubicBezTo>
                <a:cubicBezTo>
                  <a:pt x="12680" y="14800"/>
                  <a:pt x="12679" y="14875"/>
                  <a:pt x="12725" y="14932"/>
                </a:cubicBezTo>
                <a:cubicBezTo>
                  <a:pt x="12745" y="14957"/>
                  <a:pt x="12743" y="14949"/>
                  <a:pt x="12774" y="14957"/>
                </a:cubicBezTo>
              </a:path>
              <a:path w="13817" h="5210">
                <a:moveTo>
                  <a:pt x="13618" y="14833"/>
                </a:moveTo>
                <a:cubicBezTo>
                  <a:pt x="13662" y="14948"/>
                  <a:pt x="13703" y="15063"/>
                  <a:pt x="13742" y="15180"/>
                </a:cubicBezTo>
                <a:cubicBezTo>
                  <a:pt x="13768" y="15259"/>
                  <a:pt x="13806" y="15323"/>
                  <a:pt x="13816" y="15404"/>
                </a:cubicBezTo>
                <a:cubicBezTo>
                  <a:pt x="13816" y="15315"/>
                  <a:pt x="13813" y="15215"/>
                  <a:pt x="13791" y="15131"/>
                </a:cubicBezTo>
                <a:cubicBezTo>
                  <a:pt x="13770" y="15050"/>
                  <a:pt x="13762" y="14964"/>
                  <a:pt x="13742" y="14883"/>
                </a:cubicBezTo>
                <a:cubicBezTo>
                  <a:pt x="13724" y="14810"/>
                  <a:pt x="13680" y="14723"/>
                  <a:pt x="13667" y="14660"/>
                </a:cubicBezTo>
                <a:cubicBezTo>
                  <a:pt x="13667" y="14643"/>
                  <a:pt x="13667" y="14627"/>
                  <a:pt x="13667" y="14610"/>
                </a:cubicBezTo>
                <a:cubicBezTo>
                  <a:pt x="13678" y="14731"/>
                  <a:pt x="13726" y="14840"/>
                  <a:pt x="13767" y="14957"/>
                </a:cubicBezTo>
                <a:cubicBezTo>
                  <a:pt x="13804" y="15063"/>
                  <a:pt x="13790" y="15174"/>
                  <a:pt x="13816" y="15280"/>
                </a:cubicBezTo>
                <a:cubicBezTo>
                  <a:pt x="13837" y="15367"/>
                  <a:pt x="13877" y="15462"/>
                  <a:pt x="13891" y="15553"/>
                </a:cubicBezTo>
                <a:cubicBezTo>
                  <a:pt x="13901" y="15618"/>
                  <a:pt x="13891" y="15739"/>
                  <a:pt x="13891" y="15602"/>
                </a:cubicBezTo>
              </a:path>
              <a:path w="13817" h="5210">
                <a:moveTo>
                  <a:pt x="13990" y="14560"/>
                </a:moveTo>
                <a:cubicBezTo>
                  <a:pt x="14044" y="14641"/>
                  <a:pt x="14020" y="14695"/>
                  <a:pt x="14039" y="14784"/>
                </a:cubicBezTo>
                <a:cubicBezTo>
                  <a:pt x="14070" y="14930"/>
                  <a:pt x="14102" y="15082"/>
                  <a:pt x="14114" y="15230"/>
                </a:cubicBezTo>
                <a:cubicBezTo>
                  <a:pt x="14124" y="15347"/>
                  <a:pt x="14139" y="15458"/>
                  <a:pt x="14139" y="15577"/>
                </a:cubicBezTo>
                <a:cubicBezTo>
                  <a:pt x="14139" y="15643"/>
                  <a:pt x="14139" y="15710"/>
                  <a:pt x="14139" y="157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Ink 6"/>
          <p:cNvSpPr/>
          <p:nvPr/>
        </p:nvSpPr>
        <p:spPr>
          <a:xfrm>
            <a:off x="2946240" y="4402080"/>
            <a:ext cx="196920" cy="54000"/>
          </a:xfrm>
          <a:custGeom>
            <a:avLst/>
            <a:gdLst/>
            <a:ahLst/>
            <a:rect l="l" t="t" r="r" b="b"/>
            <a:pathLst>
              <a:path w="546" h="150">
                <a:moveTo>
                  <a:pt x="8706" y="12229"/>
                </a:moveTo>
                <a:cubicBezTo>
                  <a:pt x="8666" y="12300"/>
                  <a:pt x="8631" y="12314"/>
                  <a:pt x="8558" y="12328"/>
                </a:cubicBezTo>
                <a:cubicBezTo>
                  <a:pt x="8481" y="12342"/>
                  <a:pt x="8381" y="12327"/>
                  <a:pt x="8310" y="12303"/>
                </a:cubicBezTo>
                <a:cubicBezTo>
                  <a:pt x="8262" y="12287"/>
                  <a:pt x="8225" y="12277"/>
                  <a:pt x="8186" y="12254"/>
                </a:cubicBezTo>
                <a:cubicBezTo>
                  <a:pt x="8220" y="12274"/>
                  <a:pt x="8295" y="12318"/>
                  <a:pt x="8334" y="12328"/>
                </a:cubicBezTo>
                <a:cubicBezTo>
                  <a:pt x="8386" y="12342"/>
                  <a:pt x="8506" y="12382"/>
                  <a:pt x="8558" y="12378"/>
                </a:cubicBezTo>
                <a:cubicBezTo>
                  <a:pt x="8630" y="12372"/>
                  <a:pt x="8684" y="12326"/>
                  <a:pt x="8731" y="12278"/>
                </a:cubicBezTo>
                <a:cubicBezTo>
                  <a:pt x="8670" y="12218"/>
                  <a:pt x="8674" y="12244"/>
                  <a:pt x="8607" y="12254"/>
                </a:cubicBezTo>
                <a:cubicBezTo>
                  <a:pt x="8513" y="12268"/>
                  <a:pt x="8406" y="12254"/>
                  <a:pt x="8310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Ink 7"/>
          <p:cNvSpPr/>
          <p:nvPr/>
        </p:nvSpPr>
        <p:spPr>
          <a:xfrm>
            <a:off x="2776680" y="4581360"/>
            <a:ext cx="206280" cy="150840"/>
          </a:xfrm>
          <a:custGeom>
            <a:avLst/>
            <a:gdLst/>
            <a:ahLst/>
            <a:rect l="l" t="t" r="r" b="b"/>
            <a:pathLst>
              <a:path w="572" h="422">
                <a:moveTo>
                  <a:pt x="7714" y="12824"/>
                </a:moveTo>
                <a:cubicBezTo>
                  <a:pt x="7771" y="12856"/>
                  <a:pt x="7834" y="12886"/>
                  <a:pt x="7888" y="12923"/>
                </a:cubicBezTo>
                <a:cubicBezTo>
                  <a:pt x="7980" y="12986"/>
                  <a:pt x="8063" y="13022"/>
                  <a:pt x="8161" y="13072"/>
                </a:cubicBezTo>
                <a:cubicBezTo>
                  <a:pt x="8206" y="13095"/>
                  <a:pt x="8246" y="13115"/>
                  <a:pt x="8285" y="13146"/>
                </a:cubicBezTo>
                <a:cubicBezTo>
                  <a:pt x="8232" y="13063"/>
                  <a:pt x="8188" y="13051"/>
                  <a:pt x="8111" y="12998"/>
                </a:cubicBezTo>
                <a:cubicBezTo>
                  <a:pt x="8038" y="12948"/>
                  <a:pt x="7922" y="12878"/>
                  <a:pt x="7838" y="12849"/>
                </a:cubicBezTo>
                <a:cubicBezTo>
                  <a:pt x="7789" y="12849"/>
                  <a:pt x="7772" y="12849"/>
                  <a:pt x="7739" y="12849"/>
                </a:cubicBezTo>
                <a:cubicBezTo>
                  <a:pt x="7804" y="12881"/>
                  <a:pt x="7875" y="12921"/>
                  <a:pt x="7938" y="12948"/>
                </a:cubicBezTo>
                <a:cubicBezTo>
                  <a:pt x="8017" y="12982"/>
                  <a:pt x="8125" y="13031"/>
                  <a:pt x="8210" y="13047"/>
                </a:cubicBezTo>
                <a:cubicBezTo>
                  <a:pt x="8227" y="13047"/>
                  <a:pt x="8243" y="13047"/>
                  <a:pt x="8260" y="13047"/>
                </a:cubicBezTo>
                <a:cubicBezTo>
                  <a:pt x="8221" y="12986"/>
                  <a:pt x="8164" y="12916"/>
                  <a:pt x="8111" y="12874"/>
                </a:cubicBezTo>
                <a:cubicBezTo>
                  <a:pt x="8055" y="12829"/>
                  <a:pt x="7961" y="12776"/>
                  <a:pt x="7913" y="12750"/>
                </a:cubicBezTo>
                <a:cubicBezTo>
                  <a:pt x="7849" y="12715"/>
                  <a:pt x="7783" y="12725"/>
                  <a:pt x="7714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Ink 8"/>
          <p:cNvSpPr/>
          <p:nvPr/>
        </p:nvSpPr>
        <p:spPr>
          <a:xfrm>
            <a:off x="2714760" y="5027760"/>
            <a:ext cx="115920" cy="312480"/>
          </a:xfrm>
          <a:custGeom>
            <a:avLst/>
            <a:gdLst/>
            <a:ahLst/>
            <a:rect l="l" t="t" r="r" b="b"/>
            <a:pathLst>
              <a:path w="323" h="869">
                <a:moveTo>
                  <a:pt x="7541" y="14064"/>
                </a:moveTo>
                <a:cubicBezTo>
                  <a:pt x="7611" y="14074"/>
                  <a:pt x="7627" y="14099"/>
                  <a:pt x="7665" y="14163"/>
                </a:cubicBezTo>
                <a:cubicBezTo>
                  <a:pt x="7695" y="14213"/>
                  <a:pt x="7730" y="14329"/>
                  <a:pt x="7739" y="14387"/>
                </a:cubicBezTo>
                <a:cubicBezTo>
                  <a:pt x="7757" y="14502"/>
                  <a:pt x="7772" y="14599"/>
                  <a:pt x="7813" y="14709"/>
                </a:cubicBezTo>
                <a:cubicBezTo>
                  <a:pt x="7821" y="14734"/>
                  <a:pt x="7830" y="14759"/>
                  <a:pt x="7838" y="14784"/>
                </a:cubicBezTo>
                <a:cubicBezTo>
                  <a:pt x="7830" y="14700"/>
                  <a:pt x="7820" y="14621"/>
                  <a:pt x="7789" y="14536"/>
                </a:cubicBezTo>
                <a:cubicBezTo>
                  <a:pt x="7757" y="14448"/>
                  <a:pt x="7746" y="14354"/>
                  <a:pt x="7714" y="14263"/>
                </a:cubicBezTo>
                <a:cubicBezTo>
                  <a:pt x="7687" y="14185"/>
                  <a:pt x="7689" y="14109"/>
                  <a:pt x="7640" y="14039"/>
                </a:cubicBezTo>
                <a:cubicBezTo>
                  <a:pt x="7621" y="14013"/>
                  <a:pt x="7588" y="13988"/>
                  <a:pt x="7565" y="13965"/>
                </a:cubicBezTo>
                <a:cubicBezTo>
                  <a:pt x="7591" y="14033"/>
                  <a:pt x="7613" y="14094"/>
                  <a:pt x="7640" y="14163"/>
                </a:cubicBezTo>
                <a:cubicBezTo>
                  <a:pt x="7675" y="14253"/>
                  <a:pt x="7708" y="14344"/>
                  <a:pt x="7739" y="14436"/>
                </a:cubicBezTo>
                <a:cubicBezTo>
                  <a:pt x="7771" y="14531"/>
                  <a:pt x="7845" y="14612"/>
                  <a:pt x="7863" y="14709"/>
                </a:cubicBezTo>
                <a:cubicBezTo>
                  <a:pt x="7873" y="14761"/>
                  <a:pt x="7846" y="14899"/>
                  <a:pt x="7813" y="14784"/>
                </a:cubicBezTo>
                <a:cubicBezTo>
                  <a:pt x="7813" y="14767"/>
                  <a:pt x="7813" y="14751"/>
                  <a:pt x="7813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Ink 9"/>
          <p:cNvSpPr/>
          <p:nvPr/>
        </p:nvSpPr>
        <p:spPr>
          <a:xfrm>
            <a:off x="6367320" y="1571760"/>
            <a:ext cx="1865520" cy="179280"/>
          </a:xfrm>
          <a:custGeom>
            <a:avLst/>
            <a:gdLst/>
            <a:ahLst/>
            <a:rect l="l" t="t" r="r" b="b"/>
            <a:pathLst>
              <a:path w="5185" h="497">
                <a:moveTo>
                  <a:pt x="17686" y="4688"/>
                </a:moveTo>
                <a:cubicBezTo>
                  <a:pt x="17751" y="4688"/>
                  <a:pt x="17851" y="4690"/>
                  <a:pt x="17934" y="4688"/>
                </a:cubicBezTo>
                <a:cubicBezTo>
                  <a:pt x="18179" y="4682"/>
                  <a:pt x="18414" y="4590"/>
                  <a:pt x="18653" y="4564"/>
                </a:cubicBezTo>
                <a:cubicBezTo>
                  <a:pt x="19014" y="4525"/>
                  <a:pt x="19382" y="4522"/>
                  <a:pt x="19745" y="4490"/>
                </a:cubicBezTo>
                <a:cubicBezTo>
                  <a:pt x="20060" y="4462"/>
                  <a:pt x="20371" y="4465"/>
                  <a:pt x="20687" y="4465"/>
                </a:cubicBezTo>
                <a:cubicBezTo>
                  <a:pt x="21029" y="4465"/>
                  <a:pt x="21364" y="4479"/>
                  <a:pt x="21704" y="4514"/>
                </a:cubicBezTo>
                <a:cubicBezTo>
                  <a:pt x="21878" y="4532"/>
                  <a:pt x="22081" y="4555"/>
                  <a:pt x="22250" y="4589"/>
                </a:cubicBezTo>
                <a:cubicBezTo>
                  <a:pt x="22266" y="4597"/>
                  <a:pt x="22283" y="4606"/>
                  <a:pt x="22299" y="4614"/>
                </a:cubicBezTo>
                <a:cubicBezTo>
                  <a:pt x="22160" y="4573"/>
                  <a:pt x="22005" y="4537"/>
                  <a:pt x="21853" y="4514"/>
                </a:cubicBezTo>
                <a:cubicBezTo>
                  <a:pt x="21474" y="4457"/>
                  <a:pt x="21125" y="4418"/>
                  <a:pt x="20737" y="4390"/>
                </a:cubicBezTo>
                <a:cubicBezTo>
                  <a:pt x="20365" y="4364"/>
                  <a:pt x="19993" y="4385"/>
                  <a:pt x="19621" y="4415"/>
                </a:cubicBezTo>
                <a:cubicBezTo>
                  <a:pt x="19289" y="4442"/>
                  <a:pt x="18959" y="4500"/>
                  <a:pt x="18628" y="4539"/>
                </a:cubicBezTo>
                <a:cubicBezTo>
                  <a:pt x="18429" y="4563"/>
                  <a:pt x="18227" y="4610"/>
                  <a:pt x="18033" y="4663"/>
                </a:cubicBezTo>
                <a:cubicBezTo>
                  <a:pt x="18008" y="4671"/>
                  <a:pt x="17984" y="4680"/>
                  <a:pt x="17959" y="4688"/>
                </a:cubicBezTo>
                <a:cubicBezTo>
                  <a:pt x="17989" y="4677"/>
                  <a:pt x="18233" y="4608"/>
                  <a:pt x="18355" y="4589"/>
                </a:cubicBezTo>
                <a:cubicBezTo>
                  <a:pt x="18607" y="4551"/>
                  <a:pt x="18845" y="4539"/>
                  <a:pt x="19100" y="4539"/>
                </a:cubicBezTo>
                <a:cubicBezTo>
                  <a:pt x="19595" y="4539"/>
                  <a:pt x="20094" y="4519"/>
                  <a:pt x="20588" y="4564"/>
                </a:cubicBezTo>
                <a:cubicBezTo>
                  <a:pt x="20997" y="4601"/>
                  <a:pt x="21397" y="4655"/>
                  <a:pt x="21803" y="4713"/>
                </a:cubicBezTo>
                <a:cubicBezTo>
                  <a:pt x="22108" y="4756"/>
                  <a:pt x="22420" y="4782"/>
                  <a:pt x="22721" y="4837"/>
                </a:cubicBezTo>
                <a:cubicBezTo>
                  <a:pt x="22782" y="4848"/>
                  <a:pt x="22785" y="4854"/>
                  <a:pt x="22845" y="48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Ink 10"/>
          <p:cNvSpPr/>
          <p:nvPr/>
        </p:nvSpPr>
        <p:spPr>
          <a:xfrm>
            <a:off x="5232240" y="2527200"/>
            <a:ext cx="1428840" cy="81000"/>
          </a:xfrm>
          <a:custGeom>
            <a:avLst/>
            <a:gdLst/>
            <a:ahLst/>
            <a:rect l="l" t="t" r="r" b="b"/>
            <a:pathLst>
              <a:path w="3969" h="224">
                <a:moveTo>
                  <a:pt x="14536" y="7045"/>
                </a:moveTo>
                <a:cubicBezTo>
                  <a:pt x="14634" y="7067"/>
                  <a:pt x="14706" y="7069"/>
                  <a:pt x="14808" y="7069"/>
                </a:cubicBezTo>
                <a:cubicBezTo>
                  <a:pt x="15099" y="7069"/>
                  <a:pt x="15387" y="7057"/>
                  <a:pt x="15677" y="7045"/>
                </a:cubicBezTo>
                <a:cubicBezTo>
                  <a:pt x="15984" y="7032"/>
                  <a:pt x="16289" y="7059"/>
                  <a:pt x="16594" y="7069"/>
                </a:cubicBezTo>
                <a:cubicBezTo>
                  <a:pt x="16993" y="7082"/>
                  <a:pt x="17386" y="7084"/>
                  <a:pt x="17785" y="7119"/>
                </a:cubicBezTo>
                <a:cubicBezTo>
                  <a:pt x="18000" y="7138"/>
                  <a:pt x="18269" y="7234"/>
                  <a:pt x="18479" y="7193"/>
                </a:cubicBezTo>
                <a:cubicBezTo>
                  <a:pt x="18487" y="7185"/>
                  <a:pt x="18496" y="7177"/>
                  <a:pt x="18504" y="7169"/>
                </a:cubicBezTo>
                <a:cubicBezTo>
                  <a:pt x="18342" y="7125"/>
                  <a:pt x="18199" y="7113"/>
                  <a:pt x="18033" y="7094"/>
                </a:cubicBezTo>
                <a:cubicBezTo>
                  <a:pt x="17786" y="7066"/>
                  <a:pt x="17538" y="7048"/>
                  <a:pt x="17289" y="7045"/>
                </a:cubicBezTo>
                <a:cubicBezTo>
                  <a:pt x="17004" y="7041"/>
                  <a:pt x="16705" y="7049"/>
                  <a:pt x="16421" y="7069"/>
                </a:cubicBezTo>
                <a:cubicBezTo>
                  <a:pt x="16117" y="7090"/>
                  <a:pt x="15803" y="7123"/>
                  <a:pt x="15503" y="7169"/>
                </a:cubicBezTo>
                <a:cubicBezTo>
                  <a:pt x="15360" y="7191"/>
                  <a:pt x="15227" y="7193"/>
                  <a:pt x="15081" y="7193"/>
                </a:cubicBezTo>
                <a:cubicBezTo>
                  <a:pt x="15065" y="7193"/>
                  <a:pt x="15048" y="7193"/>
                  <a:pt x="15032" y="7193"/>
                </a:cubicBezTo>
                <a:cubicBezTo>
                  <a:pt x="15115" y="7131"/>
                  <a:pt x="15152" y="7104"/>
                  <a:pt x="15280" y="7094"/>
                </a:cubicBezTo>
                <a:cubicBezTo>
                  <a:pt x="15830" y="7053"/>
                  <a:pt x="16421" y="7082"/>
                  <a:pt x="16966" y="7144"/>
                </a:cubicBezTo>
                <a:cubicBezTo>
                  <a:pt x="17173" y="7168"/>
                  <a:pt x="17380" y="7203"/>
                  <a:pt x="17587" y="7218"/>
                </a:cubicBezTo>
                <a:cubicBezTo>
                  <a:pt x="17729" y="7228"/>
                  <a:pt x="17735" y="7254"/>
                  <a:pt x="17735" y="7144"/>
                </a:cubicBezTo>
                <a:cubicBezTo>
                  <a:pt x="17583" y="7103"/>
                  <a:pt x="17445" y="7087"/>
                  <a:pt x="17289" y="7069"/>
                </a:cubicBezTo>
                <a:cubicBezTo>
                  <a:pt x="16991" y="7035"/>
                  <a:pt x="16726" y="7020"/>
                  <a:pt x="16421" y="7020"/>
                </a:cubicBezTo>
                <a:cubicBezTo>
                  <a:pt x="16176" y="7020"/>
                  <a:pt x="15921" y="7044"/>
                  <a:pt x="15677" y="7069"/>
                </a:cubicBezTo>
                <a:cubicBezTo>
                  <a:pt x="15508" y="7086"/>
                  <a:pt x="15321" y="7106"/>
                  <a:pt x="15156" y="7144"/>
                </a:cubicBezTo>
                <a:cubicBezTo>
                  <a:pt x="15083" y="7161"/>
                  <a:pt x="14946" y="7187"/>
                  <a:pt x="14883" y="7218"/>
                </a:cubicBezTo>
                <a:cubicBezTo>
                  <a:pt x="14883" y="7226"/>
                  <a:pt x="14883" y="7235"/>
                  <a:pt x="14883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However, in the case of SSA, it is possible that there are two solutions that work or no solutions at all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Arial"/>
              </a:rPr>
              <a:t>To calculate the number of solutions, you must first calculate “h”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h = b sin A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when given angle A and sides a &amp;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Ink 4"/>
          <p:cNvSpPr/>
          <p:nvPr/>
        </p:nvSpPr>
        <p:spPr>
          <a:xfrm>
            <a:off x="5892840" y="2633760"/>
            <a:ext cx="1635120" cy="608040"/>
          </a:xfrm>
          <a:custGeom>
            <a:avLst/>
            <a:gdLst/>
            <a:ahLst/>
            <a:rect l="l" t="t" r="r" b="b"/>
            <a:pathLst>
              <a:path w="4540" h="1688">
                <a:moveTo>
                  <a:pt x="17289" y="7838"/>
                </a:moveTo>
                <a:cubicBezTo>
                  <a:pt x="17235" y="7892"/>
                  <a:pt x="17178" y="7967"/>
                  <a:pt x="17115" y="8012"/>
                </a:cubicBezTo>
                <a:cubicBezTo>
                  <a:pt x="17040" y="8065"/>
                  <a:pt x="17005" y="8120"/>
                  <a:pt x="16942" y="8186"/>
                </a:cubicBezTo>
                <a:cubicBezTo>
                  <a:pt x="16871" y="8261"/>
                  <a:pt x="16825" y="8323"/>
                  <a:pt x="16768" y="8409"/>
                </a:cubicBezTo>
                <a:cubicBezTo>
                  <a:pt x="16697" y="8516"/>
                  <a:pt x="16649" y="8586"/>
                  <a:pt x="16619" y="8706"/>
                </a:cubicBezTo>
                <a:cubicBezTo>
                  <a:pt x="16609" y="8745"/>
                  <a:pt x="16556" y="8827"/>
                  <a:pt x="16520" y="8855"/>
                </a:cubicBezTo>
                <a:cubicBezTo>
                  <a:pt x="16512" y="8855"/>
                  <a:pt x="16503" y="8855"/>
                  <a:pt x="16495" y="8855"/>
                </a:cubicBezTo>
              </a:path>
              <a:path w="4540" h="1688">
                <a:moveTo>
                  <a:pt x="16396" y="8508"/>
                </a:moveTo>
                <a:cubicBezTo>
                  <a:pt x="16396" y="8629"/>
                  <a:pt x="16387" y="8742"/>
                  <a:pt x="16371" y="8855"/>
                </a:cubicBezTo>
                <a:cubicBezTo>
                  <a:pt x="16362" y="8917"/>
                  <a:pt x="16368" y="8977"/>
                  <a:pt x="16396" y="9004"/>
                </a:cubicBezTo>
                <a:cubicBezTo>
                  <a:pt x="16461" y="8956"/>
                  <a:pt x="16493" y="8921"/>
                  <a:pt x="16594" y="8880"/>
                </a:cubicBezTo>
                <a:cubicBezTo>
                  <a:pt x="16674" y="8847"/>
                  <a:pt x="16732" y="8855"/>
                  <a:pt x="16818" y="8855"/>
                </a:cubicBezTo>
              </a:path>
              <a:path w="4540" h="1688">
                <a:moveTo>
                  <a:pt x="17735" y="7813"/>
                </a:moveTo>
                <a:cubicBezTo>
                  <a:pt x="17735" y="7941"/>
                  <a:pt x="17720" y="7741"/>
                  <a:pt x="17711" y="7714"/>
                </a:cubicBezTo>
                <a:cubicBezTo>
                  <a:pt x="17697" y="7673"/>
                  <a:pt x="17638" y="7623"/>
                  <a:pt x="17587" y="7640"/>
                </a:cubicBezTo>
                <a:cubicBezTo>
                  <a:pt x="17531" y="7659"/>
                  <a:pt x="17489" y="7713"/>
                  <a:pt x="17462" y="7764"/>
                </a:cubicBezTo>
                <a:cubicBezTo>
                  <a:pt x="17426" y="7833"/>
                  <a:pt x="17427" y="7916"/>
                  <a:pt x="17462" y="7987"/>
                </a:cubicBezTo>
                <a:cubicBezTo>
                  <a:pt x="17497" y="8058"/>
                  <a:pt x="17559" y="8038"/>
                  <a:pt x="17611" y="8012"/>
                </a:cubicBezTo>
                <a:cubicBezTo>
                  <a:pt x="17658" y="7988"/>
                  <a:pt x="17721" y="7942"/>
                  <a:pt x="17735" y="7888"/>
                </a:cubicBezTo>
                <a:cubicBezTo>
                  <a:pt x="17759" y="7795"/>
                  <a:pt x="17735" y="7767"/>
                  <a:pt x="17735" y="7888"/>
                </a:cubicBezTo>
                <a:cubicBezTo>
                  <a:pt x="17735" y="7927"/>
                  <a:pt x="17764" y="8020"/>
                  <a:pt x="17810" y="8037"/>
                </a:cubicBezTo>
                <a:cubicBezTo>
                  <a:pt x="17854" y="8037"/>
                  <a:pt x="17868" y="8040"/>
                  <a:pt x="17884" y="8012"/>
                </a:cubicBezTo>
              </a:path>
              <a:path w="4540" h="1688">
                <a:moveTo>
                  <a:pt x="17934" y="7764"/>
                </a:moveTo>
                <a:cubicBezTo>
                  <a:pt x="17934" y="7875"/>
                  <a:pt x="17907" y="7898"/>
                  <a:pt x="17959" y="7938"/>
                </a:cubicBezTo>
                <a:cubicBezTo>
                  <a:pt x="17959" y="7828"/>
                  <a:pt x="17946" y="7717"/>
                  <a:pt x="17983" y="7615"/>
                </a:cubicBezTo>
                <a:cubicBezTo>
                  <a:pt x="18044" y="7623"/>
                  <a:pt x="18095" y="7632"/>
                  <a:pt x="18132" y="7689"/>
                </a:cubicBezTo>
                <a:cubicBezTo>
                  <a:pt x="18171" y="7749"/>
                  <a:pt x="18157" y="7820"/>
                  <a:pt x="18157" y="7888"/>
                </a:cubicBezTo>
                <a:cubicBezTo>
                  <a:pt x="18157" y="7956"/>
                  <a:pt x="18158" y="7962"/>
                  <a:pt x="18207" y="7938"/>
                </a:cubicBezTo>
              </a:path>
              <a:path w="4540" h="1688">
                <a:moveTo>
                  <a:pt x="18529" y="7590"/>
                </a:moveTo>
                <a:cubicBezTo>
                  <a:pt x="18432" y="7572"/>
                  <a:pt x="18423" y="7570"/>
                  <a:pt x="18355" y="7640"/>
                </a:cubicBezTo>
                <a:cubicBezTo>
                  <a:pt x="18296" y="7700"/>
                  <a:pt x="18289" y="7793"/>
                  <a:pt x="18331" y="7863"/>
                </a:cubicBezTo>
                <a:cubicBezTo>
                  <a:pt x="18367" y="7922"/>
                  <a:pt x="18470" y="7880"/>
                  <a:pt x="18504" y="7838"/>
                </a:cubicBezTo>
                <a:cubicBezTo>
                  <a:pt x="18528" y="7808"/>
                  <a:pt x="18566" y="7676"/>
                  <a:pt x="18554" y="7640"/>
                </a:cubicBezTo>
                <a:cubicBezTo>
                  <a:pt x="18529" y="7615"/>
                  <a:pt x="18521" y="7607"/>
                  <a:pt x="18504" y="7590"/>
                </a:cubicBezTo>
                <a:cubicBezTo>
                  <a:pt x="18491" y="7681"/>
                  <a:pt x="18479" y="7729"/>
                  <a:pt x="18479" y="7838"/>
                </a:cubicBezTo>
                <a:cubicBezTo>
                  <a:pt x="18479" y="7921"/>
                  <a:pt x="18521" y="8006"/>
                  <a:pt x="18529" y="8086"/>
                </a:cubicBezTo>
                <a:cubicBezTo>
                  <a:pt x="18539" y="8187"/>
                  <a:pt x="18550" y="8350"/>
                  <a:pt x="18504" y="8434"/>
                </a:cubicBezTo>
                <a:cubicBezTo>
                  <a:pt x="18467" y="8503"/>
                  <a:pt x="18334" y="8510"/>
                  <a:pt x="18256" y="8483"/>
                </a:cubicBezTo>
                <a:cubicBezTo>
                  <a:pt x="18198" y="8463"/>
                  <a:pt x="18073" y="8379"/>
                  <a:pt x="18033" y="8334"/>
                </a:cubicBezTo>
                <a:cubicBezTo>
                  <a:pt x="18009" y="8286"/>
                  <a:pt x="18000" y="8272"/>
                  <a:pt x="18008" y="8235"/>
                </a:cubicBezTo>
              </a:path>
              <a:path w="4540" h="1688">
                <a:moveTo>
                  <a:pt x="18802" y="7317"/>
                </a:moveTo>
                <a:cubicBezTo>
                  <a:pt x="18796" y="7429"/>
                  <a:pt x="18777" y="7528"/>
                  <a:pt x="18777" y="7640"/>
                </a:cubicBezTo>
                <a:cubicBezTo>
                  <a:pt x="18777" y="7710"/>
                  <a:pt x="18782" y="7808"/>
                  <a:pt x="18827" y="7838"/>
                </a:cubicBezTo>
              </a:path>
              <a:path w="4540" h="1688">
                <a:moveTo>
                  <a:pt x="18876" y="7689"/>
                </a:moveTo>
                <a:cubicBezTo>
                  <a:pt x="18935" y="7656"/>
                  <a:pt x="18994" y="7641"/>
                  <a:pt x="19050" y="7615"/>
                </a:cubicBezTo>
                <a:cubicBezTo>
                  <a:pt x="19090" y="7596"/>
                  <a:pt x="19137" y="7559"/>
                  <a:pt x="19174" y="7541"/>
                </a:cubicBezTo>
                <a:cubicBezTo>
                  <a:pt x="19199" y="7516"/>
                  <a:pt x="19207" y="7508"/>
                  <a:pt x="19224" y="7491"/>
                </a:cubicBezTo>
                <a:cubicBezTo>
                  <a:pt x="19166" y="7491"/>
                  <a:pt x="19120" y="7480"/>
                  <a:pt x="19075" y="7516"/>
                </a:cubicBezTo>
                <a:cubicBezTo>
                  <a:pt x="19047" y="7538"/>
                  <a:pt x="18940" y="7586"/>
                  <a:pt x="18926" y="7615"/>
                </a:cubicBezTo>
                <a:cubicBezTo>
                  <a:pt x="18899" y="7669"/>
                  <a:pt x="18888" y="7766"/>
                  <a:pt x="18926" y="7813"/>
                </a:cubicBezTo>
                <a:cubicBezTo>
                  <a:pt x="18985" y="7885"/>
                  <a:pt x="19107" y="7920"/>
                  <a:pt x="19199" y="7913"/>
                </a:cubicBezTo>
                <a:cubicBezTo>
                  <a:pt x="19247" y="7889"/>
                  <a:pt x="19261" y="7880"/>
                  <a:pt x="19298" y="7888"/>
                </a:cubicBezTo>
              </a:path>
              <a:path w="4540" h="1688">
                <a:moveTo>
                  <a:pt x="19670" y="7541"/>
                </a:moveTo>
                <a:cubicBezTo>
                  <a:pt x="19679" y="7649"/>
                  <a:pt x="19693" y="7709"/>
                  <a:pt x="19769" y="7789"/>
                </a:cubicBezTo>
                <a:cubicBezTo>
                  <a:pt x="19807" y="7828"/>
                  <a:pt x="19876" y="7929"/>
                  <a:pt x="19943" y="7913"/>
                </a:cubicBezTo>
                <a:cubicBezTo>
                  <a:pt x="19960" y="7905"/>
                  <a:pt x="19976" y="7896"/>
                  <a:pt x="19993" y="7888"/>
                </a:cubicBezTo>
              </a:path>
              <a:path w="4540" h="1688">
                <a:moveTo>
                  <a:pt x="19968" y="7417"/>
                </a:moveTo>
                <a:cubicBezTo>
                  <a:pt x="19917" y="7510"/>
                  <a:pt x="19898" y="7579"/>
                  <a:pt x="19893" y="7689"/>
                </a:cubicBezTo>
                <a:cubicBezTo>
                  <a:pt x="19884" y="7888"/>
                  <a:pt x="19905" y="8101"/>
                  <a:pt x="19869" y="8285"/>
                </a:cubicBezTo>
                <a:cubicBezTo>
                  <a:pt x="19869" y="8344"/>
                  <a:pt x="19872" y="8351"/>
                  <a:pt x="19893" y="8260"/>
                </a:cubicBezTo>
              </a:path>
              <a:path w="4540" h="1688">
                <a:moveTo>
                  <a:pt x="20166" y="7466"/>
                </a:moveTo>
                <a:cubicBezTo>
                  <a:pt x="20114" y="7440"/>
                  <a:pt x="20082" y="7498"/>
                  <a:pt x="20067" y="7565"/>
                </a:cubicBezTo>
                <a:cubicBezTo>
                  <a:pt x="20050" y="7640"/>
                  <a:pt x="20074" y="7731"/>
                  <a:pt x="20117" y="7789"/>
                </a:cubicBezTo>
                <a:cubicBezTo>
                  <a:pt x="20159" y="7845"/>
                  <a:pt x="20187" y="7848"/>
                  <a:pt x="20241" y="7813"/>
                </a:cubicBezTo>
                <a:cubicBezTo>
                  <a:pt x="20329" y="7756"/>
                  <a:pt x="20385" y="7732"/>
                  <a:pt x="20365" y="7615"/>
                </a:cubicBezTo>
                <a:cubicBezTo>
                  <a:pt x="20355" y="7557"/>
                  <a:pt x="20304" y="7506"/>
                  <a:pt x="20265" y="7466"/>
                </a:cubicBezTo>
                <a:cubicBezTo>
                  <a:pt x="20199" y="7398"/>
                  <a:pt x="20178" y="7405"/>
                  <a:pt x="20117" y="7466"/>
                </a:cubicBezTo>
                <a:cubicBezTo>
                  <a:pt x="20034" y="7549"/>
                  <a:pt x="20101" y="7662"/>
                  <a:pt x="20191" y="7689"/>
                </a:cubicBezTo>
                <a:cubicBezTo>
                  <a:pt x="20208" y="7689"/>
                  <a:pt x="20224" y="7689"/>
                  <a:pt x="20241" y="7689"/>
                </a:cubicBezTo>
              </a:path>
              <a:path w="4540" h="1688">
                <a:moveTo>
                  <a:pt x="20489" y="7516"/>
                </a:moveTo>
                <a:cubicBezTo>
                  <a:pt x="20464" y="7614"/>
                  <a:pt x="20406" y="7714"/>
                  <a:pt x="20513" y="7789"/>
                </a:cubicBezTo>
                <a:cubicBezTo>
                  <a:pt x="20600" y="7851"/>
                  <a:pt x="20688" y="7792"/>
                  <a:pt x="20762" y="7739"/>
                </a:cubicBezTo>
                <a:cubicBezTo>
                  <a:pt x="20810" y="7705"/>
                  <a:pt x="20809" y="7590"/>
                  <a:pt x="20811" y="7541"/>
                </a:cubicBezTo>
                <a:cubicBezTo>
                  <a:pt x="20811" y="7524"/>
                  <a:pt x="20811" y="7508"/>
                  <a:pt x="20811" y="7491"/>
                </a:cubicBezTo>
                <a:cubicBezTo>
                  <a:pt x="20793" y="7545"/>
                  <a:pt x="20803" y="7648"/>
                  <a:pt x="20836" y="7714"/>
                </a:cubicBezTo>
                <a:cubicBezTo>
                  <a:pt x="20852" y="7746"/>
                  <a:pt x="20882" y="7757"/>
                  <a:pt x="20910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Ink 5"/>
          <p:cNvSpPr/>
          <p:nvPr/>
        </p:nvSpPr>
        <p:spPr>
          <a:xfrm>
            <a:off x="6796080" y="2911320"/>
            <a:ext cx="1268280" cy="463680"/>
          </a:xfrm>
          <a:custGeom>
            <a:avLst/>
            <a:gdLst/>
            <a:ahLst/>
            <a:rect l="l" t="t" r="r" b="b"/>
            <a:pathLst>
              <a:path w="3524" h="1291">
                <a:moveTo>
                  <a:pt x="19273" y="8508"/>
                </a:moveTo>
                <a:cubicBezTo>
                  <a:pt x="19273" y="8599"/>
                  <a:pt x="19273" y="8607"/>
                  <a:pt x="19273" y="8657"/>
                </a:cubicBezTo>
                <a:cubicBezTo>
                  <a:pt x="19233" y="8599"/>
                  <a:pt x="19196" y="8534"/>
                  <a:pt x="19149" y="8483"/>
                </a:cubicBezTo>
                <a:cubicBezTo>
                  <a:pt x="19095" y="8425"/>
                  <a:pt x="19036" y="8366"/>
                  <a:pt x="18951" y="8434"/>
                </a:cubicBezTo>
                <a:cubicBezTo>
                  <a:pt x="18905" y="8471"/>
                  <a:pt x="18915" y="8581"/>
                  <a:pt x="18901" y="8632"/>
                </a:cubicBezTo>
                <a:cubicBezTo>
                  <a:pt x="18889" y="8677"/>
                  <a:pt x="18876" y="8833"/>
                  <a:pt x="18951" y="8855"/>
                </a:cubicBezTo>
                <a:cubicBezTo>
                  <a:pt x="19096" y="8897"/>
                  <a:pt x="19064" y="8828"/>
                  <a:pt x="19149" y="8781"/>
                </a:cubicBezTo>
                <a:cubicBezTo>
                  <a:pt x="19215" y="8744"/>
                  <a:pt x="19216" y="8643"/>
                  <a:pt x="19199" y="8582"/>
                </a:cubicBezTo>
                <a:cubicBezTo>
                  <a:pt x="19199" y="8647"/>
                  <a:pt x="19189" y="8735"/>
                  <a:pt x="19248" y="8781"/>
                </a:cubicBezTo>
                <a:cubicBezTo>
                  <a:pt x="19291" y="8815"/>
                  <a:pt x="19364" y="8806"/>
                  <a:pt x="19422" y="8806"/>
                </a:cubicBezTo>
              </a:path>
              <a:path w="3524" h="1291">
                <a:moveTo>
                  <a:pt x="19472" y="8632"/>
                </a:moveTo>
                <a:cubicBezTo>
                  <a:pt x="19507" y="8794"/>
                  <a:pt x="19450" y="8781"/>
                  <a:pt x="19546" y="8781"/>
                </a:cubicBezTo>
                <a:cubicBezTo>
                  <a:pt x="19529" y="8681"/>
                  <a:pt x="19511" y="8582"/>
                  <a:pt x="19496" y="8483"/>
                </a:cubicBezTo>
                <a:cubicBezTo>
                  <a:pt x="19483" y="8396"/>
                  <a:pt x="19576" y="8349"/>
                  <a:pt x="19645" y="8334"/>
                </a:cubicBezTo>
                <a:cubicBezTo>
                  <a:pt x="19670" y="8334"/>
                  <a:pt x="19678" y="8334"/>
                  <a:pt x="19695" y="8334"/>
                </a:cubicBezTo>
              </a:path>
              <a:path w="3524" h="1291">
                <a:moveTo>
                  <a:pt x="19794" y="8582"/>
                </a:moveTo>
                <a:cubicBezTo>
                  <a:pt x="19864" y="8613"/>
                  <a:pt x="19922" y="8607"/>
                  <a:pt x="20017" y="8582"/>
                </a:cubicBezTo>
                <a:cubicBezTo>
                  <a:pt x="20069" y="8568"/>
                  <a:pt x="20126" y="8538"/>
                  <a:pt x="20141" y="8483"/>
                </a:cubicBezTo>
                <a:cubicBezTo>
                  <a:pt x="20141" y="8467"/>
                  <a:pt x="20141" y="8450"/>
                  <a:pt x="20141" y="8434"/>
                </a:cubicBezTo>
                <a:cubicBezTo>
                  <a:pt x="20033" y="8393"/>
                  <a:pt x="19962" y="8413"/>
                  <a:pt x="19869" y="8483"/>
                </a:cubicBezTo>
                <a:cubicBezTo>
                  <a:pt x="19797" y="8537"/>
                  <a:pt x="19810" y="8634"/>
                  <a:pt x="19844" y="8706"/>
                </a:cubicBezTo>
                <a:cubicBezTo>
                  <a:pt x="19896" y="8816"/>
                  <a:pt x="19981" y="8781"/>
                  <a:pt x="20092" y="8781"/>
                </a:cubicBezTo>
              </a:path>
              <a:path w="3524" h="1291">
                <a:moveTo>
                  <a:pt x="20737" y="8359"/>
                </a:moveTo>
                <a:cubicBezTo>
                  <a:pt x="20648" y="8359"/>
                  <a:pt x="20632" y="8381"/>
                  <a:pt x="20563" y="8409"/>
                </a:cubicBezTo>
                <a:cubicBezTo>
                  <a:pt x="20498" y="8436"/>
                  <a:pt x="20435" y="8525"/>
                  <a:pt x="20439" y="8558"/>
                </a:cubicBezTo>
                <a:cubicBezTo>
                  <a:pt x="20444" y="8605"/>
                  <a:pt x="20531" y="8732"/>
                  <a:pt x="20588" y="8706"/>
                </a:cubicBezTo>
                <a:cubicBezTo>
                  <a:pt x="20627" y="8688"/>
                  <a:pt x="20723" y="8612"/>
                  <a:pt x="20737" y="8582"/>
                </a:cubicBezTo>
                <a:cubicBezTo>
                  <a:pt x="20754" y="8546"/>
                  <a:pt x="20737" y="8475"/>
                  <a:pt x="20737" y="8434"/>
                </a:cubicBezTo>
                <a:cubicBezTo>
                  <a:pt x="20710" y="8495"/>
                  <a:pt x="20671" y="8561"/>
                  <a:pt x="20687" y="8632"/>
                </a:cubicBezTo>
                <a:cubicBezTo>
                  <a:pt x="20716" y="8757"/>
                  <a:pt x="20759" y="8881"/>
                  <a:pt x="20786" y="9004"/>
                </a:cubicBezTo>
                <a:cubicBezTo>
                  <a:pt x="20809" y="9107"/>
                  <a:pt x="20811" y="9195"/>
                  <a:pt x="20811" y="9302"/>
                </a:cubicBezTo>
                <a:cubicBezTo>
                  <a:pt x="20811" y="9337"/>
                  <a:pt x="20806" y="9354"/>
                  <a:pt x="20786" y="9376"/>
                </a:cubicBezTo>
                <a:cubicBezTo>
                  <a:pt x="20674" y="9376"/>
                  <a:pt x="20640" y="9372"/>
                  <a:pt x="20563" y="9302"/>
                </a:cubicBezTo>
                <a:cubicBezTo>
                  <a:pt x="20497" y="9242"/>
                  <a:pt x="20410" y="9186"/>
                  <a:pt x="20414" y="9079"/>
                </a:cubicBezTo>
                <a:cubicBezTo>
                  <a:pt x="20422" y="9054"/>
                  <a:pt x="20431" y="9029"/>
                  <a:pt x="20439" y="9004"/>
                </a:cubicBezTo>
              </a:path>
              <a:path w="3524" h="1291">
                <a:moveTo>
                  <a:pt x="20910" y="8334"/>
                </a:moveTo>
                <a:cubicBezTo>
                  <a:pt x="20959" y="8431"/>
                  <a:pt x="20956" y="8487"/>
                  <a:pt x="20985" y="8582"/>
                </a:cubicBezTo>
                <a:cubicBezTo>
                  <a:pt x="21007" y="8626"/>
                  <a:pt x="21010" y="8637"/>
                  <a:pt x="21034" y="8657"/>
                </a:cubicBezTo>
              </a:path>
              <a:path w="3524" h="1291">
                <a:moveTo>
                  <a:pt x="20836" y="8161"/>
                </a:moveTo>
                <a:cubicBezTo>
                  <a:pt x="20856" y="8120"/>
                  <a:pt x="20854" y="8104"/>
                  <a:pt x="20886" y="8111"/>
                </a:cubicBezTo>
              </a:path>
              <a:path w="3524" h="1291">
                <a:moveTo>
                  <a:pt x="21034" y="8235"/>
                </a:moveTo>
                <a:cubicBezTo>
                  <a:pt x="21061" y="8308"/>
                  <a:pt x="21103" y="8367"/>
                  <a:pt x="21134" y="8434"/>
                </a:cubicBezTo>
                <a:cubicBezTo>
                  <a:pt x="21175" y="8523"/>
                  <a:pt x="21190" y="8557"/>
                  <a:pt x="21233" y="8632"/>
                </a:cubicBezTo>
                <a:cubicBezTo>
                  <a:pt x="21299" y="8577"/>
                  <a:pt x="21291" y="8513"/>
                  <a:pt x="21258" y="8409"/>
                </a:cubicBezTo>
                <a:cubicBezTo>
                  <a:pt x="21226" y="8309"/>
                  <a:pt x="21237" y="8302"/>
                  <a:pt x="21282" y="8210"/>
                </a:cubicBezTo>
              </a:path>
              <a:path w="3524" h="1291">
                <a:moveTo>
                  <a:pt x="21382" y="8285"/>
                </a:moveTo>
                <a:cubicBezTo>
                  <a:pt x="21480" y="8338"/>
                  <a:pt x="21502" y="8346"/>
                  <a:pt x="21605" y="8310"/>
                </a:cubicBezTo>
                <a:cubicBezTo>
                  <a:pt x="21695" y="8279"/>
                  <a:pt x="21741" y="8278"/>
                  <a:pt x="21754" y="8186"/>
                </a:cubicBezTo>
                <a:cubicBezTo>
                  <a:pt x="21686" y="8145"/>
                  <a:pt x="21631" y="8161"/>
                  <a:pt x="21555" y="8186"/>
                </a:cubicBezTo>
                <a:cubicBezTo>
                  <a:pt x="21485" y="8209"/>
                  <a:pt x="21381" y="8230"/>
                  <a:pt x="21357" y="8310"/>
                </a:cubicBezTo>
                <a:cubicBezTo>
                  <a:pt x="21326" y="8415"/>
                  <a:pt x="21444" y="8469"/>
                  <a:pt x="21506" y="8508"/>
                </a:cubicBezTo>
                <a:cubicBezTo>
                  <a:pt x="21626" y="8582"/>
                  <a:pt x="21614" y="8607"/>
                  <a:pt x="21754" y="8657"/>
                </a:cubicBezTo>
              </a:path>
              <a:path w="3524" h="1291">
                <a:moveTo>
                  <a:pt x="21878" y="8235"/>
                </a:moveTo>
                <a:cubicBezTo>
                  <a:pt x="21865" y="8330"/>
                  <a:pt x="21831" y="8355"/>
                  <a:pt x="21903" y="8409"/>
                </a:cubicBezTo>
                <a:cubicBezTo>
                  <a:pt x="21962" y="8383"/>
                  <a:pt x="21985" y="8326"/>
                  <a:pt x="22027" y="8260"/>
                </a:cubicBezTo>
                <a:cubicBezTo>
                  <a:pt x="22062" y="8205"/>
                  <a:pt x="22079" y="8158"/>
                  <a:pt x="22126" y="8111"/>
                </a:cubicBezTo>
                <a:cubicBezTo>
                  <a:pt x="22134" y="8103"/>
                  <a:pt x="22143" y="8094"/>
                  <a:pt x="22151" y="8086"/>
                </a:cubicBezTo>
                <a:cubicBezTo>
                  <a:pt x="22230" y="8166"/>
                  <a:pt x="22286" y="8227"/>
                  <a:pt x="22324" y="8334"/>
                </a:cubicBezTo>
                <a:cubicBezTo>
                  <a:pt x="22364" y="8446"/>
                  <a:pt x="22377" y="8547"/>
                  <a:pt x="22399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Ink 6"/>
          <p:cNvSpPr/>
          <p:nvPr/>
        </p:nvSpPr>
        <p:spPr>
          <a:xfrm>
            <a:off x="4384800" y="2562120"/>
            <a:ext cx="1063440" cy="733680"/>
          </a:xfrm>
          <a:custGeom>
            <a:avLst/>
            <a:gdLst/>
            <a:ahLst/>
            <a:rect l="l" t="t" r="r" b="b"/>
            <a:pathLst>
              <a:path w="2953" h="2035">
                <a:moveTo>
                  <a:pt x="12452" y="8210"/>
                </a:moveTo>
                <a:cubicBezTo>
                  <a:pt x="12452" y="8301"/>
                  <a:pt x="12474" y="8349"/>
                  <a:pt x="12477" y="8434"/>
                </a:cubicBezTo>
                <a:cubicBezTo>
                  <a:pt x="12481" y="8541"/>
                  <a:pt x="12521" y="8886"/>
                  <a:pt x="12427" y="8855"/>
                </a:cubicBezTo>
              </a:path>
              <a:path w="2953" h="2035">
                <a:moveTo>
                  <a:pt x="12179" y="8582"/>
                </a:moveTo>
                <a:cubicBezTo>
                  <a:pt x="12189" y="8655"/>
                  <a:pt x="12230" y="8716"/>
                  <a:pt x="12278" y="8781"/>
                </a:cubicBezTo>
                <a:cubicBezTo>
                  <a:pt x="12320" y="8837"/>
                  <a:pt x="12359" y="8879"/>
                  <a:pt x="12402" y="8930"/>
                </a:cubicBezTo>
                <a:cubicBezTo>
                  <a:pt x="12440" y="8976"/>
                  <a:pt x="12458" y="8996"/>
                  <a:pt x="12502" y="9029"/>
                </a:cubicBezTo>
                <a:cubicBezTo>
                  <a:pt x="12534" y="8963"/>
                  <a:pt x="12537" y="8866"/>
                  <a:pt x="12601" y="8806"/>
                </a:cubicBezTo>
                <a:cubicBezTo>
                  <a:pt x="12648" y="8762"/>
                  <a:pt x="12703" y="8726"/>
                  <a:pt x="12750" y="8706"/>
                </a:cubicBezTo>
              </a:path>
              <a:path w="2953" h="2035">
                <a:moveTo>
                  <a:pt x="12502" y="7640"/>
                </a:moveTo>
                <a:cubicBezTo>
                  <a:pt x="12437" y="7647"/>
                  <a:pt x="12353" y="7649"/>
                  <a:pt x="12303" y="7689"/>
                </a:cubicBezTo>
                <a:cubicBezTo>
                  <a:pt x="12253" y="7729"/>
                  <a:pt x="12238" y="7754"/>
                  <a:pt x="12229" y="7813"/>
                </a:cubicBezTo>
                <a:cubicBezTo>
                  <a:pt x="12305" y="7852"/>
                  <a:pt x="12382" y="7848"/>
                  <a:pt x="12452" y="7888"/>
                </a:cubicBezTo>
                <a:cubicBezTo>
                  <a:pt x="12496" y="7913"/>
                  <a:pt x="12533" y="7977"/>
                  <a:pt x="12576" y="8012"/>
                </a:cubicBezTo>
                <a:cubicBezTo>
                  <a:pt x="12517" y="8071"/>
                  <a:pt x="12487" y="8106"/>
                  <a:pt x="12402" y="8111"/>
                </a:cubicBezTo>
                <a:cubicBezTo>
                  <a:pt x="12328" y="8115"/>
                  <a:pt x="12305" y="8113"/>
                  <a:pt x="12254" y="8062"/>
                </a:cubicBezTo>
              </a:path>
              <a:path w="2953" h="2035">
                <a:moveTo>
                  <a:pt x="12650" y="7714"/>
                </a:moveTo>
                <a:cubicBezTo>
                  <a:pt x="12657" y="7803"/>
                  <a:pt x="12675" y="7850"/>
                  <a:pt x="12675" y="7938"/>
                </a:cubicBezTo>
                <a:cubicBezTo>
                  <a:pt x="12675" y="7973"/>
                  <a:pt x="12676" y="8036"/>
                  <a:pt x="12700" y="7987"/>
                </a:cubicBezTo>
              </a:path>
              <a:path w="2953" h="2035">
                <a:moveTo>
                  <a:pt x="12650" y="7491"/>
                </a:moveTo>
                <a:cubicBezTo>
                  <a:pt x="12658" y="7458"/>
                  <a:pt x="12667" y="7425"/>
                  <a:pt x="12675" y="7392"/>
                </a:cubicBezTo>
              </a:path>
              <a:path w="2953" h="2035">
                <a:moveTo>
                  <a:pt x="12973" y="7565"/>
                </a:moveTo>
                <a:cubicBezTo>
                  <a:pt x="12942" y="7627"/>
                  <a:pt x="12905" y="7679"/>
                  <a:pt x="12874" y="7739"/>
                </a:cubicBezTo>
                <a:cubicBezTo>
                  <a:pt x="12838" y="7808"/>
                  <a:pt x="12806" y="7852"/>
                  <a:pt x="12824" y="7938"/>
                </a:cubicBezTo>
                <a:cubicBezTo>
                  <a:pt x="12848" y="8053"/>
                  <a:pt x="12917" y="8055"/>
                  <a:pt x="12998" y="7987"/>
                </a:cubicBezTo>
                <a:cubicBezTo>
                  <a:pt x="13032" y="7952"/>
                  <a:pt x="13045" y="7929"/>
                  <a:pt x="13047" y="7888"/>
                </a:cubicBezTo>
              </a:path>
              <a:path w="2953" h="2035">
                <a:moveTo>
                  <a:pt x="13022" y="7293"/>
                </a:moveTo>
                <a:cubicBezTo>
                  <a:pt x="12994" y="7369"/>
                  <a:pt x="12998" y="7433"/>
                  <a:pt x="12998" y="7516"/>
                </a:cubicBezTo>
                <a:cubicBezTo>
                  <a:pt x="12998" y="7590"/>
                  <a:pt x="13007" y="7716"/>
                  <a:pt x="13022" y="7789"/>
                </a:cubicBezTo>
                <a:cubicBezTo>
                  <a:pt x="13030" y="7805"/>
                  <a:pt x="13039" y="7822"/>
                  <a:pt x="13047" y="7838"/>
                </a:cubicBezTo>
                <a:cubicBezTo>
                  <a:pt x="13102" y="7830"/>
                  <a:pt x="13150" y="7804"/>
                  <a:pt x="13196" y="7764"/>
                </a:cubicBezTo>
                <a:cubicBezTo>
                  <a:pt x="13251" y="7716"/>
                  <a:pt x="13366" y="7607"/>
                  <a:pt x="13395" y="7541"/>
                </a:cubicBezTo>
                <a:cubicBezTo>
                  <a:pt x="13395" y="7524"/>
                  <a:pt x="13395" y="7508"/>
                  <a:pt x="13395" y="7491"/>
                </a:cubicBezTo>
                <a:cubicBezTo>
                  <a:pt x="13348" y="7472"/>
                  <a:pt x="13287" y="7485"/>
                  <a:pt x="13246" y="7541"/>
                </a:cubicBezTo>
                <a:cubicBezTo>
                  <a:pt x="13200" y="7605"/>
                  <a:pt x="13175" y="7665"/>
                  <a:pt x="13171" y="7739"/>
                </a:cubicBezTo>
                <a:cubicBezTo>
                  <a:pt x="13168" y="7799"/>
                  <a:pt x="13194" y="7854"/>
                  <a:pt x="13246" y="7888"/>
                </a:cubicBezTo>
                <a:cubicBezTo>
                  <a:pt x="13297" y="7921"/>
                  <a:pt x="13381" y="7962"/>
                  <a:pt x="13444" y="7938"/>
                </a:cubicBezTo>
                <a:cubicBezTo>
                  <a:pt x="13452" y="7930"/>
                  <a:pt x="13461" y="7921"/>
                  <a:pt x="13469" y="7913"/>
                </a:cubicBezTo>
              </a:path>
              <a:path w="2953" h="2035">
                <a:moveTo>
                  <a:pt x="13667" y="7640"/>
                </a:moveTo>
                <a:cubicBezTo>
                  <a:pt x="13667" y="7751"/>
                  <a:pt x="13646" y="7792"/>
                  <a:pt x="13717" y="7863"/>
                </a:cubicBezTo>
                <a:cubicBezTo>
                  <a:pt x="13771" y="7796"/>
                  <a:pt x="13767" y="7750"/>
                  <a:pt x="13767" y="7665"/>
                </a:cubicBezTo>
                <a:cubicBezTo>
                  <a:pt x="13767" y="7569"/>
                  <a:pt x="13774" y="7526"/>
                  <a:pt x="13816" y="7441"/>
                </a:cubicBezTo>
                <a:cubicBezTo>
                  <a:pt x="13850" y="7510"/>
                  <a:pt x="13867" y="7570"/>
                  <a:pt x="13891" y="7640"/>
                </a:cubicBezTo>
                <a:cubicBezTo>
                  <a:pt x="13900" y="7667"/>
                  <a:pt x="13935" y="7844"/>
                  <a:pt x="13990" y="7838"/>
                </a:cubicBezTo>
                <a:cubicBezTo>
                  <a:pt x="13998" y="7830"/>
                  <a:pt x="14007" y="7821"/>
                  <a:pt x="14015" y="7813"/>
                </a:cubicBezTo>
              </a:path>
              <a:path w="2953" h="2035">
                <a:moveTo>
                  <a:pt x="14089" y="7466"/>
                </a:moveTo>
                <a:cubicBezTo>
                  <a:pt x="14062" y="7513"/>
                  <a:pt x="13957" y="7669"/>
                  <a:pt x="14064" y="7714"/>
                </a:cubicBezTo>
                <a:cubicBezTo>
                  <a:pt x="14182" y="7763"/>
                  <a:pt x="14241" y="7628"/>
                  <a:pt x="14238" y="7541"/>
                </a:cubicBezTo>
                <a:cubicBezTo>
                  <a:pt x="14235" y="7462"/>
                  <a:pt x="14174" y="7424"/>
                  <a:pt x="14114" y="7392"/>
                </a:cubicBezTo>
                <a:cubicBezTo>
                  <a:pt x="14073" y="7372"/>
                  <a:pt x="14067" y="7363"/>
                  <a:pt x="14039" y="7367"/>
                </a:cubicBezTo>
              </a:path>
              <a:path w="2953" h="2035">
                <a:moveTo>
                  <a:pt x="14387" y="7119"/>
                </a:moveTo>
                <a:cubicBezTo>
                  <a:pt x="14415" y="7223"/>
                  <a:pt x="14416" y="7316"/>
                  <a:pt x="14436" y="7417"/>
                </a:cubicBezTo>
                <a:cubicBezTo>
                  <a:pt x="14450" y="7487"/>
                  <a:pt x="14496" y="7581"/>
                  <a:pt x="14536" y="7640"/>
                </a:cubicBezTo>
                <a:cubicBezTo>
                  <a:pt x="14558" y="7662"/>
                  <a:pt x="14566" y="7667"/>
                  <a:pt x="14560" y="7689"/>
                </a:cubicBezTo>
              </a:path>
              <a:path w="2953" h="2035">
                <a:moveTo>
                  <a:pt x="14188" y="7392"/>
                </a:moveTo>
                <a:cubicBezTo>
                  <a:pt x="14247" y="7310"/>
                  <a:pt x="14289" y="7313"/>
                  <a:pt x="14387" y="7293"/>
                </a:cubicBezTo>
                <a:cubicBezTo>
                  <a:pt x="14478" y="7274"/>
                  <a:pt x="14543" y="7268"/>
                  <a:pt x="14635" y="7268"/>
                </a:cubicBezTo>
              </a:path>
              <a:path w="2953" h="2035">
                <a:moveTo>
                  <a:pt x="13047" y="8558"/>
                </a:moveTo>
                <a:cubicBezTo>
                  <a:pt x="13070" y="8700"/>
                  <a:pt x="13104" y="8789"/>
                  <a:pt x="13072" y="8632"/>
                </a:cubicBezTo>
                <a:cubicBezTo>
                  <a:pt x="13062" y="8582"/>
                  <a:pt x="13019" y="8464"/>
                  <a:pt x="13047" y="8409"/>
                </a:cubicBezTo>
                <a:cubicBezTo>
                  <a:pt x="13065" y="8373"/>
                  <a:pt x="13128" y="8325"/>
                  <a:pt x="13171" y="8285"/>
                </a:cubicBezTo>
                <a:cubicBezTo>
                  <a:pt x="13196" y="8260"/>
                  <a:pt x="13204" y="8252"/>
                  <a:pt x="13221" y="8235"/>
                </a:cubicBezTo>
              </a:path>
              <a:path w="2953" h="2035">
                <a:moveTo>
                  <a:pt x="13295" y="8483"/>
                </a:moveTo>
                <a:cubicBezTo>
                  <a:pt x="13398" y="8483"/>
                  <a:pt x="13379" y="8485"/>
                  <a:pt x="13444" y="8434"/>
                </a:cubicBezTo>
                <a:cubicBezTo>
                  <a:pt x="13480" y="8406"/>
                  <a:pt x="13600" y="8407"/>
                  <a:pt x="13593" y="8334"/>
                </a:cubicBezTo>
                <a:cubicBezTo>
                  <a:pt x="13581" y="8219"/>
                  <a:pt x="13472" y="8268"/>
                  <a:pt x="13419" y="8310"/>
                </a:cubicBezTo>
                <a:cubicBezTo>
                  <a:pt x="13377" y="8343"/>
                  <a:pt x="13289" y="8380"/>
                  <a:pt x="13271" y="8434"/>
                </a:cubicBezTo>
                <a:cubicBezTo>
                  <a:pt x="13249" y="8501"/>
                  <a:pt x="13271" y="8604"/>
                  <a:pt x="13320" y="8632"/>
                </a:cubicBezTo>
                <a:cubicBezTo>
                  <a:pt x="13439" y="8700"/>
                  <a:pt x="13465" y="8753"/>
                  <a:pt x="13593" y="8632"/>
                </a:cubicBezTo>
                <a:cubicBezTo>
                  <a:pt x="13601" y="8615"/>
                  <a:pt x="13610" y="8599"/>
                  <a:pt x="13618" y="8582"/>
                </a:cubicBezTo>
              </a:path>
              <a:path w="2953" h="2035">
                <a:moveTo>
                  <a:pt x="13667" y="8037"/>
                </a:moveTo>
                <a:cubicBezTo>
                  <a:pt x="13673" y="8147"/>
                  <a:pt x="13692" y="8249"/>
                  <a:pt x="13692" y="8359"/>
                </a:cubicBezTo>
                <a:cubicBezTo>
                  <a:pt x="13692" y="8440"/>
                  <a:pt x="13707" y="8518"/>
                  <a:pt x="13742" y="8582"/>
                </a:cubicBezTo>
                <a:cubicBezTo>
                  <a:pt x="13789" y="8669"/>
                  <a:pt x="13801" y="8631"/>
                  <a:pt x="13866" y="8582"/>
                </a:cubicBezTo>
              </a:path>
              <a:path w="2953" h="2035">
                <a:moveTo>
                  <a:pt x="14064" y="8334"/>
                </a:moveTo>
                <a:cubicBezTo>
                  <a:pt x="14064" y="8273"/>
                  <a:pt x="14073" y="8257"/>
                  <a:pt x="14039" y="8235"/>
                </a:cubicBezTo>
                <a:cubicBezTo>
                  <a:pt x="13987" y="8263"/>
                  <a:pt x="13848" y="8326"/>
                  <a:pt x="13841" y="8409"/>
                </a:cubicBezTo>
                <a:cubicBezTo>
                  <a:pt x="13835" y="8484"/>
                  <a:pt x="13917" y="8521"/>
                  <a:pt x="13965" y="8483"/>
                </a:cubicBezTo>
                <a:cubicBezTo>
                  <a:pt x="14022" y="8438"/>
                  <a:pt x="14050" y="8407"/>
                  <a:pt x="14089" y="8359"/>
                </a:cubicBezTo>
                <a:cubicBezTo>
                  <a:pt x="14148" y="8286"/>
                  <a:pt x="14085" y="8273"/>
                  <a:pt x="14114" y="8359"/>
                </a:cubicBezTo>
                <a:cubicBezTo>
                  <a:pt x="14132" y="8413"/>
                  <a:pt x="14233" y="8444"/>
                  <a:pt x="14288" y="8409"/>
                </a:cubicBezTo>
                <a:cubicBezTo>
                  <a:pt x="14331" y="8382"/>
                  <a:pt x="14357" y="8252"/>
                  <a:pt x="14362" y="8210"/>
                </a:cubicBezTo>
                <a:cubicBezTo>
                  <a:pt x="14372" y="8125"/>
                  <a:pt x="14350" y="8064"/>
                  <a:pt x="14337" y="7987"/>
                </a:cubicBezTo>
                <a:cubicBezTo>
                  <a:pt x="14327" y="7927"/>
                  <a:pt x="14331" y="7932"/>
                  <a:pt x="14288" y="7888"/>
                </a:cubicBezTo>
                <a:cubicBezTo>
                  <a:pt x="14288" y="7992"/>
                  <a:pt x="14287" y="8111"/>
                  <a:pt x="14312" y="8210"/>
                </a:cubicBezTo>
                <a:cubicBezTo>
                  <a:pt x="14324" y="8260"/>
                  <a:pt x="14352" y="8370"/>
                  <a:pt x="14387" y="8409"/>
                </a:cubicBezTo>
                <a:cubicBezTo>
                  <a:pt x="14395" y="8409"/>
                  <a:pt x="14404" y="8409"/>
                  <a:pt x="14412" y="8409"/>
                </a:cubicBezTo>
              </a:path>
              <a:path w="2953" h="2035">
                <a:moveTo>
                  <a:pt x="14114" y="8186"/>
                </a:moveTo>
                <a:cubicBezTo>
                  <a:pt x="14218" y="8139"/>
                  <a:pt x="14326" y="8115"/>
                  <a:pt x="14436" y="8086"/>
                </a:cubicBezTo>
                <a:cubicBezTo>
                  <a:pt x="14469" y="8078"/>
                  <a:pt x="14503" y="8070"/>
                  <a:pt x="14536" y="8062"/>
                </a:cubicBezTo>
              </a:path>
              <a:path w="2953" h="2035">
                <a:moveTo>
                  <a:pt x="14536" y="8235"/>
                </a:moveTo>
                <a:cubicBezTo>
                  <a:pt x="14605" y="8226"/>
                  <a:pt x="14655" y="8209"/>
                  <a:pt x="14709" y="8161"/>
                </a:cubicBezTo>
                <a:cubicBezTo>
                  <a:pt x="14760" y="8115"/>
                  <a:pt x="14750" y="8085"/>
                  <a:pt x="14734" y="8037"/>
                </a:cubicBezTo>
                <a:cubicBezTo>
                  <a:pt x="14682" y="8044"/>
                  <a:pt x="14620" y="8061"/>
                  <a:pt x="14585" y="8111"/>
                </a:cubicBezTo>
                <a:cubicBezTo>
                  <a:pt x="14548" y="8163"/>
                  <a:pt x="14508" y="8271"/>
                  <a:pt x="14536" y="8334"/>
                </a:cubicBezTo>
                <a:cubicBezTo>
                  <a:pt x="14539" y="8342"/>
                  <a:pt x="14688" y="8422"/>
                  <a:pt x="14709" y="8409"/>
                </a:cubicBezTo>
                <a:cubicBezTo>
                  <a:pt x="14717" y="8392"/>
                  <a:pt x="14726" y="8376"/>
                  <a:pt x="14734" y="8359"/>
                </a:cubicBezTo>
              </a:path>
              <a:path w="2953" h="2035">
                <a:moveTo>
                  <a:pt x="14932" y="7938"/>
                </a:moveTo>
                <a:cubicBezTo>
                  <a:pt x="14872" y="7998"/>
                  <a:pt x="14813" y="8030"/>
                  <a:pt x="14808" y="8111"/>
                </a:cubicBezTo>
                <a:cubicBezTo>
                  <a:pt x="14804" y="8179"/>
                  <a:pt x="14837" y="8243"/>
                  <a:pt x="14908" y="8260"/>
                </a:cubicBezTo>
                <a:cubicBezTo>
                  <a:pt x="14951" y="8270"/>
                  <a:pt x="15084" y="8230"/>
                  <a:pt x="15106" y="8186"/>
                </a:cubicBezTo>
                <a:cubicBezTo>
                  <a:pt x="15151" y="8096"/>
                  <a:pt x="15151" y="7933"/>
                  <a:pt x="15131" y="7838"/>
                </a:cubicBezTo>
                <a:cubicBezTo>
                  <a:pt x="15110" y="7738"/>
                  <a:pt x="15051" y="7703"/>
                  <a:pt x="14982" y="7640"/>
                </a:cubicBezTo>
                <a:cubicBezTo>
                  <a:pt x="14974" y="7632"/>
                  <a:pt x="14965" y="7623"/>
                  <a:pt x="14957" y="7615"/>
                </a:cubicBezTo>
                <a:cubicBezTo>
                  <a:pt x="14907" y="7690"/>
                  <a:pt x="14908" y="7748"/>
                  <a:pt x="14908" y="7838"/>
                </a:cubicBezTo>
                <a:cubicBezTo>
                  <a:pt x="14908" y="7936"/>
                  <a:pt x="14938" y="8040"/>
                  <a:pt x="14957" y="8136"/>
                </a:cubicBezTo>
              </a:path>
              <a:path w="2953" h="2035">
                <a:moveTo>
                  <a:pt x="13271" y="8706"/>
                </a:moveTo>
                <a:cubicBezTo>
                  <a:pt x="13295" y="8789"/>
                  <a:pt x="13331" y="8869"/>
                  <a:pt x="13345" y="8954"/>
                </a:cubicBezTo>
                <a:cubicBezTo>
                  <a:pt x="13355" y="9013"/>
                  <a:pt x="13402" y="9132"/>
                  <a:pt x="13345" y="9153"/>
                </a:cubicBezTo>
                <a:cubicBezTo>
                  <a:pt x="13337" y="9153"/>
                  <a:pt x="13328" y="9153"/>
                  <a:pt x="13320" y="9153"/>
                </a:cubicBezTo>
              </a:path>
              <a:path w="2953" h="2035">
                <a:moveTo>
                  <a:pt x="13047" y="8954"/>
                </a:moveTo>
                <a:cubicBezTo>
                  <a:pt x="13116" y="8920"/>
                  <a:pt x="13202" y="8959"/>
                  <a:pt x="13271" y="8930"/>
                </a:cubicBezTo>
                <a:cubicBezTo>
                  <a:pt x="13367" y="8890"/>
                  <a:pt x="13411" y="8860"/>
                  <a:pt x="13519" y="8855"/>
                </a:cubicBezTo>
                <a:cubicBezTo>
                  <a:pt x="13535" y="8855"/>
                  <a:pt x="13552" y="8855"/>
                  <a:pt x="13568" y="8855"/>
                </a:cubicBezTo>
                <a:cubicBezTo>
                  <a:pt x="13568" y="8942"/>
                  <a:pt x="13554" y="9002"/>
                  <a:pt x="13543" y="9079"/>
                </a:cubicBezTo>
                <a:cubicBezTo>
                  <a:pt x="13584" y="9103"/>
                  <a:pt x="13628" y="9112"/>
                  <a:pt x="13667" y="9079"/>
                </a:cubicBezTo>
                <a:cubicBezTo>
                  <a:pt x="13702" y="9049"/>
                  <a:pt x="13803" y="8990"/>
                  <a:pt x="13791" y="8930"/>
                </a:cubicBezTo>
                <a:cubicBezTo>
                  <a:pt x="13776" y="8850"/>
                  <a:pt x="13696" y="8828"/>
                  <a:pt x="13618" y="8806"/>
                </a:cubicBezTo>
                <a:cubicBezTo>
                  <a:pt x="13601" y="8806"/>
                  <a:pt x="13585" y="8806"/>
                  <a:pt x="13568" y="8806"/>
                </a:cubicBezTo>
              </a:path>
              <a:path w="2953" h="2035">
                <a:moveTo>
                  <a:pt x="14387" y="8558"/>
                </a:moveTo>
                <a:cubicBezTo>
                  <a:pt x="14375" y="8618"/>
                  <a:pt x="14353" y="8684"/>
                  <a:pt x="14312" y="8731"/>
                </a:cubicBezTo>
                <a:cubicBezTo>
                  <a:pt x="14251" y="8801"/>
                  <a:pt x="14223" y="8861"/>
                  <a:pt x="14188" y="8930"/>
                </a:cubicBezTo>
                <a:cubicBezTo>
                  <a:pt x="14145" y="9015"/>
                  <a:pt x="14247" y="9004"/>
                  <a:pt x="14312" y="9004"/>
                </a:cubicBezTo>
                <a:cubicBezTo>
                  <a:pt x="14428" y="9004"/>
                  <a:pt x="14544" y="9004"/>
                  <a:pt x="14660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Ink 11"/>
          <p:cNvSpPr/>
          <p:nvPr/>
        </p:nvSpPr>
        <p:spPr>
          <a:xfrm>
            <a:off x="2759040" y="4152960"/>
            <a:ext cx="304920" cy="32076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8334" y="11757"/>
                </a:moveTo>
                <a:cubicBezTo>
                  <a:pt x="8327" y="11708"/>
                  <a:pt x="8301" y="11622"/>
                  <a:pt x="8260" y="11584"/>
                </a:cubicBezTo>
                <a:cubicBezTo>
                  <a:pt x="8203" y="11531"/>
                  <a:pt x="8059" y="11513"/>
                  <a:pt x="7987" y="11534"/>
                </a:cubicBezTo>
                <a:cubicBezTo>
                  <a:pt x="7917" y="11555"/>
                  <a:pt x="7784" y="11641"/>
                  <a:pt x="7739" y="11708"/>
                </a:cubicBezTo>
                <a:cubicBezTo>
                  <a:pt x="7706" y="11756"/>
                  <a:pt x="7652" y="11846"/>
                  <a:pt x="7665" y="11906"/>
                </a:cubicBezTo>
                <a:cubicBezTo>
                  <a:pt x="7680" y="11977"/>
                  <a:pt x="7724" y="12047"/>
                  <a:pt x="7764" y="12105"/>
                </a:cubicBezTo>
                <a:cubicBezTo>
                  <a:pt x="7839" y="12213"/>
                  <a:pt x="7952" y="12259"/>
                  <a:pt x="8062" y="12328"/>
                </a:cubicBezTo>
                <a:cubicBezTo>
                  <a:pt x="8181" y="12402"/>
                  <a:pt x="8268" y="12427"/>
                  <a:pt x="8409" y="12427"/>
                </a:cubicBezTo>
                <a:cubicBezTo>
                  <a:pt x="8513" y="12427"/>
                  <a:pt x="8508" y="12432"/>
                  <a:pt x="8508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20:00Z</dcterms:created>
  <dc:creator>jnewman</dc:creator>
  <dc:description/>
  <dc:language>en-US</dc:language>
  <cp:lastModifiedBy>abeason</cp:lastModifiedBy>
  <dcterms:modified xsi:type="dcterms:W3CDTF">2010-01-05T15:39:17Z</dcterms:modified>
  <cp:revision>12</cp:revision>
  <dc:subject/>
  <dc:title>Tuesday, December 18th</dc:title>
</cp:coreProperties>
</file>